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AD397-6632-4A17-B100-D7FEBB728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E4E5B-8004-486C-BA19-6077049CE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515EB-B4C2-4571-923E-4C6F7FD4B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EED63-2C25-48AC-9614-B4DC94362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B2E5F-C7C6-4EFA-AB61-4FAF127BF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1C122-610F-4D13-96C7-F76B5B7B3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B929E-1BDD-49EC-ACB9-1F8C8E692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983AD-E391-40C0-A94E-922F27D3D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DE7CF-7ED0-463C-ADEA-6876808EA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09084-60E0-47C1-822B-0A1D2A5F7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3838F-1BFD-44F6-90FB-8EE274797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6E639-CC10-4BA1-A9B6-6C890B0B2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A245C-6FB6-4291-9EF5-68A3EF271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F0B0E-B9E6-433A-8A1F-5F8017CD4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684C6-F9F3-4FE1-BE23-D769320A6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A55B2-FACA-41F6-BEC1-B679BF272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99E43-F898-4645-AFAE-1860A5447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13A1F-0C23-4E67-B8BF-B4822166A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E3DBE-07A5-4435-89DD-CDD2DE130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3F894-E2E6-4025-AAAA-BB15FF4FA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7F4F4-50AC-4001-9578-0E40579D9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204A1-2036-4674-A966-1D841AEE9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20070-A294-466A-B1FC-074111E60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980FD-0675-47FF-A185-20A9FAABB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7DFFC-ADC6-44F6-B92D-43384B9866E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CA3A4-9900-455C-9308-9FDDC806DA2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ГОРОД – ГЕРОЙ ВОЛГОГРАД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539640" y="1197000"/>
            <a:ext cx="806472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7e7ff"/>
                </a:solidFill>
                <a:latin typeface="Arial"/>
              </a:rPr>
              <a:t>Город Волгоград находится в юго-восточной части европейского региона России. Общая численность населения составляет чуть больше миллиона человек.</a:t>
            </a:r>
            <a:endParaRPr b="0" lang="en-US" sz="2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1289160" y="1979640"/>
            <a:ext cx="656424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24000" y="228600"/>
            <a:ext cx="8488080" cy="34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7e7ff"/>
                </a:solidFill>
                <a:latin typeface="Arial"/>
              </a:rPr>
              <a:t>Изначально город имел совершенно другое название. Основанный в 1589 году город-крепость в междуречье Волги и Дона, носил название «Царицын». Протекающая рядом с крепостными стенами, небольшая речушка Царица, дала название образовавшемуся поселению. Крепость была основана по приказу царя Федора Ивановича, который был обеспокоен положением на юго-востоке России, где часто случались набеги кочевых племен. Стены крепости, как и все здания внутри нее, строили из дерева, поэтому здания страдали от частых пожаров. Затем город переименовали в Сталинград, и такое имя он носил вплоть до 1961 года. </a:t>
            </a:r>
            <a:br>
              <a:rPr sz="2800"/>
            </a:br>
            <a:endParaRPr b="0" lang="en-US" sz="2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1116000" y="4076640"/>
            <a:ext cx="6551640" cy="23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Сталинградская битва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5189400" y="1676520"/>
            <a:ext cx="3111480" cy="21351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324000" y="1700280"/>
            <a:ext cx="4103640" cy="43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олгоград имеет статус города-героя. Именно здесь в кровопролитные годы Второй мировой войны проходила битва за Сталинград, которая во многом стала решающей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Даты: с 17 июля 1942 по 2 февраля 1943 год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5129280" y="3963960"/>
            <a:ext cx="3230640" cy="21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7e7ff"/>
                </a:solidFill>
                <a:latin typeface="Arial"/>
              </a:rPr>
              <a:t>Мамаев курган — сердце Волгограда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6516720" y="1700280"/>
            <a:ext cx="2241360" cy="4681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324000" y="1773360"/>
            <a:ext cx="4991040" cy="42480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79280" y="6453360"/>
            <a:ext cx="896472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Монумент «Родина-мать зовёт!» на Мамаевом кургане (открыт 15 октября 1967 года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АЛЛЕЯ ГЕРОЕВ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68360" y="1341360"/>
            <a:ext cx="8351640" cy="47577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044360" y="6308640"/>
            <a:ext cx="347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бульвар в центра Волгоград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1680" y="-71280"/>
            <a:ext cx="8510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1680" y="620640"/>
            <a:ext cx="4194000" cy="547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ельница Гергарта (Грудинина)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 — разрушенное здание мельницы, ставшее символом жестокости боёв в Сталинградской битве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ставлено невосстановленным, как память о войн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ейчас входит в состав музея-панорамы «Сталинградская битва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4648320" y="2314440"/>
            <a:ext cx="4194000" cy="31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Комплекс Музея-панорамы "Сталинградская битва"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546120" y="1676520"/>
            <a:ext cx="8051760" cy="44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a4"/>
                </a:solidFill>
                <a:latin typeface="Arial"/>
              </a:rPr>
              <a:t>СПАСИБО ЗА ВНИМАНИЕ!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395280" y="1413000"/>
            <a:ext cx="8353440" cy="51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4T20:30:16Z</dcterms:created>
  <dc:creator>Катя</dc:creator>
  <dc:description/>
  <dc:language>en-US</dc:language>
  <cp:lastModifiedBy>Катя</cp:lastModifiedBy>
  <dcterms:modified xsi:type="dcterms:W3CDTF">2013-04-24T22:14:03Z</dcterms:modified>
  <cp:revision>10</cp:revision>
  <dc:subject/>
  <dc:title>ГОРОД – ГЕРОЙ ВОЛГОГРАД</dc:title>
</cp:coreProperties>
</file>