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E4E-A8B8-48F7-8010-E3CE7775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009-0AD6-41CB-A4AE-60507E68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F80-94CA-4CBD-AC42-922577DB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CF4-3A8D-4F1F-B18E-88D1A444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1F45-4FBE-401A-9C4E-5EB88672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E84E-00B0-431B-B1B8-85F89464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2E95-DB14-4B3B-A736-F15109AA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D87D-13F9-42F9-AE56-00BF8543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3456-E2FF-4B2C-AFF2-78929252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BE72-FA34-4653-83C6-32A7272F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A5E8-5C39-4149-A5FF-E09D54C2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C9A-536B-4BF2-8179-A0666203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92A7-B7D8-4A16-9D5E-2335AF14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09C2-2CE4-401D-998D-A5B89472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863E-DE44-423D-AB65-E7DCD4E7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4461-B1AC-4E83-B482-7B9CD4E7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D0BD-2B47-4635-AF9D-3D2A4F83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2B0-0370-4F74-A3D6-4277DDA9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768-509A-4EA1-9236-ADD619EE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7ECA-6A16-4F85-A00E-C00C03EF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46C-0F5D-4C0E-B956-4DFDD215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05A-EEFA-4790-BA4C-209EE6E0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EF5-184B-48F5-9F44-1F885CE5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1E3-F8B7-4A4B-8BBA-1EA8E4E1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F8C9-DCA5-47A4-B0A6-95E253CE88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3AC5-DB3D-4E6B-BB28-A3BF6084A2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ГОРОД – ГЕРОЙ ВОЛГОГРАД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8064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Город Волгоград находится в юго-восточной части европейского региона России. Общая численность населения составляет чуть больше миллиона человек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89160" y="1979640"/>
            <a:ext cx="6564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48808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e7ff"/>
                </a:solidFill>
                <a:latin typeface="Arial"/>
              </a:rPr>
              <a:t>Изначально город имел совершенно другое название. Основанный в 1589 году город-крепость в междуречье Волги и Дона, носил название «Царицын». Протекающая рядом с крепостными стенами, небольшая речушка Царица, дала название образовавшемуся поселению. Крепость была основана по приказу царя Федора Ивановича, который был обеспокоен положением на юго-востоке России, где часто случались набеги кочевых племен. Стены крепости, как и все здания внутри нее, строили из дерева, поэтому здания страдали от частых пожаров. Затем город переименовали в Сталинград, и такое имя он носил вплоть до 1961 года. </a:t>
            </a:r>
            <a:br>
              <a:rPr sz="28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65516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талинградская бит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89400" y="1676520"/>
            <a:ext cx="3111480" cy="2135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1700280"/>
            <a:ext cx="41036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лгоград имеет статус города-героя. Именно здесь в кровопролитные годы Второй мировой войны проходила битва за Сталинград, которая во многом стала решающей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ты: с 17 июля 1942 по 2 февраля 1943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129280" y="3963960"/>
            <a:ext cx="32306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Мамаев курган — сердце Волгоград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516720" y="1700280"/>
            <a:ext cx="2241360" cy="4681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24000" y="1773360"/>
            <a:ext cx="4991040" cy="424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6453360"/>
            <a:ext cx="896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нумент «Родина-мать зовёт!» на Мамаевом кургане (открыт 15 октября 1967 год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АЛЛЕЯ ГЕРОЕ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351640" cy="4757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44360" y="6308640"/>
            <a:ext cx="34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ульвар в центра Волгогра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-7128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620640"/>
            <a:ext cx="419400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ьница Гергарта (Грудинин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разрушенное здание мельницы, ставшее символом жестокости боёв в Сталинградской бит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тавлено невосстановленным, как память о вой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йчас входит в состав музея-панорамы «Сталинградская битв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314440"/>
            <a:ext cx="4194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Комплекс Музея-панорамы "Сталинградская битва"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6120" y="1676520"/>
            <a:ext cx="805176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353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20:30:16Z</dcterms:created>
  <dc:creator>Катя</dc:creator>
  <dc:description/>
  <dc:language>en-US</dc:language>
  <cp:lastModifiedBy>Катя</cp:lastModifiedBy>
  <dcterms:modified xsi:type="dcterms:W3CDTF">2013-04-24T22:14:03Z</dcterms:modified>
  <cp:revision>10</cp:revision>
  <dc:subject/>
  <dc:title>ГОРОД – ГЕРОЙ ВОЛГОГРАД</dc:title>
</cp:coreProperties>
</file>