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C8A-7C4B-40E0-9F3F-B29C460E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85B-33A7-4CA8-AB23-194EC01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3C0-B62D-47E4-8416-DF85580F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EC2-EDAA-4ABE-83EC-E07777E1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9D7-BB50-43E7-9C7E-6CD2E203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C0C2-2A6B-4788-826C-43C1654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583C-4031-4731-A151-06C51641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084-F72A-47C4-8EE7-D6E5205A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ABF-16E7-460E-8F36-8A2AAACB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2003-305B-4D38-A56B-298CC93E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D123-3F22-4DF3-A381-44CF9150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413-9DE5-468A-803A-A5C2C22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DD18-070C-46BD-AB42-53CBBDA1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B33C-4511-47CE-83AE-491A835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E148-F352-4799-A443-A446F0E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6341-4980-4EDD-B825-959C3899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C63F-A787-49B6-822B-5ACF6131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C5C-3157-4E17-8021-7A30525E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BB6-D390-4B81-BB56-8B6D421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78A-4D53-4489-AB98-8020947D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BD3-E8CC-4BB9-92C3-0E5AE9E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0D9-9BF7-4C1D-A875-22808FB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70A-F94A-4C3A-8012-E80095A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0A0-B27A-49AA-96AD-3DE899A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9E9-3769-4817-9F0C-5A559F059C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684-B1D3-42D7-BF63-11A5AA40B5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ван Иванович Шишкин - живописец и гравер, мастер пейзажа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8" descr="0_4be9f_a54331c9_XL"/>
          <p:cNvPicPr/>
          <p:nvPr/>
        </p:nvPicPr>
        <p:blipFill>
          <a:blip r:embed="rId1"/>
          <a:stretch/>
        </p:blipFill>
        <p:spPr>
          <a:xfrm>
            <a:off x="4932360" y="206064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28036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Талант художника-пейзажиста развивался стремительн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а ранние картины «Морской берег в окрестностях Ораниенбаума» (1854) и «Вид в окрестностях Ораниенбаума» (1854) Саврасов получил звание академи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1857-82 гг. преподавал в Московском училище живописи, ваяния и зодче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70-е гг. был членом правления Товарищества передвижных художественных выставок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реди его друзей – В. Г. Перов, И. Н. Крамской, П. П. Третьяков, М. П. Боткин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5" descr="savrasov04"/>
          <p:cNvPicPr/>
          <p:nvPr/>
        </p:nvPicPr>
        <p:blipFill>
          <a:blip r:embed="rId1"/>
          <a:stretch/>
        </p:blipFill>
        <p:spPr>
          <a:xfrm>
            <a:off x="826920" y="512640"/>
            <a:ext cx="8137800" cy="478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060000" y="551592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"ПЕЙЗАЖ С РЕКОЙ И РЫБАКОМ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50800" y="5877000"/>
            <a:ext cx="76932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"ГРАЧИ ПРИЛЕТЕЛИ"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savrasov07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savrasov06"/>
          <p:cNvPicPr/>
          <p:nvPr/>
        </p:nvPicPr>
        <p:blipFill>
          <a:blip r:embed="rId1"/>
          <a:stretch/>
        </p:blipFill>
        <p:spPr>
          <a:xfrm>
            <a:off x="155520" y="46080"/>
            <a:ext cx="8809200" cy="6046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3492360" y="60210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"ВОЛГА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&amp;Rcy;&amp;ocy;&amp;zhcy;&amp;softcy; 2. 1881. &amp;Scy;&amp;acy;&amp;vcy;&amp;rcy;&amp;acy;&amp;scy;&amp;ocy;&amp;vcy; &amp;Acy;&amp;lcy;&amp;iecy;&amp;kcy;&amp;scy;&amp;iecy;&amp;jcy; &amp;Kcy;&amp;ocy;&amp;ncy;&amp;dcy;&amp;rcy;&amp;acy;&amp;tcy;&amp;softcy;&amp;iecy;&amp;vcy;&amp;icy;&amp;chcy; (1830 - 1897)"/>
          <p:cNvPicPr/>
          <p:nvPr/>
        </p:nvPicPr>
        <p:blipFill>
          <a:blip r:embed="rId1"/>
          <a:stretch/>
        </p:blipFill>
        <p:spPr>
          <a:xfrm>
            <a:off x="755640" y="260280"/>
            <a:ext cx="8064360" cy="5813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916360" y="61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File:Rozh.jpg"/>
          <p:cNvPicPr/>
          <p:nvPr/>
        </p:nvPicPr>
        <p:blipFill>
          <a:blip r:embed="rId1"/>
          <a:stretch/>
        </p:blipFill>
        <p:spPr>
          <a:xfrm>
            <a:off x="250920" y="189000"/>
            <a:ext cx="772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берегу Камы, в среднем ее течении, в окружении густых хвойных лесов стоит небольшой город Елабуга. Здесь, в семье небогатого купца родился Иван Иванович Шишкин — будущий выдающийся русский пейзажис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Дом-музей И.И. Шишкина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ул. Набережная, 12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ul_naberejnaya_d12"/>
          <p:cNvPicPr/>
          <p:nvPr/>
        </p:nvPicPr>
        <p:blipFill>
          <a:blip r:embed="rId1"/>
          <a:stretch/>
        </p:blipFill>
        <p:spPr>
          <a:xfrm>
            <a:off x="1116000" y="2276640"/>
            <a:ext cx="67690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ровая и мощная природа Приуралья, величественная красота сосновых боров и рощ покорили юного Шишкина. Эта верность родной природе, стремление научиться запечатлевать ее на полотне привели двадцатилетнего юношу сначала в Московское училище живописи, ваяния и зодчества, а затем — в Петербургскую Академию художест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50800" y="404280"/>
            <a:ext cx="76932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ма леса как главной принадлежности русской природы, неразрывно связанной с образом России, ее народом, была одной из главных в творчестве Шишкин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6" descr="&amp;Gcy;&amp;rcy;&amp;icy;&amp;bcy;&amp;ncy;&amp;icy;&amp;kcy;&amp;icy;"/>
          <p:cNvPicPr/>
          <p:nvPr/>
        </p:nvPicPr>
        <p:blipFill>
          <a:blip r:embed="rId1"/>
          <a:stretch/>
        </p:blipFill>
        <p:spPr>
          <a:xfrm>
            <a:off x="826920" y="220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&amp;Dcy;&amp;iecy;&amp;rcy;&amp;iecy;&amp;vcy;&amp;softcy;&amp;yacy;"/>
          <p:cNvPicPr/>
          <p:nvPr/>
        </p:nvPicPr>
        <p:blipFill>
          <a:blip r:embed="rId2"/>
          <a:stretch/>
        </p:blipFill>
        <p:spPr>
          <a:xfrm>
            <a:off x="4788000" y="378936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5" descr="&amp;Dcy;&amp;iecy;&amp;tcy;&amp;icy; &amp;vcy; &amp;lcy;&amp;iecy;&amp;scy;&amp;ucy;"/>
          <p:cNvPicPr/>
          <p:nvPr/>
        </p:nvPicPr>
        <p:blipFill>
          <a:blip r:embed="rId1"/>
          <a:stretch/>
        </p:blipFill>
        <p:spPr>
          <a:xfrm>
            <a:off x="155520" y="4608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&amp;Dcy;&amp;iecy;&amp;tcy;&amp;icy; &amp;vcy; &amp;lcy;&amp;iecy;&amp;scy;&amp;ucy;"/>
          <p:cNvPicPr/>
          <p:nvPr/>
        </p:nvPicPr>
        <p:blipFill>
          <a:blip r:embed="rId2"/>
          <a:stretch/>
        </p:blipFill>
        <p:spPr>
          <a:xfrm>
            <a:off x="155520" y="4608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&amp;Dcy;&amp;iecy;&amp;rcy;&amp;iecy;&amp;vcy;&amp;softcy;&amp;yacy;"/>
          <p:cNvPicPr/>
          <p:nvPr/>
        </p:nvPicPr>
        <p:blipFill>
          <a:blip r:embed="rId3"/>
          <a:stretch/>
        </p:blipFill>
        <p:spPr>
          <a:xfrm>
            <a:off x="971640" y="386064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&amp;Lcy;&amp;iecy;&amp;scy;"/>
          <p:cNvPicPr/>
          <p:nvPr/>
        </p:nvPicPr>
        <p:blipFill>
          <a:blip r:embed="rId4"/>
          <a:stretch/>
        </p:blipFill>
        <p:spPr>
          <a:xfrm>
            <a:off x="4788000" y="836640"/>
            <a:ext cx="3809880" cy="550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&amp;Pcy;&amp;rcy;&amp;ucy;&amp;dcy;&amp;icy;&amp;kcy;"/>
          <p:cNvPicPr/>
          <p:nvPr/>
        </p:nvPicPr>
        <p:blipFill>
          <a:blip r:embed="rId5"/>
          <a:stretch/>
        </p:blipFill>
        <p:spPr>
          <a:xfrm>
            <a:off x="971640" y="981000"/>
            <a:ext cx="38098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3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з-под его кисти вышли образы, ставшие символами России, «русское раздолье с золотой рожью, реками, рощами и русскими далями». Он любил изображать лес, ясный полдень, яркий солнечный свет, лето, полноту жизни. Его картины, широкие по размаху и эпические по строю, воспевали просторы родной земли, утверждали величие и неповторимую прелесть русской природ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&amp;Mcy;&amp;iecy;&amp;lcy;&amp;softcy;&amp;ncy;&amp;icy;&amp;tscy;&amp;acy; &amp;vcy; &amp;pcy;&amp;ocy;&amp;lcy;&amp;iecy; 1861"/>
          <p:cNvPicPr/>
          <p:nvPr/>
        </p:nvPicPr>
        <p:blipFill>
          <a:blip r:embed="rId1"/>
          <a:stretch/>
        </p:blipFill>
        <p:spPr>
          <a:xfrm>
            <a:off x="971640" y="260280"/>
            <a:ext cx="3809880" cy="19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&amp;Pcy;&amp;ocy;&amp;lcy;&amp;dcy;&amp;iecy;&amp;ncy;&amp;softcy;. &amp;Vcy; &amp;ocy;&amp;kcy;&amp;rcy;&amp;iecy;&amp;scy;&amp;tcy;&amp;ncy;&amp;ocy;&amp;scy;&amp;tcy;&amp;yacy;&amp;khcy; &amp;Mcy;&amp;ocy;&amp;scy;&amp;kcy;&amp;vcy;&amp;ycy; 1869"/>
          <p:cNvPicPr/>
          <p:nvPr/>
        </p:nvPicPr>
        <p:blipFill>
          <a:blip r:embed="rId2"/>
          <a:stretch/>
        </p:blipFill>
        <p:spPr>
          <a:xfrm>
            <a:off x="4788000" y="260280"/>
            <a:ext cx="380988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Рожь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4" descr="File:Rozh.jpg"/>
          <p:cNvPicPr/>
          <p:nvPr/>
        </p:nvPicPr>
        <p:blipFill>
          <a:blip r:embed="rId1"/>
          <a:stretch/>
        </p:blipFill>
        <p:spPr>
          <a:xfrm>
            <a:off x="1395360" y="2362320"/>
            <a:ext cx="6577200" cy="37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ile:Rozh.jpg"/>
          <p:cNvPicPr/>
          <p:nvPr/>
        </p:nvPicPr>
        <p:blipFill>
          <a:blip r:embed="rId2"/>
          <a:stretch/>
        </p:blipFill>
        <p:spPr>
          <a:xfrm>
            <a:off x="857160" y="2214720"/>
            <a:ext cx="6577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826920" y="515772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Алексей Кондратьевич Саврасо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8" descr="&amp;Pcy;&amp;ocy;&amp;rcy;&amp;tcy;&amp;rcy;&amp;iecy;&amp;tcy; &amp;khcy;&amp;ucy;&amp;dcy;&amp;ocy;&amp;zhcy;&amp;ncy;&amp;icy;&amp;kcy;&amp;acy; &amp;Acy;&amp;lcy;&amp;iecy;&amp;kcy;&amp;scy;&amp;iecy;&amp;yacy; &amp;Kcy;&amp;ocy;&amp;ncy;&amp;dcy;&amp;rcy;&amp;acy;&amp;tcy;&amp;softcy;&amp;iecy;&amp;vcy;&amp;icy;&amp;chcy;&amp;acy; &amp;Scy;&amp;acy;&amp;vcy;&amp;rcy;&amp;acy;&amp;scy;&amp;ocy;&amp;vcy;&amp;acy;. 1884"/>
          <p:cNvPicPr/>
          <p:nvPr/>
        </p:nvPicPr>
        <p:blipFill>
          <a:blip r:embed="rId1"/>
          <a:stretch/>
        </p:blipFill>
        <p:spPr>
          <a:xfrm>
            <a:off x="2395440" y="0"/>
            <a:ext cx="5056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6:18:35Z</dcterms:created>
  <dc:creator>User</dc:creator>
  <dc:description/>
  <dc:language>en-US</dc:language>
  <cp:lastModifiedBy>Tatyana</cp:lastModifiedBy>
  <dcterms:modified xsi:type="dcterms:W3CDTF">2013-03-26T08:12:25Z</dcterms:modified>
  <cp:revision>4</cp:revision>
  <dc:subject/>
  <dc:title>Иван Иванович Шишкин - живописец и гравер, мастер пейзажа   </dc:title>
</cp:coreProperties>
</file>