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FD8-0AD4-4A03-8549-A465B2F2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1EA-3ECA-4E9C-B4F8-BB8BA09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6BA-9F6A-4EE7-8805-ED50A59D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39F-C9E6-4087-8965-6D8E4125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9F4-7C0D-471B-A0A6-4930157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666-1789-4D9E-8627-5C345C2D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FAA-CA70-47BF-A3A5-951D43E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EA4-2569-4D5C-A704-C85AD71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332-6858-4034-BAB1-779BFC5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6E3-5683-4E79-8CE6-61FF60D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3FC-3553-41DD-B966-B63BED4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83E-37A8-441F-AA5F-45F28B0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306-B399-4CDC-94DD-0C974E90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3357720"/>
            <a:ext cx="6400800" cy="316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5086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212920"/>
            <a:ext cx="6192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Для развития взглядов о строении Вселенной сделали … учёны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дин из великих математиков, который предложил, что Земля не плоска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ак переводится с греческого языка «шар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Древнегреческий астроном, развивший представления учёных о Вселенной. По его мнению, вокруг неподвижной Земли вращаются 8 небесных сфе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ациональность Аристо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Небесное тел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Весь ми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Древнегреческий математик, первым предложивший, что Земля имеет форму ша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Одна из планет движущаяся вокруг Солнца.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7:29:49Z</dcterms:created>
  <dc:creator>User</dc:creator>
  <dc:description/>
  <dc:language>en-US</dc:language>
  <cp:lastModifiedBy>User</cp:lastModifiedBy>
  <dcterms:modified xsi:type="dcterms:W3CDTF">2012-09-19T17:37:25Z</dcterms:modified>
  <cp:revision>1</cp:revision>
  <dc:subject/>
  <dc:title>Как древние люди представляли себе Вселенную. 5 клас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