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153-8399-4062-8DCE-A18D0B1A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BF0-B656-4333-9EDF-B92200A5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A32-7F84-45B1-AD31-C0AA4A33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864-09E7-4028-901A-591A8DBD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FE4-4ACA-4BF2-A960-1151CAA6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D4B-5E75-42D2-B22D-BC402223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1FD-5D29-43EC-AE81-37842318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87C-4416-4C8D-8F5C-173B14E4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B56-C84C-4ED0-A6C9-2424B6AB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DAE-DCCF-4755-A044-1719F0E0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6CB-67B3-4060-AB2A-A51D62FB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DFA2-53A8-446A-97F8-08E1C1F7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BF25-86F7-4483-8E34-B2296DA15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3357720"/>
            <a:ext cx="6400800" cy="3166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50920" y="476280"/>
            <a:ext cx="50864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212920"/>
            <a:ext cx="6192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 древние люди представляли себе Вселенну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5 клас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Для развития взглядов о строении Вселенной сделали … учёные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дин из великих математиков, который предложил, что Земля не плоска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ак переводится с греческого языка «шар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Древнегреческий астроном, развивший представления учёных о Вселенной. По его мнению, вокруг неподвижной Земли вращаются 8 небесных сфе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Национальность Аристо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Небесное тело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Весь мир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Древнегреческий математик, первым предложивший, что Земля имеет форму шар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Одна из планет движущаяся вокруг Солнца.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7:29:49Z</dcterms:created>
  <dc:creator>User</dc:creator>
  <dc:description/>
  <dc:language>en-US</dc:language>
  <cp:lastModifiedBy>User</cp:lastModifiedBy>
  <dcterms:modified xsi:type="dcterms:W3CDTF">2012-09-19T17:37:25Z</dcterms:modified>
  <cp:revision>1</cp:revision>
  <dc:subject/>
  <dc:title>Как древние люди представляли себе Вселенную. 5 клас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