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9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3.jpeg" ContentType="image/jpeg"/>
  <Override PartName="/ppt/media/image15.png" ContentType="image/png"/>
  <Override PartName="/ppt/media/image24.jpeg" ContentType="image/jpeg"/>
  <Override PartName="/ppt/media/image27.wmf" ContentType="image/x-wmf"/>
  <Override PartName="/ppt/media/image21.jpeg" ContentType="image/jpeg"/>
  <Override PartName="/ppt/media/image16.jpeg" ContentType="image/jpeg"/>
  <Override PartName="/ppt/media/image26.wmf" ContentType="image/x-wmf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DF9FE-D60D-4FF0-9E1D-6161FCA5DE0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5985B-DDFE-4350-88CD-0243C9D4611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21A2D-A0AC-48D8-B404-61587E06475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4E31F-C481-4A26-8436-2ED5150A6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46B32-7BDE-411C-8E9E-8DAF36738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7B3B9-0D38-435F-A372-132AA9AB7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0D06E-05BA-4000-BBC7-3FC4780B0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2325D-C202-41C3-A250-E20A1253F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FFBCC-6775-4DFD-A89E-80E924080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4B0AD-FDD0-4604-8CFB-D8572939C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A7D36-A4C6-4228-80A0-213B52989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3ABD1-662F-4EA8-BF7A-56FFA39AB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35CDE-2495-4926-8E99-715AE1D9A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B94D7-570C-4BF3-996F-F6CA1CDEB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3E016-173B-4B3C-A46D-08891EEDE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CEA15-5A91-41E3-B4A0-8BBF65621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91720-529B-49F9-92BB-44DFE7385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EB858-3298-4B2D-8609-75BD69FC3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27AAC-7649-4939-9EBF-1EB634433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B1BC7-C43F-40C1-8D49-7F5754FAE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5A21B25-C994-4137-BEE8-23573B44B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E65208-5232-4107-A79B-B1B39B3AE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748AE79-A688-41FD-88B7-69285369E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0A43BA2-820E-4BB4-8B1D-6886804F3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2BC6304-92DB-4A51-A16D-BC62E7F64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8A4DB-1B4F-4995-A12F-539F1CC66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DFA50B6-E4A6-43AB-B8BF-A82D9222A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E1E577C-C6B2-4804-AA36-70478A8EE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FB0FD7E-D515-4B98-8B43-648A43479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EB5CA83-8A8B-416D-9AD3-0194F758C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82AC64-3CF0-4D23-AB3F-817CB90A0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E5FCC7B-38F4-4BCE-AAB7-BCEAFAF00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845B69-A91A-4F2F-B798-B860BC61C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01126B-2F64-4F6A-B0CA-C6F22F256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EFB242-BF60-4BC4-B36B-A4C62D1F0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35C157-0FA0-4B30-8A61-FE411DC6C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97BC5-97F6-47C4-A0B7-4B0EE477B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7E4E9C-68AB-4A6D-A50F-FC9AF0413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DC9D6E-60E9-4F66-85A6-D8EA5C1DF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E2CC24-F6FD-4A26-AE4F-0926EC7DF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3F0353-D56D-4FBB-87DC-B3AB7786F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525294-F9FA-450A-8217-B09D78812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CF202C-9C87-4CBC-A182-1ADEE12F5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A8E912-5733-4049-80FD-1412D21A7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5EFCFD-C880-4606-A8A2-F753ACCE9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26AD57-164D-45FA-BE65-513F4A6B9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3012909-1E33-4350-9073-A5B23FE14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62E23-8675-4D10-8BDF-D7A3F35A3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0FAA042-7230-4E9D-9328-C1A669953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99E1E94-5170-4F54-8175-DD9C4F248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0C94A33-DF00-4D02-90D1-07562DA62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681CF78-DFD0-4940-B850-108416616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D55DC97-87D9-4312-B608-B5BA20C36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B92B700-21D0-4DEE-841D-8644DF5B1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06908F1-02B8-41DA-B5CE-E1C5E3FDB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FDF5314-80E0-4299-B5E9-943A29CCC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800A0EF-BFBF-455B-837A-BE169F285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24F8230-D458-4417-B974-3315A5363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49A65-4493-45DA-B11C-8F14E6CFD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2ADE18E-79EF-42A0-9588-84934CED6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0353B53-84EE-49F2-939C-DAD0D95C1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B3B8F45-6A6B-4BD1-9686-B126E0995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CDC1821-4417-4AC9-A6B3-B921DF310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21A3404-9815-461B-AB95-1A55A6665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46A6C7A-23A3-4B1A-897E-3E7BDAB56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A13B132-BFC5-4D58-8EFF-0ACD58147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97627EB-5404-41B7-A647-A0F8FC747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D465367-A80C-437D-AF22-096A856BF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1F2717D-DB84-4845-96D2-16E820486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4B92A-B055-486C-92C0-8704252E3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8BFD745-F2ED-4C3A-96CE-7206603E9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760E506-2FC0-455C-B8AC-00A08E156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4D9DAF3-A04D-458B-A753-948E1B1E7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CD4C216-EBC0-40F6-83DD-40D1F5226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C58C263-FA3F-4B2D-9242-EB0B36188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178A4FE-FE60-4977-BF6E-279654DEC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B2863B3-3EFC-4C50-BAEB-8EA724A9A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EA1E2AB-C055-48D8-B321-03D1EB95C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BB1F8AD-B675-43E7-84AD-423355530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B776E81-79D8-4C23-8EE0-AD57E1B6D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2BACC-73F1-4EDB-9311-74B03ED64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767DF74-A6CF-4F41-8597-BE3112BD1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1DA364B-3569-442E-8BFD-1CDC7B084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5284C4E-4886-4D4F-AFA4-E42E2EB17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1ABD18A-6F53-44D7-9561-6A6A99AFF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9CBB378-2055-4C81-B8F7-48FD754DD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0C12E-098F-4D9B-A957-DEC4D998D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3732E-C3F3-4D1F-A0A3-D7DCF692BBE6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6F05A-FF4F-4EEC-BDA0-415C31C7C86D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B2186-2ABA-4687-9D95-AF5BD9D9CA55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B4E01-51AE-4D82-AF55-0DE2BCA91242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CE9F5-48FC-4693-B22B-07539AF6E3CB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DF37D-ABCF-4710-B1FE-CD39B78B865F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8AB4F-0BE4-48F4-ACB9-5360C003EB97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hyperlink" Target="http://zwezda.perm.ru/storages/images/data_3953.jpg" TargetMode="External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467480" cy="15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575f6d"/>
                </a:solidFill>
                <a:latin typeface="Times New Roman"/>
                <a:ea typeface="Times New Roman"/>
              </a:rPr>
              <a:t>ТЕМА УРОКА: 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ИСЛОТЫ, ИХ КЛАССИФИКАЦИЯ И СВОЙСТВА</a:t>
            </a:r>
            <a:br>
              <a:rPr sz="2800"/>
            </a:br>
            <a:r>
              <a:rPr b="1" lang="ru-RU" sz="2800" spc="-1" strike="noStrike">
                <a:solidFill>
                  <a:srgbClr val="575f6d"/>
                </a:solidFill>
                <a:latin typeface="Times New Roman"/>
                <a:ea typeface="Times New Roman"/>
              </a:rPr>
              <a:t>ЗАДАЧИ УРОКА: </a:t>
            </a:r>
            <a:endParaRPr b="0" lang="en-US" sz="2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чебная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репить знания учащихся о кислотах как о классе неорганических веществ и электролитах, рассмотреть классификацию и свойства кислот в свете ТЭД, закрепить умение составлять ионные уравнения реакций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азвивающая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звитие умений, навыков в постановке химического эксперимента, развитие наблюдательности, памяти, мышления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оспитательная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оспитание ответственного отношения к учебе, чувства коллективизма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457200" y="357120"/>
            <a:ext cx="822960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401" name="Object 3"/>
          <p:cNvGraphicFramePr/>
          <p:nvPr/>
        </p:nvGraphicFramePr>
        <p:xfrm>
          <a:off x="571680" y="571680"/>
          <a:ext cx="8215200" cy="5929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0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1680" y="571680"/>
                    <a:ext cx="8215200" cy="59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Century Schoolbook"/>
              </a:rPr>
              <a:t>ТИПИЧНЫЕ РЕАКЦИИ КИСЛОТ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213840" y="1357200"/>
            <a:ext cx="864396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69eab"/>
                </a:solidFill>
                <a:latin typeface="Century Schoolbook"/>
              </a:rPr>
              <a:t>Кислота + основание         соль + вод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(реакция обмена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69eab"/>
                </a:solidFill>
                <a:latin typeface="Century Schoolbook"/>
              </a:rPr>
              <a:t>2. Кислота + оксид металла         соль + вод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(реакция обмена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69eab"/>
                </a:solidFill>
                <a:latin typeface="Century Schoolbook"/>
              </a:rPr>
              <a:t>3. Кислота + металл                 соль + водород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(реакция замещения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69eab"/>
                </a:solidFill>
                <a:latin typeface="Century Schoolbook"/>
              </a:rPr>
              <a:t>4. Кислота + соль       новая кислота + новая соль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(реакция обмена)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cxnSp>
        <p:nvCxnSpPr>
          <p:cNvPr id="405" name="Прямая со стрелкой 4"/>
          <p:cNvCxnSpPr/>
          <p:nvPr/>
        </p:nvCxnSpPr>
        <p:spPr>
          <a:xfrm>
            <a:off x="3929040" y="1643040"/>
            <a:ext cx="572400" cy="216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cxnSp>
        <p:nvCxnSpPr>
          <p:cNvPr id="406" name="Прямая со стрелкой 8"/>
          <p:cNvCxnSpPr/>
          <p:nvPr/>
        </p:nvCxnSpPr>
        <p:spPr>
          <a:xfrm>
            <a:off x="4357800" y="2499840"/>
            <a:ext cx="714960" cy="252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cxnSp>
        <p:nvCxnSpPr>
          <p:cNvPr id="407" name="Прямая со стрелкой 10"/>
          <p:cNvCxnSpPr/>
          <p:nvPr/>
        </p:nvCxnSpPr>
        <p:spPr>
          <a:xfrm>
            <a:off x="3214800" y="3429000"/>
            <a:ext cx="1429200" cy="216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cxnSp>
        <p:nvCxnSpPr>
          <p:cNvPr id="408" name="Прямая со стрелкой 14"/>
          <p:cNvCxnSpPr/>
          <p:nvPr/>
        </p:nvCxnSpPr>
        <p:spPr>
          <a:xfrm>
            <a:off x="2857320" y="4285800"/>
            <a:ext cx="572040" cy="252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КЛАССИФИКАЦИЯ КИСЛОТ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graphicFrame>
        <p:nvGraphicFramePr>
          <p:cNvPr id="410" name=""/>
          <p:cNvGraphicFramePr/>
          <p:nvPr/>
        </p:nvGraphicFramePr>
        <p:xfrm>
          <a:off x="457200" y="1071720"/>
          <a:ext cx="8229600" cy="4587840"/>
        </p:xfrm>
        <a:graphic>
          <a:graphicData uri="http://schemas.openxmlformats.org/drawingml/2006/table">
            <a:tbl>
              <a:tblPr/>
              <a:tblGrid>
                <a:gridCol w="1371600"/>
                <a:gridCol w="1371600"/>
                <a:gridCol w="1371600"/>
                <a:gridCol w="1371600"/>
                <a:gridCol w="1371600"/>
                <a:gridCol w="1371600"/>
              </a:tblGrid>
              <a:tr h="351000">
                <a:tc row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ПРИЗНАК КЛАССИФИКАЦ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НАЗВАНИЕ И ФОРМУЛА КИСЛОТ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52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СЕРН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СОЛЯН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АЗОТН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УГОЛЬН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ФОСФОРН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Наличие кислоро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Растворимос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Основнос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Летучес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Сила кисло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457200" y="1600200"/>
            <a:ext cx="804384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Презентацию подготовила учитель биологии и химии МОУ Уральская СОШ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Кизильского района Челябинской области Мокрушина Зинаида Андреевн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000080" y="571680"/>
            <a:ext cx="76867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r>
              <a:rPr b="1" lang="ru-RU" sz="2500" spc="-1" strike="noStrike">
                <a:solidFill>
                  <a:srgbClr val="575f6d"/>
                </a:solidFill>
                <a:latin typeface="Times New Roman"/>
                <a:ea typeface="Times New Roman"/>
              </a:rPr>
              <a:t>КИСЛОТЫ В ПРИРОДЕ</a:t>
            </a:r>
            <a:br>
              <a:rPr sz="2500"/>
            </a:br>
            <a:r>
              <a:rPr b="0" lang="ru-RU" sz="1800" spc="-1" strike="noStrike">
                <a:solidFill>
                  <a:srgbClr val="575f6d"/>
                </a:solidFill>
                <a:latin typeface="Times New Roman"/>
                <a:ea typeface="Times New Roman"/>
              </a:rPr>
              <a:t>АПЕЛЬСИНЫ, ЛИМОНЫ И ГРЕЙПФРУТЫ, КИВИ, ЯБЛОКИ, АБРИКОСЫ, ДЫНЯ, ЕЖЕВИКА И МНОГИЕ ДРУГИЕ ФРУКТЫ И ОВОЩИ СОДЕРЖАТ </a:t>
            </a:r>
            <a:r>
              <a:rPr b="1" i="1" lang="ru-RU" sz="1800" spc="-1" strike="noStrike">
                <a:solidFill>
                  <a:srgbClr val="575f6d"/>
                </a:solidFill>
                <a:latin typeface="Times New Roman"/>
                <a:ea typeface="Times New Roman"/>
              </a:rPr>
              <a:t>АСКОРБИНОВУЮ КИСЛОТУ</a:t>
            </a:r>
            <a:r>
              <a:rPr b="0" lang="ru-RU" sz="1800" spc="-1" strike="noStrike">
                <a:solidFill>
                  <a:srgbClr val="575f6d"/>
                </a:solidFill>
                <a:latin typeface="Times New Roman"/>
                <a:ea typeface="Times New Roman"/>
              </a:rPr>
              <a:t> — ЭТО ХИМИЧЕСКОЕ НАЗВАНИЕ ВИТАМИНА С.</a:t>
            </a:r>
            <a:endParaRPr b="0" lang="en-US" sz="18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61" name="Picture 2" descr="C:\Users\Пользователь\Desktop\i (2).jpg"/>
          <p:cNvPicPr/>
          <p:nvPr/>
        </p:nvPicPr>
        <p:blipFill>
          <a:blip r:embed="rId1"/>
          <a:stretch/>
        </p:blipFill>
        <p:spPr>
          <a:xfrm>
            <a:off x="4143240" y="1928880"/>
            <a:ext cx="1785960" cy="164304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3" descr="C:\Users\Пользователь\Desktop\i (3).jpg"/>
          <p:cNvPicPr/>
          <p:nvPr/>
        </p:nvPicPr>
        <p:blipFill>
          <a:blip r:embed="rId2"/>
          <a:stretch/>
        </p:blipFill>
        <p:spPr>
          <a:xfrm>
            <a:off x="1857240" y="3286080"/>
            <a:ext cx="2286000" cy="200016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4" descr="C:\Users\Пользователь\Desktop\i.jpg"/>
          <p:cNvPicPr/>
          <p:nvPr/>
        </p:nvPicPr>
        <p:blipFill>
          <a:blip r:embed="rId3"/>
          <a:stretch/>
        </p:blipFill>
        <p:spPr>
          <a:xfrm>
            <a:off x="6858000" y="2286000"/>
            <a:ext cx="1857240" cy="185724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5" descr="C:\Users\Пользователь\Desktop\i (4).jpg"/>
          <p:cNvPicPr/>
          <p:nvPr/>
        </p:nvPicPr>
        <p:blipFill>
          <a:blip r:embed="rId4"/>
          <a:stretch/>
        </p:blipFill>
        <p:spPr>
          <a:xfrm>
            <a:off x="6572160" y="4857840"/>
            <a:ext cx="1995480" cy="164304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6" descr="C:\Users\Пользователь\Desktop\i (5).jpg"/>
          <p:cNvPicPr/>
          <p:nvPr/>
        </p:nvPicPr>
        <p:blipFill>
          <a:blip r:embed="rId5"/>
          <a:stretch/>
        </p:blipFill>
        <p:spPr>
          <a:xfrm>
            <a:off x="357120" y="4929120"/>
            <a:ext cx="2000160" cy="166392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7" descr="C:\Users\Пользователь\Desktop\i (6).jpg"/>
          <p:cNvPicPr/>
          <p:nvPr/>
        </p:nvPicPr>
        <p:blipFill>
          <a:blip r:embed="rId6"/>
          <a:stretch/>
        </p:blipFill>
        <p:spPr>
          <a:xfrm>
            <a:off x="3214800" y="5000760"/>
            <a:ext cx="2286000" cy="185724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8" descr="C:\Users\Пользователь\Desktop\i (7).jpg"/>
          <p:cNvPicPr/>
          <p:nvPr/>
        </p:nvPicPr>
        <p:blipFill>
          <a:blip r:embed="rId7"/>
          <a:stretch/>
        </p:blipFill>
        <p:spPr>
          <a:xfrm>
            <a:off x="4786200" y="3643200"/>
            <a:ext cx="2286000" cy="173376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9" descr="C:\Users\Пользователь\Desktop\i (8).jpg"/>
          <p:cNvPicPr/>
          <p:nvPr/>
        </p:nvPicPr>
        <p:blipFill>
          <a:blip r:embed="rId8"/>
          <a:stretch/>
        </p:blipFill>
        <p:spPr>
          <a:xfrm>
            <a:off x="285840" y="2428920"/>
            <a:ext cx="1738080" cy="171432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10" descr="C:\Users\Пользователь\Desktop\i (9).jpg"/>
          <p:cNvPicPr/>
          <p:nvPr/>
        </p:nvPicPr>
        <p:blipFill>
          <a:blip r:embed="rId9"/>
          <a:stretch/>
        </p:blipFill>
        <p:spPr>
          <a:xfrm>
            <a:off x="2143080" y="2071800"/>
            <a:ext cx="1738440" cy="13572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575f6d"/>
                </a:solidFill>
                <a:latin typeface="Times New Roman"/>
                <a:ea typeface="Times New Roman"/>
              </a:rPr>
              <a:t>ЯБЛОЧНОЙ КИСЛОТОЙ </a:t>
            </a:r>
            <a:r>
              <a:rPr b="0" lang="ru-RU" sz="2400" spc="-1" strike="noStrike">
                <a:solidFill>
                  <a:srgbClr val="575f6d"/>
                </a:solidFill>
                <a:latin typeface="Times New Roman"/>
                <a:ea typeface="Times New Roman"/>
              </a:rPr>
              <a:t>БОГАТЫ   ПЛОДЫ РЯБИНЫ, БАРБАРИСА, МАЛИНЫ, ЯБЛОНИ</a:t>
            </a:r>
            <a:endParaRPr b="0" lang="en-US" sz="24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71" name="Picture 2" descr="C:\Users\Пользователь\Desktop\5274554f141762dfc5cdf17105a2f71b.jpg"/>
          <p:cNvPicPr/>
          <p:nvPr/>
        </p:nvPicPr>
        <p:blipFill>
          <a:blip r:embed="rId1"/>
          <a:stretch/>
        </p:blipFill>
        <p:spPr>
          <a:xfrm>
            <a:off x="428760" y="1500120"/>
            <a:ext cx="3500280" cy="262584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3" descr="C:\Users\Пользователь\Desktop\ryabina (1).jpg"/>
          <p:cNvPicPr/>
          <p:nvPr/>
        </p:nvPicPr>
        <p:blipFill>
          <a:blip r:embed="rId2"/>
          <a:stretch/>
        </p:blipFill>
        <p:spPr>
          <a:xfrm>
            <a:off x="3500280" y="1714680"/>
            <a:ext cx="2921040" cy="207144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4" descr="C:\Users\Пользователь\Desktop\i.jpg"/>
          <p:cNvPicPr/>
          <p:nvPr/>
        </p:nvPicPr>
        <p:blipFill>
          <a:blip r:embed="rId3"/>
          <a:stretch/>
        </p:blipFill>
        <p:spPr>
          <a:xfrm>
            <a:off x="428760" y="4286160"/>
            <a:ext cx="2786040" cy="257184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5" descr="C:\Users\Пользователь\Desktop\1_Apple-tree1.jpg"/>
          <p:cNvPicPr/>
          <p:nvPr/>
        </p:nvPicPr>
        <p:blipFill>
          <a:blip r:embed="rId4"/>
          <a:stretch/>
        </p:blipFill>
        <p:spPr>
          <a:xfrm>
            <a:off x="5753160" y="4206960"/>
            <a:ext cx="3390840" cy="265104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6" descr="C:\Users\Пользователь\Desktop\i.jpg"/>
          <p:cNvPicPr/>
          <p:nvPr/>
        </p:nvPicPr>
        <p:blipFill>
          <a:blip r:embed="rId5"/>
          <a:stretch/>
        </p:blipFill>
        <p:spPr>
          <a:xfrm>
            <a:off x="3357720" y="435780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575f6d"/>
                </a:solidFill>
                <a:latin typeface="Times New Roman"/>
                <a:ea typeface="Times New Roman"/>
              </a:rPr>
              <a:t>ЛИМОННАЯ КИСЛОТА </a:t>
            </a:r>
            <a:r>
              <a:rPr b="0" lang="ru-RU" sz="2200" spc="-1" strike="noStrike">
                <a:solidFill>
                  <a:srgbClr val="575f6d"/>
                </a:solidFill>
                <a:latin typeface="Times New Roman"/>
                <a:ea typeface="Times New Roman"/>
              </a:rPr>
              <a:t>— НАРЯДУ С ЯБЛОЧНОЙ И ЯНТАРНОЙ - УЧАСТВУЕТ В ОБМЕНЕ ВЕЩЕСТВ И ЗАНИМАЕТ ВАЖНОЕ МЕСТО В ПРОЦЕССЕ ОБМЕНА БЕЛКОВ, ЖИРОВ И УГЛЕВОДОВ</a:t>
            </a:r>
            <a:endParaRPr b="0" lang="en-US" sz="22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77" name="Picture 2" descr="C:\Users\Пользователь\Downloads\limon2.png"/>
          <p:cNvPicPr/>
          <p:nvPr/>
        </p:nvPicPr>
        <p:blipFill>
          <a:blip r:embed="rId1"/>
          <a:stretch/>
        </p:blipFill>
        <p:spPr>
          <a:xfrm>
            <a:off x="214200" y="1785960"/>
            <a:ext cx="4826160" cy="4125960"/>
          </a:xfrm>
          <a:prstGeom prst="rect">
            <a:avLst/>
          </a:prstGeom>
          <a:ln w="0">
            <a:noFill/>
          </a:ln>
        </p:spPr>
      </p:pic>
      <p:sp>
        <p:nvSpPr>
          <p:cNvPr id="378" name="Прямоугольник 3"/>
          <p:cNvSpPr/>
          <p:nvPr/>
        </p:nvSpPr>
        <p:spPr>
          <a:xfrm>
            <a:off x="6357960" y="4398840"/>
            <a:ext cx="500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9" name="Picture 2" descr="http://im6-tub-ru.yandex.net/i?id=144854128-54-72&amp;n=17"/>
          <p:cNvPicPr/>
          <p:nvPr/>
        </p:nvPicPr>
        <p:blipFill>
          <a:blip r:embed="rId2"/>
          <a:stretch/>
        </p:blipFill>
        <p:spPr>
          <a:xfrm>
            <a:off x="5572080" y="2000160"/>
            <a:ext cx="2286000" cy="19288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8" descr="http://im8-tub-ru.yandex.net/i?id=318818724-60-72&amp;n=17"/>
          <p:cNvPicPr/>
          <p:nvPr/>
        </p:nvPicPr>
        <p:blipFill>
          <a:blip r:embed="rId3"/>
          <a:stretch/>
        </p:blipFill>
        <p:spPr>
          <a:xfrm>
            <a:off x="5715000" y="4286160"/>
            <a:ext cx="2481120" cy="192888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438624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subTitle"/>
          </p:nvPr>
        </p:nvSpPr>
        <p:spPr>
          <a:xfrm>
            <a:off x="1371600" y="4143240"/>
            <a:ext cx="6400800" cy="149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" spc="-1" strike="noStrike">
                <a:solidFill>
                  <a:srgbClr val="575f6d"/>
                </a:solidFill>
                <a:latin typeface="Century Schoolbook"/>
              </a:rPr>
              <a:t>  </a:t>
            </a:r>
            <a:r>
              <a:rPr b="1" i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лициловая, яблочная, лимонная, винная, эллаговая, фолиевая, кофейная, хлорогенная, муравьиная, щавелевая кислоты содержатся </a:t>
            </a:r>
            <a:r>
              <a:rPr b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малине.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3" name="Picture 2" descr="C:\Users\Пользователь\Desktop\Malina-poleznyie-svoystva1.jpg"/>
          <p:cNvPicPr/>
          <p:nvPr/>
        </p:nvPicPr>
        <p:blipFill>
          <a:blip r:embed="rId1"/>
          <a:stretch/>
        </p:blipFill>
        <p:spPr>
          <a:xfrm>
            <a:off x="285840" y="0"/>
            <a:ext cx="3500280" cy="307188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2" descr="C:\Users\Пользователь\Desktop\i.jpg"/>
          <p:cNvPicPr/>
          <p:nvPr/>
        </p:nvPicPr>
        <p:blipFill>
          <a:blip r:embed="rId2"/>
          <a:stretch/>
        </p:blipFill>
        <p:spPr>
          <a:xfrm>
            <a:off x="5786280" y="285840"/>
            <a:ext cx="2657520" cy="221436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3" descr="C:\Users\Пользователь\Desktop\i (1).jpg"/>
          <p:cNvPicPr/>
          <p:nvPr/>
        </p:nvPicPr>
        <p:blipFill>
          <a:blip r:embed="rId3"/>
          <a:stretch/>
        </p:blipFill>
        <p:spPr>
          <a:xfrm>
            <a:off x="4071960" y="1857240"/>
            <a:ext cx="2428920" cy="214344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5" descr="http://im6-tub-ru.yandex.net/i?id=290946291-47-72&amp;n=15"/>
          <p:cNvPicPr/>
          <p:nvPr/>
        </p:nvPicPr>
        <p:blipFill>
          <a:blip r:embed="rId4"/>
          <a:stretch/>
        </p:blipFill>
        <p:spPr>
          <a:xfrm>
            <a:off x="7358040" y="5143680"/>
            <a:ext cx="1357200" cy="1285560"/>
          </a:xfrm>
          <a:prstGeom prst="rect">
            <a:avLst/>
          </a:prstGeom>
          <a:ln w="0">
            <a:noFill/>
          </a:ln>
        </p:spPr>
      </p:pic>
    </p:spTree>
  </p:cSld>
  <p:transition spd="med">
    <p:wipe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1" i="1" lang="ru-RU" sz="2800" spc="-1" strike="noStrike">
                <a:solidFill>
                  <a:srgbClr val="575f6d"/>
                </a:solidFill>
                <a:latin typeface="Times New Roman"/>
                <a:ea typeface="Times New Roman"/>
              </a:rPr>
              <a:t>МУРАВЬИНАЯ КИСЛОТА </a:t>
            </a:r>
            <a:r>
              <a:rPr b="0" lang="ru-RU" sz="2800" spc="-1" strike="noStrike">
                <a:solidFill>
                  <a:srgbClr val="575f6d"/>
                </a:solidFill>
                <a:latin typeface="Times New Roman"/>
                <a:ea typeface="Times New Roman"/>
              </a:rPr>
              <a:t>СОДЕРЖИТСЯ В ЕДКИХ ВЫДЕЛЕНИЯХ МУРАВЬЕВ, В КРАПИВЕ, ХВОЕ ЕЛИ</a:t>
            </a:r>
            <a:r>
              <a:rPr b="0" lang="ru-RU" sz="2800" spc="-1" strike="noStrike">
                <a:solidFill>
                  <a:srgbClr val="575f6d"/>
                </a:solidFill>
                <a:latin typeface="Century Schoolbook"/>
              </a:rPr>
              <a:t>.</a:t>
            </a:r>
            <a:endParaRPr b="0" lang="en-US" sz="28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88" name="Picture 2" descr="C:\Users\Урал\Desktop\i.jpg"/>
          <p:cNvPicPr/>
          <p:nvPr/>
        </p:nvPicPr>
        <p:blipFill>
          <a:blip r:embed="rId1"/>
          <a:stretch/>
        </p:blipFill>
        <p:spPr>
          <a:xfrm>
            <a:off x="2749680" y="4000680"/>
            <a:ext cx="3036600" cy="2690640"/>
          </a:xfrm>
          <a:prstGeom prst="rect">
            <a:avLst/>
          </a:prstGeom>
          <a:ln w="0">
            <a:noFill/>
          </a:ln>
        </p:spPr>
      </p:pic>
      <p:pic>
        <p:nvPicPr>
          <p:cNvPr id="389" name="Рисунок 3" descr="http://zwezda.perm.ru/storages/images/data_3953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85840" y="1714680"/>
            <a:ext cx="3429000" cy="314316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3" descr="C:\Users\Урал\Desktop\i.jpg"/>
          <p:cNvPicPr/>
          <p:nvPr/>
        </p:nvPicPr>
        <p:blipFill>
          <a:blip r:embed="rId4"/>
          <a:stretch/>
        </p:blipFill>
        <p:spPr>
          <a:xfrm>
            <a:off x="6143760" y="1643040"/>
            <a:ext cx="2143080" cy="185724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4" descr="C:\Users\Урал\Desktop\pic05871-200x300.jpg"/>
          <p:cNvPicPr/>
          <p:nvPr/>
        </p:nvPicPr>
        <p:blipFill>
          <a:blip r:embed="rId5"/>
          <a:stretch/>
        </p:blipFill>
        <p:spPr>
          <a:xfrm>
            <a:off x="6215040" y="3571920"/>
            <a:ext cx="2405160" cy="30002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575f6d"/>
                </a:solidFill>
                <a:latin typeface="Times New Roman"/>
                <a:ea typeface="Times New Roman"/>
              </a:rPr>
              <a:t> </a:t>
            </a:r>
            <a:r>
              <a:rPr b="1" i="1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ТЬ НАЗВАНИЕ, ОПРЕДЕЛИТЬ КЛАСС,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ТЬ ОПРЕДЕЛЕНИЕ КЛАССА . 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Cl, SO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 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Fe(OH)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,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NO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Fe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, 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(OH)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,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SO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  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entury Schoolbook"/>
              </a:rPr>
              <a:t>ПРОДОЛЖИТЬ МОЛЕКУЛЯРНЫЕ УРАВНЕНИЯ РЕАКЦИЙ, ЗАПИСАТЬ ИОННЫЕ УРАВНЕНИЯ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CuS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entury Schoolbook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+ NaOH =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N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entury Schoolbook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C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entury Schoolbook"/>
              </a:rPr>
              <a:t>3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+ HCl =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Ba(N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entury Schoolbook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)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entury Schoolbook"/>
              </a:rPr>
              <a:t> 2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+ NaCl =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KOH + HN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entury Schoolbook"/>
              </a:rPr>
              <a:t>3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med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entury Schoolbook"/>
              </a:rPr>
              <a:t>КЛАССИФИКАЦИЯ КИСЛОТ</a:t>
            </a:r>
            <a:endParaRPr b="0" lang="en-US" sz="2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8686800" y="5715000"/>
            <a:ext cx="100080" cy="41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98" name="Object 2" descr=""/>
          <p:cNvPicPr/>
          <p:nvPr/>
        </p:nvPicPr>
        <p:blipFill>
          <a:blip r:embed="rId1"/>
          <a:stretch/>
        </p:blipFill>
        <p:spPr>
          <a:xfrm>
            <a:off x="209520" y="784080"/>
            <a:ext cx="8686800" cy="534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9T14:34:25Z</dcterms:created>
  <dc:creator>Пользователь</dc:creator>
  <dc:description/>
  <dc:language>en-US</dc:language>
  <cp:lastModifiedBy>Урал</cp:lastModifiedBy>
  <dcterms:modified xsi:type="dcterms:W3CDTF">2013-04-25T11:13:34Z</dcterms:modified>
  <cp:revision>72</cp:revision>
  <dc:subject/>
  <dc:title>Слайд 1</dc:title>
</cp:coreProperties>
</file>