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26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75E0-F639-4E4D-9B02-8A352791FA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5656-A917-404C-BC3B-90C0C38533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883C-F2F0-4289-B5B6-8ABA5FCCFD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BB6-A8DD-49F2-9D8E-A0663B15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D7F-67B0-457E-999D-9A20EC2B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954-616D-4043-90EA-98F0C145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DB5-068F-4A2E-922A-8293F21B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5496-5D77-4924-B0BB-E124DCE0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5761-626B-415F-9489-B0ED3AE8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554C-4088-4F99-98ED-70E14E27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2282-2610-4A4B-8FA3-553F6A5C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DBA5-1CF7-4B7B-8597-605BBCEE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E938-AE30-414E-AE39-0D901F8C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E4E7-1B32-458C-B02A-E5FDED6D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F53-8DC0-421C-9474-371685B0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9CD6-4B36-465A-A88D-43035CF9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6CD1-B674-48B9-97A2-C79CC5A2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F8B5-C9C7-4376-A472-9598CF9F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C545-2B6E-4B68-BEFE-D5454125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37A7-DBD7-4254-A73A-2B2FC778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02E05-8BC9-4225-8810-28CD32B3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A292A-2C98-49F9-8CB9-CB9C2103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02DC8-EE80-48FD-AD4E-B726FE46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F41D2-2E88-46E3-9EC2-F24A0425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C1A55A-7C91-415D-9A9D-ECCDBE92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2D8-7285-466B-9A4C-763F3CFB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6017B3-AE7A-4752-8353-0D25C899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A9163-A02E-42FC-A6AD-E1641704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F8F88-66FE-4CB4-8F8D-11146BDE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C9DEC-3260-4B9A-97E2-E29E8BC3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C27AB-C3C6-493B-A7AC-94B35840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F6917-5508-4BC1-A20C-6A0DDDC3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910F7-40D8-40F8-B629-57323773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C78B7-8DCE-4E74-8671-1A139393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23692-CF89-4A16-A4C1-3CB00166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57897-923F-4D81-94EE-EECD28F6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D27-750C-4073-B03F-42E39F28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9695B-63DA-4F32-B788-0EED28F0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D37DE-0081-45B2-9D48-F095C81C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F832-79DC-4229-802A-CA789FFE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8E964-AF0B-4D5F-A190-80221110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3EF0A-8402-4526-AB8A-8791596B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96ED8-1E9D-417F-B0F0-FFBC754F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15B5A-8093-4F82-A579-C9E5AEA1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DF719-E236-4B9E-ACA1-07C986FD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BDB3D-6D98-4EDB-8807-E00EA7DD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2C0A87-9A0B-4F09-BB8A-F66F0F0E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628F-D14A-4018-B26E-27E17A2B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5DC37-0345-4114-9ECC-B92D7ED2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79A1D7-5891-4954-8D0A-E45F5015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56B35-0FA6-40FF-96EE-67083D79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9DA8A7-37FD-4832-8403-C244833D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7FEB9-68C1-4742-8DC0-1A25150C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197EA-46CF-4B5A-9928-1125D7C9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923036-FC3E-4C37-8BFD-9BF737BD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DA6D8-9417-4F8B-83FB-3F469759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8605A-B667-4A95-B9EB-B771EB32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94BAB-94A8-435B-9549-C0ED401C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F73-5441-404D-A8AA-5C8CBE0A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F379F-3B7A-480A-940A-935EACFC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1D2FDD-9C2A-4FFE-AD17-78DB2BF2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64EF8C-6441-465B-B64D-0415BD60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2B2A0C-8B2B-434C-9AD1-E161B0E2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162C70-F0B5-4709-A557-33C25420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28113-91F0-4BCB-A7C1-8BD7590F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A8F38-38D7-4E24-83AF-A1B70E33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8EF65-FAD6-435E-8319-601ED341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24301-E771-447C-AEE9-153A9E1B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545B65-828D-47BD-8E56-B004B69F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77F-F6E1-4369-A641-B384C1B6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F089FC-9811-4482-9763-9DD79061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BDC06-F638-4D2A-A1EB-9E77FA2C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CCA4A-2743-4807-8A55-89BDE5FE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0CEEEB-8F15-48FB-9822-01FB7EC8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5F5DA3-69F8-4349-8B82-F903A294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F9E6D7-6537-478E-9AE8-CA8BE768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49946F-4B5F-4512-A499-8857BA72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9082F-C96F-485B-AAF4-665CF79F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819AA3-9B1F-4C8F-B446-53FCCA02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787C7A-97A5-4CAD-9975-968188DC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ABC-40DA-4744-A410-AB7748E0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2BF4D-344D-4A4D-A2CA-44475E1B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3679EB-5C4E-4F14-B9DC-D8C7B689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200F39-3F39-4CFE-B8CA-1C8586F9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8117A9-88CA-4A6D-B7F9-F300AAD5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4212D9-666F-4352-9334-4A296EEE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D7F-3E08-4BAA-BFD2-1AE7003F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BCA1-54DA-48E2-ADC3-C0B72DBB977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BB9B-6AD3-45F8-9F9A-D02C789A1BA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1B63-67BE-4523-944D-90082F69DA9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6C07-0D61-49E5-8167-C8328464473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1B69-4338-4A0E-99BA-F1D8B195EAB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E61D-4B66-453B-9766-AC92F180D4B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702D-08AE-483E-AEEB-30485660947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zwezda.perm.ru/storages/images/data_3953.jpg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ТЕМА УРОКА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СЛОТЫ, ИХ КЛАССИФИКАЦИЯ И СВОЙСТВА</a:t>
            </a:r>
            <a:br>
              <a:rPr sz="2800"/>
            </a:br>
            <a:r>
              <a:rPr b="1" lang="ru-RU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ЗАДАЧИ УРОКА: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бна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я учащихся о кислотах как о классе неорганических веществ и электролитах, рассмотреть классификацию и свойства кислот в свете ТЭД, закрепить умение составлять ионные уравнения реак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вающа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итие умений, навыков в постановке химического эксперимента, развитие наблюдательности, памяти, мыш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питательна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ние ответственного отношения к учебе, чувства коллективизм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01" name="Object 3"/>
          <p:cNvGraphicFramePr/>
          <p:nvPr/>
        </p:nvGraphicFramePr>
        <p:xfrm>
          <a:off x="571680" y="571680"/>
          <a:ext cx="8215200" cy="59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571680"/>
                    <a:ext cx="821520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ТИПИЧНЫЕ РЕАКЦИИ КИСЛО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1384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eab"/>
                </a:solidFill>
                <a:latin typeface="Century Schoolbook"/>
              </a:rPr>
              <a:t>Кислота + основание         соль + в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реакция обмен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eab"/>
                </a:solidFill>
                <a:latin typeface="Century Schoolbook"/>
              </a:rPr>
              <a:t>2. Кислота + оксид металла         соль + в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реакция обмен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eab"/>
                </a:solidFill>
                <a:latin typeface="Century Schoolbook"/>
              </a:rPr>
              <a:t>3. Кислота + металл                 соль + водор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реакция замещения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eab"/>
                </a:solidFill>
                <a:latin typeface="Century Schoolbook"/>
              </a:rPr>
              <a:t>4. Кислота + соль       новая кислота + новая сол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реакция обмена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05" name="Прямая со стрелкой 4"/>
          <p:cNvCxnSpPr/>
          <p:nvPr/>
        </p:nvCxnSpPr>
        <p:spPr>
          <a:xfrm>
            <a:off x="3929040" y="1643040"/>
            <a:ext cx="57240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6" name="Прямая со стрелкой 8"/>
          <p:cNvCxnSpPr/>
          <p:nvPr/>
        </p:nvCxnSpPr>
        <p:spPr>
          <a:xfrm>
            <a:off x="4357800" y="2499840"/>
            <a:ext cx="71496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7" name="Прямая со стрелкой 10"/>
          <p:cNvCxnSpPr/>
          <p:nvPr/>
        </p:nvCxnSpPr>
        <p:spPr>
          <a:xfrm>
            <a:off x="3214800" y="3429000"/>
            <a:ext cx="142920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8" name="Прямая со стрелкой 14"/>
          <p:cNvCxnSpPr/>
          <p:nvPr/>
        </p:nvCxnSpPr>
        <p:spPr>
          <a:xfrm>
            <a:off x="2857320" y="4285800"/>
            <a:ext cx="57204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КЛАССИФИКАЦИЯ КИСЛО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457200" y="1071720"/>
          <a:ext cx="8229600" cy="4587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510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ЗНАК КЛАСС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ЗВАНИЕ И ФОРМУЛА КИСЛ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ЛЯ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ЗОТ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ГО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СФ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личие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твор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но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етуч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ила кисл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600200"/>
            <a:ext cx="8043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езентацию подготовила учитель биологии и химии МОУ Уральская СОШ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изильского района Челябинской области Мокрушина Зинаида Андрее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00080" y="571680"/>
            <a:ext cx="76867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КИСЛОТЫ В ПРИРОДЕ</a:t>
            </a:r>
            <a:br>
              <a:rPr sz="2500"/>
            </a:b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АПЕЛЬСИНЫ, ЛИМОНЫ И ГРЕЙПФРУТЫ, КИВИ, ЯБЛОКИ, АБРИКОСЫ, ДЫНЯ, ЕЖЕВИКА И МНОГИЕ ДРУГИЕ ФРУКТЫ И ОВОЩИ СОДЕРЖАТ </a:t>
            </a:r>
            <a:r>
              <a:rPr b="1" i="1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АСКОРБИНОВУЮ КИСЛОТУ</a:t>
            </a:r>
            <a:r>
              <a:rPr b="0" lang="ru-RU" sz="1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— ЭТО ХИМИЧЕСКОЕ НАЗВАНИЕ ВИТАМИНА С.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Picture 2" descr="C:\Users\Пользователь\Desktop\i (2).jpg"/>
          <p:cNvPicPr/>
          <p:nvPr/>
        </p:nvPicPr>
        <p:blipFill>
          <a:blip r:embed="rId1"/>
          <a:stretch/>
        </p:blipFill>
        <p:spPr>
          <a:xfrm>
            <a:off x="4143240" y="1928880"/>
            <a:ext cx="1785960" cy="16430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Пользователь\Desktop\i (3).jpg"/>
          <p:cNvPicPr/>
          <p:nvPr/>
        </p:nvPicPr>
        <p:blipFill>
          <a:blip r:embed="rId2"/>
          <a:stretch/>
        </p:blipFill>
        <p:spPr>
          <a:xfrm>
            <a:off x="1857240" y="328608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C:\Users\Пользователь\Desktop\i.jpg"/>
          <p:cNvPicPr/>
          <p:nvPr/>
        </p:nvPicPr>
        <p:blipFill>
          <a:blip r:embed="rId3"/>
          <a:stretch/>
        </p:blipFill>
        <p:spPr>
          <a:xfrm>
            <a:off x="6858000" y="228600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5" descr="C:\Users\Пользователь\Desktop\i (4).jpg"/>
          <p:cNvPicPr/>
          <p:nvPr/>
        </p:nvPicPr>
        <p:blipFill>
          <a:blip r:embed="rId4"/>
          <a:stretch/>
        </p:blipFill>
        <p:spPr>
          <a:xfrm>
            <a:off x="6572160" y="4857840"/>
            <a:ext cx="1995480" cy="16430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C:\Users\Пользователь\Desktop\i (5).jpg"/>
          <p:cNvPicPr/>
          <p:nvPr/>
        </p:nvPicPr>
        <p:blipFill>
          <a:blip r:embed="rId5"/>
          <a:stretch/>
        </p:blipFill>
        <p:spPr>
          <a:xfrm>
            <a:off x="357120" y="4929120"/>
            <a:ext cx="2000160" cy="1663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C:\Users\Пользователь\Desktop\i (6).jpg"/>
          <p:cNvPicPr/>
          <p:nvPr/>
        </p:nvPicPr>
        <p:blipFill>
          <a:blip r:embed="rId6"/>
          <a:stretch/>
        </p:blipFill>
        <p:spPr>
          <a:xfrm>
            <a:off x="3214800" y="5000760"/>
            <a:ext cx="2286000" cy="1857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C:\Users\Пользователь\Desktop\i (7).jpg"/>
          <p:cNvPicPr/>
          <p:nvPr/>
        </p:nvPicPr>
        <p:blipFill>
          <a:blip r:embed="rId7"/>
          <a:stretch/>
        </p:blipFill>
        <p:spPr>
          <a:xfrm>
            <a:off x="4786200" y="3643200"/>
            <a:ext cx="2286000" cy="1733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C:\Users\Пользователь\Desktop\i (8).jpg"/>
          <p:cNvPicPr/>
          <p:nvPr/>
        </p:nvPicPr>
        <p:blipFill>
          <a:blip r:embed="rId8"/>
          <a:stretch/>
        </p:blipFill>
        <p:spPr>
          <a:xfrm>
            <a:off x="285840" y="2428920"/>
            <a:ext cx="1738080" cy="1714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Users\Пользователь\Desktop\i (9).jpg"/>
          <p:cNvPicPr/>
          <p:nvPr/>
        </p:nvPicPr>
        <p:blipFill>
          <a:blip r:embed="rId9"/>
          <a:stretch/>
        </p:blipFill>
        <p:spPr>
          <a:xfrm>
            <a:off x="2143080" y="2071800"/>
            <a:ext cx="1738440" cy="1357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ЯБЛОЧНОЙ КИСЛОТОЙ </a:t>
            </a:r>
            <a:r>
              <a:rPr b="0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БОГАТЫ   ПЛОДЫ РЯБИНЫ, БАРБАРИСА, МАЛИНЫ, ЯБЛОНИ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1" name="Picture 2" descr="C:\Users\Пользователь\Desktop\5274554f141762dfc5cdf17105a2f71b.jpg"/>
          <p:cNvPicPr/>
          <p:nvPr/>
        </p:nvPicPr>
        <p:blipFill>
          <a:blip r:embed="rId1"/>
          <a:stretch/>
        </p:blipFill>
        <p:spPr>
          <a:xfrm>
            <a:off x="428760" y="1500120"/>
            <a:ext cx="3500280" cy="2625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C:\Users\Пользователь\Desktop\ryabina (1).jpg"/>
          <p:cNvPicPr/>
          <p:nvPr/>
        </p:nvPicPr>
        <p:blipFill>
          <a:blip r:embed="rId2"/>
          <a:stretch/>
        </p:blipFill>
        <p:spPr>
          <a:xfrm>
            <a:off x="3500280" y="1714680"/>
            <a:ext cx="2921040" cy="20714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C:\Users\Пользователь\Desktop\i.jpg"/>
          <p:cNvPicPr/>
          <p:nvPr/>
        </p:nvPicPr>
        <p:blipFill>
          <a:blip r:embed="rId3"/>
          <a:stretch/>
        </p:blipFill>
        <p:spPr>
          <a:xfrm>
            <a:off x="428760" y="4286160"/>
            <a:ext cx="2786040" cy="2571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C:\Users\Пользователь\Desktop\1_Apple-tree1.jpg"/>
          <p:cNvPicPr/>
          <p:nvPr/>
        </p:nvPicPr>
        <p:blipFill>
          <a:blip r:embed="rId4"/>
          <a:stretch/>
        </p:blipFill>
        <p:spPr>
          <a:xfrm>
            <a:off x="5753160" y="4206960"/>
            <a:ext cx="3390840" cy="2651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C:\Users\Пользователь\Desktop\i.jpg"/>
          <p:cNvPicPr/>
          <p:nvPr/>
        </p:nvPicPr>
        <p:blipFill>
          <a:blip r:embed="rId5"/>
          <a:stretch/>
        </p:blipFill>
        <p:spPr>
          <a:xfrm>
            <a:off x="3357720" y="4357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ЛИМОННАЯ КИСЛОТА </a:t>
            </a:r>
            <a:r>
              <a:rPr b="0" lang="ru-RU" sz="22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— НАРЯДУ С ЯБЛОЧНОЙ И ЯНТАРНОЙ - УЧАСТВУЕТ В ОБМЕНЕ ВЕЩЕСТВ И ЗАНИМАЕТ ВАЖНОЕ МЕСТО В ПРОЦЕССЕ ОБМЕНА БЕЛКОВ, ЖИРОВ И УГЛЕВОДОВ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2" descr="C:\Users\Пользователь\Downloads\limon2.png"/>
          <p:cNvPicPr/>
          <p:nvPr/>
        </p:nvPicPr>
        <p:blipFill>
          <a:blip r:embed="rId1"/>
          <a:stretch/>
        </p:blipFill>
        <p:spPr>
          <a:xfrm>
            <a:off x="214200" y="1785960"/>
            <a:ext cx="4826160" cy="412596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3"/>
          <p:cNvSpPr/>
          <p:nvPr/>
        </p:nvSpPr>
        <p:spPr>
          <a:xfrm>
            <a:off x="6357960" y="43988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http://im6-tub-ru.yandex.net/i?id=144854128-54-72&amp;n=17"/>
          <p:cNvPicPr/>
          <p:nvPr/>
        </p:nvPicPr>
        <p:blipFill>
          <a:blip r:embed="rId2"/>
          <a:stretch/>
        </p:blipFill>
        <p:spPr>
          <a:xfrm>
            <a:off x="5572080" y="200016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http://im8-tub-ru.yandex.net/i?id=318818724-60-72&amp;n=17"/>
          <p:cNvPicPr/>
          <p:nvPr/>
        </p:nvPicPr>
        <p:blipFill>
          <a:blip r:embed="rId3"/>
          <a:stretch/>
        </p:blipFill>
        <p:spPr>
          <a:xfrm>
            <a:off x="5715000" y="4286160"/>
            <a:ext cx="248112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43862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371600" y="4143240"/>
            <a:ext cx="640080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ициловая, яблочная, лимонная, винная, эллаговая, фолиевая, кофейная, хлорогенная, муравьиная, щавелевая кислоты содержатся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лине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C:\Users\Пользователь\Desktop\Malina-poleznyie-svoystva1.jpg"/>
          <p:cNvPicPr/>
          <p:nvPr/>
        </p:nvPicPr>
        <p:blipFill>
          <a:blip r:embed="rId1"/>
          <a:stretch/>
        </p:blipFill>
        <p:spPr>
          <a:xfrm>
            <a:off x="285840" y="0"/>
            <a:ext cx="3500280" cy="3071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C:\Users\Пользователь\Desktop\i.jpg"/>
          <p:cNvPicPr/>
          <p:nvPr/>
        </p:nvPicPr>
        <p:blipFill>
          <a:blip r:embed="rId2"/>
          <a:stretch/>
        </p:blipFill>
        <p:spPr>
          <a:xfrm>
            <a:off x="5786280" y="285840"/>
            <a:ext cx="2657520" cy="2214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Users\Пользователь\Desktop\i (1).jpg"/>
          <p:cNvPicPr/>
          <p:nvPr/>
        </p:nvPicPr>
        <p:blipFill>
          <a:blip r:embed="rId3"/>
          <a:stretch/>
        </p:blipFill>
        <p:spPr>
          <a:xfrm>
            <a:off x="4071960" y="1857240"/>
            <a:ext cx="2428920" cy="2143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http://im6-tub-ru.yandex.net/i?id=290946291-47-72&amp;n=15"/>
          <p:cNvPicPr/>
          <p:nvPr/>
        </p:nvPicPr>
        <p:blipFill>
          <a:blip r:embed="rId4"/>
          <a:stretch/>
        </p:blipFill>
        <p:spPr>
          <a:xfrm>
            <a:off x="7358040" y="5143680"/>
            <a:ext cx="1357200" cy="1285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ru-RU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МУРАВЬИНАЯ КИСЛОТА </a:t>
            </a:r>
            <a:r>
              <a:rPr b="0" lang="ru-RU" sz="2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СОДЕРЖИТСЯ В ЕДКИХ ВЫДЕЛЕНИЯХ МУРАВЬЕВ, В КРАПИВЕ, ХВОЕ ЕЛИ</a:t>
            </a: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2" descr="C:\Users\Урал\Desktop\i.jpg"/>
          <p:cNvPicPr/>
          <p:nvPr/>
        </p:nvPicPr>
        <p:blipFill>
          <a:blip r:embed="rId1"/>
          <a:stretch/>
        </p:blipFill>
        <p:spPr>
          <a:xfrm>
            <a:off x="2749680" y="4000680"/>
            <a:ext cx="3036600" cy="26906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3" descr="http://zwezda.perm.ru/storages/images/data_395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1714680"/>
            <a:ext cx="3429000" cy="3143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C:\Users\Урал\Desktop\i.jpg"/>
          <p:cNvPicPr/>
          <p:nvPr/>
        </p:nvPicPr>
        <p:blipFill>
          <a:blip r:embed="rId4"/>
          <a:stretch/>
        </p:blipFill>
        <p:spPr>
          <a:xfrm>
            <a:off x="6143760" y="1643040"/>
            <a:ext cx="2143080" cy="1857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C:\Users\Урал\Desktop\pic05871-200x300.jpg"/>
          <p:cNvPicPr/>
          <p:nvPr/>
        </p:nvPicPr>
        <p:blipFill>
          <a:blip r:embed="rId5"/>
          <a:stretch/>
        </p:blipFill>
        <p:spPr>
          <a:xfrm>
            <a:off x="6215040" y="3571920"/>
            <a:ext cx="240516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НАЗВАНИЕ, ОПРЕДЕЛИТЬ КЛАСС,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ОПРЕДЕЛЕНИЕ КЛАССА .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, 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e(OH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e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(OH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entury Schoolbook"/>
              </a:rPr>
              <a:t>ПРОДОЛЖИТЬ МОЛЕКУЛЯРНЫЕ УРАВНЕНИЯ РЕАКЦИЙ, ЗАПИСАТЬ ИОННЫЕ УРАВНЕНИЯ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u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+ NaOH =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+ HCl =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a(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+ NaCl =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KOH + 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entury Schoolbook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КЛАССИФИКАЦИЯ КИСЛОТ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686800" y="5715000"/>
            <a:ext cx="10008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Object 2" descr=""/>
          <p:cNvPicPr/>
          <p:nvPr/>
        </p:nvPicPr>
        <p:blipFill>
          <a:blip r:embed="rId1"/>
          <a:stretch/>
        </p:blipFill>
        <p:spPr>
          <a:xfrm>
            <a:off x="209520" y="784080"/>
            <a:ext cx="86868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4:34:25Z</dcterms:created>
  <dc:creator>Пользователь</dc:creator>
  <dc:description/>
  <dc:language>en-US</dc:language>
  <cp:lastModifiedBy>Урал</cp:lastModifiedBy>
  <dcterms:modified xsi:type="dcterms:W3CDTF">2013-04-25T11:13:34Z</dcterms:modified>
  <cp:revision>72</cp:revision>
  <dc:subject/>
  <dc:title>Слайд 1</dc:title>
</cp:coreProperties>
</file>