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F66-2D4D-4E0E-BF4D-1F4ABDA7D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6C63-9902-4BF2-B70F-5826CDA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78C-E5F4-4203-A774-BB926C22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D13-9AF3-4988-AEA8-367D79CE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D1F-B8C0-46F9-8DC4-9BE742C9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D8E-518F-4D03-A0B6-4AB7093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A84-A7AF-458A-A591-D24A8130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DFC-16A2-4E46-A1F4-1CE996AE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0F73-3D15-422D-8B9A-16959488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AC5-C9A1-4B46-B0F7-91FC5DD1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C8D-1079-4541-B759-0FF00A1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C838-32EC-4D29-9D95-32E0E763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2A27-8D3A-4269-9618-CCECCCC981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mochki-detishki.ru/wp-content/uploads/2010/01/game-4boy2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katichka.ru/img/dolls/dolls-19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katichka.ru/img/dolls/dolls-06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katichka.ru/img/dolls/dolls-08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gallery/igrushki/1253127162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0/01/896361500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20th.su/wp-content/uploads/2009/08/gruzovik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20th.su/wp-content/uploads/2009/08/254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09/06/3f1162cd52.jpg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20th.su/wp-content/uploads/2009/06/konayka0366-1.jpg" TargetMode="External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c.pics.livejournal.com/vita_soyka/24761694/106891/106891_original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0/03/DSCN7353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20th.su/wp-content/uploads/2010/10/1270900432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2/10/telefon_spichki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20th.su/wp-content/uploads/2011/11/IMG_02361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yandex.ru/yandsearch?source=wiz&amp;img_url=http%3A%2F%2Fwww.grandars.ru%2Fimages%2F1%2Freview%2Fpr%2F395%2F272a4127c5.jpg&amp;uinfo=sw-1332-sh-603-fw-0-fh-448-pd-1&amp;text=&#1082;&#1072;&#1088;&#1090;&#1080;&#1085;&#1082;&#1072;%20&#1102;&#1083;&#1099;&amp;noreask=1&amp;pos=0&amp;lr=54&amp;rpt=simage" TargetMode="External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0th.su/wp-content/uploads/2010/05/pistony-8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20th.su/wp-content/uploads/2009/12/DSCN6395.JPG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bd5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14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b03ad"/>
                </a:solidFill>
                <a:latin typeface="Monotype Corsiva"/>
              </a:rPr>
              <a:t>Игрушки моего детств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09680" y="45720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лассный час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2 клас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http://mamochki-detishki.ru/wp-content/uploads/2010/01/game-4boy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5520" y="362736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vek-20.ru/oldvek/wp-content/uploads/2012/08/olovyannye_soldatiki.jpg"/>
          <p:cNvPicPr/>
          <p:nvPr/>
        </p:nvPicPr>
        <p:blipFill>
          <a:blip r:embed="rId1"/>
          <a:stretch/>
        </p:blipFill>
        <p:spPr>
          <a:xfrm>
            <a:off x="131760" y="-74520"/>
            <a:ext cx="8880480" cy="70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7592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114560" y="278928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http://katichka.ru/img/dolls/dolls-19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8686800" cy="17528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7592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1114560" y="20970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3" descr="http://katichka.ru/img/dolls/dolls-06-sm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124080"/>
            <a:ext cx="7925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7592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2543040" y="1978200"/>
            <a:ext cx="4572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http://katichka.ru/img/dolls/dolls-08-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Коллекция советских игруше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Игрушки машинки жестяны из СССР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04920"/>
            <a:ext cx="3886200" cy="339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Игрушечный ЗИЛ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3962520"/>
            <a:ext cx="5029200" cy="2895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5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61040" y="152280"/>
            <a:ext cx="478296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лошадь с педал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0532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Игрушка детская лошадь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86240" y="3429000"/>
            <a:ext cx="265140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im3-tub-ru.yandex.net/i?id=71638567-01-72&amp;n=17"/>
          <p:cNvPicPr/>
          <p:nvPr/>
        </p:nvPicPr>
        <p:blipFill>
          <a:blip r:embed="rId5"/>
          <a:stretch/>
        </p:blipFill>
        <p:spPr>
          <a:xfrm>
            <a:off x="304920" y="228600"/>
            <a:ext cx="3962160" cy="3144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4"/>
          <p:cNvSpPr/>
          <p:nvPr/>
        </p:nvSpPr>
        <p:spPr>
          <a:xfrm>
            <a:off x="-249120" y="662040"/>
            <a:ext cx="541476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http://cs407825.vk.me/v407825580/54e2/fVAtSq67ADk.jpg"/>
          <p:cNvPicPr/>
          <p:nvPr/>
        </p:nvPicPr>
        <p:blipFill>
          <a:blip r:embed="rId6"/>
          <a:stretch/>
        </p:blipFill>
        <p:spPr>
          <a:xfrm>
            <a:off x="4495680" y="0"/>
            <a:ext cx="464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2280" y="85680"/>
            <a:ext cx="2438640" cy="239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7174080" y="4343400"/>
            <a:ext cx="196992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2895480" y="228600"/>
            <a:ext cx="3657600" cy="14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6553080" y="0"/>
            <a:ext cx="2590920" cy="252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5"/>
          <a:stretch/>
        </p:blipFill>
        <p:spPr>
          <a:xfrm>
            <a:off x="0" y="3409920"/>
            <a:ext cx="3505320" cy="344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6"/>
          <a:stretch/>
        </p:blipFill>
        <p:spPr>
          <a:xfrm>
            <a:off x="3505320" y="4457880"/>
            <a:ext cx="2447640" cy="2400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7"/>
          <a:stretch/>
        </p:blipFill>
        <p:spPr>
          <a:xfrm>
            <a:off x="4343400" y="2065320"/>
            <a:ext cx="2362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Девочка с куклами-солдатами"/>
          <p:cNvPicPr/>
          <p:nvPr/>
        </p:nvPicPr>
        <p:blipFill>
          <a:blip r:embed="rId1"/>
          <a:stretch/>
        </p:blipFill>
        <p:spPr>
          <a:xfrm>
            <a:off x="1274760" y="1103400"/>
            <a:ext cx="65944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f3c7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262080" y="0"/>
            <a:ext cx="1643040" cy="360"/>
          </a:xfrm>
          <a:prstGeom prst="rect">
            <a:avLst/>
          </a:prstGeom>
          <a:solidFill>
            <a:srgbClr val="4e9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95040" bIns="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-233280" y="0"/>
            <a:ext cx="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http://ic.pics.livejournal.com/vita_soyka/24761694/106891/106891_6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8116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В постли с куклами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-fotki.yandex.ru/get/5413/123177916.f2/0_95b8c_e4be031b_XL.jpg"/>
          <p:cNvPicPr/>
          <p:nvPr/>
        </p:nvPicPr>
        <p:blipFill>
          <a:blip r:embed="rId1"/>
          <a:stretch/>
        </p:blipFill>
        <p:spPr>
          <a:xfrm>
            <a:off x="1143000" y="20520"/>
            <a:ext cx="7696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dbc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Матрешка из 10 кукол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029200" cy="375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Неваляшка большая. СССР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133720"/>
            <a:ext cx="3571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Телефон из спичечных коробк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429000"/>
            <a:ext cx="41148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G_02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832200"/>
            <a:ext cx="4495680" cy="30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ttp://www.mamadaika.ru/images/mt/super/11780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94320" y="0"/>
            <a:ext cx="4549680" cy="388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http://im8-tub-ru.yandex.net/i?id=555504058-02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80880" y="0"/>
            <a:ext cx="35053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Игрушки: Солдатики, Ковбои, Пираты, Индейцы."/>
          <p:cNvPicPr/>
          <p:nvPr/>
        </p:nvPicPr>
        <p:blipFill>
          <a:blip r:embed="rId1"/>
          <a:stretch/>
        </p:blipFill>
        <p:spPr>
          <a:xfrm>
            <a:off x="0" y="0"/>
            <a:ext cx="871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стреляет пистона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04920"/>
            <a:ext cx="3429000" cy="269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Пиротехнические пистоны к игрушечным пистолетам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071880"/>
            <a:ext cx="3962520" cy="332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35"/>
          <p:cNvPicPr/>
          <p:nvPr/>
        </p:nvPicPr>
        <p:blipFill>
          <a:blip r:embed="rId5"/>
          <a:stretch/>
        </p:blipFill>
        <p:spPr>
          <a:xfrm>
            <a:off x="571680" y="3857760"/>
            <a:ext cx="31892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2:31:25Z</dcterms:created>
  <dc:creator>777</dc:creator>
  <dc:description/>
  <dc:language>en-US</dc:language>
  <cp:lastModifiedBy>школа</cp:lastModifiedBy>
  <dcterms:modified xsi:type="dcterms:W3CDTF">2013-04-22T06:59:02Z</dcterms:modified>
  <cp:revision>6</cp:revision>
  <dc:subject/>
  <dc:title>PowerPoint Presentation</dc:title>
</cp:coreProperties>
</file>