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3B3-8B5C-48A0-BBB1-F7DCF4E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948-DA01-4953-95B5-BFB03B8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A5D-1438-4F18-9E0E-705FA8EA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656-A625-4B1C-9F49-47B8249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EEC-9F05-487C-9245-BDC0AE94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897-F32E-4CC6-A055-6854A1C9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F54-570E-461F-8F89-90C5D78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3CE-ED30-41AF-9A1D-19713D67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266-DD13-48B3-BEFF-54CB76D2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D1F-4019-47EB-968D-6563E7E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434-2285-43EC-991D-985E838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7FD-9D9E-4BB3-B824-DFDBEEF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A8C-92EB-4BF0-8442-CB86C417F7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mochki-detishki.ru/wp-content/uploads/2010/01/game-4boy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atichka.ru/img/dolls/dolls-19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katichka.ru/img/dolls/dolls-06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katichka.ru/img/dolls/dolls-08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gallery/igrushki/1253127162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1/896361500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20th.su/wp-content/uploads/2009/08/gruzovik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20th.su/wp-content/uploads/2009/08/254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09/06/3f1162cd52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20th.su/wp-content/uploads/2009/06/konayka0366-1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vita_soyka/24761694/106891/106891_origin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3/DSCN7353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20th.su/wp-content/uploads/2010/10/1270900432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2/10/telefon_spichki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20th.su/wp-content/uploads/2011/11/IMG_02361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source=wiz&amp;img_url=http%3A%2F%2Fwww.grandars.ru%2Fimages%2F1%2Freview%2Fpr%2F395%2F272a4127c5.jpg&amp;uinfo=sw-1332-sh-603-fw-0-fh-448-pd-1&amp;text=&#1082;&#1072;&#1088;&#1090;&#1080;&#1085;&#1082;&#1072;%20&#1102;&#1083;&#1099;&amp;noreask=1&amp;pos=0&amp;lr=54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5/pistony-8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20th.su/wp-content/uploads/2009/12/DSCN6395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5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14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b03ad"/>
                </a:solidFill>
                <a:latin typeface="Monotype Corsiva"/>
              </a:rPr>
              <a:t>Игрушки моего дет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5720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ассный час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http://mamochki-detishki.ru/wp-content/uploads/2010/01/game-4boy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362736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vek-20.ru/oldvek/wp-content/uploads/2012/08/olovyannye_soldatiki.jpg"/>
          <p:cNvPicPr/>
          <p:nvPr/>
        </p:nvPicPr>
        <p:blipFill>
          <a:blip r:embed="rId1"/>
          <a:stretch/>
        </p:blipFill>
        <p:spPr>
          <a:xfrm>
            <a:off x="131760" y="-74520"/>
            <a:ext cx="888048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http://katichka.ru/img/dolls/dolls-19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8686800" cy="1752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3" descr="http://katichka.ru/img/dolls/dolls-06-s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124080"/>
            <a:ext cx="7925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http://katichka.ru/img/dolls/dolls-08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Коллекция советских игруше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Игрушки машинки жестяны из ССС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920"/>
            <a:ext cx="3886200" cy="33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Игрушечный ЗИ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96252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61040" y="15228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лошадь с педал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053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Игрушка детская лоша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429000"/>
            <a:ext cx="265140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3-tub-ru.yandex.net/i?id=71638567-01-72&amp;n=17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3144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"/>
          <p:cNvSpPr/>
          <p:nvPr/>
        </p:nvSpPr>
        <p:spPr>
          <a:xfrm>
            <a:off x="-249120" y="662040"/>
            <a:ext cx="54147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http://cs407825.vk.me/v407825580/54e2/fVAtSq67ADk.jpg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2280" y="85680"/>
            <a:ext cx="2438640" cy="239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174080" y="4343400"/>
            <a:ext cx="1969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2895480" y="228600"/>
            <a:ext cx="3657600" cy="14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0" y="3409920"/>
            <a:ext cx="3505320" cy="344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3505320" y="4457880"/>
            <a:ext cx="2447640" cy="24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7"/>
          <a:stretch/>
        </p:blipFill>
        <p:spPr>
          <a:xfrm>
            <a:off x="4343400" y="2065320"/>
            <a:ext cx="2362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Девочка с куклами-солдатами"/>
          <p:cNvPicPr/>
          <p:nvPr/>
        </p:nvPicPr>
        <p:blipFill>
          <a:blip r:embed="rId1"/>
          <a:stretch/>
        </p:blipFill>
        <p:spPr>
          <a:xfrm>
            <a:off x="1274760" y="1103400"/>
            <a:ext cx="65944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262080" y="0"/>
            <a:ext cx="1643040" cy="360"/>
          </a:xfrm>
          <a:prstGeom prst="rect">
            <a:avLst/>
          </a:prstGeom>
          <a:solidFill>
            <a:srgbClr val="4e9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950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-233280" y="0"/>
            <a:ext cx="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ic.pics.livejournal.com/vita_soyka/24761694/106891/106891_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8116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В постли с кукл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413/123177916.f2/0_95b8c_e4be031b_XL.jpg"/>
          <p:cNvPicPr/>
          <p:nvPr/>
        </p:nvPicPr>
        <p:blipFill>
          <a:blip r:embed="rId1"/>
          <a:stretch/>
        </p:blipFill>
        <p:spPr>
          <a:xfrm>
            <a:off x="1143000" y="20520"/>
            <a:ext cx="7696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dbc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Матрешка из 10 кукол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29200" cy="37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Неваляшка большая. ССС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133720"/>
            <a:ext cx="3571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Телефон из спичечных короб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G_0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832200"/>
            <a:ext cx="449568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mamadaika.ru/images/mt/super/1178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94320" y="0"/>
            <a:ext cx="45496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8-tub-ru.yandex.net/i?id=555504058-0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0"/>
            <a:ext cx="35053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Игрушки: Солдатики, Ковбои, Пираты, Индейцы."/>
          <p:cNvPicPr/>
          <p:nvPr/>
        </p:nvPicPr>
        <p:blipFill>
          <a:blip r:embed="rId1"/>
          <a:stretch/>
        </p:blipFill>
        <p:spPr>
          <a:xfrm>
            <a:off x="0" y="0"/>
            <a:ext cx="87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стреляет пистона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429000" cy="269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иротехнические пистоны к игрушечным пистолета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071880"/>
            <a:ext cx="3962520" cy="33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35"/>
          <p:cNvPicPr/>
          <p:nvPr/>
        </p:nvPicPr>
        <p:blipFill>
          <a:blip r:embed="rId5"/>
          <a:stretch/>
        </p:blipFill>
        <p:spPr>
          <a:xfrm>
            <a:off x="571680" y="3857760"/>
            <a:ext cx="31892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2:31:25Z</dcterms:created>
  <dc:creator>777</dc:creator>
  <dc:description/>
  <dc:language>en-US</dc:language>
  <cp:lastModifiedBy>школа</cp:lastModifiedBy>
  <dcterms:modified xsi:type="dcterms:W3CDTF">2013-04-22T06:59:02Z</dcterms:modified>
  <cp:revision>6</cp:revision>
  <dc:subject/>
  <dc:title>PowerPoint Presentation</dc:title>
</cp:coreProperties>
</file>