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A0B-EC62-4794-9EDA-8004800C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5212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F42-8238-4C89-A0EE-1242BEF6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9140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60C-6F70-4E26-BD9B-10DDB8B8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1440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5212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308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21440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557-C393-461E-ABDB-529A247A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C117-93EC-4228-8183-F2903068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978A-E568-42D0-83E3-06331BAD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4F66-E3A9-4E5E-9420-B02805C0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55EA-4EC3-49AC-B8E4-D0F051B0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1298-215E-473E-A8F5-D1D94326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30492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4E45-B3EE-4AD3-8BC5-394461CF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FC23-E9EB-41FF-923C-34C215F2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FA0-D0E6-46F3-A1E2-92091997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9140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A37F-2B48-42D4-9B34-4A522051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041A-4993-412A-A253-033DA0C2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5212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D779-574A-4206-88AB-D8E89F46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89140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DB5A-2E64-4505-9AF1-CAD2553B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21440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5212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48308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21440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2611-EED0-4098-9200-F115F3F0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FAA-71AF-4EE4-A3AE-4A22C6E8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244-D749-4ED8-9A61-D79B37E4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1BC-22D4-4F59-969D-6411ACF4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30492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6D8-4108-4AAC-BD12-4BCCE37D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F18-45DF-4E5E-94DD-7CE531B7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9140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DAC-D7C2-418A-B960-AA23C40E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C8C-F3CC-4D1A-8A6C-06155EFA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adedGlobe_Text.avi" descr=""/>
          <p:cNvPicPr/>
          <p:nvPr/>
        </p:nvPicPr>
        <p:blipFill>
          <a:blip r:embed="rId3"/>
          <a:stretch/>
        </p:blipFill>
        <p:spPr>
          <a:xfrm>
            <a:off x="324000" y="311040"/>
            <a:ext cx="1306440" cy="130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3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52120" y="6933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9339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20120" y="6933960"/>
            <a:ext cx="2133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84D9-FA02-4895-83C3-BC358B53E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adedGlobe_Title.avi" descr=""/>
          <p:cNvPicPr/>
          <p:nvPr/>
        </p:nvPicPr>
        <p:blipFill>
          <a:blip r:embed="rId3"/>
          <a:stretch/>
        </p:blipFill>
        <p:spPr>
          <a:xfrm>
            <a:off x="1066680" y="2927520"/>
            <a:ext cx="1517760" cy="151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3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90920" y="6858000"/>
            <a:ext cx="175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800600" y="685800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858000"/>
            <a:ext cx="175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3527-B29E-4B00-88F5-F45564453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spcBef>
                <a:spcPts val="13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13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070760" y="208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C:\Users\Zadorozhnaya\Desktop\Глагол\Рисунок.bmp"/>
          <p:cNvPicPr/>
          <p:nvPr/>
        </p:nvPicPr>
        <p:blipFill>
          <a:blip r:embed="rId1"/>
          <a:stretch/>
        </p:blipFill>
        <p:spPr>
          <a:xfrm>
            <a:off x="341280" y="138240"/>
            <a:ext cx="9468000" cy="73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13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13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 flipV="1">
            <a:off x="2122560" y="213804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122560" y="278604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77080" y="172548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133080" y="2786040"/>
            <a:ext cx="9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906560" y="29304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906560" y="3867120"/>
            <a:ext cx="165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1906560" y="40831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1906560" y="437040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3924360" y="4083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1979640" y="4875120"/>
            <a:ext cx="719280" cy="287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1906560" y="4370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2914560" y="4875120"/>
            <a:ext cx="792360" cy="287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3922560" y="4875120"/>
            <a:ext cx="792360" cy="287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4"/>
          <p:cNvSpPr/>
          <p:nvPr/>
        </p:nvSpPr>
        <p:spPr>
          <a:xfrm>
            <a:off x="5291280" y="4803840"/>
            <a:ext cx="431640" cy="36036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1979640" y="52354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2033280" y="5491080"/>
            <a:ext cx="103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, 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7"/>
          <p:cNvSpPr/>
          <p:nvPr/>
        </p:nvSpPr>
        <p:spPr>
          <a:xfrm flipV="1">
            <a:off x="3130560" y="53784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3130560" y="5883120"/>
            <a:ext cx="649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29"/>
          <p:cNvSpPr/>
          <p:nvPr/>
        </p:nvSpPr>
        <p:spPr>
          <a:xfrm>
            <a:off x="4138560" y="5378400"/>
            <a:ext cx="432000" cy="4334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0"/>
          <p:cNvSpPr/>
          <p:nvPr/>
        </p:nvSpPr>
        <p:spPr>
          <a:xfrm>
            <a:off x="4067280" y="6243480"/>
            <a:ext cx="43164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4618080" y="5292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2"/>
          <p:cNvSpPr/>
          <p:nvPr/>
        </p:nvSpPr>
        <p:spPr>
          <a:xfrm>
            <a:off x="5078520" y="5499000"/>
            <a:ext cx="431640" cy="392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Овал 32"/>
          <p:cNvSpPr/>
          <p:nvPr/>
        </p:nvSpPr>
        <p:spPr>
          <a:xfrm>
            <a:off x="5952960" y="5522760"/>
            <a:ext cx="432000" cy="392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 flipH="1">
            <a:off x="5293800" y="5292720"/>
            <a:ext cx="21276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37"/>
          <p:cNvSpPr/>
          <p:nvPr/>
        </p:nvSpPr>
        <p:spPr>
          <a:xfrm flipH="1">
            <a:off x="6192360" y="5246640"/>
            <a:ext cx="21276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8"/>
          <p:cNvSpPr/>
          <p:nvPr/>
        </p:nvSpPr>
        <p:spPr>
          <a:xfrm>
            <a:off x="6253200" y="5235480"/>
            <a:ext cx="1062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553280" y="6192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5078520" y="6243480"/>
            <a:ext cx="3222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43"/>
          <p:cNvSpPr/>
          <p:nvPr/>
        </p:nvSpPr>
        <p:spPr>
          <a:xfrm>
            <a:off x="5713560" y="6218280"/>
            <a:ext cx="3222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44"/>
          <p:cNvSpPr/>
          <p:nvPr/>
        </p:nvSpPr>
        <p:spPr>
          <a:xfrm>
            <a:off x="7307280" y="6240600"/>
            <a:ext cx="3222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45"/>
          <p:cNvSpPr/>
          <p:nvPr/>
        </p:nvSpPr>
        <p:spPr>
          <a:xfrm>
            <a:off x="8099280" y="6213600"/>
            <a:ext cx="3225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11"/>
          <p:cNvSpPr/>
          <p:nvPr/>
        </p:nvSpPr>
        <p:spPr>
          <a:xfrm flipH="1">
            <a:off x="5400000" y="5915160"/>
            <a:ext cx="3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7339680" y="6084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1914480" y="6399360"/>
            <a:ext cx="12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Ъ,Ь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Прямая со стрелкой 15"/>
          <p:cNvCxnSpPr/>
          <p:nvPr/>
        </p:nvCxnSpPr>
        <p:spPr>
          <a:xfrm>
            <a:off x="2590560" y="66546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Прямая соединительная линия 2"/>
          <p:cNvSpPr/>
          <p:nvPr/>
        </p:nvSpPr>
        <p:spPr>
          <a:xfrm>
            <a:off x="1979640" y="50180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ая соединительная линия 4"/>
          <p:cNvSpPr/>
          <p:nvPr/>
        </p:nvSpPr>
        <p:spPr>
          <a:xfrm>
            <a:off x="2878200" y="496872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ая соединительная линия 10"/>
          <p:cNvSpPr/>
          <p:nvPr/>
        </p:nvSpPr>
        <p:spPr>
          <a:xfrm>
            <a:off x="2914560" y="50198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олилиния 11"/>
          <p:cNvSpPr/>
          <p:nvPr/>
        </p:nvSpPr>
        <p:spPr>
          <a:xfrm>
            <a:off x="3932280" y="4937040"/>
            <a:ext cx="745920" cy="152640"/>
          </a:xfrm>
          <a:custGeom>
            <a:avLst/>
            <a:gdLst/>
            <a:ahLst/>
            <a:rect l="l" t="t" r="r" b="b"/>
            <a:pathLst>
              <a:path w="746760" h="153511">
                <a:moveTo>
                  <a:pt x="0" y="77311"/>
                </a:moveTo>
                <a:cubicBezTo>
                  <a:pt x="60960" y="45561"/>
                  <a:pt x="121920" y="13811"/>
                  <a:pt x="167640" y="16351"/>
                </a:cubicBezTo>
                <a:cubicBezTo>
                  <a:pt x="213360" y="18891"/>
                  <a:pt x="233680" y="72231"/>
                  <a:pt x="274320" y="92551"/>
                </a:cubicBezTo>
                <a:cubicBezTo>
                  <a:pt x="314960" y="112871"/>
                  <a:pt x="373380" y="148431"/>
                  <a:pt x="411480" y="138271"/>
                </a:cubicBezTo>
                <a:cubicBezTo>
                  <a:pt x="449580" y="128111"/>
                  <a:pt x="472440" y="54451"/>
                  <a:pt x="502920" y="31591"/>
                </a:cubicBezTo>
                <a:cubicBezTo>
                  <a:pt x="533400" y="8731"/>
                  <a:pt x="571500" y="-3969"/>
                  <a:pt x="594360" y="1111"/>
                </a:cubicBezTo>
                <a:cubicBezTo>
                  <a:pt x="617220" y="6191"/>
                  <a:pt x="614680" y="36671"/>
                  <a:pt x="640080" y="62071"/>
                </a:cubicBezTo>
                <a:cubicBezTo>
                  <a:pt x="665480" y="87471"/>
                  <a:pt x="746760" y="153511"/>
                  <a:pt x="746760" y="1535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Times New Roman"/>
              </a:rPr>
              <a:t>Глагол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482920" y="4298760"/>
            <a:ext cx="6705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rcRect l="3181" t="11936" r="2819" b="16061"/>
          <a:stretch/>
        </p:blipFill>
        <p:spPr>
          <a:xfrm>
            <a:off x="2473200" y="12600"/>
            <a:ext cx="74977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02:13:26Z</dcterms:created>
  <dc:creator>пользователь</dc:creator>
  <dc:description/>
  <dc:language>en-US</dc:language>
  <cp:lastModifiedBy>Zadorozhnaya</cp:lastModifiedBy>
  <dcterms:modified xsi:type="dcterms:W3CDTF">2013-04-25T00:25:26Z</dcterms:modified>
  <cp:revision>33</cp:revision>
  <dc:subject/>
  <dc:title>Слайд 1</dc:title>
</cp:coreProperties>
</file>