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840-D129-4462-8199-C8D1A9C9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AB1-CC30-4BA2-B6D0-1CDA5488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000-DF64-424F-8A1E-092A01EB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84E-E0C7-45F3-A138-1E19BCD6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DB95-EB80-4720-8901-DDC651BB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A2AC-E77F-4C96-8E59-8E052573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843E-6186-40E5-8C08-73B0731B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80AC-49B2-4BCA-B22C-CA7C9AD5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562D-B150-4979-93B7-7DF26B6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8BD-3B07-4409-A197-77FCBA1B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DF1E-7C3A-43B6-B925-FFAA8EB1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DA1-4C50-4E3E-A6EC-DB2D44F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F5AF-FECD-49F8-9A80-C30F88DC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8527-B4BE-46C7-90BD-BC92267A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5B5A-7EAF-4376-AF43-969581B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CB85-5561-438F-A770-1FACE485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14400" y="15238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5212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8308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214400" y="41508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7707-00AB-4C07-BEFE-51409B4B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F78-9320-4F68-9411-E98B229D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272-2A4A-42F4-A4F6-474527AF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129-42F3-4025-9DCC-B7910A1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30492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57A-8B9D-4973-865A-28CD408F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7D6-8704-4EB5-B4A5-D6650BE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91400" y="415080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6AC-EA3B-4DEF-99C6-FD0BDE4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91400" y="1523880"/>
            <a:ext cx="3941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52120" y="4150800"/>
            <a:ext cx="8077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D2D-F6C8-4B7F-B80B-602B9800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adedGlobe_Text.avi" descr=""/>
          <p:cNvPicPr/>
          <p:nvPr/>
        </p:nvPicPr>
        <p:blipFill>
          <a:blip r:embed="rId3"/>
          <a:stretch/>
        </p:blipFill>
        <p:spPr>
          <a:xfrm>
            <a:off x="324000" y="311040"/>
            <a:ext cx="1306440" cy="130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7521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20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2476-F9CE-4EDA-BF6C-231CF479E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adedGlobe_Title.avi" descr=""/>
          <p:cNvPicPr/>
          <p:nvPr/>
        </p:nvPicPr>
        <p:blipFill>
          <a:blip r:embed="rId3"/>
          <a:stretch/>
        </p:blipFill>
        <p:spPr>
          <a:xfrm>
            <a:off x="1066680" y="2927520"/>
            <a:ext cx="1517760" cy="1517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824040" indent="-3175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73360" indent="-25236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1320" indent="-2541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9092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800600" y="68580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858000"/>
            <a:ext cx="175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CF7-0ACD-4C4B-A501-8E7AD971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70760" y="208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C:\Users\Zadorozhnaya\Desktop\Глагол\Рисунок.bmp"/>
          <p:cNvPicPr/>
          <p:nvPr/>
        </p:nvPicPr>
        <p:blipFill>
          <a:blip r:embed="rId1"/>
          <a:stretch/>
        </p:blipFill>
        <p:spPr>
          <a:xfrm>
            <a:off x="341280" y="138240"/>
            <a:ext cx="9468000" cy="73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9440" indent="0">
              <a:spcBef>
                <a:spcPts val="876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79440" indent="0">
              <a:spcBef>
                <a:spcPts val="134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 flipV="1">
            <a:off x="2122560" y="213804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122560" y="2786040"/>
            <a:ext cx="79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77080" y="1725480"/>
            <a:ext cx="5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133080" y="278604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906560" y="29304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906560" y="3867120"/>
            <a:ext cx="1655640" cy="21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1906560" y="40831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906560" y="437040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924360" y="4083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979640" y="4875120"/>
            <a:ext cx="71928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1906560" y="4370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914560" y="4875120"/>
            <a:ext cx="79236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3922560" y="4875120"/>
            <a:ext cx="792360" cy="28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4"/>
          <p:cNvSpPr/>
          <p:nvPr/>
        </p:nvSpPr>
        <p:spPr>
          <a:xfrm>
            <a:off x="5291280" y="4803840"/>
            <a:ext cx="431640" cy="36036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979640" y="52354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2033280" y="5491080"/>
            <a:ext cx="103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, 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7"/>
          <p:cNvSpPr/>
          <p:nvPr/>
        </p:nvSpPr>
        <p:spPr>
          <a:xfrm flipV="1">
            <a:off x="3130560" y="5378400"/>
            <a:ext cx="79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3130560" y="588312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9"/>
          <p:cNvSpPr/>
          <p:nvPr/>
        </p:nvSpPr>
        <p:spPr>
          <a:xfrm>
            <a:off x="4138560" y="5378400"/>
            <a:ext cx="432000" cy="4334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0"/>
          <p:cNvSpPr/>
          <p:nvPr/>
        </p:nvSpPr>
        <p:spPr>
          <a:xfrm>
            <a:off x="4067280" y="6243480"/>
            <a:ext cx="431640" cy="360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618080" y="5292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2"/>
          <p:cNvSpPr/>
          <p:nvPr/>
        </p:nvSpPr>
        <p:spPr>
          <a:xfrm>
            <a:off x="5078520" y="5499000"/>
            <a:ext cx="431640" cy="392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Овал 32"/>
          <p:cNvSpPr/>
          <p:nvPr/>
        </p:nvSpPr>
        <p:spPr>
          <a:xfrm>
            <a:off x="5952960" y="5522760"/>
            <a:ext cx="432000" cy="392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 flipH="1">
            <a:off x="5293800" y="5292720"/>
            <a:ext cx="2127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ая соединительная линия 37"/>
          <p:cNvSpPr/>
          <p:nvPr/>
        </p:nvSpPr>
        <p:spPr>
          <a:xfrm flipH="1">
            <a:off x="6192360" y="5246640"/>
            <a:ext cx="2127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ая соединительная линия 8"/>
          <p:cNvSpPr/>
          <p:nvPr/>
        </p:nvSpPr>
        <p:spPr>
          <a:xfrm>
            <a:off x="6253200" y="5235480"/>
            <a:ext cx="1062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553280" y="6192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5078520" y="624348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43"/>
          <p:cNvSpPr/>
          <p:nvPr/>
        </p:nvSpPr>
        <p:spPr>
          <a:xfrm>
            <a:off x="5713560" y="621828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44"/>
          <p:cNvSpPr/>
          <p:nvPr/>
        </p:nvSpPr>
        <p:spPr>
          <a:xfrm>
            <a:off x="7307280" y="6240600"/>
            <a:ext cx="32220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45"/>
          <p:cNvSpPr/>
          <p:nvPr/>
        </p:nvSpPr>
        <p:spPr>
          <a:xfrm>
            <a:off x="8099280" y="6213600"/>
            <a:ext cx="3225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1"/>
          <p:cNvSpPr/>
          <p:nvPr/>
        </p:nvSpPr>
        <p:spPr>
          <a:xfrm flipH="1">
            <a:off x="5400000" y="5915160"/>
            <a:ext cx="3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339680" y="6084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1914480" y="6399360"/>
            <a:ext cx="129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Ъ,Ь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Прямая со стрелкой 15"/>
          <p:cNvCxnSpPr/>
          <p:nvPr/>
        </p:nvCxnSpPr>
        <p:spPr>
          <a:xfrm>
            <a:off x="2590560" y="66546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Прямая соединительная линия 2"/>
          <p:cNvSpPr/>
          <p:nvPr/>
        </p:nvSpPr>
        <p:spPr>
          <a:xfrm>
            <a:off x="1979640" y="50180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ая соединительная линия 4"/>
          <p:cNvSpPr/>
          <p:nvPr/>
        </p:nvSpPr>
        <p:spPr>
          <a:xfrm>
            <a:off x="2878200" y="496872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ая соединительная линия 10"/>
          <p:cNvSpPr/>
          <p:nvPr/>
        </p:nvSpPr>
        <p:spPr>
          <a:xfrm>
            <a:off x="2914560" y="50198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олилиния 11"/>
          <p:cNvSpPr/>
          <p:nvPr/>
        </p:nvSpPr>
        <p:spPr>
          <a:xfrm>
            <a:off x="3932280" y="4937040"/>
            <a:ext cx="745920" cy="152640"/>
          </a:xfrm>
          <a:custGeom>
            <a:avLst/>
            <a:gdLst/>
            <a:ahLst/>
            <a:rect l="l" t="t" r="r" b="b"/>
            <a:pathLst>
              <a:path w="746760" h="153511">
                <a:moveTo>
                  <a:pt x="0" y="77311"/>
                </a:moveTo>
                <a:cubicBezTo>
                  <a:pt x="60960" y="45561"/>
                  <a:pt x="121920" y="13811"/>
                  <a:pt x="167640" y="16351"/>
                </a:cubicBezTo>
                <a:cubicBezTo>
                  <a:pt x="213360" y="18891"/>
                  <a:pt x="233680" y="72231"/>
                  <a:pt x="274320" y="92551"/>
                </a:cubicBezTo>
                <a:cubicBezTo>
                  <a:pt x="314960" y="112871"/>
                  <a:pt x="373380" y="148431"/>
                  <a:pt x="411480" y="138271"/>
                </a:cubicBezTo>
                <a:cubicBezTo>
                  <a:pt x="449580" y="128111"/>
                  <a:pt x="472440" y="54451"/>
                  <a:pt x="502920" y="31591"/>
                </a:cubicBezTo>
                <a:cubicBezTo>
                  <a:pt x="533400" y="8731"/>
                  <a:pt x="571500" y="-3969"/>
                  <a:pt x="594360" y="1111"/>
                </a:cubicBezTo>
                <a:cubicBezTo>
                  <a:pt x="617220" y="6191"/>
                  <a:pt x="614680" y="36671"/>
                  <a:pt x="640080" y="62071"/>
                </a:cubicBezTo>
                <a:cubicBezTo>
                  <a:pt x="665480" y="87471"/>
                  <a:pt x="746760" y="153511"/>
                  <a:pt x="746760" y="1535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49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52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482920" y="4298760"/>
            <a:ext cx="6705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rcRect l="3181" t="11936" r="2819" b="16061"/>
          <a:stretch/>
        </p:blipFill>
        <p:spPr>
          <a:xfrm>
            <a:off x="2473200" y="12600"/>
            <a:ext cx="749772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02:13:26Z</dcterms:created>
  <dc:creator>пользователь</dc:creator>
  <dc:description/>
  <dc:language>en-US</dc:language>
  <cp:lastModifiedBy>Zadorozhnaya</cp:lastModifiedBy>
  <dcterms:modified xsi:type="dcterms:W3CDTF">2013-04-25T00:25:26Z</dcterms:modified>
  <cp:revision>33</cp:revision>
  <dc:subject/>
  <dc:title>Слайд 1</dc:title>
</cp:coreProperties>
</file>