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001-C090-4016-A20A-C854A860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1CD-CA9B-4229-98DD-1DCD9A27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CDF-623B-43CC-AED4-6C0A1F85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0C6F-7395-4D5E-B9C6-B83D9D97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F2BE-20E7-4937-9804-E6B4A317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431D-1B21-4E0F-9036-68D9961E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113B-D32C-4A09-92AD-C8CF0A5A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46F5-2BD7-410D-BFCE-3A990A26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B4B9-F9B9-491C-8C91-8B38A6E8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3B48-27BE-457E-82B5-95C89E56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3D10-B4C8-424F-8558-5768AAE5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287-D0E4-49A3-8683-31993511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9CBD-1B8D-4E5D-A408-86E57121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571F-4CE0-49AF-B286-CC717FA3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E6F8-617F-4352-A83E-14C314D0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91F5-8C81-4B2E-A7A7-A08BE733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2AC4-C75B-45C9-98F3-6B875911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9AB14-8064-4C6B-ADB3-A2696653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20E84-7F4D-4C68-8817-113DFF1D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801CA3-6840-4810-A1A7-A0323D95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C50316-E905-4498-BB22-CCBCCD8A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ECB99-765E-4E99-87A1-54717909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68F-AD49-4481-88E3-33F61F60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D330DF-A98A-442B-B60A-6033C608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A8C6A-EA0B-4AFA-B93E-91AF6034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63B44-1DC9-4A0F-9DBF-585B835D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173C9-239B-4798-948A-B9396481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F38C1-B3E1-4EB7-A4C0-51513031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E2BA6-13C6-4451-A7F7-26A5F9AE6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DDD5F-A3F1-4592-90DA-EA0C8120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374-C49A-40B6-9550-2388F881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79C-5F2B-4162-9FD6-C3ABAEFF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BA7-3A4F-4B69-BFCB-4476D5A2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DA73-FAE5-4FAC-8F19-CA81DB6F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8B4D-845D-4B8B-B615-7C82A85E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FD8A-DDA2-4B1E-B9AF-ED03DC75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9ED5-0493-4267-B4B1-6DC36BFBB36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FD7D-DF29-409C-BD91-F7B3B484111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6E42-8DCE-49F0-8A76-2387423C9F3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ekines6.narod.ru/kn25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2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готови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ник 10а классаГБОУ СОШ №36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сковского района г.Санкт-Петербур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ызранов Иго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4"/>
          <p:cNvPicPr/>
          <p:nvPr/>
        </p:nvPicPr>
        <p:blipFill>
          <a:blip r:embed="rId1"/>
          <a:stretch/>
        </p:blipFill>
        <p:spPr>
          <a:xfrm>
            <a:off x="914400" y="990720"/>
            <a:ext cx="72770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Mendel_Gregor"/>
          <p:cNvPicPr/>
          <p:nvPr/>
        </p:nvPicPr>
        <p:blipFill>
          <a:blip r:embed="rId1"/>
          <a:stretch/>
        </p:blipFill>
        <p:spPr>
          <a:xfrm>
            <a:off x="324000" y="1096920"/>
            <a:ext cx="4813200" cy="53564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5364000" y="1341360"/>
            <a:ext cx="352908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регор Иоганн Мендел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илс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2 июня 1822 год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 семье крестьянина в небольшой деревушке Хинчинцы на территории современной Чехии, а тогда - Австрийской импе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843 год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Мендель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оступил послушником в Августинский монастырь в Брюнне (ныне Брно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851 год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стоятель отправил его изучать естественные науки 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нский университет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6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67384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22"/>
          <p:cNvGrpSpPr/>
          <p:nvPr/>
        </p:nvGrpSpPr>
        <p:grpSpPr>
          <a:xfrm>
            <a:off x="395280" y="1916280"/>
            <a:ext cx="3240000" cy="2089080"/>
            <a:chOff x="395280" y="1916280"/>
            <a:chExt cx="3240000" cy="2089080"/>
          </a:xfrm>
        </p:grpSpPr>
        <p:pic>
          <p:nvPicPr>
            <p:cNvPr id="129" name="Picture 15" descr=""/>
            <p:cNvPicPr/>
            <p:nvPr/>
          </p:nvPicPr>
          <p:blipFill>
            <a:blip r:embed="rId2"/>
            <a:stretch/>
          </p:blipFill>
          <p:spPr>
            <a:xfrm>
              <a:off x="1042920" y="2205000"/>
              <a:ext cx="19526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7"/>
            <p:cNvSpPr/>
            <p:nvPr/>
          </p:nvSpPr>
          <p:spPr>
            <a:xfrm>
              <a:off x="3952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Сорт гороха с желтыми семена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Group 23"/>
          <p:cNvGrpSpPr/>
          <p:nvPr/>
        </p:nvGrpSpPr>
        <p:grpSpPr>
          <a:xfrm>
            <a:off x="4861080" y="1916280"/>
            <a:ext cx="3240000" cy="2170080"/>
            <a:chOff x="4861080" y="1916280"/>
            <a:chExt cx="3240000" cy="2170080"/>
          </a:xfrm>
        </p:grpSpPr>
        <p:pic>
          <p:nvPicPr>
            <p:cNvPr id="132" name="Picture 16" descr=""/>
            <p:cNvPicPr/>
            <p:nvPr/>
          </p:nvPicPr>
          <p:blipFill>
            <a:blip r:embed="rId3"/>
            <a:stretch/>
          </p:blipFill>
          <p:spPr>
            <a:xfrm>
              <a:off x="5508720" y="2276640"/>
              <a:ext cx="19810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8"/>
            <p:cNvSpPr/>
            <p:nvPr/>
          </p:nvSpPr>
          <p:spPr>
            <a:xfrm>
              <a:off x="48610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Сорт гороха с зелеными семена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12"/>
          <p:cNvGrpSpPr/>
          <p:nvPr/>
        </p:nvGrpSpPr>
        <p:grpSpPr>
          <a:xfrm>
            <a:off x="4066920" y="2060640"/>
            <a:ext cx="360720" cy="358560"/>
            <a:chOff x="4066920" y="2060640"/>
            <a:chExt cx="360720" cy="358560"/>
          </a:xfrm>
        </p:grpSpPr>
        <p:sp>
          <p:nvSpPr>
            <p:cNvPr id="135" name="Line 10"/>
            <p:cNvSpPr/>
            <p:nvPr/>
          </p:nvSpPr>
          <p:spPr>
            <a:xfrm>
              <a:off x="4067280" y="2060640"/>
              <a:ext cx="360360" cy="3585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 flipH="1">
              <a:off x="4066920" y="2060640"/>
              <a:ext cx="360360" cy="3585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Text Box 17"/>
          <p:cNvSpPr/>
          <p:nvPr/>
        </p:nvSpPr>
        <p:spPr>
          <a:xfrm>
            <a:off x="108000" y="198900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8"/>
          <p:cNvSpPr/>
          <p:nvPr/>
        </p:nvSpPr>
        <p:spPr>
          <a:xfrm>
            <a:off x="4211640" y="3286080"/>
            <a:ext cx="0" cy="8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108000" y="530856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Group 24"/>
          <p:cNvGrpSpPr/>
          <p:nvPr/>
        </p:nvGrpSpPr>
        <p:grpSpPr>
          <a:xfrm>
            <a:off x="3276720" y="4508640"/>
            <a:ext cx="5254560" cy="1800000"/>
            <a:chOff x="3276720" y="4508640"/>
            <a:chExt cx="5254560" cy="1800000"/>
          </a:xfrm>
        </p:grpSpPr>
        <p:pic>
          <p:nvPicPr>
            <p:cNvPr id="141" name="Picture 19" descr=""/>
            <p:cNvPicPr/>
            <p:nvPr/>
          </p:nvPicPr>
          <p:blipFill>
            <a:blip r:embed="rId4"/>
            <a:stretch/>
          </p:blipFill>
          <p:spPr>
            <a:xfrm>
              <a:off x="3276720" y="4508640"/>
              <a:ext cx="19526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21"/>
            <p:cNvSpPr/>
            <p:nvPr/>
          </p:nvSpPr>
          <p:spPr>
            <a:xfrm>
              <a:off x="5651640" y="5033880"/>
              <a:ext cx="28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 первом поколении были только растения с желтыми семенами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611280" y="1989000"/>
            <a:ext cx="7993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 моногибридном скрещивании первое поколение потомков является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динообразным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ая окраска семян является доминантной желтая или зелена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томстве произошло расщепл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3\4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желтые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1\4 </a:t>
            </a:r>
            <a:r>
              <a:rPr b="0" i="1" lang="ru-RU" sz="2400" spc="-1" strike="noStrike">
                <a:solidFill>
                  <a:srgbClr val="33cc33"/>
                </a:solidFill>
                <a:latin typeface="Arial"/>
              </a:rPr>
              <a:t>зеленые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Rectangle 4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55160" cy="12189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50920" y="220500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4211280" y="2276640"/>
            <a:ext cx="360720" cy="358560"/>
            <a:chOff x="4211280" y="2276640"/>
            <a:chExt cx="360720" cy="358560"/>
          </a:xfrm>
        </p:grpSpPr>
        <p:sp>
          <p:nvSpPr>
            <p:cNvPr id="148" name="Line 7"/>
            <p:cNvSpPr/>
            <p:nvPr/>
          </p:nvSpPr>
          <p:spPr>
            <a:xfrm>
              <a:off x="4211640" y="2276640"/>
              <a:ext cx="360360" cy="3585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 flipH="1">
              <a:off x="4211280" y="2276640"/>
              <a:ext cx="360360" cy="3585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1584360" cy="1460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"/>
          <p:cNvPicPr/>
          <p:nvPr/>
        </p:nvPicPr>
        <p:blipFill>
          <a:blip r:embed="rId3"/>
          <a:stretch/>
        </p:blipFill>
        <p:spPr>
          <a:xfrm>
            <a:off x="5435640" y="1700280"/>
            <a:ext cx="1584360" cy="1460520"/>
          </a:xfrm>
          <a:prstGeom prst="rect">
            <a:avLst/>
          </a:prstGeom>
          <a:ln w="0">
            <a:noFill/>
          </a:ln>
        </p:spPr>
      </p:pic>
      <p:sp>
        <p:nvSpPr>
          <p:cNvPr id="152" name="Line 13"/>
          <p:cNvSpPr/>
          <p:nvPr/>
        </p:nvSpPr>
        <p:spPr>
          <a:xfrm>
            <a:off x="4427640" y="2997360"/>
            <a:ext cx="0" cy="863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2268360" y="4941720"/>
            <a:ext cx="1008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</a:t>
            </a:r>
            <a:r>
              <a:rPr b="0" lang="ru-RU" sz="36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6" descr=""/>
          <p:cNvPicPr/>
          <p:nvPr/>
        </p:nvPicPr>
        <p:blipFill>
          <a:blip r:embed="rId4"/>
          <a:stretch/>
        </p:blipFill>
        <p:spPr>
          <a:xfrm>
            <a:off x="4067280" y="5477040"/>
            <a:ext cx="1225440" cy="1118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8" descr=""/>
          <p:cNvPicPr/>
          <p:nvPr/>
        </p:nvPicPr>
        <p:blipFill>
          <a:blip r:embed="rId5"/>
          <a:stretch/>
        </p:blipFill>
        <p:spPr>
          <a:xfrm>
            <a:off x="4068720" y="4149720"/>
            <a:ext cx="1224000" cy="11286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9"/>
          <p:cNvSpPr/>
          <p:nvPr/>
        </p:nvSpPr>
        <p:spPr>
          <a:xfrm>
            <a:off x="3492360" y="4365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ffffff"/>
                </a:solidFill>
                <a:latin typeface="Arial Black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/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Arial Black"/>
              </a:rPr>
              <a:t>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3492360" y="5589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ffffff"/>
                </a:solidFill>
                <a:latin typeface="Arial Black"/>
              </a:rPr>
              <a:t>1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/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6084720" y="4508640"/>
            <a:ext cx="28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четверти семян имели доминантное проявление признака, а четверть семян – рецессивно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5292720" y="457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0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529272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Rectangle 4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4446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6" descr="mendel"/>
          <p:cNvPicPr/>
          <p:nvPr/>
        </p:nvPicPr>
        <p:blipFill>
          <a:blip r:embed="rId2"/>
          <a:srcRect l="0" t="0" r="0" b="10704"/>
          <a:stretch/>
        </p:blipFill>
        <p:spPr>
          <a:xfrm>
            <a:off x="4503600" y="1557360"/>
            <a:ext cx="4454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ttp://www.ebio.ru/images/11020102.gif"/>
          <p:cNvPicPr/>
          <p:nvPr/>
        </p:nvPicPr>
        <p:blipFill>
          <a:blip r:embed="rId1"/>
          <a:stretch/>
        </p:blipFill>
        <p:spPr>
          <a:xfrm>
            <a:off x="468360" y="404640"/>
            <a:ext cx="79200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Картинка 26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Mendelian_inheritance_3_1"/>
          <p:cNvPicPr/>
          <p:nvPr/>
        </p:nvPicPr>
        <p:blipFill>
          <a:blip r:embed="rId2"/>
          <a:stretch/>
        </p:blipFill>
        <p:spPr>
          <a:xfrm>
            <a:off x="4572000" y="914400"/>
            <a:ext cx="41306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1:08:50Z</dcterms:created>
  <dc:creator>Ura</dc:creator>
  <dc:description/>
  <dc:language>en-US</dc:language>
  <cp:lastModifiedBy>Администратор</cp:lastModifiedBy>
  <dcterms:modified xsi:type="dcterms:W3CDTF">2013-04-24T09:02:13Z</dcterms:modified>
  <cp:revision>57</cp:revision>
  <dc:subject/>
  <dc:title>Генетика</dc:title>
</cp:coreProperties>
</file>