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175-BC1D-4CFC-B3D7-11C3068D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634-0EA4-493A-B8BE-3314122C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F90-6EB4-49EA-AA5D-3B8533C2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0AD-994C-4517-BD6B-198AF97A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3E7-161C-4AA9-8F72-63392603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33BE-0676-454A-ACCD-5865FF22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E7EA-3A6F-4CEA-916E-F9203892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85FB-52FF-4E09-8447-D01A892B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2AC3-89CC-45C5-B9F2-0B8DE00F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938C-68B3-4F53-8BFE-509C4E6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6B3D-EE93-4D96-B7CF-0D3DE1B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0A1-6309-4003-83A1-2B081C64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4A73-2AB8-404E-8D0E-16ED44A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9541-2984-494F-A109-55256D6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8B7F-2B49-401F-A5EE-C5DABBCB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37C7-A010-4F59-9232-B4A29890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0167-9DBA-49C1-8CF2-6466A6F7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0AADD-4B37-4EC1-9D42-62626721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DC43E-9321-47C0-8280-8F2D8C8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A722D-2D2E-44EB-AA68-02AB8BF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ACA3C-3039-4CB1-9AA3-A8012C4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EF694-6A90-4C50-A912-2BEE49F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B9F-5031-440D-B9F8-7D6C27A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78921-091E-42E8-8874-AE3BCABA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B89A1-EC24-434A-946C-B407487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695E6-E146-4367-9306-F3F3151D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D9577-A5E9-4B43-8D5B-D2CA2EA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93DFB-CE5B-4053-9CA4-827809B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67813-725E-4BD7-82A5-49F1BB3E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83D64-9505-457B-8DA2-6730EDA1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BAC-B1DA-4B16-9BA6-829B2A18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4A6-2078-4615-802E-29773053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2D1-0D15-4006-A2E1-5D499B56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B57-E33C-459B-815B-AAC7D26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9E9-74F9-4187-AA1F-0C893BA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EFE-1025-47CE-97D5-85781232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6D20-6164-4FC0-8ED8-92FC2D17786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D8AB-8E2A-40B3-8A0F-BBF74EB821F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6663-A371-4A61-AA92-6E76F56D1C9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и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10а классаГБОУ СОШ №3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овского района г.Санкт-Петербур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ызранов Иго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4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endel_Gregor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364000" y="1341360"/>
            <a:ext cx="35290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6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6738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2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29" name="Picture 15" descr=""/>
            <p:cNvPicPr/>
            <p:nvPr/>
          </p:nvPicPr>
          <p:blipFill>
            <a:blip r:embed="rId2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7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23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32" name="Picture 16" descr="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35" name="Line 10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7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41" name="Picture 19" descr=""/>
            <p:cNvPicPr/>
            <p:nvPr/>
          </p:nvPicPr>
          <p:blipFill>
            <a:blip r:embed="rId4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1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3\4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\4 </a:t>
            </a:r>
            <a:r>
              <a:rPr b="0" i="1" lang="ru-RU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4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55160" cy="12189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48" name="Line 7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52" name="Line 13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6" descr=""/>
          <p:cNvPicPr/>
          <p:nvPr/>
        </p:nvPicPr>
        <p:blipFill>
          <a:blip r:embed="rId4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"/>
          <p:cNvPicPr/>
          <p:nvPr/>
        </p:nvPicPr>
        <p:blipFill>
          <a:blip r:embed="rId5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9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ffff"/>
                </a:solidFill>
                <a:latin typeface="Arial Black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4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mendel"/>
          <p:cNvPicPr/>
          <p:nvPr/>
        </p:nvPicPr>
        <p:blipFill>
          <a:blip r:embed="rId2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ebio.ru/images/11020102.gif"/>
          <p:cNvPicPr/>
          <p:nvPr/>
        </p:nvPicPr>
        <p:blipFill>
          <a:blip r:embed="rId1"/>
          <a:stretch/>
        </p:blipFill>
        <p:spPr>
          <a:xfrm>
            <a:off x="468360" y="404640"/>
            <a:ext cx="7920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Mendelian_inheritance_3_1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Администратор</cp:lastModifiedBy>
  <dcterms:modified xsi:type="dcterms:W3CDTF">2013-04-24T09:02:13Z</dcterms:modified>
  <cp:revision>57</cp:revision>
  <dc:subject/>
  <dc:title>Генетика</dc:title>
</cp:coreProperties>
</file>