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8422-50D8-4DE1-96E6-B8A8BD1B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3C7F-7D65-45C1-A591-37481053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52F2-011F-4D65-9322-D59E8863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5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5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3956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3956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3956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9CC9-AE14-45E9-83D7-2595C836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7631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86ED-2A26-41C2-BAD6-CA57DCD2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5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5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3956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3956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3956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09CF-3883-4AA9-8193-FB40FD5A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83B1-C719-44C4-9490-A4B2AFC9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CE37-104C-455A-BD64-C5C378FB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7631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22B5-01AF-4956-97A2-ED921C5A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9722-2B9A-4DDD-A842-343F6724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62D1-0C1D-4FFE-8B7D-1E6EF7AD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31CC-FED3-4A46-B3DF-08A251F0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ject 1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6"/>
          <p:cNvSpPr/>
          <p:nvPr/>
        </p:nvSpPr>
        <p:spPr>
          <a:xfrm>
            <a:off x="0" y="961920"/>
            <a:ext cx="9144000" cy="3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2b1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228600" y="990720"/>
            <a:ext cx="23623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638680" y="645768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048120" y="644796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E3DF-F756-472B-954B-2EFBFF926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0"/>
          <p:cNvGrpSpPr/>
          <p:nvPr/>
        </p:nvGrpSpPr>
        <p:grpSpPr>
          <a:xfrm>
            <a:off x="0" y="3019320"/>
            <a:ext cx="9144000" cy="696960"/>
            <a:chOff x="0" y="3019320"/>
            <a:chExt cx="9144000" cy="696960"/>
          </a:xfrm>
        </p:grpSpPr>
        <p:sp>
          <p:nvSpPr>
            <p:cNvPr id="44" name="Rectangle 17"/>
            <p:cNvSpPr/>
            <p:nvPr/>
          </p:nvSpPr>
          <p:spPr>
            <a:xfrm>
              <a:off x="1692360" y="3019320"/>
              <a:ext cx="7451640" cy="696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" name="Rectangle 18"/>
            <p:cNvSpPr/>
            <p:nvPr/>
          </p:nvSpPr>
          <p:spPr>
            <a:xfrm>
              <a:off x="0" y="3559320"/>
              <a:ext cx="1828800" cy="15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6" name="Text Box 14"/>
          <p:cNvSpPr/>
          <p:nvPr/>
        </p:nvSpPr>
        <p:spPr>
          <a:xfrm>
            <a:off x="4114800" y="5486400"/>
            <a:ext cx="13842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pan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2b1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Прямоугольник 5"/>
          <p:cNvGrpSpPr/>
          <p:nvPr/>
        </p:nvGrpSpPr>
        <p:grpSpPr>
          <a:xfrm>
            <a:off x="-60480" y="-36360"/>
            <a:ext cx="9259920" cy="1450800"/>
            <a:chOff x="-60480" y="-36360"/>
            <a:chExt cx="9259920" cy="1450800"/>
          </a:xfrm>
        </p:grpSpPr>
        <p:pic>
          <p:nvPicPr>
            <p:cNvPr id="86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3"/>
            <p:cNvSpPr/>
            <p:nvPr/>
          </p:nvSpPr>
          <p:spPr>
            <a:xfrm>
              <a:off x="0" y="0"/>
              <a:ext cx="9144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476280"/>
            <a:ext cx="9144000" cy="7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Arial"/>
                <a:ea typeface="Arial"/>
              </a:rPr>
              <a:t>Педагогический опыт </a:t>
            </a:r>
            <a:endParaRPr b="0" lang="en-US" sz="44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89" name="Прямоугольник 7"/>
          <p:cNvGrpSpPr/>
          <p:nvPr/>
        </p:nvGrpSpPr>
        <p:grpSpPr>
          <a:xfrm>
            <a:off x="-60480" y="5479920"/>
            <a:ext cx="9259920" cy="1451160"/>
            <a:chOff x="-60480" y="5479920"/>
            <a:chExt cx="9259920" cy="1451160"/>
          </a:xfrm>
        </p:grpSpPr>
        <p:pic>
          <p:nvPicPr>
            <p:cNvPr id="90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-60480" y="5479920"/>
              <a:ext cx="925992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9"/>
            <p:cNvSpPr/>
            <p:nvPr/>
          </p:nvSpPr>
          <p:spPr>
            <a:xfrm>
              <a:off x="0" y="5516640"/>
              <a:ext cx="9144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2" name="Прямоугольник 6"/>
          <p:cNvSpPr/>
          <p:nvPr/>
        </p:nvSpPr>
        <p:spPr>
          <a:xfrm>
            <a:off x="324000" y="5595840"/>
            <a:ext cx="8501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резентация результатов педагогической деятельности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мастера производственного обучения»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аланцевой Любови Альбертовны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1402920" y="2988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94" name="Picture 19" descr="D:\урок соусы\DSCN1922.JPG"/>
          <p:cNvPicPr/>
          <p:nvPr/>
        </p:nvPicPr>
        <p:blipFill>
          <a:blip r:embed="rId3"/>
          <a:stretch/>
        </p:blipFill>
        <p:spPr>
          <a:xfrm>
            <a:off x="1500120" y="1357200"/>
            <a:ext cx="600084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Прямоугольник 5"/>
          <p:cNvGrpSpPr/>
          <p:nvPr/>
        </p:nvGrpSpPr>
        <p:grpSpPr>
          <a:xfrm>
            <a:off x="-60480" y="-36360"/>
            <a:ext cx="9259920" cy="1450800"/>
            <a:chOff x="-60480" y="-36360"/>
            <a:chExt cx="9259920" cy="1450800"/>
          </a:xfrm>
        </p:grpSpPr>
        <p:pic>
          <p:nvPicPr>
            <p:cNvPr id="96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3"/>
            <p:cNvSpPr/>
            <p:nvPr/>
          </p:nvSpPr>
          <p:spPr>
            <a:xfrm>
              <a:off x="0" y="0"/>
              <a:ext cx="9144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476280"/>
            <a:ext cx="9144000" cy="7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2f2f2"/>
                </a:solidFill>
                <a:latin typeface="Arial"/>
                <a:ea typeface="Arial"/>
              </a:rPr>
              <a:t>Педагогический опыт </a:t>
            </a:r>
            <a:endParaRPr b="0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99" name="Прямоугольник 7"/>
          <p:cNvGrpSpPr/>
          <p:nvPr/>
        </p:nvGrpSpPr>
        <p:grpSpPr>
          <a:xfrm>
            <a:off x="0" y="5407200"/>
            <a:ext cx="9259920" cy="1450800"/>
            <a:chOff x="0" y="5407200"/>
            <a:chExt cx="9259920" cy="1450800"/>
          </a:xfrm>
        </p:grpSpPr>
        <p:pic>
          <p:nvPicPr>
            <p:cNvPr id="100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0" y="5407200"/>
              <a:ext cx="925992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9"/>
            <p:cNvSpPr/>
            <p:nvPr/>
          </p:nvSpPr>
          <p:spPr>
            <a:xfrm>
              <a:off x="60480" y="5443560"/>
              <a:ext cx="9144000" cy="13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02" name="Rectangle 1"/>
          <p:cNvSpPr/>
          <p:nvPr/>
        </p:nvSpPr>
        <p:spPr>
          <a:xfrm>
            <a:off x="1402920" y="2988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Прямоугольник 13"/>
          <p:cNvSpPr/>
          <p:nvPr/>
        </p:nvSpPr>
        <p:spPr>
          <a:xfrm>
            <a:off x="714240" y="1428840"/>
            <a:ext cx="8001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Педагогический опыт – это результат педагогической деятельности учителя на основе принципов педагогики, отражающий уровень овладения им совокупностью профессиональных умений, используемых им при реализации стоящих перед ним педагогических задач, с учетом конкретных условий, особенностей обучающихся и собственной личности.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Прямоугольник 5"/>
          <p:cNvGrpSpPr/>
          <p:nvPr/>
        </p:nvGrpSpPr>
        <p:grpSpPr>
          <a:xfrm>
            <a:off x="-60480" y="-36360"/>
            <a:ext cx="9259920" cy="1322280"/>
            <a:chOff x="-60480" y="-36360"/>
            <a:chExt cx="9259920" cy="1322280"/>
          </a:xfrm>
        </p:grpSpPr>
        <p:pic>
          <p:nvPicPr>
            <p:cNvPr id="105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3"/>
            <p:cNvSpPr/>
            <p:nvPr/>
          </p:nvSpPr>
          <p:spPr>
            <a:xfrm>
              <a:off x="0" y="-2880"/>
              <a:ext cx="914400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0" y="475920"/>
            <a:ext cx="914400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Повышение квалификации</a:t>
            </a:r>
            <a:endParaRPr b="0" lang="en-US" sz="40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108" name="Прямоугольник 7"/>
          <p:cNvGrpSpPr/>
          <p:nvPr/>
        </p:nvGrpSpPr>
        <p:grpSpPr>
          <a:xfrm>
            <a:off x="0" y="5407200"/>
            <a:ext cx="9259920" cy="1450800"/>
            <a:chOff x="0" y="5407200"/>
            <a:chExt cx="9259920" cy="1450800"/>
          </a:xfrm>
        </p:grpSpPr>
        <p:pic>
          <p:nvPicPr>
            <p:cNvPr id="109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0" y="5407200"/>
              <a:ext cx="925992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9"/>
            <p:cNvSpPr/>
            <p:nvPr/>
          </p:nvSpPr>
          <p:spPr>
            <a:xfrm>
              <a:off x="60480" y="5443560"/>
              <a:ext cx="9144000" cy="13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Не стыдно чего-нибудь не знать – стыдно не хотеть учиться.                                               Сократ.</a:t>
              </a:r>
              <a:r>
                <a:rPr b="1" lang="ru-RU" sz="4000" spc="-1" strike="noStrike">
                  <a:solidFill>
                    <a:srgbClr val="1d528d"/>
                  </a:solidFill>
                  <a:latin typeface="Arial"/>
                </a:rPr>
                <a:t>.</a:t>
              </a:r>
              <a:endParaRPr b="0" lang="en-US" sz="4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11" name="Rectangle 1"/>
          <p:cNvSpPr/>
          <p:nvPr/>
        </p:nvSpPr>
        <p:spPr>
          <a:xfrm>
            <a:off x="1402920" y="2988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Прямоугольник 13"/>
          <p:cNvSpPr/>
          <p:nvPr/>
        </p:nvSpPr>
        <p:spPr>
          <a:xfrm>
            <a:off x="714240" y="1428840"/>
            <a:ext cx="8001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Прямоугольник 14"/>
          <p:cNvSpPr/>
          <p:nvPr/>
        </p:nvSpPr>
        <p:spPr>
          <a:xfrm>
            <a:off x="714240" y="3357720"/>
            <a:ext cx="7858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Прямоугольник 18"/>
          <p:cNvSpPr/>
          <p:nvPr/>
        </p:nvSpPr>
        <p:spPr>
          <a:xfrm>
            <a:off x="285840" y="1285920"/>
            <a:ext cx="8572320" cy="40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d52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нинградский государственный университет имени А. С. Пушкина,  2005 – 2011 гг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Ц Комитета по образованию Правительства г. С-Пб. Программа «Стажировка» 72 часа. 2006 г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Ц Комитета по образованию Правительства г. С-Пб. Программа «Организация и методика производственного обучения» 144 часа. 2007 г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ститут повышения квалификации специалистов профобразования. Программа «Развитие интеллектуальных умений учащегося при изучении предмета» 144 часа. 2007 г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ППО СПб. Программа «Инновационные технологии профессионального образования» 72 часа 2009 г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ППО СПб. Программа «Разработка учебно-программной документации на основе ФГОС третьего поколения» 72 часа.  2010 г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ППО СПб .Программа «Методическое обеспечение учебного процесса» 36 ч 2011 г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НТР РАЗВИТИЯ ФГОУ СПО «Петровский колледж»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(г. Санкт-Петербург</a:t>
            </a:r>
            <a:r>
              <a:rPr b="1" i="1" lang="ru-RU" sz="1400" spc="-1" strike="noStrike">
                <a:solidFill>
                  <a:srgbClr val="1d528d"/>
                </a:solidFill>
                <a:latin typeface="Arial"/>
              </a:rPr>
              <a:t>)</a:t>
            </a:r>
            <a:r>
              <a:rPr b="0" lang="ru-RU" sz="14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Контроль и оценка результатов освоения ОПОП НПО/СПО» 72 часа. 201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ИТОГО                                                       612 часов повышения квалификаци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Прямоугольник 5"/>
          <p:cNvGrpSpPr/>
          <p:nvPr/>
        </p:nvGrpSpPr>
        <p:grpSpPr>
          <a:xfrm>
            <a:off x="-60480" y="-36360"/>
            <a:ext cx="9259920" cy="1450800"/>
            <a:chOff x="-60480" y="-36360"/>
            <a:chExt cx="9259920" cy="1450800"/>
          </a:xfrm>
        </p:grpSpPr>
        <p:pic>
          <p:nvPicPr>
            <p:cNvPr id="116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3"/>
            <p:cNvSpPr/>
            <p:nvPr/>
          </p:nvSpPr>
          <p:spPr>
            <a:xfrm>
              <a:off x="0" y="0"/>
              <a:ext cx="9144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0" y="476280"/>
            <a:ext cx="9144000" cy="73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ассификация педагогического опыта</a:t>
            </a:r>
            <a:endParaRPr b="0" lang="en-US" sz="3200" spc="-1" strike="noStrike">
              <a:solidFill>
                <a:srgbClr val="1d528d"/>
              </a:solidFill>
              <a:latin typeface="Verdana"/>
            </a:endParaRPr>
          </a:p>
        </p:txBody>
      </p:sp>
      <p:grpSp>
        <p:nvGrpSpPr>
          <p:cNvPr id="119" name="Прямоугольник 7"/>
          <p:cNvGrpSpPr/>
          <p:nvPr/>
        </p:nvGrpSpPr>
        <p:grpSpPr>
          <a:xfrm>
            <a:off x="0" y="5407200"/>
            <a:ext cx="9259920" cy="1450800"/>
            <a:chOff x="0" y="5407200"/>
            <a:chExt cx="9259920" cy="1450800"/>
          </a:xfrm>
        </p:grpSpPr>
        <p:pic>
          <p:nvPicPr>
            <p:cNvPr id="120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0" y="5407200"/>
              <a:ext cx="925992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9"/>
            <p:cNvSpPr/>
            <p:nvPr/>
          </p:nvSpPr>
          <p:spPr>
            <a:xfrm>
              <a:off x="60480" y="5443560"/>
              <a:ext cx="9144000" cy="13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Моя работа – просто мозаика из тех камушек, 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которые собрали другие.                 А. Д. Сахаров</a:t>
              </a:r>
              <a:r>
                <a:rPr b="1" lang="ru-RU" sz="4000" spc="-1" strike="noStrike">
                  <a:solidFill>
                    <a:srgbClr val="1d528d"/>
                  </a:solidFill>
                  <a:latin typeface="Arial"/>
                </a:rPr>
                <a:t>.</a:t>
              </a:r>
              <a:endParaRPr b="0" lang="en-US" sz="4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2" name="Rectangle 1"/>
          <p:cNvSpPr/>
          <p:nvPr/>
        </p:nvSpPr>
        <p:spPr>
          <a:xfrm>
            <a:off x="1402920" y="298800"/>
            <a:ext cx="32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9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Прямоугольник 13"/>
          <p:cNvSpPr/>
          <p:nvPr/>
        </p:nvSpPr>
        <p:spPr>
          <a:xfrm>
            <a:off x="714240" y="1428840"/>
            <a:ext cx="8001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Прямоугольник 14"/>
          <p:cNvSpPr/>
          <p:nvPr/>
        </p:nvSpPr>
        <p:spPr>
          <a:xfrm>
            <a:off x="714240" y="3357720"/>
            <a:ext cx="7858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5" name="Прямоугольник 18"/>
          <p:cNvSpPr/>
          <p:nvPr/>
        </p:nvSpPr>
        <p:spPr>
          <a:xfrm>
            <a:off x="285840" y="142884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6" name="Прямоугольник 12"/>
          <p:cNvSpPr/>
          <p:nvPr/>
        </p:nvSpPr>
        <p:spPr>
          <a:xfrm>
            <a:off x="285840" y="1357200"/>
            <a:ext cx="8858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индивидуальный и массовый (коллективный);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положительный и отрицательный;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перспективный и бесперспективный;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реальный и потенциальный;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передовой и устаревший;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новаторский;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творческий и репродуктивный;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стихийный и целенаправленно сформированный.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87631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ысокие результаты учебных достижений обучающихс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при их позитивной динамике за последние три года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Дата 3"/>
          <p:cNvSpPr/>
          <p:nvPr/>
        </p:nvSpPr>
        <p:spPr>
          <a:xfrm>
            <a:off x="395280" y="981000"/>
            <a:ext cx="2362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tepanenkoo.ucoz.ru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29" name="Прямоугольник 10"/>
          <p:cNvGrpSpPr/>
          <p:nvPr/>
        </p:nvGrpSpPr>
        <p:grpSpPr>
          <a:xfrm>
            <a:off x="-60480" y="-36360"/>
            <a:ext cx="9259920" cy="1377720"/>
            <a:chOff x="-60480" y="-36360"/>
            <a:chExt cx="9259920" cy="1377720"/>
          </a:xfrm>
        </p:grpSpPr>
        <p:pic>
          <p:nvPicPr>
            <p:cNvPr id="130" name="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3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9144000" cy="12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Verdana"/>
                </a:rPr>
                <a:t>Передовой педагогический опыт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32" name="Дата 3"/>
          <p:cNvSpPr/>
          <p:nvPr/>
        </p:nvSpPr>
        <p:spPr>
          <a:xfrm>
            <a:off x="395280" y="981000"/>
            <a:ext cx="2362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Заголовок 1"/>
          <p:cNvSpPr/>
          <p:nvPr/>
        </p:nvSpPr>
        <p:spPr>
          <a:xfrm>
            <a:off x="228600" y="1571760"/>
            <a:ext cx="8763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Прямоугольник 11"/>
          <p:cNvSpPr/>
          <p:nvPr/>
        </p:nvSpPr>
        <p:spPr>
          <a:xfrm>
            <a:off x="0" y="1857240"/>
            <a:ext cx="9144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528d"/>
                </a:solidFill>
                <a:latin typeface="Arial"/>
              </a:rPr>
              <a:t>Передовой педагогический опыт  - это эффективный, отвечающий современным запросам общества,  открывающий возможности постоянного совершенствования,  позволяющий достигать  высоких  результатов в учебно-воспитательной работе.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3"/>
          <p:cNvSpPr/>
          <p:nvPr/>
        </p:nvSpPr>
        <p:spPr>
          <a:xfrm>
            <a:off x="395280" y="981000"/>
            <a:ext cx="2362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tepanenkoo.ucoz.ru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6" name="Прямоугольник 14"/>
          <p:cNvGrpSpPr/>
          <p:nvPr/>
        </p:nvGrpSpPr>
        <p:grpSpPr>
          <a:xfrm>
            <a:off x="-60480" y="-36360"/>
            <a:ext cx="9259920" cy="1377720"/>
            <a:chOff x="-60480" y="-36360"/>
            <a:chExt cx="9259920" cy="1377720"/>
          </a:xfrm>
        </p:grpSpPr>
        <p:pic>
          <p:nvPicPr>
            <p:cNvPr id="137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3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0" y="0"/>
              <a:ext cx="9144000" cy="12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39" name="Rectangle 2"/>
          <p:cNvSpPr/>
          <p:nvPr/>
        </p:nvSpPr>
        <p:spPr>
          <a:xfrm>
            <a:off x="228600" y="152280"/>
            <a:ext cx="8763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40" name="Group 16"/>
          <p:cNvGrpSpPr/>
          <p:nvPr/>
        </p:nvGrpSpPr>
        <p:grpSpPr>
          <a:xfrm>
            <a:off x="357120" y="1428840"/>
            <a:ext cx="8286120" cy="4681080"/>
            <a:chOff x="357120" y="1428840"/>
            <a:chExt cx="8286120" cy="4681080"/>
          </a:xfrm>
        </p:grpSpPr>
        <p:sp>
          <p:nvSpPr>
            <p:cNvPr id="141" name="Freeform 17"/>
            <p:cNvSpPr/>
            <p:nvPr/>
          </p:nvSpPr>
          <p:spPr>
            <a:xfrm>
              <a:off x="7815240" y="1428840"/>
              <a:ext cx="819000" cy="118476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1184760"/>
                <a:gd name="textAreaBottom" fmla="*/ 1185120 h 118476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Freeform 18"/>
            <p:cNvSpPr/>
            <p:nvPr/>
          </p:nvSpPr>
          <p:spPr>
            <a:xfrm>
              <a:off x="3888360" y="1428840"/>
              <a:ext cx="4754880" cy="757800"/>
            </a:xfrm>
            <a:prstGeom prst="pi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Деятельностный мето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Freeform 19"/>
            <p:cNvSpPr/>
            <p:nvPr/>
          </p:nvSpPr>
          <p:spPr>
            <a:xfrm>
              <a:off x="6990840" y="2593440"/>
              <a:ext cx="819720" cy="1177920"/>
            </a:xfrm>
            <a:custGeom>
              <a:avLst/>
              <a:gdLst>
                <a:gd name="textAreaLeft" fmla="*/ 0 w 819720"/>
                <a:gd name="textAreaRight" fmla="*/ 820080 w 819720"/>
                <a:gd name="textAreaTop" fmla="*/ 0 h 1177920"/>
                <a:gd name="textAreaBottom" fmla="*/ 1178280 h 1177920"/>
              </a:gdLst>
              <a:ahLst/>
              <a:rect l="textAreaLeft" t="textAreaTop" r="textAreaRight" b="textAreaBottom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50000">
                  <a:srgbClr val="6699ff"/>
                </a:gs>
                <a:gs pos="100000">
                  <a:srgbClr val="2f47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20"/>
            <p:cNvSpPr/>
            <p:nvPr/>
          </p:nvSpPr>
          <p:spPr>
            <a:xfrm>
              <a:off x="2707560" y="2593440"/>
              <a:ext cx="5111280" cy="755280"/>
            </a:xfrm>
            <a:prstGeom prst="pie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             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нтерактивные методы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обучения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21"/>
            <p:cNvSpPr/>
            <p:nvPr/>
          </p:nvSpPr>
          <p:spPr>
            <a:xfrm>
              <a:off x="6164280" y="3758400"/>
              <a:ext cx="815040" cy="1182240"/>
            </a:xfrm>
            <a:custGeom>
              <a:avLst/>
              <a:gdLst>
                <a:gd name="textAreaLeft" fmla="*/ 0 w 815040"/>
                <a:gd name="textAreaRight" fmla="*/ 815400 w 815040"/>
                <a:gd name="textAreaTop" fmla="*/ 0 h 1182240"/>
                <a:gd name="textAreaBottom" fmla="*/ 1182600 h 1182240"/>
              </a:gdLst>
              <a:ahLst/>
              <a:rect l="textAreaLeft" t="textAreaTop" r="textAreaRight" b="textAreaBottom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503861"/>
                </a:gs>
                <a:gs pos="50000">
                  <a:srgbClr val="ac7ad2"/>
                </a:gs>
                <a:gs pos="100000">
                  <a:srgbClr val="5038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Freeform 22"/>
            <p:cNvSpPr/>
            <p:nvPr/>
          </p:nvSpPr>
          <p:spPr>
            <a:xfrm>
              <a:off x="5342400" y="4925520"/>
              <a:ext cx="819720" cy="1184400"/>
            </a:xfrm>
            <a:custGeom>
              <a:avLst/>
              <a:gdLst>
                <a:gd name="textAreaLeft" fmla="*/ 0 w 819720"/>
                <a:gd name="textAreaRight" fmla="*/ 820080 w 819720"/>
                <a:gd name="textAreaTop" fmla="*/ 0 h 1184400"/>
                <a:gd name="textAreaBottom" fmla="*/ 1184760 h 118440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d2641"/>
                </a:gs>
                <a:gs pos="50000">
                  <a:srgbClr val="1d528d"/>
                </a:gs>
                <a:gs pos="100000">
                  <a:srgbClr val="0d264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Freeform 23"/>
            <p:cNvSpPr/>
            <p:nvPr/>
          </p:nvSpPr>
          <p:spPr>
            <a:xfrm>
              <a:off x="359640" y="4932000"/>
              <a:ext cx="5804640" cy="755280"/>
            </a:xfrm>
            <a:prstGeom prst="pie">
              <a:avLst/>
            </a:prstGeom>
            <a:solidFill>
              <a:srgbClr val="1d5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d528d"/>
                  </a:solidFill>
                  <a:latin typeface="Arial"/>
                </a:rPr>
                <a:t>       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нформационно-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оммуникационные технологи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8" name="Freeform 24"/>
            <p:cNvSpPr/>
            <p:nvPr/>
          </p:nvSpPr>
          <p:spPr>
            <a:xfrm>
              <a:off x="591840" y="1428840"/>
              <a:ext cx="3314160" cy="4176720"/>
            </a:xfrm>
            <a:custGeom>
              <a:avLst/>
              <a:gdLst>
                <a:gd name="textAreaLeft" fmla="*/ 0 w 3314160"/>
                <a:gd name="textAreaRight" fmla="*/ 3314520 w 3314160"/>
                <a:gd name="textAreaTop" fmla="*/ 0 h 4176720"/>
                <a:gd name="textAreaBottom" fmla="*/ 4177080 h 417672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9" name="Rectangle 25"/>
            <p:cNvSpPr/>
            <p:nvPr/>
          </p:nvSpPr>
          <p:spPr>
            <a:xfrm>
              <a:off x="3897720" y="2186640"/>
              <a:ext cx="3935160" cy="426600"/>
            </a:xfrm>
            <a:prstGeom prst="rect">
              <a:avLst/>
            </a:prstGeom>
            <a:gradFill rotWithShape="0">
              <a:gsLst>
                <a:gs pos="0">
                  <a:srgbClr val="006f94"/>
                </a:gs>
                <a:gs pos="50000">
                  <a:srgbClr val="0099cc"/>
                </a:gs>
                <a:gs pos="100000">
                  <a:srgbClr val="006f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0" name="Rectangle 26"/>
            <p:cNvSpPr/>
            <p:nvPr/>
          </p:nvSpPr>
          <p:spPr>
            <a:xfrm>
              <a:off x="2709720" y="3349080"/>
              <a:ext cx="4290120" cy="417600"/>
            </a:xfrm>
            <a:prstGeom prst="rect">
              <a:avLst/>
            </a:prstGeom>
            <a:gradFill rotWithShape="0">
              <a:gsLst>
                <a:gs pos="0">
                  <a:srgbClr val="4a6fb9"/>
                </a:gs>
                <a:gs pos="50000">
                  <a:srgbClr val="6699ff"/>
                </a:gs>
                <a:gs pos="100000">
                  <a:srgbClr val="4a6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Деловые игры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Freeform 27"/>
            <p:cNvSpPr/>
            <p:nvPr/>
          </p:nvSpPr>
          <p:spPr>
            <a:xfrm>
              <a:off x="1535760" y="3758400"/>
              <a:ext cx="5452920" cy="762120"/>
            </a:xfrm>
            <a:prstGeom prst="pie">
              <a:avLst/>
            </a:prstGeom>
            <a:solidFill>
              <a:srgbClr val="ac7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Личностно-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ориентированное обучение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28"/>
            <p:cNvSpPr/>
            <p:nvPr/>
          </p:nvSpPr>
          <p:spPr>
            <a:xfrm>
              <a:off x="1540080" y="4518720"/>
              <a:ext cx="4641840" cy="419760"/>
            </a:xfrm>
            <a:prstGeom prst="rect">
              <a:avLst/>
            </a:prstGeom>
            <a:gradFill rotWithShape="0">
              <a:gsLst>
                <a:gs pos="0">
                  <a:srgbClr val="7d5998"/>
                </a:gs>
                <a:gs pos="50000">
                  <a:srgbClr val="ac7ad2"/>
                </a:gs>
                <a:gs pos="100000">
                  <a:srgbClr val="7d599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Метод проектов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29"/>
            <p:cNvSpPr/>
            <p:nvPr/>
          </p:nvSpPr>
          <p:spPr>
            <a:xfrm>
              <a:off x="357120" y="5690160"/>
              <a:ext cx="4996800" cy="415800"/>
            </a:xfrm>
            <a:prstGeom prst="rect">
              <a:avLst/>
            </a:prstGeom>
            <a:gradFill rotWithShape="0">
              <a:gsLst>
                <a:gs pos="0">
                  <a:srgbClr val="153b66"/>
                </a:gs>
                <a:gs pos="50000">
                  <a:srgbClr val="1d528d"/>
                </a:gs>
                <a:gs pos="100000">
                  <a:srgbClr val="153b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Дистанционное обучени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4" name="Freeform 24"/>
            <p:cNvSpPr/>
            <p:nvPr/>
          </p:nvSpPr>
          <p:spPr>
            <a:xfrm>
              <a:off x="591840" y="1428840"/>
              <a:ext cx="3314160" cy="4176720"/>
            </a:xfrm>
            <a:custGeom>
              <a:avLst/>
              <a:gdLst>
                <a:gd name="textAreaLeft" fmla="*/ 0 w 3314160"/>
                <a:gd name="textAreaRight" fmla="*/ 3314520 w 3314160"/>
                <a:gd name="textAreaTop" fmla="*/ 0 h 4176720"/>
                <a:gd name="textAreaBottom" fmla="*/ 4177080 h 417672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5" name="Freeform 24"/>
          <p:cNvSpPr/>
          <p:nvPr/>
        </p:nvSpPr>
        <p:spPr>
          <a:xfrm rot="10456800">
            <a:off x="5699880" y="1782720"/>
            <a:ext cx="3024360" cy="4176720"/>
          </a:xfrm>
          <a:custGeom>
            <a:avLst/>
            <a:gdLst>
              <a:gd name="textAreaLeft" fmla="*/ 0 w 3024360"/>
              <a:gd name="textAreaRight" fmla="*/ 3024720 w 3024360"/>
              <a:gd name="textAreaTop" fmla="*/ 0 h 4176720"/>
              <a:gd name="textAreaBottom" fmla="*/ 4177080 h 417672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165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Использование передовых инновационных технологи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4154040" y="2205000"/>
            <a:ext cx="30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ранцузские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стерские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Дата 3"/>
          <p:cNvSpPr/>
          <p:nvPr/>
        </p:nvSpPr>
        <p:spPr>
          <a:xfrm>
            <a:off x="395280" y="981000"/>
            <a:ext cx="2362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tepanenkoo.ucoz.ru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9" name="Прямоугольник 14"/>
          <p:cNvGrpSpPr/>
          <p:nvPr/>
        </p:nvGrpSpPr>
        <p:grpSpPr>
          <a:xfrm>
            <a:off x="-60480" y="-36360"/>
            <a:ext cx="9259920" cy="1377720"/>
            <a:chOff x="-60480" y="-36360"/>
            <a:chExt cx="9259920" cy="1377720"/>
          </a:xfrm>
        </p:grpSpPr>
        <p:pic>
          <p:nvPicPr>
            <p:cNvPr id="160" name="Прямоугольник 14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137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0" y="0"/>
              <a:ext cx="9144000" cy="12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2" name="Rectangle 2"/>
          <p:cNvSpPr/>
          <p:nvPr/>
        </p:nvSpPr>
        <p:spPr>
          <a:xfrm>
            <a:off x="228600" y="152280"/>
            <a:ext cx="8763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w Cen MT"/>
                <a:ea typeface="Times New Roman"/>
              </a:rPr>
              <a:t>Мой педагогический опы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Прямоугольник 24"/>
          <p:cNvSpPr/>
          <p:nvPr/>
        </p:nvSpPr>
        <p:spPr>
          <a:xfrm>
            <a:off x="714240" y="1571760"/>
            <a:ext cx="7858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w Cen MT"/>
                <a:ea typeface="Times New Roman"/>
              </a:rPr>
              <a:t>=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w Cen MT"/>
                <a:ea typeface="Times New Roman"/>
              </a:rPr>
              <a:t>целеустремленность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w Cen MT"/>
                <a:ea typeface="Times New Roman"/>
              </a:rPr>
              <a:t>+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w Cen MT"/>
                <a:ea typeface="Times New Roman"/>
              </a:rPr>
              <a:t>ответственность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w Cen MT"/>
                <a:ea typeface="Times New Roman"/>
              </a:rPr>
              <a:t>+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w Cen MT"/>
                <a:ea typeface="Times New Roman"/>
              </a:rPr>
              <a:t>желание повышать свой потенциал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w Cen MT"/>
                <a:ea typeface="Times New Roman"/>
              </a:rPr>
              <a:t>+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w Cen MT"/>
                <a:ea typeface="Times New Roman"/>
              </a:rPr>
              <a:t>потребность созидать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w Cen MT"/>
                <a:ea typeface="Times New Roman"/>
              </a:rPr>
              <a:t>+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Tw Cen MT"/>
                <a:ea typeface="Times New Roman"/>
              </a:rPr>
              <a:t>активность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15:14:01Z</dcterms:created>
  <dc:creator>olga</dc:creator>
  <dc:description/>
  <dc:language>en-US</dc:language>
  <cp:lastModifiedBy>Люба</cp:lastModifiedBy>
  <dcterms:modified xsi:type="dcterms:W3CDTF">2013-04-07T12:53:10Z</dcterms:modified>
  <cp:revision>165</cp:revision>
  <dc:subject/>
  <dc:title>PowerPoint Template</dc:title>
</cp:coreProperties>
</file>