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gif" ContentType="image/gif"/>
  <Override PartName="/ppt/media/image16.jpeg" ContentType="image/jpeg"/>
  <Override PartName="/ppt/media/image7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10.jpeg" ContentType="image/jpeg"/>
  <Override PartName="/ppt/media/image12.gif" ContentType="image/gif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96C-6220-44ED-B0A2-E360AB56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823-4648-469A-9029-CE51141E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BB5-1EB9-4027-8A19-DEA43188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D73-B8F9-4545-AADF-E5F809B7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7E0-73BF-42FF-AE7A-2DC59A5E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348-4C4E-403F-AB5B-418F5220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EC2-4E8F-4F11-954B-C0A24E81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387-F7BD-48C5-B967-A5194F5C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080-9A37-4C14-B400-0E186B4E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D8F-61A6-4512-A5BB-55CD8CAB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8BF-0D35-42D6-AAB9-62BE3FC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322-0022-4341-9515-A3C61920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A7D3-6D07-46FE-A6B2-DDD8D8627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Картинка 2 из 202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4" descr="Картинка 134 из 4385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79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Картинка 9 из 1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Картинка 97 из 166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80880" y="304920"/>
          <a:ext cx="8458200" cy="6400800"/>
        </p:xfrm>
        <a:graphic>
          <a:graphicData uri="http://schemas.openxmlformats.org/drawingml/2006/table">
            <a:tbl>
              <a:tblPr/>
              <a:tblGrid>
                <a:gridCol w="4191120"/>
                <a:gridCol w="4267080"/>
              </a:tblGrid>
              <a:tr h="31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7" descr="Картинка 2 из 9352"/>
          <p:cNvPicPr/>
          <p:nvPr/>
        </p:nvPicPr>
        <p:blipFill>
          <a:blip r:embed="rId1"/>
          <a:stretch/>
        </p:blipFill>
        <p:spPr>
          <a:xfrm>
            <a:off x="914400" y="533520"/>
            <a:ext cx="3276720" cy="280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2" descr="Картинка 0 из 20535"/>
          <p:cNvPicPr/>
          <p:nvPr/>
        </p:nvPicPr>
        <p:blipFill>
          <a:blip r:embed="rId2"/>
          <a:stretch/>
        </p:blipFill>
        <p:spPr>
          <a:xfrm>
            <a:off x="380880" y="3429000"/>
            <a:ext cx="4114800" cy="319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9" descr="p15"/>
          <p:cNvPicPr/>
          <p:nvPr/>
        </p:nvPicPr>
        <p:blipFill>
          <a:blip r:embed="rId3"/>
          <a:stretch/>
        </p:blipFill>
        <p:spPr>
          <a:xfrm>
            <a:off x="3352680" y="6019920"/>
            <a:ext cx="609840" cy="45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0" descr="p15"/>
          <p:cNvPicPr/>
          <p:nvPr/>
        </p:nvPicPr>
        <p:blipFill>
          <a:blip r:embed="rId4"/>
          <a:stretch/>
        </p:blipFill>
        <p:spPr>
          <a:xfrm>
            <a:off x="1752480" y="6095880"/>
            <a:ext cx="533520" cy="40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9" descr="Обои картинки фото трава, листья, осень"/>
          <p:cNvPicPr/>
          <p:nvPr/>
        </p:nvPicPr>
        <p:blipFill>
          <a:blip r:embed="rId5"/>
          <a:srcRect l="18798" t="0" r="0" b="29007"/>
          <a:stretch/>
        </p:blipFill>
        <p:spPr>
          <a:xfrm>
            <a:off x="4724280" y="3505320"/>
            <a:ext cx="4038840" cy="311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0" descr="rain_cloud_raining_hc"/>
          <p:cNvPicPr/>
          <p:nvPr/>
        </p:nvPicPr>
        <p:blipFill>
          <a:blip r:embed="rId6"/>
          <a:stretch/>
        </p:blipFill>
        <p:spPr>
          <a:xfrm>
            <a:off x="4572000" y="228600"/>
            <a:ext cx="4114800" cy="28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28600"/>
          <a:ext cx="8229600" cy="6172200"/>
        </p:xfrm>
        <a:graphic>
          <a:graphicData uri="http://schemas.openxmlformats.org/drawingml/2006/table">
            <a:tbl>
              <a:tblPr/>
              <a:tblGrid>
                <a:gridCol w="4151160"/>
                <a:gridCol w="4078440"/>
              </a:tblGrid>
              <a:tr h="31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Picture 41" descr="8b9e4fa0629et"/>
          <p:cNvPicPr/>
          <p:nvPr/>
        </p:nvPicPr>
        <p:blipFill>
          <a:blip r:embed="rId1"/>
          <a:srcRect l="25532" t="40568" r="12766" b="4546"/>
          <a:stretch/>
        </p:blipFill>
        <p:spPr>
          <a:xfrm>
            <a:off x="533520" y="228600"/>
            <a:ext cx="403848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8b9e4fa0629et"/>
          <p:cNvPicPr/>
          <p:nvPr/>
        </p:nvPicPr>
        <p:blipFill>
          <a:blip r:embed="rId2"/>
          <a:srcRect l="0" t="0" r="4749" b="63871"/>
          <a:stretch/>
        </p:blipFill>
        <p:spPr>
          <a:xfrm>
            <a:off x="4724280" y="304920"/>
            <a:ext cx="38862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5" descr="08"/>
          <p:cNvPicPr/>
          <p:nvPr/>
        </p:nvPicPr>
        <p:blipFill>
          <a:blip r:embed="rId3"/>
          <a:stretch/>
        </p:blipFill>
        <p:spPr>
          <a:xfrm flipH="1">
            <a:off x="609480" y="380988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0004"/>
          <p:cNvPicPr/>
          <p:nvPr/>
        </p:nvPicPr>
        <p:blipFill>
          <a:blip r:embed="rId4"/>
          <a:stretch/>
        </p:blipFill>
        <p:spPr>
          <a:xfrm flipH="1">
            <a:off x="4723920" y="1487520"/>
            <a:ext cx="1143000" cy="789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0004"/>
          <p:cNvPicPr/>
          <p:nvPr/>
        </p:nvPicPr>
        <p:blipFill>
          <a:blip r:embed="rId5"/>
          <a:stretch/>
        </p:blipFill>
        <p:spPr>
          <a:xfrm flipH="1">
            <a:off x="4648320" y="2438280"/>
            <a:ext cx="761760" cy="52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3" descr="0004"/>
          <p:cNvPicPr/>
          <p:nvPr/>
        </p:nvPicPr>
        <p:blipFill>
          <a:blip r:embed="rId6"/>
          <a:stretch/>
        </p:blipFill>
        <p:spPr>
          <a:xfrm flipH="1">
            <a:off x="4800240" y="457200"/>
            <a:ext cx="1143000" cy="78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54"/>
          <p:cNvGraphicFramePr/>
          <p:nvPr/>
        </p:nvGraphicFramePr>
        <p:xfrm>
          <a:off x="2362320" y="3352680"/>
          <a:ext cx="2133360" cy="16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33526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9" descr="Hedgehog"/>
          <p:cNvPicPr/>
          <p:nvPr/>
        </p:nvPicPr>
        <p:blipFill>
          <a:blip r:embed="rId9"/>
          <a:stretch/>
        </p:blipFill>
        <p:spPr>
          <a:xfrm>
            <a:off x="1447920" y="5029200"/>
            <a:ext cx="1828800" cy="130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9" descr="Картинка 9 из 4420"/>
          <p:cNvPicPr/>
          <p:nvPr/>
        </p:nvPicPr>
        <p:blipFill>
          <a:blip r:embed="rId10"/>
          <a:stretch/>
        </p:blipFill>
        <p:spPr>
          <a:xfrm>
            <a:off x="4648320" y="4038480"/>
            <a:ext cx="201276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1" descr="Картинка 19 из 129297"/>
          <p:cNvPicPr/>
          <p:nvPr/>
        </p:nvPicPr>
        <p:blipFill>
          <a:blip r:embed="rId11"/>
          <a:stretch/>
        </p:blipFill>
        <p:spPr>
          <a:xfrm>
            <a:off x="6324480" y="3352680"/>
            <a:ext cx="228600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6 0.12558 L 0.27916 -0.20745 E">
                                      <p:cBhvr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гел</cp:lastModifiedBy>
  <dcterms:modified xsi:type="dcterms:W3CDTF">2011-11-24T17:09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