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100-5423-4CCF-B99C-AF08345F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8B58-2A56-40BC-967B-207BC0E6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D81-1ACD-4AE2-AB34-BE18D0AF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C0F-A484-4942-8C47-DB0787AC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E3AC-0526-46C6-9B6E-6AB9962B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80C6-F52F-427B-8668-E6DDBCE5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4773-FED2-45F7-A07D-8CA6BB91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102F-C4DA-4B15-8B93-47ECE9FE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D650-EA90-4044-BC04-D10DF7CA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1EFC-1924-4B64-BD8A-1D5D8C53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EF3D-C459-488C-840D-B054FD0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D44-BC00-4912-8487-C6C865B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B349-86E5-49C2-A845-99C5D28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775C-F77D-42F7-B00E-E6D3222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331F-6258-416A-8671-128805F1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0566-56E7-4862-A225-761A0B02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0E5A-A65C-4A20-897D-C2AD131B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6BE6-F107-4576-96FB-3B9A1F50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2CC-24C9-451B-B09C-5663181C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FC8-F969-463C-9E2E-F33CB712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59B-1DAD-480E-8CE7-D31F8315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7AF-4A26-40B8-8345-9B82194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5B8-6419-45DC-B1A0-9665229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682-20D9-434E-B681-BA46D599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ECBD-5393-4740-AE4B-F0D574EC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CA5C-87BF-43A8-BAA4-F8075E317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Изменение растений в течение жизни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Как долго живут растения и как определяют их возрас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Возраст дерева можно узнать по числу почечных колец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5280" y="1905120"/>
            <a:ext cx="3384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Участок побега между двумя почечными кольцами соответствует годичному приросту (видны на молодых ветвях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64000" y="1905120"/>
            <a:ext cx="525600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Возраст дерева определяют по числу годичных колец древесин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905120"/>
            <a:ext cx="428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елкие осенние клетки отличаются от крупных весенних клеток древесины следующего года, находящихся рядом с ними. Поэтому граница между соседними годичными кольцами хорошо замет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6480" y="1905120"/>
            <a:ext cx="377172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лительность жизни кустарников и кустарничк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дсчитать общее число стволи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Установить, сколько их возникает и отмирает за1 год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делив первое число на второе и умножив результат на длительность жизни одного ствол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Как долго живут травы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равы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днолетние      Двулетние        Многолетни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4294200">
            <a:off x="2714400" y="1450800"/>
            <a:ext cx="144360" cy="2519280"/>
          </a:xfrm>
          <a:prstGeom prst="downArrow">
            <a:avLst>
              <a:gd name="adj1" fmla="val 50000"/>
              <a:gd name="adj2" fmla="val 436284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349360"/>
            <a:ext cx="122040" cy="863640"/>
          </a:xfrm>
          <a:prstGeom prst="downArrow">
            <a:avLst>
              <a:gd name="adj1" fmla="val 50000"/>
              <a:gd name="adj2" fmla="val 176917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7411400">
            <a:off x="6232320" y="1557000"/>
            <a:ext cx="144360" cy="2303280"/>
          </a:xfrm>
          <a:prstGeom prst="downArrow">
            <a:avLst>
              <a:gd name="adj1" fmla="val 50000"/>
              <a:gd name="adj2" fmla="val 398878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Практическая работ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ема: «Определение возраста дере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 спилу»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Цель: научиться определять возраст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дерева по спил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орудование: спил дерев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Ход работы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1965240" cy="151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Ход работ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На спиле древесного стебля найдите древесину, подсчитайте число годичных колец и определите по ним возраст дере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Рассмотрите годичные кольца. Одинаковы ли они по толщине? Объясните, чем отличается древесина, образовавшаяся весной, от древесины более позднего пери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2089080" cy="187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Ход работы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497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Установите, какие слои древесины старше по возрасту- лежащие ближе к сердцевине или к коре. Объясните, почему вы так считает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Что можно узнать по толщине годичных колец? Пояснит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ожно ли ориентироваться по спилу дерева? Пояснит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1801800" cy="1677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Домашнее задание: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Arial"/>
              </a:rPr>
              <a:t> 4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19:52:54Z</dcterms:created>
  <dc:creator>User</dc:creator>
  <dc:description/>
  <dc:language>en-US</dc:language>
  <cp:lastModifiedBy>User</cp:lastModifiedBy>
  <dcterms:modified xsi:type="dcterms:W3CDTF">2012-02-27T21:09:16Z</dcterms:modified>
  <cp:revision>2</cp:revision>
  <dc:subject/>
  <dc:title>Изменение растений в течение жиз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