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gif" ContentType="image/gif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2D599-8051-4D1F-ACFA-6F4C9B674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FF71A-1E30-4407-8ACF-DB5642268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8A53A-5A6D-4B6B-AA81-80DED0A57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FFB01-72A1-49EA-8E06-789BA6D3B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9FF0A-9DBF-467A-A4B7-31E86A91F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205B9-FC7C-4B63-BE04-FA072A410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21872-1407-4AF0-8147-0083B5A24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F384F-DD76-4E13-98D7-541B67731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E83A8-8B24-4C8D-BA17-A8E1EB889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AA0AF-B910-4071-AD52-9DF22C9A4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4B73C-D60D-4153-B134-ED92C7173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37A47-1F67-4C9A-B501-82C6AC53B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3BA13-53CD-4B34-BB07-0E18DB8C3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2D5C8-9EEB-4D06-AFF3-989005BF7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4EE19-097B-498C-BA3B-CE29A8B14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A4ADE-86BD-4B8F-BF76-3ADF57260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8DCC0-8654-4488-ADD6-3A156BA6F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FA025-D43F-4B86-BC83-B3FD65B98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B03AB-496E-4807-B358-197B65BBC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70D03-7285-4389-8D22-CF040FAB5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CC299-DC72-4D68-8624-42115D636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2B3BE-B606-45B4-8D23-EB2F1837F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93E91-22E2-40D4-86C7-5B9AAD9E6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1BA16-C29A-4625-B4B7-F7C787EAD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63EF7-1A07-42B2-BFAA-BCFD088A4A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6" name="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62120" y="1709640"/>
              <a:ext cx="7696080" cy="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1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i="1" lang="en-US" sz="41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857640" y="639144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A1622-4187-4E6C-B6D4-16C0C722CF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100" spc="-1" strike="noStrike">
                <a:solidFill>
                  <a:srgbClr val="336666"/>
                </a:solidFill>
                <a:latin typeface="Arial Black"/>
              </a:rPr>
              <a:t>Изменение растений в течение жизни</a:t>
            </a:r>
            <a:endParaRPr b="0" i="1" lang="en-US" sz="41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752120" y="3566880"/>
            <a:ext cx="54104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Как долго живут растения и как определяют их возраст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Возраст дерева можно узнать по числу почечных колец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395280" y="1905120"/>
            <a:ext cx="3384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Участок побега между двумя почечными кольцами соответствует годичному приросту (видны на молодых ветвях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3564000" y="1905120"/>
            <a:ext cx="5256000" cy="40384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6666"/>
                </a:solidFill>
                <a:latin typeface="Arial Black"/>
              </a:rPr>
              <a:t>Возраст дерева определяют по числу годичных колец древесины</a:t>
            </a:r>
            <a:endParaRPr b="0" lang="en-US" sz="29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0560" y="1905120"/>
            <a:ext cx="42829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Мелкие осенние клетки отличаются от крупных весенних клеток древесины следующего года, находящихся рядом с ними. Поэтому граница между соседними годичными кольцами хорошо заметна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686480" y="1905120"/>
            <a:ext cx="3771720" cy="40384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Длительность жизни кустарников и кустарничков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Подсчитать общее число стволиков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Установить, сколько их возникает и отмирает за1 год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Поделив первое число на второе и умножив результат на длительность жизни одного стволика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98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898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898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3000"/>
                            </p:stCondLst>
                            <p:childTnLst>
                              <p:par>
                                <p:cTn id="2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898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Как долго живут травы?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24000" y="1905120"/>
            <a:ext cx="84960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Травы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Однолетние      Двулетние        Многолетние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rot="4294200">
            <a:off x="2714400" y="1450800"/>
            <a:ext cx="144360" cy="2519280"/>
          </a:xfrm>
          <a:prstGeom prst="downArrow">
            <a:avLst>
              <a:gd name="adj1" fmla="val 50000"/>
              <a:gd name="adj2" fmla="val 436284"/>
            </a:avLst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500720" y="2349360"/>
            <a:ext cx="122040" cy="863640"/>
          </a:xfrm>
          <a:prstGeom prst="downArrow">
            <a:avLst>
              <a:gd name="adj1" fmla="val 50000"/>
              <a:gd name="adj2" fmla="val 176917"/>
            </a:avLst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rot="17411400">
            <a:off x="6232320" y="1557000"/>
            <a:ext cx="144360" cy="2303280"/>
          </a:xfrm>
          <a:prstGeom prst="downArrow">
            <a:avLst>
              <a:gd name="adj1" fmla="val 50000"/>
              <a:gd name="adj2" fmla="val 398878"/>
            </a:avLst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Практическая работа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Тема: «Определение возраста дерева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по спилу»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Цель: научиться определять возраст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дерева по спилу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Оборудование: спил дерева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Ход работы: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6732720" y="260280"/>
            <a:ext cx="1965240" cy="151308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Ход работы: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90400" indent="-590400">
              <a:spcBef>
                <a:spcPts val="675"/>
              </a:spcBef>
              <a:buClr>
                <a:srgbClr val="cccc99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На спиле древесного стебля найдите древесину, подсчитайте число годичных колец и определите по ним возраст дерева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90400" indent="-590400">
              <a:spcBef>
                <a:spcPts val="675"/>
              </a:spcBef>
              <a:buClr>
                <a:srgbClr val="cccc99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Рассмотрите годичные кольца. Одинаковы ли они по толщине? Объясните, чем отличается древесина, образовавшаяся весной, от древесины более позднего периода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904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6804000" y="333360"/>
            <a:ext cx="2089080" cy="18734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Ход работы: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94920" y="1905120"/>
            <a:ext cx="8497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Установите, какие слои древесины старше по возрасту- лежащие ближе к сердцевине или к коре. Объясните, почему вы так считаете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Что можно узнать по толщине годичных колец? Поясните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Можно ли ориентироваться по спилу дерева? Поясните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0000"/>
                </a:solidFill>
                <a:uFillTx/>
                <a:latin typeface="Arial"/>
              </a:rPr>
              <a:t>Вывод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6804000" y="260280"/>
            <a:ext cx="1801800" cy="167796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Домашнее задание: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  <a:ea typeface="Arial"/>
              </a:rPr>
              <a:t>§</a:t>
            </a:r>
            <a:r>
              <a:rPr b="0" lang="ru-RU" sz="9600" spc="-1" strike="noStrike">
                <a:solidFill>
                  <a:srgbClr val="000000"/>
                </a:solidFill>
                <a:latin typeface="Arial"/>
                <a:ea typeface="Arial"/>
              </a:rPr>
              <a:t> 4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7T19:52:54Z</dcterms:created>
  <dc:creator>User</dc:creator>
  <dc:description/>
  <dc:language>en-US</dc:language>
  <cp:lastModifiedBy>User</cp:lastModifiedBy>
  <dcterms:modified xsi:type="dcterms:W3CDTF">2012-02-27T21:09:16Z</dcterms:modified>
  <cp:revision>2</cp:revision>
  <dc:subject/>
  <dc:title>Изменение растений в течение жизн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7</vt:r8>
  </property>
</Properties>
</file>