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21.jpeg" ContentType="image/jpeg"/>
  <Override PartName="/ppt/media/image17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449B-8E72-43B9-9075-76B63C83D1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F6DD-2527-47C8-9A65-2EFAF6DA82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AC5-D96B-4A25-A359-ADDF100E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5D1-E392-4B68-99A7-D3F41D15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D1B-490F-48C5-93E0-5C20B00A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E41-3FF3-47F1-B127-B994ED5F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F92FE-03B7-4052-95BA-B33E7F95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5F95D-1C76-4933-A17F-0CF6D053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FA59D-CB9F-4621-9546-E7EF7D32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8D20E-D930-4A4A-B1A8-0DDBAEB8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943B9-0257-4F81-A974-8E058736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374B0-5F3E-423B-AB57-66032E97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AB02C-84D0-4FE8-B82E-A019651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77F-0C64-4565-979B-E0447365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5300F-9581-41EE-9B00-62A4128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0CF4E-5DA2-4EF1-889A-F8158BA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42F22-EC64-4FE2-8F82-133098CA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7C380-FDB3-40AD-B94C-F303FEDD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3E6CD-D6F4-47FF-AE77-C76310E6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97F0-8150-445A-B43D-59B72CF8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C369-60DB-4E31-B795-C91E87E6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F4352-E872-4551-BF18-967FE7A8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3717-0C34-40C8-9D39-2303491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43A5C-AB08-44B6-91B8-98CFC080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D79-C7FD-461A-BF73-16EAD54C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5002-5116-44A4-AF12-AAEEBA68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71A4-AD97-4408-924F-82163D8C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646E-76C3-4ED7-9242-6DD51327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B5FF-9D94-4FBC-A265-B54AE9B9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8B930-3156-4F67-B575-ED160D11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1BD32-6718-44AB-963C-BE665907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0EDB8-4D3C-4D81-AF91-BC114076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0C06A-A7BB-4B23-8763-2ABE22DE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4941F-B9E4-421E-A5B9-21E0DF6B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1B02A-B838-4D8D-9DDA-0AE6AB87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45C-18A4-45D5-96D4-623C2757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B46757-F92E-4447-9D14-DC7CB12C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FEEAC-CD93-42E2-BD26-542A0F14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77631-4140-441B-8599-612CBA2D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0E445F-49B1-433C-88D4-9A00973F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02C73C-E414-4ADC-AE02-313A6EBF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2C255C-99D1-4BFD-8C12-305FE4FF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438CB1-2C2B-4D9F-AD4C-09CDFFFC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4CC55-F0FE-4DB9-A7D3-A1087792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B4DB58-A9FD-480F-A937-F7498C7B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AE2F-54B3-426A-9813-CB500149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637-BD7D-44D8-96C9-8679C90B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46ECC-A51E-45EC-8EAC-855FDFE4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D1C90-8521-41E9-8CBD-17D3C4C7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065BF-C374-49AB-930D-3DDD7447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EDF7A-3F0D-4C82-91A8-42ABE29C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40D5B-27A4-4859-A7CB-C44875FA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52F90-F668-404D-88B1-A43A65B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FD325-92B3-4AF8-93D5-637579D7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5EE9B-0A70-4298-83F2-F9E791A9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66104-7332-4569-9EB6-5FC128F5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E164E-2043-4AB2-91C2-99D29852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555-2CAF-46A5-9E07-57D5407A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87502-32A5-400A-961C-B74F9951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4744E-31DB-4E22-A0A1-61F951E1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D3501-A92F-4020-880D-F6A5FD2D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5F8DE-69FA-4104-A5AA-20B14275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577F6-12CE-42A7-8433-0E06F61F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1B80C-F1E7-46AC-87FF-1A8F8BAE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7FFD-5A93-409E-8EC2-2ABBE44D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03FE9-7104-433E-BC4B-611CC911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A1D3E-43C6-43C5-AFD9-77ACE1CD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A6C3B-82D6-4BC1-8C01-6F44ED41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860-EF64-4D45-87D2-C228D748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CA7F0-61C0-4415-A200-95A0560D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D5DCB-2145-4EEB-B734-F16E3E89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4516B-28EF-41B4-81C9-C73EFD14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516-86E6-4CFE-8596-A57DBCC9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2BD-430B-4961-974F-5591EC3D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99DE-D5A2-40A9-979C-64F3123D66C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DC33-6283-49D4-8A66-07988DDF8C4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6650-9D3C-480C-B3DD-F0BC2AD0556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E554-C596-426C-836E-666DBA8854B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CF04-984F-40F8-BB1D-8F9B43396A7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A9AF-1A56-4277-AD01-30F83CFEE35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1" descr="Картинка 55 из 44257"/>
          <p:cNvPicPr/>
          <p:nvPr/>
        </p:nvPicPr>
        <p:blipFill>
          <a:blip r:embed="rId1"/>
          <a:stretch/>
        </p:blipFill>
        <p:spPr>
          <a:xfrm>
            <a:off x="318960" y="4994280"/>
            <a:ext cx="324000" cy="1844640"/>
          </a:xfrm>
          <a:prstGeom prst="rect">
            <a:avLst/>
          </a:prstGeom>
          <a:ln w="0">
            <a:noFill/>
          </a:ln>
        </p:spPr>
      </p:pic>
      <p:sp>
        <p:nvSpPr>
          <p:cNvPr id="260" name="WordArt 4"/>
          <p:cNvSpPr txBox="1"/>
          <p:nvPr/>
        </p:nvSpPr>
        <p:spPr>
          <a:xfrm>
            <a:off x="8317080" y="5732640"/>
            <a:ext cx="6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ahoma"/>
              </a:rPr>
              <a:t>Россиянең һәм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8900000"/>
              </a:gra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ahoma"/>
              </a:rPr>
              <a:t>Татарстанның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8900000"/>
              </a:gra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ahoma"/>
              </a:rPr>
              <a:t>дәүләт символлары буенч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8900000"/>
              </a:gra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ahoma"/>
              </a:rPr>
              <a:t>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ahoma"/>
              </a:rPr>
              <a:t>парламент  дәрес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8900000"/>
              </a:gradFill>
              <a:latin typeface="Tahoma"/>
              <a:ea typeface="Tahom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Users\миляуша\Desktop\флаг.jpg"/>
          <p:cNvPicPr/>
          <p:nvPr/>
        </p:nvPicPr>
        <p:blipFill>
          <a:blip r:embed="rId1"/>
          <a:stretch/>
        </p:blipFill>
        <p:spPr>
          <a:xfrm>
            <a:off x="444600" y="6381720"/>
            <a:ext cx="8375400" cy="21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onstantia"/>
              </a:rPr>
              <a:t>Россия Федерациясенең дәүләт флагы</a:t>
            </a: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 - аның рәсми дәүләт символы (герб һәм гимн белән). Тигез горизонталь буйлардан тора: (өстә - ак, уртада - зәңгәр, аста кызыл төс) турыпочмак формасындагы тукымага ясала.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onstantia"/>
              </a:rPr>
              <a:t>Россия Федерациясенең гимнын</a:t>
            </a: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 С.В. Михалков сүзләренә композитор А.В. Александров язган. "Россия Федерациясе дәүләт гимны турында"гы Закон 2000 елның 8 нче декабрендә федераль закон белән кабул ителә (Федерация Советы тарафыннан 2000 елның 20 нче декабрендә).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image118"/>
          <p:cNvPicPr/>
          <p:nvPr/>
        </p:nvPicPr>
        <p:blipFill>
          <a:blip r:embed="rId1"/>
          <a:stretch/>
        </p:blipFill>
        <p:spPr>
          <a:xfrm>
            <a:off x="179280" y="4869000"/>
            <a:ext cx="4249800" cy="274680"/>
          </a:xfrm>
          <a:prstGeom prst="rect">
            <a:avLst/>
          </a:prstGeom>
          <a:ln w="0">
            <a:noFill/>
          </a:ln>
        </p:spPr>
      </p:pic>
      <p:sp>
        <p:nvSpPr>
          <p:cNvPr id="275" name="WordArt 5"/>
          <p:cNvSpPr txBox="1"/>
          <p:nvPr/>
        </p:nvSpPr>
        <p:spPr>
          <a:xfrm>
            <a:off x="1332000" y="1557360"/>
            <a:ext cx="640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"/>
              </a:rPr>
              <a:t>Татарстанның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33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"/>
              </a:rPr>
              <a:t>дәүләт символла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33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76" name="Picture 6" descr="image115"/>
          <p:cNvPicPr/>
          <p:nvPr/>
        </p:nvPicPr>
        <p:blipFill>
          <a:blip r:embed="rId2"/>
          <a:stretch/>
        </p:blipFill>
        <p:spPr>
          <a:xfrm>
            <a:off x="4788000" y="6021360"/>
            <a:ext cx="409716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24000" y="836640"/>
            <a:ext cx="82915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onstantia"/>
              </a:rPr>
              <a:t>Татарстан Республикасы флагы</a:t>
            </a: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 Татарстан Республикасының дәүләт символы булып тора. 1991 елның 29 ноябрендә Татарстан Республикасы Югары Советының 1314-ХП карары нигезендә расланды. Татарстан Республикасының Дәүләт флагы яшел, ак һәм кызыл төстәге горизонталь буйлардан торган туры поч­маклы тукымадан гыйбарәт. Ак буй флаг киңлегенең 1/15 өлешен тәшкил итә, ул яшел һәм кызыл төстәге бертигез киңлектәге буйлар арасында урнаша. Яшел буй өстә була.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4e75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Татарстан Республикасы дәүләт флагының төсләре: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яшел - яз һәм яңарыш төсе;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ак - чисталык төсе;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кызыл - җитлеккәнлек, энергия, көч, тормыш төсе.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onstantia"/>
              </a:rPr>
              <a:t>Татарстан Республикасы гербы</a:t>
            </a: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 -Татарстан Республикасы дәүләт символы булып тора. Татарстан Республикасы Югары Советының карары 1992 елның 7 февралендәге 1415-ХП номерлы карары белән расланган.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6920" y="1197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Гербның үзәк образы - канатлы барс - борынгы заманнарда уңдырышлылык тәңресе, балалар яклаучысы. Татарстан Республикасы гербындагы барс -республика гражданнарының һәм аның барча халкының яклаучысы.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Татарстанның истәлекле урыннары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Россиянең истәлекле урыннары: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3059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i="1" lang="ru-RU" sz="800" spc="-1" strike="noStrike">
                <a:solidFill>
                  <a:srgbClr val="fefac9"/>
                </a:solidFill>
                <a:latin typeface="Constantia"/>
              </a:rPr>
              <a:t>Дәреснең максаты һәм бурычлары: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efac9"/>
                </a:solidFill>
                <a:latin typeface="Constantia"/>
              </a:rPr>
              <a:t>Россия Федерациясе һәм Татарстан Республикасы дәүләт символлары турындагы төп белемнәрне ныгыту;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efac9"/>
                </a:solidFill>
                <a:latin typeface="Constantia"/>
              </a:rPr>
              <a:t>дәүләт символикасына хөрмәт, патриотизм һәм үз илеңә, республикаңа һәм шәһәреңә мәхәббәт тәрбияләү;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efac9"/>
                </a:solidFill>
                <a:latin typeface="Constantia"/>
              </a:rPr>
              <a:t>укучылар белән төрле чаралар үткәргәндә дәүләт символикасын куллану ихтыяҗы тудыру;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efac9"/>
                </a:solidFill>
                <a:latin typeface="Constantia"/>
              </a:rPr>
              <a:t>укучыларның коммуникатив белемнәрен һәм күнекмәләрен үстерүгә ярдәм итү (төркемнәрдә эш оештыру, үз фикереңне әйтә һәм яклый белү, башкаларны да тыңлау).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2"/>
          <p:cNvSpPr txBox="1"/>
          <p:nvPr/>
        </p:nvSpPr>
        <p:spPr>
          <a:xfrm>
            <a:off x="8172360" y="18900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55475"/>
                </a:solidFill>
                <a:latin typeface="Arial"/>
              </a:rPr>
              <a:t>Мәскәү- Россиянең  башкала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55475"/>
              </a:solidFill>
              <a:latin typeface="Arial"/>
              <a:ea typeface="Arial"/>
            </a:endParaRPr>
          </a:p>
        </p:txBody>
      </p:sp>
      <p:pic>
        <p:nvPicPr>
          <p:cNvPr id="284" name="Picture 11" descr="Москва"/>
          <p:cNvPicPr/>
          <p:nvPr/>
        </p:nvPicPr>
        <p:blipFill>
          <a:blip r:embed="rId1"/>
          <a:srcRect l="0" t="6712" r="0" b="8032"/>
          <a:stretch/>
        </p:blipFill>
        <p:spPr>
          <a:xfrm>
            <a:off x="8748720" y="1125360"/>
            <a:ext cx="39528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4"/>
          <p:cNvSpPr txBox="1"/>
          <p:nvPr/>
        </p:nvSpPr>
        <p:spPr>
          <a:xfrm>
            <a:off x="8028000" y="333360"/>
            <a:ext cx="41580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444d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ызыл  мәйдан</a:t>
            </a:r>
            <a:endParaRPr b="1" lang="en-US" sz="1800" spc="1" strike="noStrike">
              <a:ln w="19080">
                <a:solidFill>
                  <a:srgbClr val="444d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003640" y="1052280"/>
            <a:ext cx="3959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cf0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Picture 13" descr="Красная площадь 2"/>
          <p:cNvPicPr/>
          <p:nvPr/>
        </p:nvPicPr>
        <p:blipFill>
          <a:blip r:embed="rId1"/>
          <a:stretch/>
        </p:blipFill>
        <p:spPr>
          <a:xfrm>
            <a:off x="8236080" y="1268280"/>
            <a:ext cx="207720" cy="4837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1" descr="kreml"/>
          <p:cNvPicPr/>
          <p:nvPr/>
        </p:nvPicPr>
        <p:blipFill>
          <a:blip r:embed="rId1"/>
          <a:stretch/>
        </p:blipFill>
        <p:spPr>
          <a:xfrm>
            <a:off x="8532720" y="404640"/>
            <a:ext cx="416160" cy="6021720"/>
          </a:xfrm>
          <a:prstGeom prst="rect">
            <a:avLst/>
          </a:prstGeom>
          <a:ln w="0">
            <a:noFill/>
          </a:ln>
        </p:spPr>
      </p:pic>
      <p:sp>
        <p:nvSpPr>
          <p:cNvPr id="289" name="WordArt 13"/>
          <p:cNvSpPr txBox="1"/>
          <p:nvPr/>
        </p:nvSpPr>
        <p:spPr>
          <a:xfrm>
            <a:off x="8317080" y="476280"/>
            <a:ext cx="21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ем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3"/>
          <p:cNvSpPr txBox="1"/>
          <p:nvPr/>
        </p:nvSpPr>
        <p:spPr>
          <a:xfrm>
            <a:off x="8244000" y="189000"/>
            <a:ext cx="685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3a447"/>
                </a:solidFill>
                <a:latin typeface="Arial"/>
              </a:rPr>
              <a:t>Кремлькурант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3a447"/>
              </a:solidFill>
              <a:latin typeface="Arial"/>
              <a:ea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643280" y="2643120"/>
            <a:ext cx="428472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9" descr="Куранты2"/>
          <p:cNvPicPr/>
          <p:nvPr/>
        </p:nvPicPr>
        <p:blipFill>
          <a:blip r:embed="rId1"/>
          <a:stretch/>
        </p:blipFill>
        <p:spPr>
          <a:xfrm>
            <a:off x="7956720" y="1484280"/>
            <a:ext cx="71892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Москва"/>
          <p:cNvPicPr/>
          <p:nvPr/>
        </p:nvPicPr>
        <p:blipFill>
          <a:blip r:embed="rId1"/>
          <a:stretch/>
        </p:blipFill>
        <p:spPr>
          <a:xfrm>
            <a:off x="8604360" y="189000"/>
            <a:ext cx="360360" cy="64800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8172360" y="476280"/>
            <a:ext cx="1285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оссия — священная наша держава,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оссия — любимая наша страна.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Могучая воля, великая слава -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Твоё достоянье на все времена!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8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296" name="Picture 9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0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766320" y="549360"/>
            <a:ext cx="196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Славься, Отечество наше свободное,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Братских народов союз вековой,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Предками данная мудрость народная!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Славься, страна! Мы гордимся тобой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9"/>
          <p:cNvSpPr/>
          <p:nvPr/>
        </p:nvSpPr>
        <p:spPr>
          <a:xfrm>
            <a:off x="900000" y="57340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8133" y="3794"/>
                </a:moveTo>
                <a:lnTo>
                  <a:pt x="22146" y="10800"/>
                </a:lnTo>
                <a:lnTo>
                  <a:pt x="8133" y="17806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23" descr="Картинка 38 из 2283"/>
          <p:cNvPicPr/>
          <p:nvPr/>
        </p:nvPicPr>
        <p:blipFill>
          <a:blip r:embed="rId1"/>
          <a:stretch/>
        </p:blipFill>
        <p:spPr>
          <a:xfrm>
            <a:off x="8820000" y="2349360"/>
            <a:ext cx="324000" cy="431964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302" name="Picture 25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26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1711800" y="692280"/>
            <a:ext cx="1070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От южных морей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до полярного края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Раскинулись наши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леса и поля.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Одна ты на свете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Одна ты такая -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Хранимая Бого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родная земля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18" descr="Картинка 18 из 893"/>
          <p:cNvPicPr/>
          <p:nvPr/>
        </p:nvPicPr>
        <p:blipFill>
          <a:blip r:embed="rId1"/>
          <a:stretch/>
        </p:blipFill>
        <p:spPr>
          <a:xfrm>
            <a:off x="8782200" y="4581360"/>
            <a:ext cx="109440" cy="1873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grpSp>
        <p:nvGrpSpPr>
          <p:cNvPr id="306" name="Group 20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307" name="Picture 21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22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9" name="Picture 24" descr="Родина1"/>
          <p:cNvPicPr/>
          <p:nvPr/>
        </p:nvPicPr>
        <p:blipFill>
          <a:blip r:embed="rId4"/>
          <a:stretch/>
        </p:blipFill>
        <p:spPr>
          <a:xfrm>
            <a:off x="8604360" y="260280"/>
            <a:ext cx="353880" cy="4248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1" descr="0_3738_4839bde6_S"/>
          <p:cNvPicPr/>
          <p:nvPr/>
        </p:nvPicPr>
        <p:blipFill>
          <a:blip r:embed="rId5"/>
          <a:stretch/>
        </p:blipFill>
        <p:spPr>
          <a:xfrm>
            <a:off x="6372360" y="4581360"/>
            <a:ext cx="14436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766320" y="549360"/>
            <a:ext cx="196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Славься, Отечество наше свободное,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Братских народов союз вековой,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Предками данная мудрость народная!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Славься, страна! Мы гордимся тобой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900000" y="57340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8133" y="3794"/>
                </a:moveTo>
                <a:lnTo>
                  <a:pt x="22146" y="10800"/>
                </a:lnTo>
                <a:lnTo>
                  <a:pt x="8133" y="17806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23" descr="Картинка 38 из 2283"/>
          <p:cNvPicPr/>
          <p:nvPr/>
        </p:nvPicPr>
        <p:blipFill>
          <a:blip r:embed="rId1"/>
          <a:stretch/>
        </p:blipFill>
        <p:spPr>
          <a:xfrm>
            <a:off x="9018720" y="2349360"/>
            <a:ext cx="250560" cy="431964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2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315" name="Picture 25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26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3" descr="фон16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6"/>
          <p:cNvSpPr/>
          <p:nvPr/>
        </p:nvSpPr>
        <p:spPr>
          <a:xfrm>
            <a:off x="571680" y="1844640"/>
            <a:ext cx="8358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Широкий простор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для мечты и для жизни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Грядущие нам открывают года.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Нам силу даёт наша верность Отчизне.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Так было, так есть и так будет всегда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16" descr="Солнце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2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321" name="Picture 25" descr="flag_left"/>
            <p:cNvPicPr/>
            <p:nvPr/>
          </p:nvPicPr>
          <p:blipFill>
            <a:blip r:embed="rId3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6" descr="Flag"/>
            <p:cNvPicPr/>
            <p:nvPr/>
          </p:nvPicPr>
          <p:blipFill>
            <a:blip r:embed="rId4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8"/>
          <p:cNvSpPr/>
          <p:nvPr/>
        </p:nvSpPr>
        <p:spPr>
          <a:xfrm>
            <a:off x="3766320" y="549360"/>
            <a:ext cx="196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Славься, Отечество наше свободное,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Братских народов союз вековой,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Предками данная мудрость народная!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Славься, страна! Мы гордимся тобой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9"/>
          <p:cNvSpPr/>
          <p:nvPr/>
        </p:nvSpPr>
        <p:spPr>
          <a:xfrm>
            <a:off x="900000" y="57340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8133" y="3794"/>
                </a:moveTo>
                <a:lnTo>
                  <a:pt x="22146" y="10800"/>
                </a:lnTo>
                <a:lnTo>
                  <a:pt x="8133" y="17806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23" descr="Картинка 38 из 2283"/>
          <p:cNvPicPr/>
          <p:nvPr/>
        </p:nvPicPr>
        <p:blipFill>
          <a:blip r:embed="rId1"/>
          <a:stretch/>
        </p:blipFill>
        <p:spPr>
          <a:xfrm>
            <a:off x="8459640" y="2349360"/>
            <a:ext cx="684360" cy="431964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2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327" name="Picture 25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6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969840" y="5443560"/>
            <a:ext cx="7338960" cy="890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C:\Users\миляуша\Desktop\qevbv_03.jpg"/>
          <p:cNvPicPr/>
          <p:nvPr/>
        </p:nvPicPr>
        <p:blipFill>
          <a:blip r:embed="rId2"/>
          <a:stretch/>
        </p:blipFill>
        <p:spPr>
          <a:xfrm>
            <a:off x="1042920" y="5300640"/>
            <a:ext cx="6488280" cy="43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4237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Рамазан Байтимеров сүзләре,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Филипп Пираев татарчага тәрҗемә иткән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Объект 3" descr=""/>
          <p:cNvPicPr/>
          <p:nvPr/>
        </p:nvPicPr>
        <p:blipFill>
          <a:blip r:embed="rId1"/>
          <a:stretch/>
        </p:blipFill>
        <p:spPr>
          <a:xfrm>
            <a:off x="8388360" y="6021360"/>
            <a:ext cx="461880" cy="430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Объект 3" descr=""/>
          <p:cNvPicPr/>
          <p:nvPr/>
        </p:nvPicPr>
        <p:blipFill>
          <a:blip r:embed="rId1"/>
          <a:stretch/>
        </p:blipFill>
        <p:spPr>
          <a:xfrm>
            <a:off x="3492360" y="6453360"/>
            <a:ext cx="935280" cy="404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730d56"/>
                </a:solidFill>
                <a:latin typeface="Constantia"/>
              </a:rPr>
              <a:t>Владимир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730d56"/>
                </a:solidFill>
                <a:latin typeface="Constantia"/>
              </a:rPr>
              <a:t>Владимирович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730d56"/>
                </a:solidFill>
                <a:latin typeface="Constantia"/>
              </a:rPr>
              <a:t>Путин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4e75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4e75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Users\миляуша\Desktop\i.jpg"/>
          <p:cNvPicPr/>
          <p:nvPr/>
        </p:nvPicPr>
        <p:blipFill>
          <a:blip r:embed="rId2"/>
          <a:stretch/>
        </p:blipFill>
        <p:spPr>
          <a:xfrm>
            <a:off x="436680" y="6308640"/>
            <a:ext cx="78073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Миңнеханов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Рөстәм Нургали улы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08000" y="549000"/>
            <a:ext cx="8578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Россиянең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дәүләт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символлары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Users\миляуша\Desktop\герб.jpg"/>
          <p:cNvPicPr/>
          <p:nvPr/>
        </p:nvPicPr>
        <p:blipFill>
          <a:blip r:embed="rId1"/>
          <a:stretch/>
        </p:blipFill>
        <p:spPr>
          <a:xfrm>
            <a:off x="539640" y="5805360"/>
            <a:ext cx="8209080" cy="64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68360" y="907560"/>
            <a:ext cx="822960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onstantia"/>
              </a:rPr>
              <a:t>Россия Федерациясенең дәүләт гербында</a:t>
            </a: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 ике башлы алтын бөркет; бөркет башларында - Бөек Петрның тарихи 3 коронасы (баш өстендә - ике кечкенә, уртада зур үлчәмле), бөркетнең аягында - скипетр һәм держава, бөркетнең күкрәгендә -сөңге кадап еланны җәрәхәтләгән атка атланган кеше).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38:16Z</dcterms:created>
  <dc:creator>Алкина </dc:creator>
  <dc:description/>
  <dc:language>en-US</dc:language>
  <cp:lastModifiedBy>миляуша</cp:lastModifiedBy>
  <dcterms:modified xsi:type="dcterms:W3CDTF">2013-04-25T05:06:22Z</dcterms:modified>
  <cp:revision>56</cp:revision>
  <dc:subject/>
  <dc:title>Слайд 1</dc:title>
</cp:coreProperties>
</file>