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52D0-BD61-49F4-A279-5F5C01FD74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190-FF4C-4AD3-AF7F-44A1180F37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ABA-A06A-4CB1-AEED-FE061C03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AD1-1C45-4324-926C-694E9466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5AA-B7F9-4118-BFD3-E8D8F6F8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946-92B2-4745-BD14-1F4ACD11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3E0D-DCA0-4E3F-8DC2-CE854984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B3065-8F2E-49A7-969A-87AD8E38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24C2A-4452-4DEE-AA5B-A5E14BD6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3A77B-67CA-4FA0-9B2B-DA0EEA2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4C7DA-79A7-4BF4-A913-9977618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C453C-D0DF-45A7-A34E-D14969BC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D9782-4F76-408A-90B2-52254EDF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5A5-50E6-4922-BBEE-603474AE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668E2-EEDA-4B22-A1A6-19C56EB3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AC159-26C1-4644-8CC4-72DA544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D97B4-17A6-4755-AAF2-2484F0F2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773DF-2BC9-4E95-B286-E4BC08E9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92B82-3527-48CD-9F86-CCCD16DA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56979-8500-4C12-84D0-8FB5359F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A95C-F555-436E-A78C-AF6CA29C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8DA8-DC9E-47F7-B7D9-EA4212F6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2C1F9-7C63-46E3-A926-973EF890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F1C3-6068-4D54-B5B5-3DAFF177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5D8-DA52-4D15-B641-2817B29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9132-19EB-4990-89D1-A20813C8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1E39-9C21-4CFF-9A80-00853842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B782-92E3-4EC1-91DA-C5BD8590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5AB9-B397-4AFF-8921-B7654980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8B04-FAB4-4DF4-9D49-FD7CE82B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F9C4-4B38-4111-8317-1DBB2945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FE9E3-6144-4D51-BF2D-F646A44F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9B7FE3-699F-445C-9B0E-A134E591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E1EBA-C514-47FD-8DAB-A0C36A2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965C14-BAB0-4F3E-BD16-1C8CA1DF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939-395D-495D-AA1D-624E77A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53F12-7DC7-4FE1-BC10-366A747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8216DF-989D-45C5-B967-096B42E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4264BD-50CC-4CD6-9EAF-556C3D6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FA01B2-856B-4D53-99B7-AA59279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C2A71-B247-4CB1-B088-4E92CC3A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C6172A-DC93-4135-81B8-1D22076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4F233-9455-4BFA-A67D-92BEE52A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F1699-6DD6-4BB6-B1F5-58D9EFB1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F4F60-EA1C-4BBB-B396-1499781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3BE84-A7D6-4C91-932E-E1786797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E89-3F04-4B20-8583-222A4FB3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879A-F18C-43B3-85A7-8A82072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E1163-4BE8-41DF-8812-FAB24189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F344-3069-4F5F-AB17-54488004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A4F36-B733-4CD2-92FA-77A492F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7302E-A6DE-428D-8E99-1DB5A1F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455BF-7517-4A9C-B67E-D172451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7AEDD-EE6A-44DC-9C4E-9C228799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5688A-5CFD-431D-9F36-3DE6CBF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98BDB-3A4E-463E-A55C-FD34A508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F3500-0D8B-4D25-B68A-8931FA36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4DE-A16D-437D-A6B6-EAB48421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AD619-E8B9-4FAC-A38D-CFB7636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ECB64-809D-43DE-AFD6-2E841796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3DED9-1F97-49D7-8A6C-8CB0D750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088D4-31F4-4251-9FE7-64295D78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0379-DBCF-4B91-B187-AA7B81BA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8596-1CD5-4DE8-9B81-1F911CA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CE296-73E9-4159-8BA6-DA52C9E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F29E-07C4-4701-AFDA-B64FB2C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E4AFB-7721-442C-B3E8-FF5D7D7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2FAA4-C766-4982-81DD-BF01D04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A48-3600-4399-B96E-BD7B5BF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957C6-9D91-4C25-839F-07F30DD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B41C-0142-4516-9129-06BACF6B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CF37C-0344-466F-9B02-03439D0A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A7E-AF60-4227-85AC-670A416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E6B-3A89-4ABD-9B0B-9C88BA3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0893-5391-4943-8FF4-8A267632F74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49F9-87FE-4131-A6B2-C03DA01B36E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D143-1303-4383-9C2A-3A06EB9DE90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9557-8962-4C44-9757-3B3769AFC8A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C609-F39E-43CD-AE82-B76B83B5981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102E-FDED-46CB-B847-8DD155C3D47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16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1" descr="Картинка 55 из 44257"/>
          <p:cNvPicPr/>
          <p:nvPr/>
        </p:nvPicPr>
        <p:blipFill>
          <a:blip r:embed="rId1"/>
          <a:stretch/>
        </p:blipFill>
        <p:spPr>
          <a:xfrm>
            <a:off x="318960" y="4994280"/>
            <a:ext cx="324000" cy="1844640"/>
          </a:xfrm>
          <a:prstGeom prst="rect">
            <a:avLst/>
          </a:prstGeom>
          <a:ln w="0">
            <a:noFill/>
          </a:ln>
        </p:spPr>
      </p:pic>
      <p:sp>
        <p:nvSpPr>
          <p:cNvPr id="260" name="WordArt 4"/>
          <p:cNvSpPr txBox="1"/>
          <p:nvPr/>
        </p:nvSpPr>
        <p:spPr>
          <a:xfrm>
            <a:off x="8317080" y="5732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Россиянең һәм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Татарстанның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дәүләт символлары буенч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 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ahoma"/>
              </a:rPr>
              <a:t>парламент  дәрес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ahoma"/>
              <a:ea typeface="Tahom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\Users\миляуша\Desktop\флаг.jpg"/>
          <p:cNvPicPr/>
          <p:nvPr/>
        </p:nvPicPr>
        <p:blipFill>
          <a:blip r:embed="rId1"/>
          <a:stretch/>
        </p:blipFill>
        <p:spPr>
          <a:xfrm>
            <a:off x="444600" y="6381720"/>
            <a:ext cx="8375400" cy="216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Россия Федерациясенең дәүләт флагы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- аның рәсми дәүләт символы (герб һәм гимн белән). Тигез горизонталь буйлардан тора: (өстә - ак, уртада - зәңгәр, аста кызыл төс) турыпочмак формасындагы тукымага ясала.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Россия Федерациясенең гимнын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С.В. Михалков сүзләренә композитор А.В. Александров язган. "Россия Федерациясе дәүләт гимны турында"гы Закон 2000 елның 8 нче декабрендә федераль закон белән кабул ителә (Федерация Советы тарафыннан 2000 елның 20 нче декабрендә)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image118"/>
          <p:cNvPicPr/>
          <p:nvPr/>
        </p:nvPicPr>
        <p:blipFill>
          <a:blip r:embed="rId1"/>
          <a:stretch/>
        </p:blipFill>
        <p:spPr>
          <a:xfrm>
            <a:off x="179280" y="4869000"/>
            <a:ext cx="4249800" cy="274680"/>
          </a:xfrm>
          <a:prstGeom prst="rect">
            <a:avLst/>
          </a:prstGeom>
          <a:ln w="0">
            <a:noFill/>
          </a:ln>
        </p:spPr>
      </p:pic>
      <p:sp>
        <p:nvSpPr>
          <p:cNvPr id="275" name="WordArt 5"/>
          <p:cNvSpPr txBox="1"/>
          <p:nvPr/>
        </p:nvSpPr>
        <p:spPr>
          <a:xfrm>
            <a:off x="1332000" y="1557360"/>
            <a:ext cx="6408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"/>
              </a:rPr>
              <a:t>Татарстанның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33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Arial"/>
              </a:rPr>
              <a:t>дәүләт символла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33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76" name="Picture 6" descr="image115"/>
          <p:cNvPicPr/>
          <p:nvPr/>
        </p:nvPicPr>
        <p:blipFill>
          <a:blip r:embed="rId2"/>
          <a:stretch/>
        </p:blipFill>
        <p:spPr>
          <a:xfrm>
            <a:off x="4788000" y="6021360"/>
            <a:ext cx="409716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4000" y="836640"/>
            <a:ext cx="82915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Татарстан Республикасы флагы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Татарстан Республикасының дәүләт символы булып тора. 1991 елның 29 ноябрендә Татарстан Республикасы Югары Советының 1314-ХП карары нигезендә расланды. Татарстан Республикасының Дәүләт флагы яшел, ак һәм кызыл төстәге горизонталь буйлардан торган туры поч­маклы тукымадан гыйбарәт. Ак буй флаг киңлегенең 1/15 өлешен тәшкил итә, ул яшел һәм кызыл төстәге бертигез киңлектәге буйлар арасында урнаша. Яшел буй өстә була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4e75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Татарстан Республикасы дәүләт флагының төсләре: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яшел - яз һәм яңарыш төсе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ак - чисталык төсе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кызыл - җитлеккәнлек, энергия, көч, тормыш төсе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Татарстан Республикасы гербы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-Татарстан Республикасы дәүләт символы булып тора. Татарстан Республикасы Югары Советының карары 1992 елның 7 февралендәге 1415-ХП номерлы карары белән расланган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26920" y="1197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Гербның үзәк образы - канатлы барс - борынгы заманнарда уңдырышлылык тәңресе, балалар яклаучысы. Татарстан Республикасы гербындагы барс -республика гражданнарының һәм аның барча халкының яклаучысы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Татарстанның истәлекле урыннары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Россиянең истәлекле урыннары: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476280"/>
            <a:ext cx="83059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t-RU" sz="2400" spc="-1" strike="noStrike">
                <a:solidFill>
                  <a:srgbClr val="fefac9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Дәреснең максаты һәм бурычлары: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Россия Федерациясе һәм Татарстан Республикасы дәүләт символлары турындагы төп белемнәрне ныгыту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дәүләт символикасына хөрмәт, патриотизм һәм үз илеңә, республикаңа һәм шәһәреңә мәхәббәт тәрбияләү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укучылар белән төрле чаралар үткәргәндә дәүләт символикасын куллану ихтыяҗы тудыру;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efac9"/>
                </a:solidFill>
                <a:latin typeface="Constantia"/>
              </a:rPr>
              <a:t>укучыларның коммуникатив белемнәрен һәм күнекмәләрен үстерүгә ярдәм итү (төркемнәрдә эш оештыру, үз фикереңне әйтә һәм яклый белү, башкаларны да тыңлау).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2"/>
          <p:cNvSpPr txBox="1"/>
          <p:nvPr/>
        </p:nvSpPr>
        <p:spPr>
          <a:xfrm>
            <a:off x="8172360" y="18900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55475"/>
                </a:solidFill>
                <a:latin typeface="Arial"/>
              </a:rPr>
              <a:t>Мәскәү- Россиянең  башкала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55475"/>
              </a:solidFill>
              <a:latin typeface="Arial"/>
              <a:ea typeface="Arial"/>
            </a:endParaRPr>
          </a:p>
        </p:txBody>
      </p:sp>
      <p:pic>
        <p:nvPicPr>
          <p:cNvPr id="284" name="Picture 11" descr="Москва"/>
          <p:cNvPicPr/>
          <p:nvPr/>
        </p:nvPicPr>
        <p:blipFill>
          <a:blip r:embed="rId1"/>
          <a:srcRect l="0" t="6712" r="0" b="8032"/>
          <a:stretch/>
        </p:blipFill>
        <p:spPr>
          <a:xfrm>
            <a:off x="8748720" y="1125360"/>
            <a:ext cx="39528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>
            <a:off x="8028000" y="333360"/>
            <a:ext cx="4158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444d26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ызыл  мәйдан</a:t>
            </a:r>
            <a:endParaRPr b="1" lang="en-US" sz="1800" spc="1" strike="noStrike">
              <a:ln w="19080">
                <a:solidFill>
                  <a:srgbClr val="444d26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003640" y="1052280"/>
            <a:ext cx="39592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cf0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7" name="Picture 13" descr="Красная площадь 2"/>
          <p:cNvPicPr/>
          <p:nvPr/>
        </p:nvPicPr>
        <p:blipFill>
          <a:blip r:embed="rId1"/>
          <a:stretch/>
        </p:blipFill>
        <p:spPr>
          <a:xfrm>
            <a:off x="8236080" y="1268280"/>
            <a:ext cx="207720" cy="4837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1" descr="kreml"/>
          <p:cNvPicPr/>
          <p:nvPr/>
        </p:nvPicPr>
        <p:blipFill>
          <a:blip r:embed="rId1"/>
          <a:stretch/>
        </p:blipFill>
        <p:spPr>
          <a:xfrm>
            <a:off x="8532720" y="404640"/>
            <a:ext cx="416160" cy="6021720"/>
          </a:xfrm>
          <a:prstGeom prst="rect">
            <a:avLst/>
          </a:prstGeom>
          <a:ln w="0">
            <a:noFill/>
          </a:ln>
        </p:spPr>
      </p:pic>
      <p:sp>
        <p:nvSpPr>
          <p:cNvPr id="289" name="WordArt 13"/>
          <p:cNvSpPr txBox="1"/>
          <p:nvPr/>
        </p:nvSpPr>
        <p:spPr>
          <a:xfrm>
            <a:off x="8317080" y="476280"/>
            <a:ext cx="21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ем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3"/>
          <p:cNvSpPr txBox="1"/>
          <p:nvPr/>
        </p:nvSpPr>
        <p:spPr>
          <a:xfrm>
            <a:off x="8244000" y="189000"/>
            <a:ext cx="6858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3a447"/>
                </a:solidFill>
                <a:latin typeface="Arial"/>
              </a:rPr>
              <a:t>Кремлькуранты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3a447"/>
              </a:solidFill>
              <a:latin typeface="Arial"/>
              <a:ea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643280" y="2643120"/>
            <a:ext cx="428472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9" descr="Куранты2"/>
          <p:cNvPicPr/>
          <p:nvPr/>
        </p:nvPicPr>
        <p:blipFill>
          <a:blip r:embed="rId1"/>
          <a:stretch/>
        </p:blipFill>
        <p:spPr>
          <a:xfrm>
            <a:off x="7956720" y="1484280"/>
            <a:ext cx="71892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Москва"/>
          <p:cNvPicPr/>
          <p:nvPr/>
        </p:nvPicPr>
        <p:blipFill>
          <a:blip r:embed="rId1"/>
          <a:stretch/>
        </p:blipFill>
        <p:spPr>
          <a:xfrm>
            <a:off x="8604360" y="189000"/>
            <a:ext cx="360360" cy="64800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8172360" y="476280"/>
            <a:ext cx="12852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оссия — священная наша держава,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оссия — любимая наша страна.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Могучая воля, великая слава -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Твоё достоянье на все времена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8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296" name="Picture 9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0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766320" y="549360"/>
            <a:ext cx="196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9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3" descr="Картинка 38 из 2283"/>
          <p:cNvPicPr/>
          <p:nvPr/>
        </p:nvPicPr>
        <p:blipFill>
          <a:blip r:embed="rId1"/>
          <a:stretch/>
        </p:blipFill>
        <p:spPr>
          <a:xfrm>
            <a:off x="8820000" y="2349360"/>
            <a:ext cx="324000" cy="43196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02" name="Picture 2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1711800" y="692280"/>
            <a:ext cx="10706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От южных морей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до полярного края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Раскинулись наши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леса и поля.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Одна ты на свете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Одна ты такая -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Хранимая Богом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родная земля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8" descr="Картинка 18 из 893"/>
          <p:cNvPicPr/>
          <p:nvPr/>
        </p:nvPicPr>
        <p:blipFill>
          <a:blip r:embed="rId1"/>
          <a:stretch/>
        </p:blipFill>
        <p:spPr>
          <a:xfrm>
            <a:off x="8782200" y="4581360"/>
            <a:ext cx="109440" cy="1873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306" name="Group 20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07" name="Picture 21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22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9" name="Picture 24" descr="Родина1"/>
          <p:cNvPicPr/>
          <p:nvPr/>
        </p:nvPicPr>
        <p:blipFill>
          <a:blip r:embed="rId4"/>
          <a:stretch/>
        </p:blipFill>
        <p:spPr>
          <a:xfrm>
            <a:off x="8604360" y="260280"/>
            <a:ext cx="353880" cy="4248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1" descr="0_3738_4839bde6_S"/>
          <p:cNvPicPr/>
          <p:nvPr/>
        </p:nvPicPr>
        <p:blipFill>
          <a:blip r:embed="rId5"/>
          <a:stretch/>
        </p:blipFill>
        <p:spPr>
          <a:xfrm>
            <a:off x="6372360" y="4581360"/>
            <a:ext cx="144360" cy="1816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766320" y="549360"/>
            <a:ext cx="196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3" descr="Картинка 38 из 2283"/>
          <p:cNvPicPr/>
          <p:nvPr/>
        </p:nvPicPr>
        <p:blipFill>
          <a:blip r:embed="rId1"/>
          <a:stretch/>
        </p:blipFill>
        <p:spPr>
          <a:xfrm>
            <a:off x="9018720" y="2349360"/>
            <a:ext cx="250560" cy="431964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15" name="Picture 2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2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3" descr="фон16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571680" y="1844640"/>
            <a:ext cx="8358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Широкий простор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для мечты и для жизни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Грядущие нам открывают года.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Нам силу даёт наша верность Отчизне.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Так было, так есть и так будет всегда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16" descr="Солнце"/>
          <p:cNvPicPr/>
          <p:nvPr/>
        </p:nvPicPr>
        <p:blipFill>
          <a:blip r:embed="rId2"/>
          <a:stretch/>
        </p:blipFill>
        <p:spPr>
          <a:xfrm>
            <a:off x="8280360" y="0"/>
            <a:ext cx="863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21" name="Picture 25" descr="flag_left"/>
            <p:cNvPicPr/>
            <p:nvPr/>
          </p:nvPicPr>
          <p:blipFill>
            <a:blip r:embed="rId3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6" descr="Flag"/>
            <p:cNvPicPr/>
            <p:nvPr/>
          </p:nvPicPr>
          <p:blipFill>
            <a:blip r:embed="rId4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8"/>
          <p:cNvSpPr/>
          <p:nvPr/>
        </p:nvSpPr>
        <p:spPr>
          <a:xfrm>
            <a:off x="3766320" y="549360"/>
            <a:ext cx="196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Отечество наше свободное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Братских народов союз вековой,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Предками данная мудрость народная!</a:t>
            </a:r>
            <a:br>
              <a:rPr sz="800"/>
            </a:br>
            <a:r>
              <a:rPr b="1" lang="ru-RU" sz="800" spc="-1" strike="noStrike">
                <a:solidFill>
                  <a:srgbClr val="000066"/>
                </a:solidFill>
                <a:latin typeface="Times New Roman"/>
              </a:rPr>
              <a:t>Славься, страна! Мы гордимся тобой!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9"/>
          <p:cNvSpPr/>
          <p:nvPr/>
        </p:nvSpPr>
        <p:spPr>
          <a:xfrm>
            <a:off x="900000" y="573408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23" descr="Картинка 38 из 2283"/>
          <p:cNvPicPr/>
          <p:nvPr/>
        </p:nvPicPr>
        <p:blipFill>
          <a:blip r:embed="rId1"/>
          <a:stretch/>
        </p:blipFill>
        <p:spPr>
          <a:xfrm>
            <a:off x="8459640" y="2349360"/>
            <a:ext cx="684360" cy="431964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24"/>
          <p:cNvGrpSpPr/>
          <p:nvPr/>
        </p:nvGrpSpPr>
        <p:grpSpPr>
          <a:xfrm>
            <a:off x="0" y="0"/>
            <a:ext cx="1152000" cy="620640"/>
            <a:chOff x="0" y="0"/>
            <a:chExt cx="1152000" cy="620640"/>
          </a:xfrm>
        </p:grpSpPr>
        <p:pic>
          <p:nvPicPr>
            <p:cNvPr id="327" name="Picture 25" descr="flag_left"/>
            <p:cNvPicPr/>
            <p:nvPr/>
          </p:nvPicPr>
          <p:blipFill>
            <a:blip r:embed="rId2"/>
            <a:srcRect l="0" t="0" r="53825" b="0"/>
            <a:stretch/>
          </p:blipFill>
          <p:spPr>
            <a:xfrm>
              <a:off x="0" y="0"/>
              <a:ext cx="5536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6" descr="Flag"/>
            <p:cNvPicPr/>
            <p:nvPr/>
          </p:nvPicPr>
          <p:blipFill>
            <a:blip r:embed="rId3"/>
            <a:stretch/>
          </p:blipFill>
          <p:spPr>
            <a:xfrm>
              <a:off x="576000" y="144360"/>
              <a:ext cx="576000" cy="36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969840" y="5443560"/>
            <a:ext cx="7338960" cy="890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C:\Users\миляуша\Desktop\qevbv_03.jpg"/>
          <p:cNvPicPr/>
          <p:nvPr/>
        </p:nvPicPr>
        <p:blipFill>
          <a:blip r:embed="rId2"/>
          <a:stretch/>
        </p:blipFill>
        <p:spPr>
          <a:xfrm>
            <a:off x="1042920" y="5300640"/>
            <a:ext cx="648828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4237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Рамазан Байтимеров сүзләре,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Филипп Пираев татарчага тәрҗемә иткән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Объект 3" descr=""/>
          <p:cNvPicPr/>
          <p:nvPr/>
        </p:nvPicPr>
        <p:blipFill>
          <a:blip r:embed="rId1"/>
          <a:stretch/>
        </p:blipFill>
        <p:spPr>
          <a:xfrm>
            <a:off x="8388360" y="6021360"/>
            <a:ext cx="461880" cy="430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Объект 3" descr=""/>
          <p:cNvPicPr/>
          <p:nvPr/>
        </p:nvPicPr>
        <p:blipFill>
          <a:blip r:embed="rId1"/>
          <a:stretch/>
        </p:blipFill>
        <p:spPr>
          <a:xfrm>
            <a:off x="3492360" y="6453360"/>
            <a:ext cx="93528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730d56"/>
                </a:solidFill>
                <a:latin typeface="Constantia"/>
              </a:rPr>
              <a:t>Владимир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730d56"/>
                </a:solidFill>
                <a:latin typeface="Constantia"/>
              </a:rPr>
              <a:t>Владимирович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730d56"/>
                </a:solidFill>
                <a:latin typeface="Constantia"/>
              </a:rPr>
              <a:t>Путин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4e75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4e75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C:\Users\миляуша\Desktop\i.jpg"/>
          <p:cNvPicPr/>
          <p:nvPr/>
        </p:nvPicPr>
        <p:blipFill>
          <a:blip r:embed="rId2"/>
          <a:stretch/>
        </p:blipFill>
        <p:spPr>
          <a:xfrm>
            <a:off x="436680" y="6308640"/>
            <a:ext cx="78073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Миңнеханов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Рөстәм Нургали улы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08000" y="549000"/>
            <a:ext cx="8578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Россиянең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дәүләт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800" spc="-1" strike="noStrike">
                <a:solidFill>
                  <a:srgbClr val="ffffff"/>
                </a:solidFill>
                <a:latin typeface="Constantia"/>
              </a:rPr>
              <a:t>символлары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Users\миляуша\Desktop\герб.jpg"/>
          <p:cNvPicPr/>
          <p:nvPr/>
        </p:nvPicPr>
        <p:blipFill>
          <a:blip r:embed="rId1"/>
          <a:stretch/>
        </p:blipFill>
        <p:spPr>
          <a:xfrm>
            <a:off x="539640" y="5805360"/>
            <a:ext cx="8209080" cy="64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68360" y="907560"/>
            <a:ext cx="822960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onstantia"/>
              </a:rPr>
              <a:t>Россия Федерациясенең дәүләт гербында</a:t>
            </a:r>
            <a:r>
              <a:rPr b="0" lang="ru-RU" sz="800" spc="-1" strike="noStrike">
                <a:solidFill>
                  <a:srgbClr val="ffffff"/>
                </a:solidFill>
                <a:latin typeface="Constantia"/>
              </a:rPr>
              <a:t> ике башлы алтын бөркет; бөркет башларында - Бөек Петрның тарихи 3 коронасы (баш өстендә - ике кечкенә, уртада зур үлчәмле), бөркетнең аягында - скипетр һәм держава, бөркетнең күкрәгендә -сөңге кадап еланны җәрәхәтләгән атка атланган кеше).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38:16Z</dcterms:created>
  <dc:creator>Алкина </dc:creator>
  <dc:description/>
  <dc:language>en-US</dc:language>
  <cp:lastModifiedBy>миляуша</cp:lastModifiedBy>
  <dcterms:modified xsi:type="dcterms:W3CDTF">2013-04-25T05:06:22Z</dcterms:modified>
  <cp:revision>56</cp:revision>
  <dc:subject/>
  <dc:title>Слайд 1</dc:title>
</cp:coreProperties>
</file>