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A5B-393A-41D4-8F7D-88DF87BB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4DF-FF2A-4C77-9159-239A214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C6F-5953-49CC-9DAB-D33D5233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2FA-CBCE-450D-870A-12A05B0D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8004-F1EA-418A-9C3D-DB1078C0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D42F-172D-4258-8471-E78AB77F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13A0-A9A6-4702-B514-33FE4C9D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FC93-D1DC-4824-80E0-AD437DD8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8C97-DC34-4ADA-B955-8BD39076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6F09-D8EB-4145-9078-95E7C549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80EC-8DA4-4BE0-B6E6-00A29DE1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F05-71BD-4889-AAB8-62A37B43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D66-5455-4FF7-8331-E44B4798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DF4A-2695-4937-B0B3-F0466F8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DF1E-5B70-4773-A8A4-86A15761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AB5E-C632-4644-9DC0-F58681F8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0D61-6D4F-44A5-BAAD-606D57D0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2BA-1EE8-4EB2-9977-EF4A17CA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620-2DBF-495E-B983-B3EBE9FA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B69-2EC6-4075-8C70-6579F333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6C2-815C-45A9-B792-7788B567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4EA-52FB-4042-B34A-3AC7DFE9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C50-9706-4F7B-87E4-5301D29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46A-8268-4A29-B3C1-C0DAA8C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119C-13D7-4790-81C7-4DF56B493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EB72-D010-4FAC-861C-A1CEB0BD13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2064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МАЛАЯ МОЯ РОДИН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~PP33526.WAV" descr=""/>
          <p:cNvPicPr/>
          <p:nvPr/>
        </p:nvPicPr>
        <p:blipFill>
          <a:blip r:embed="rId1"/>
          <a:stretch/>
        </p:blipFill>
        <p:spPr>
          <a:xfrm>
            <a:off x="8653320" y="6367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igor_krutoy_-_nezhnost Mp3Shek.Net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2305080" cy="4680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1619280" y="549360"/>
            <a:ext cx="3384360" cy="549756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исунок2"/>
          <p:cNvPicPr/>
          <p:nvPr/>
        </p:nvPicPr>
        <p:blipFill>
          <a:blip r:embed="rId1"/>
          <a:stretch/>
        </p:blipFill>
        <p:spPr>
          <a:xfrm>
            <a:off x="1709640" y="765000"/>
            <a:ext cx="2430720" cy="518508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1944720" cy="460836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124000" y="738360"/>
            <a:ext cx="1656000" cy="56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1657440" cy="48243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Танечка, природа 2011год 011"/>
          <p:cNvPicPr/>
          <p:nvPr/>
        </p:nvPicPr>
        <p:blipFill>
          <a:blip r:embed="rId1"/>
          <a:stretch/>
        </p:blipFill>
        <p:spPr>
          <a:xfrm>
            <a:off x="324000" y="1268280"/>
            <a:ext cx="4464000" cy="525636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6:45:29Z</dcterms:created>
  <dc:creator>Вова</dc:creator>
  <dc:description/>
  <dc:language>en-US</dc:language>
  <cp:lastModifiedBy>МАРИНА</cp:lastModifiedBy>
  <dcterms:modified xsi:type="dcterms:W3CDTF">2013-04-25T17:48:58Z</dcterms:modified>
  <cp:revision>19</cp:revision>
  <dc:subject/>
  <dc:title>ПРИРОДА РОДНОГО    КРАЯ</dc:title>
</cp:coreProperties>
</file>