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E50-F663-42B0-86E8-E7695D1E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B8B-9FCF-4E5C-9251-9458A868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BF3-ADFC-4687-81B4-A45B2FF8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67B-BE81-47DA-89A7-1970C056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26D1-276C-4B73-999C-457A212F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7CE4-6CC8-482F-94BC-D9578785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4D79-2166-498A-9E87-80928198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237E-6EDA-4A76-A89D-069ABBCB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063A-7B25-4F12-A74D-12890BD4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AFD-5ADB-450D-88DC-4811C82A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FDBE-453F-4392-9E7A-1B5D57D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610-BC31-4FC3-A519-AEF4371D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4BC2-45E8-4A83-8EB9-FC8A7240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A4B2-A269-4FAE-8F04-CA637C9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5F60-099C-4B59-9BCC-2702EF01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70E2-A4F6-4986-B2A3-BF146D98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3667-C11C-475C-AB76-1A4F593A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0A3-606D-4A27-BED7-BBA788C5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02F-7FD7-4FAA-BA6C-F8A4D6C7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982B-53E5-4B5B-AE4B-C34188B8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AD2-AAFF-4303-B146-48C4FDE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5F1-1857-43A9-A56B-AE6D6F12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5DE-6107-47EC-BEA5-4361ADDD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0FF8-8764-4B07-BEE0-032BCA2F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CC05-6377-443E-B851-2312DC7BBC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3BD2-0C0C-4092-AE2E-683946E007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206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b7"/>
                </a:solidFill>
                <a:latin typeface="Arial Black"/>
              </a:rPr>
              <a:t>МАЛАЯ МОЯ РОДИНА</a:t>
            </a:r>
            <a:endParaRPr b="1" lang="en-US" sz="9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~PP33526.WAV" descr=""/>
          <p:cNvPicPr/>
          <p:nvPr/>
        </p:nvPicPr>
        <p:blipFill>
          <a:blip r:embed="rId1"/>
          <a:stretch/>
        </p:blipFill>
        <p:spPr>
          <a:xfrm>
            <a:off x="8653320" y="6367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igor_krutoy_-_nezhnost Mp3Shek.Net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advTm="6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2305080" cy="4680000"/>
          </a:xfrm>
          <a:prstGeom prst="rect">
            <a:avLst/>
          </a:prstGeom>
          <a:ln w="0">
            <a:noFill/>
          </a:ln>
        </p:spPr>
      </p:pic>
    </p:spTree>
  </p:cSld>
  <p:transition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Рисунок1"/>
          <p:cNvPicPr/>
          <p:nvPr/>
        </p:nvPicPr>
        <p:blipFill>
          <a:blip r:embed="rId1"/>
          <a:stretch/>
        </p:blipFill>
        <p:spPr>
          <a:xfrm>
            <a:off x="1619280" y="549360"/>
            <a:ext cx="3384360" cy="549756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исунок2"/>
          <p:cNvPicPr/>
          <p:nvPr/>
        </p:nvPicPr>
        <p:blipFill>
          <a:blip r:embed="rId1"/>
          <a:stretch/>
        </p:blipFill>
        <p:spPr>
          <a:xfrm>
            <a:off x="1709640" y="765000"/>
            <a:ext cx="2430720" cy="518508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1944720" cy="460836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124000" y="738360"/>
            <a:ext cx="1656000" cy="56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1657440" cy="4824360"/>
          </a:xfrm>
          <a:prstGeom prst="rect">
            <a:avLst/>
          </a:prstGeom>
          <a:ln w="0">
            <a:noFill/>
          </a:ln>
        </p:spPr>
      </p:pic>
    </p:spTree>
  </p:cSld>
  <p:transition advTm="5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Танечка, природа 2011год 011"/>
          <p:cNvPicPr/>
          <p:nvPr/>
        </p:nvPicPr>
        <p:blipFill>
          <a:blip r:embed="rId1"/>
          <a:stretch/>
        </p:blipFill>
        <p:spPr>
          <a:xfrm>
            <a:off x="324000" y="1268280"/>
            <a:ext cx="4464000" cy="525636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6:45:29Z</dcterms:created>
  <dc:creator>Вова</dc:creator>
  <dc:description/>
  <dc:language>en-US</dc:language>
  <cp:lastModifiedBy>МАРИНА</cp:lastModifiedBy>
  <dcterms:modified xsi:type="dcterms:W3CDTF">2013-04-25T17:48:58Z</dcterms:modified>
  <cp:revision>19</cp:revision>
  <dc:subject/>
  <dc:title>ПРИРОДА РОДНОГО    КРАЯ</dc:title>
</cp:coreProperties>
</file>