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6B3-187F-4BA0-AAC3-AA01CAC5E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A61D-65BD-42A6-B1AC-221475C6D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207-2B68-4494-86C3-654BA78F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134-2C78-4447-B134-9B790D6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D12-0985-48DA-A444-6DBF1327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717-81CA-4D5A-8C61-5D4C8680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1C2-6739-42C7-A27F-74DF432D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B63-DAF2-43B3-BAE8-DAEF2BA8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019-5257-4985-8E6D-4913F5DF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427-C9FA-4BF0-9022-6AD637F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504-0BE1-4C0D-B667-C914CEC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9A1-740A-4140-AF29-D41B365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E2D-C77C-45F0-90C0-BE04B84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FA5-ADEC-490A-BA83-5FBAE4E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6A4-B327-4B55-B1F9-3C87DCE8F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0840" y="216000"/>
            <a:ext cx="75708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3492360" cy="2786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" name="Rectangle 10"/>
          <p:cNvSpPr/>
          <p:nvPr/>
        </p:nvSpPr>
        <p:spPr>
          <a:xfrm>
            <a:off x="365040" y="831960"/>
            <a:ext cx="8315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сихологическое сопровождение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ализации ФГО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2" descr=""/>
          <p:cNvPicPr/>
          <p:nvPr/>
        </p:nvPicPr>
        <p:blipFill>
          <a:blip r:embed="rId1"/>
          <a:stretch/>
        </p:blipFill>
        <p:spPr>
          <a:xfrm>
            <a:off x="463680" y="781200"/>
            <a:ext cx="82166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760" y="274320"/>
            <a:ext cx="7547040" cy="19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педагогов образовательных учреждений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58840" y="2025720"/>
            <a:ext cx="85820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Повышение психологической компетентности учителей (в том числе и в сфере педагогического обще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Диагностика и профилактика профессионального выгорания (тестирование и проведение тренинговых занят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онсультации учителей по результатам диагностики  обучающих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8840" y="1438200"/>
            <a:ext cx="858204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информирование родителей обучающихся относительно психологических особенностей ФГОС и возрастных особенностях обучающихся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выработка рекомендаций родителям по вопросам адаптации ребенка к школ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диагностика стилей семейного воспитания (отношений в семь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консультации по результатам диагностики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1444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обучающими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8840" y="1438200"/>
            <a:ext cx="858204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проведение мониторинговых исследов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направленных на диагностику межпредметных и личност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диагностика личностного развития обучаю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работа с социально дезадаптированными учениками и индивидуальные консультации одаренных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проведение тренингов, направленных на развитие коммуникативных навыков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ниторинг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r84410"/>
          <p:cNvPicPr/>
          <p:nvPr/>
        </p:nvPicPr>
        <p:blipFill>
          <a:blip r:embed="rId1"/>
          <a:stretch/>
        </p:blipFill>
        <p:spPr>
          <a:xfrm>
            <a:off x="6883560" y="3525840"/>
            <a:ext cx="1828800" cy="288144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492120" y="1668600"/>
            <a:ext cx="63421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инципы построения психологической диагно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Этические принци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алид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Разумной достато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Соответствие целям диагностики. Диагностика УУД (личностных и метапредметны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Необходимость программа диагно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fgos_logo"/>
          <p:cNvPicPr/>
          <p:nvPr/>
        </p:nvPicPr>
        <p:blipFill>
          <a:blip r:embed="rId2"/>
          <a:stretch/>
        </p:blipFill>
        <p:spPr>
          <a:xfrm>
            <a:off x="299880" y="324000"/>
            <a:ext cx="8686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ихологическая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fgos_logo"/>
          <p:cNvPicPr/>
          <p:nvPr/>
        </p:nvPicPr>
        <p:blipFill>
          <a:blip r:embed="rId1"/>
          <a:stretch/>
        </p:blipFill>
        <p:spPr>
          <a:xfrm>
            <a:off x="352440" y="343080"/>
            <a:ext cx="868320" cy="1035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49280" y="1755720"/>
            <a:ext cx="6192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андарт предполагает комплексный   подход   к   оценке   результатов   образования   (оценку   предметных, метапредметных и личностных результатов общего образов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6553080" y="2892600"/>
            <a:ext cx="21272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следуемые параметры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нитивное  развитие ( комплекс диагностических методик на изучение особенностей развития памяти,  внимания, мышления, речи, развитие мелкой мотори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социальное развитие ( самооценка, уровень притязаний, особенности эмоциональной сферы, коммуникативное развитие, саморгуляция, самоконтрол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ррекционно - развивающая работа  с обучающимися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е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итянова Р. М. «Адаптация ребенка к школе: Диагностика, коррекция , психологическая поодерж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ивцова С.В. Обучение жизненным навыкам. Уроки псих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ухлаева О.В.Тропинка к своему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уфриев А.Ф., Костромина С.Н. Как преодолеть трудности в обучении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ндивидуальные коррекционные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педагога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8840" y="1017720"/>
          <a:ext cx="8663040" cy="4622760"/>
        </p:xfrm>
        <a:graphic>
          <a:graphicData uri="http://schemas.openxmlformats.org/drawingml/2006/table">
            <a:tbl>
              <a:tblPr/>
              <a:tblGrid>
                <a:gridCol w="5205240"/>
                <a:gridCol w="1886040"/>
                <a:gridCol w="1571760"/>
              </a:tblGrid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809720"/>
                          <a:tab algn="l" pos="2685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Тема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орма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Время прове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Возрастные проблемы первоклассников и возможности комплексной психолого – педагогической помощ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совещание учителей 1-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ктябрь - 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5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истемно – деятельностный подход в обучен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объединение учителей начальны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«Оценка: внутренняя, внешняя, накопительная (портфолио)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«Поэтапное формирование умственных действий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общение результатов диагностик учащихся 1–х и 5-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педагога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379520"/>
          <a:ext cx="8229600" cy="5002200"/>
        </p:xfrm>
        <a:graphic>
          <a:graphicData uri="http://schemas.openxmlformats.org/drawingml/2006/table">
            <a:tbl>
              <a:tblPr/>
              <a:tblGrid>
                <a:gridCol w="3441600"/>
                <a:gridCol w="2967120"/>
                <a:gridCol w="1820880"/>
              </a:tblGrid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Профилактика невроза у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Развитие  познавательного интереса у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объединение учителей начальны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нализ педагогической деятельности учи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общение результатов диагностики УУ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 учителей начальных клас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собенности работы с детьми с проблемами в развит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пр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амооценка детей в младшем школьном возраст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пр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Роль педагога в сохранении психофизического здоровья дет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Профилактика неврозаов у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1200" y="0"/>
            <a:ext cx="683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тандарт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0920" y="1341360"/>
            <a:ext cx="8642160" cy="5327640"/>
          </a:xfrm>
          <a:prstGeom prst="rect">
            <a:avLst/>
          </a:prstGeom>
          <a:solidFill>
            <a:srgbClr val="ffffff"/>
          </a:solidFill>
          <a:ln w="104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fgos_logo"/>
          <p:cNvPicPr/>
          <p:nvPr/>
        </p:nvPicPr>
        <p:blipFill>
          <a:blip r:embed="rId1"/>
          <a:stretch/>
        </p:blipFill>
        <p:spPr>
          <a:xfrm>
            <a:off x="247680" y="228600"/>
            <a:ext cx="8668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2"/>
          <a:stretch/>
        </p:blipFill>
        <p:spPr>
          <a:xfrm>
            <a:off x="326880" y="3800520"/>
            <a:ext cx="4218120" cy="2809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95360" y="152388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начального общего, основного общего, среднего (полного) общего образования образовательными учреждениями, имеющими государственную аккредит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родителя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01880"/>
          <a:ext cx="8151840" cy="4811400"/>
        </p:xfrm>
        <a:graphic>
          <a:graphicData uri="http://schemas.openxmlformats.org/drawingml/2006/table">
            <a:tbl>
              <a:tblPr/>
              <a:tblGrid>
                <a:gridCol w="4459320"/>
                <a:gridCol w="2362320"/>
                <a:gridCol w="1330200"/>
              </a:tblGrid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ведение ФГОС в начально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психологической готовности к обучению в начальной школе. Адап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 дня в жизни школь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 диагностики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- 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ы эффективного взаимодействия родителей и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е  с элементами 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дности в обучении  причины  как их преодол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и группов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лонения в поведении, причины как их преодол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и группов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начального общего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4160" y="1351080"/>
            <a:ext cx="424152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актив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щий основами ум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, способный к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щий свой нар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ющий и приним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щий правила 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опасного для себя и окружа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кАТЯ 2"/>
          <p:cNvPicPr/>
          <p:nvPr/>
        </p:nvPicPr>
        <p:blipFill>
          <a:blip r:embed="rId1"/>
          <a:stretch/>
        </p:blipFill>
        <p:spPr>
          <a:xfrm>
            <a:off x="4516560" y="1212840"/>
            <a:ext cx="3797280" cy="2276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4627440" y="3643200"/>
            <a:ext cx="39546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самостоятельно действовать и отвечать за свои поступки перед семьей и обществ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, умеющий слушать и слышать собеседника, обосновывать  свою позицию, высказывать свое м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816120" y="338040"/>
            <a:ext cx="75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овые федер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осударственные образовательных стандарты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647640" y="140652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Формирование личностных, коммуникативных, регулятивных, познавательных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Формирование  информационной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Сохранение психического и физического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Выполнение учебн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90160" y="688680"/>
            <a:ext cx="83962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цепция развития универсальных учебных действий разработана на основе системно-деятельностного подхода (Л.С. Выготский, А.Н. Леонтьев, П.Я. Гальперин, Д.Б. Эльконин, В.В. Давыдов, А.Г. Асмолов) группой авторов: А.Г. Асмоловым, Г.В. Бурменской, И.А. Володарской, О.А. Карабановой, Н.Г. Салминой и С.В. Молчановым под руководством А.Г. Асм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блемы  связанные с переходом на ФГОС, стоящие перед психологической служ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9640" y="1411200"/>
            <a:ext cx="790092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блема  адаптация обучающихся и педаг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недрение ФГОС связано с перестройкой привычных для учителя способов педагогической деятельности, с преодолением психологического барьера восприятия новых стандартов как чего-то чрезвычайно наукообразного и непонятно как достижи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блема изменения модели психологического сопровожд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434600"/>
            <a:ext cx="8467560" cy="42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Целью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сихологического сопровождения является создание социально – психологических условий для развития личности учащихся и их успеш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620640" y="885960"/>
            <a:ext cx="803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жной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ей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службы психологического сопровождения в системе образования является выявление, устранение и предотвращение дисбаланса между процессами обучения и развития детей в соответствии с их образовательными потребностями и их индивидуальными возмож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стандартов. 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новные направлен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61800" y="1989000"/>
            <a:ext cx="648972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фил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сихологическая 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ррекционно – развивающи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нсультационное направление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1672395"/>
          <p:cNvPicPr/>
          <p:nvPr/>
        </p:nvPicPr>
        <p:blipFill>
          <a:blip r:embed="rId1"/>
          <a:stretch/>
        </p:blipFill>
        <p:spPr>
          <a:xfrm>
            <a:off x="7007400" y="2073240"/>
            <a:ext cx="1890360" cy="287964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10" descr="fgos_logo"/>
          <p:cNvPicPr/>
          <p:nvPr/>
        </p:nvPicPr>
        <p:blipFill>
          <a:blip r:embed="rId2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7:03:35Z</dcterms:created>
  <dc:creator>inf3</dc:creator>
  <dc:description/>
  <dc:language>en-US</dc:language>
  <cp:lastModifiedBy>Ольга</cp:lastModifiedBy>
  <dcterms:modified xsi:type="dcterms:W3CDTF">2012-12-09T10:48:46Z</dcterms:modified>
  <cp:revision>117</cp:revision>
  <dc:subject/>
  <dc:title>Результаты мониторинга личностных результатов учащихся 4-х классов общеобразовательных школ города Ярославля</dc:title>
</cp:coreProperties>
</file>