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3F84-10C2-4F25-8528-09CE46F6BA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CA18-7E15-4EF2-B6C5-C8A7642544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9F9-5814-44F7-AF5D-6EAE9DDF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606-0751-44AB-ABD1-4D68C56E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29E-502B-4B1D-AC13-9FC9DA7E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308-B13A-4AF1-BCAF-CA5A19EF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48C-09E9-4470-B769-0D56363A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361-7E56-4D0A-B505-93C04A8E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932-912F-404D-9FD0-739FD204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BDC-0519-4662-8425-8742ADA2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1F7-B487-413F-BAD8-2EC03BFA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DB4-B6A4-4DAC-9E7B-B120606A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AE0-345C-4D95-9C6A-3C68C648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EE0-97A6-4D6C-B3D4-32B08EBB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D2A5-2B3C-497C-9E63-908566FAD6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50840" y="216000"/>
            <a:ext cx="75708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3492360" cy="2786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50" name="Rectangle 10"/>
          <p:cNvSpPr/>
          <p:nvPr/>
        </p:nvSpPr>
        <p:spPr>
          <a:xfrm>
            <a:off x="365040" y="831960"/>
            <a:ext cx="831528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сихологическое сопровождение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ализации ФГОС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Схема 2" descr=""/>
          <p:cNvPicPr/>
          <p:nvPr/>
        </p:nvPicPr>
        <p:blipFill>
          <a:blip r:embed="rId1"/>
          <a:stretch/>
        </p:blipFill>
        <p:spPr>
          <a:xfrm>
            <a:off x="463680" y="781200"/>
            <a:ext cx="82166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39760" y="274320"/>
            <a:ext cx="7547040" cy="19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правления деятельности психологов по сопровождению педагогов образовательных учреждений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58840" y="2025720"/>
            <a:ext cx="858204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14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Повышение психологической компетентности учителей (в том числе и в сфере педагогического общения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14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Диагностика и профилактика профессионального выгорания (тестирование и проведение тренинговых заняти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514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Консультации учителей по результатам диагностики  обучающихс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1360" y="274320"/>
            <a:ext cx="70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правления деятельности психологов по сопровождению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58840" y="1438200"/>
            <a:ext cx="858204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14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информирование родителей обучающихся относительно психологических особенностей ФГОС и возрастных особенностях обучающихся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14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выработка рекомендаций родителям по вопросам адаптации ребенка к школ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14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диагностика стилей семейного воспитания (отношений в семь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14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9194d"/>
                </a:solidFill>
                <a:latin typeface="Arial"/>
              </a:rPr>
              <a:t>консультации по результатам диагностики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14440" y="274320"/>
            <a:ext cx="70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правления деятельности психологов по сопровождению обучающими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58840" y="1438200"/>
            <a:ext cx="858204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проведение мониторинговых исследова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направленных на диагностику межпредметных и личностных результа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диагностика личностного развития обучаю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работа с социально дезадаптированными учениками и индивидуальные консультации одаренных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19194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проведение тренингов, направленных на развитие коммуникативных навыков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ниторинг личностных результатов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br84410"/>
          <p:cNvPicPr/>
          <p:nvPr/>
        </p:nvPicPr>
        <p:blipFill>
          <a:blip r:embed="rId1"/>
          <a:stretch/>
        </p:blipFill>
        <p:spPr>
          <a:xfrm>
            <a:off x="6883560" y="3525840"/>
            <a:ext cx="1828800" cy="288144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Text Box 4"/>
          <p:cNvSpPr/>
          <p:nvPr/>
        </p:nvSpPr>
        <p:spPr>
          <a:xfrm>
            <a:off x="492120" y="1668600"/>
            <a:ext cx="634212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Принципы построения психологической диагнос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Этические принцип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Валид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Разумной достато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Соответствие целям диагностики. Диагностика УУД (личностных и метапредметны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Необходимость программа диагност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fgos_logo"/>
          <p:cNvPicPr/>
          <p:nvPr/>
        </p:nvPicPr>
        <p:blipFill>
          <a:blip r:embed="rId2"/>
          <a:stretch/>
        </p:blipFill>
        <p:spPr>
          <a:xfrm>
            <a:off x="299880" y="324000"/>
            <a:ext cx="8686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сихологическая диагно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fgos_logo"/>
          <p:cNvPicPr/>
          <p:nvPr/>
        </p:nvPicPr>
        <p:blipFill>
          <a:blip r:embed="rId1"/>
          <a:stretch/>
        </p:blipFill>
        <p:spPr>
          <a:xfrm>
            <a:off x="352440" y="343080"/>
            <a:ext cx="868320" cy="1035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449280" y="1755720"/>
            <a:ext cx="6192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андарт предполагает комплексный   подход   к   оценке   результатов   образования   (оценку   предметных, метапредметных и личностных результатов общего образова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6553080" y="2892600"/>
            <a:ext cx="212724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следуемые параметры психическ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нитивное  развитие ( комплекс диагностических методик на изучение особенностей развития памяти,  внимания, мышления, речи, развитие мелкой моторик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социальное развитие ( самооценка, уровень притязаний, особенности эмоциональной сферы, коммуникативное развитие, саморгуляция, самоконтроль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ррекционно - развивающая работа  с обучающимися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мые пр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Битянова Р. М. «Адаптация ребенка к школе: Диагностика, коррекция , психологическая поодерж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ривцова С.В. Обучение жизненным навыкам. Уроки псих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ухлаева О.В.Тропинка к своему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уфриев А.Ф., Костромина С.Н. Как преодолеть трудности в обучении дет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Индивидуальные коррекционные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Цель, задачи, методы и формы работы с педагогами. Тема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8840" y="1017720"/>
          <a:ext cx="8663040" cy="4622760"/>
        </p:xfrm>
        <a:graphic>
          <a:graphicData uri="http://schemas.openxmlformats.org/drawingml/2006/table">
            <a:tbl>
              <a:tblPr/>
              <a:tblGrid>
                <a:gridCol w="5205240"/>
                <a:gridCol w="1886040"/>
                <a:gridCol w="1571760"/>
              </a:tblGrid>
              <a:tr h="70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ctr" pos="1809720"/>
                          <a:tab algn="l" pos="26859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Тема</a:t>
                      </a: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Форма рабо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Время провед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Возрастные проблемы первоклассников и возможности комплексной психолого – педагогической помощ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етодическое совещание учителей 1-класс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Октябрь - Ноя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5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истемно – деятельностный подход в обучен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етодическое объединение учителей начальных класс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Ноя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«Оценка: внутренняя, внешняя, накопительная (портфолио)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вещ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Октя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«Поэтапное формирование умственных действий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емина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Ноя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0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общение результатов диагностик учащихся 1–х и 5-х класс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вещ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Декабр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Цель, задачи, методы и формы работы с педагогами. Тема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379520"/>
          <a:ext cx="8229600" cy="5002200"/>
        </p:xfrm>
        <a:graphic>
          <a:graphicData uri="http://schemas.openxmlformats.org/drawingml/2006/table">
            <a:tbl>
              <a:tblPr/>
              <a:tblGrid>
                <a:gridCol w="3441600"/>
                <a:gridCol w="2967120"/>
                <a:gridCol w="1820880"/>
              </a:tblGrid>
              <a:tr h="50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Профилактика невроза у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Ле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Развитие  познавательного интереса у 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етодическое объединение учителей начальных класс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ар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4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Анализ педагогической деятельности учител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общение результатов диагностики УУ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учащихс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овещание учителей начальных класс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а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Особенности работы с детьми с проблемами в развит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емина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Апр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амооценка детей в младшем школьном возраст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Семина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Апр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Роль педагога в сохранении психофизического здоровья дет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Ле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Ма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Профилактика неврозаов у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Лек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d0d0d"/>
                          </a:solidFill>
                          <a:latin typeface="Times New Roman"/>
                        </a:rPr>
                        <a:t>Февра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1200" y="0"/>
            <a:ext cx="6832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тандарт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50920" y="1341360"/>
            <a:ext cx="8642160" cy="5327640"/>
          </a:xfrm>
          <a:prstGeom prst="rect">
            <a:avLst/>
          </a:prstGeom>
          <a:solidFill>
            <a:srgbClr val="ffffff"/>
          </a:solidFill>
          <a:ln w="104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fgos_logo"/>
          <p:cNvPicPr/>
          <p:nvPr/>
        </p:nvPicPr>
        <p:blipFill>
          <a:blip r:embed="rId1"/>
          <a:stretch/>
        </p:blipFill>
        <p:spPr>
          <a:xfrm>
            <a:off x="247680" y="228600"/>
            <a:ext cx="866880" cy="1036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2"/>
          <a:stretch/>
        </p:blipFill>
        <p:spPr>
          <a:xfrm>
            <a:off x="326880" y="3800520"/>
            <a:ext cx="4218120" cy="2809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95360" y="152388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Федеральные государственные образовательные стандарты (ФГОС) представляют собой совокупность требований, обязательных при реализации основных образовательных программ начального общего, основного общего, среднего (полного) общего образования образовательными учреждениями, имеющими государственную аккредит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Цель, задачи, методы и формы работы с родителями. Тема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001880"/>
          <a:ext cx="8151840" cy="4811400"/>
        </p:xfrm>
        <a:graphic>
          <a:graphicData uri="http://schemas.openxmlformats.org/drawingml/2006/table">
            <a:tbl>
              <a:tblPr/>
              <a:tblGrid>
                <a:gridCol w="4459320"/>
                <a:gridCol w="2362320"/>
                <a:gridCol w="1330200"/>
              </a:tblGrid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пр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ведение ФГОС в начальной шк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а психологической готовности к обучению в начальной школе. Адап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жим дня в жизни школь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ы диагностики У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ы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 - 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блемы эффективного взаимодействия родителей и де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нятие  с элементами 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9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удности в обучении  причины  как их преодоле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ые и групповы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лонения в поведении, причины как их преодоле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дивидуальные и групповые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69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ечение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начального общего 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4160" y="1351080"/>
            <a:ext cx="424152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ый, актив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интересованно познающий ми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щий основами ум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, способный к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й деятель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щий свой народ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 край и свою Роди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ющий и принима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и семьи и общ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ющий правила здор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езопасного для себя и окружающ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кАТЯ 2"/>
          <p:cNvPicPr/>
          <p:nvPr/>
        </p:nvPicPr>
        <p:blipFill>
          <a:blip r:embed="rId1"/>
          <a:stretch/>
        </p:blipFill>
        <p:spPr>
          <a:xfrm>
            <a:off x="4516560" y="1212840"/>
            <a:ext cx="3797280" cy="2276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4627440" y="3643200"/>
            <a:ext cx="39546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й самостоятельно действовать и отвечать за свои поступки перед семьей и обществ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желательный, умеющий слушать и слышать собеседника, обосновывать  свою позицию, высказывать свое м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816120" y="338040"/>
            <a:ext cx="75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Новые федера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осударственные образовательных стандарты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647640" y="1406520"/>
            <a:ext cx="814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Формирование личностных, коммуникативных, регулятивных, познавательных компет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Формирование  информационной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Системно-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Сохранение психического и физического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919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4d"/>
                </a:solidFill>
                <a:latin typeface="Arial"/>
              </a:rPr>
              <a:t>Выполнение учебного п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90160" y="688680"/>
            <a:ext cx="83962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цепция развития универсальных учебных действий разработана на основе системно-деятельностного подхода (Л.С. Выготский, А.Н. Леонтьев, П.Я. Гальперин, Д.Б. Эльконин, В.В. Давыдов, А.Г. Асмолов) группой авторов: А.Г. Асмоловым, Г.В. Бурменской, И.А. Володарской, О.А. Карабановой, Н.Г. Салминой и С.В. Молчановым под руководством А.Г. Асм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1360" y="274320"/>
            <a:ext cx="70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блемы  связанные с переходом на ФГОС, стоящие перед психологической служ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9640" y="1411200"/>
            <a:ext cx="7900920" cy="41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блема  адаптация обучающихся и педаг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недрение ФГОС связано с перестройкой привычных для учителя способов педагогической деятельности, с преодолением психологического барьера восприятия новых стандартов как чего-то чрезвычайно наукообразного и непонятно как достижим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37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облема изменения модели психологического сопровождения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3640" y="1434600"/>
            <a:ext cx="8467560" cy="420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Целью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сихологического сопровождения является создание социально – психологических условий для развития личности учащихся и их успешн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fgos_logo"/>
          <p:cNvPicPr/>
          <p:nvPr/>
        </p:nvPicPr>
        <p:blipFill>
          <a:blip r:embed="rId1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3"/>
          <p:cNvSpPr/>
          <p:nvPr/>
        </p:nvSpPr>
        <p:spPr>
          <a:xfrm>
            <a:off x="620640" y="885960"/>
            <a:ext cx="803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ажной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дачей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службы психологического сопровождения в системе образования является выявление, устранение и предотвращение дисбаланса между процессами обучения и развития детей в соответствии с их образовательными потребностями и их индивидуальными возмож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360" y="274320"/>
            <a:ext cx="70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стандартов. </a:t>
            </a:r>
            <a:br>
              <a:rPr sz="2600"/>
            </a:b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сновные направлен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61800" y="1989000"/>
            <a:ext cx="648972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92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офил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сихологическая диагно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осв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ррекционно – развивающие на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нсультационное направление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1672395"/>
          <p:cNvPicPr/>
          <p:nvPr/>
        </p:nvPicPr>
        <p:blipFill>
          <a:blip r:embed="rId1"/>
          <a:stretch/>
        </p:blipFill>
        <p:spPr>
          <a:xfrm>
            <a:off x="7007400" y="2073240"/>
            <a:ext cx="1890360" cy="287964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" name="Picture 10" descr="fgos_logo"/>
          <p:cNvPicPr/>
          <p:nvPr/>
        </p:nvPicPr>
        <p:blipFill>
          <a:blip r:embed="rId2"/>
          <a:stretch/>
        </p:blipFill>
        <p:spPr>
          <a:xfrm>
            <a:off x="281160" y="244440"/>
            <a:ext cx="8683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7:03:35Z</dcterms:created>
  <dc:creator>inf3</dc:creator>
  <dc:description/>
  <dc:language>en-US</dc:language>
  <cp:lastModifiedBy>Ольга</cp:lastModifiedBy>
  <dcterms:modified xsi:type="dcterms:W3CDTF">2012-12-09T10:48:46Z</dcterms:modified>
  <cp:revision>117</cp:revision>
  <dc:subject/>
  <dc:title>Результаты мониторинга личностных результатов учащихся 4-х классов общеобразовательных школ города Ярославля</dc:title>
</cp:coreProperties>
</file>