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AD50-ADAA-4527-91EB-E1B68A5B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755-3C22-4005-991E-B334067B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0C56-BA8A-4DA7-BBDA-AE7EFC25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A3D-630C-4603-A6C7-C26B73DF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3B14-C5AE-4713-B45F-832FD7E4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B305-2E6D-4024-9187-EEB180CB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73B-64DD-4528-B96C-1D26E2DC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4399-2B80-4051-BEFA-01AF5FFE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34FB-F589-4808-878F-42C718B8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6F9A-966C-4AAE-86F0-A1037C68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7220-4C18-41EE-9007-9096DD9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C47-C32D-4957-85A2-E68A5557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6A33-4962-4898-9447-DFDA155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E6F6-ED28-4826-A2B3-BB4D077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CBD-1F21-4248-B5A8-9575765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6F65-3E00-4B78-8950-E1EFDFDE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E668-454F-4AB3-A8B3-39DA583F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162-5C0B-4FA2-8073-FFD17C2E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EAB-FE66-4FA9-82B5-AA968FE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54B-638B-48B1-9974-33A2E1F1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0E2-528E-41D3-8ACF-819E2997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CA7-94D3-4EDE-8BF0-2B89A4A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0C6-3B0E-4B5E-8E9B-3E62550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494-0980-4787-8AC2-A041948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01B9-2192-4954-BDF8-5D7C767E11E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0169-2764-4DD7-AE18-4B00FC08305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96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Развитие познавательно-речевой активности детей через ИКТ в процессе непосредственной образовательной деятельности</a:t>
            </a:r>
            <a:br>
              <a:rPr sz="4000"/>
            </a:b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68360" y="4220640"/>
            <a:ext cx="6429600" cy="13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020000" y="4911840"/>
            <a:ext cx="2124000" cy="194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39640" y="2133720"/>
            <a:ext cx="81345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</a:t>
            </a:r>
            <a:endParaRPr b="0" lang="en-US" sz="6600" spc="1" strike="noStrike">
              <a:ln w="12600">
                <a:solidFill>
                  <a:srgbClr val="339966"/>
                </a:solidFill>
                <a:miter/>
              </a:ln>
              <a:solidFill>
                <a:srgbClr val="99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359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Актуальность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 связи с введением ФГТ остро вста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блема применения эффективны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етодов обучения, в том числе 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спользованию информационно-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ммуникативных технолог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ИКТ актуальная проблема дошкольного воспитания. Это технология представления информации в электронном виде, ее обработка и хранение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нформационная-совокупность методов и средств получения, преобразования, хранения и использования информ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ммуникативная-совокупность методов и средств налаживания различного рода коммуника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Цель: повысить эффективность и качество процесса обогащения активного словаря старших дошкольников 5-6 лет с ОНР по теме: «Одежда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Задачи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чь детей к непосредственной образовательной деятельности, вызвать желание работать самостоятельно и в команде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вивать творческие способности и коммуникативные навыки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вивать высшие психические функции, такие как воображение, логическое мышление, внимание, зрительную память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ивлечь родителей в совместную деятельность с детьми и педагога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К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1197000"/>
            <a:ext cx="410544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5076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95640" y="1557360"/>
            <a:ext cx="97164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К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3500280"/>
            <a:ext cx="266364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4292640"/>
            <a:ext cx="2664000" cy="129528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3573360"/>
            <a:ext cx="2627280" cy="1295640"/>
          </a:xfrm>
          <a:prstGeom prst="ellips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55640" y="3860640"/>
            <a:ext cx="160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подгруппова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еятельность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780000" y="4581360"/>
            <a:ext cx="1562040" cy="6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абота 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с родителями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372360" y="3933720"/>
            <a:ext cx="18856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индивидуальная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деятельность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050560" y="2421000"/>
            <a:ext cx="1297080" cy="1079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2492280"/>
            <a:ext cx="0" cy="1800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580000" y="2421000"/>
            <a:ext cx="1224000" cy="115236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Verdana"/>
              </a:rPr>
              <a:t>Содержание работы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Подготовительны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Основно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Verdana"/>
              </a:rPr>
              <a:t>Заключительный этап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9280" y="115920"/>
          <a:ext cx="8785440" cy="6618240"/>
        </p:xfrm>
        <a:graphic>
          <a:graphicData uri="http://schemas.openxmlformats.org/drawingml/2006/table">
            <a:tbl>
              <a:tblPr/>
              <a:tblGrid>
                <a:gridCol w="2376720"/>
                <a:gridCol w="3600360"/>
                <a:gridCol w="2808360"/>
              </a:tblGrid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тапы работы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бота педагогов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бота родителей</a:t>
                      </a: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готовительный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нкетирование родителей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седа с детьми «Что мы знаем об одежде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бор презентаций, интерактивных дидактических игр по данной тем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стие в анкетирова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300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сновно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 слайдов по теме «Одежда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каз различных презентаций «История возникновения одежды», «Профессия-портной» и д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терактивные дидактические игры как с группой детей (с помощью проектора), так и индивидуально (при помощи компьютера):«4 лишний», «Назови ласково», «Одень Машу на прогулку» и др.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дбор изображений по тем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«Одежда»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осмотр некоторых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зентаций дома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вторение и закрепление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ученного материала дома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ерез интерактивные дидакти-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еские игр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3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ключительный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вторное анкетирование родителей;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кторина «Об одежде знаю много…»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частие в анкетирование 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лученные результаты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у детей появился интерес к занятия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ети проявляют самостоятельность и инициативу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атериал запоминается быстрее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богатился активный словарь, дети активно используют изучаемую лексику в речи, используют много прилагательных и глагол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Библиограф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1. Бондаренко А. К. Дидактические игры в детском саду: Кн. для воспитателя дет. сада. М.: Просвещение, 1991. 160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2. Вренева Е. П. Ресурсы информационно-компьютерных технологий в обучении дошкольников с нарушениями речи// «Логопед» №5, 2010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3. Грамолин В.В. Обучающие компьютерные игры//Информатика и образование. 1994.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4. Жукова Н. С., Мастюкова Е. М., Филичёва Т. Е. . Преодоление общего недоразвития речи у дошкольников. – М.; 1990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5.Зуева Л. Н. Думай-говори. Занимательные упражнения по развитию речи дошкольников. – М.; Просвещение, 1996. – 79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6. Инновации в образовании. Выступления участников VII Всероссийской дистанционной августовской научно-практической конференции// Интернет-журнал «Эйдос». 10 сентября 2005 г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7. Королевская Т. К. Компьютерные интерактивные технологии и устная речь как средство коммуникации: достижения и поиски//Дефектология. – 1998.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8. Репина З. А., Лизунова Л. Р. Компьютерные средства обучения: проблемы разработки и внедрения// Вопросы гуманитарных наук. 2004. №5 (14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9. Роберт И.В. Современные информационные технологии в образовании: дидактические проблемы, перспективы использования._М.:Школа-Пресс,1994.-204 с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Интернет ресурс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belyk5.narod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vmiredetstva-liza.blogspot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nsportal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vpereplete.blogspot.ru/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http://1september.ru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5:25:24Z</dcterms:created>
  <dc:creator>Дмитрий</dc:creator>
  <dc:description/>
  <dc:language>en-US</dc:language>
  <cp:lastModifiedBy>Дмитрий</cp:lastModifiedBy>
  <dcterms:modified xsi:type="dcterms:W3CDTF">2013-04-25T16:31:54Z</dcterms:modified>
  <cp:revision>2</cp:revision>
  <dc:subject/>
  <dc:title>Развитие познавательно-речевой активности детей через ИКТ в процессе непосредственной образовательной деятельности </dc:title>
</cp:coreProperties>
</file>