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8DB-5304-4D0E-A26B-A7D6931F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2C8-7272-44F2-AB11-AA3B540D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7B7-E0D0-40DE-A454-4EBB7182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042-50E3-4F71-B39D-98868915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1757-2A11-4DCD-A111-39815DF5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50C6-1B79-4E21-9944-BA89F4C5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7EB0-CBD9-489D-95E7-6FF13474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C0C7-7015-4D3C-95F4-56296AC3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CE2E-DE81-418A-96E8-F07CB9B4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ECCD-C0AE-49F6-AB8E-97CE393F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DEEC-A5F2-4558-9D8A-00173EC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3A0-3D71-4CEE-A3F5-25AC8AFE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93FE-795E-4CA6-82A4-C57A279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7720-930F-41A9-9266-6F02CA8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8849-4828-4577-AA15-558EF032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4ED1-5CAB-4C45-AEE8-2FF539A7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B91-E6AC-475C-98C4-CFB0A1D8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D34-2A22-467C-A2C5-C2C3B40A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835-C394-40F9-98B5-D63EC39E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2A0-730A-4676-9962-528D07B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961-03C2-42DA-B1A9-36637441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F5F-6380-4260-A501-C80D2E4F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F72-AAF8-473C-A387-43837EAD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3D4-5469-4EBA-B4F7-99174EA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8BFE-50AB-406A-B348-50C0FB6E05A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B6A0-693B-4D75-B8D1-940820F3322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96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Развитие познавательно-речевой активности детей через ИКТ в процессе непосредственной образовательной деятельности</a:t>
            </a:r>
            <a:br>
              <a:rPr sz="40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68360" y="4220640"/>
            <a:ext cx="642960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020000" y="4911840"/>
            <a:ext cx="2124000" cy="19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640" y="2133720"/>
            <a:ext cx="81345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6600" spc="1" strike="noStrike">
              <a:ln w="12600">
                <a:solidFill>
                  <a:srgbClr val="339966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359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ктуальнос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 связи с введением ФГТ остро вста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блема применения эффективны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етодов обучения, в том числе 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спользованию информационно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ммуникативных технолог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ИКТ актуальная проблема дошкольного воспитания. Это технология представления информации в электронном виде, ее обработка и хранение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нформационная-совокупность методов и средств получения, преобразования, хранения и использования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ммуникативная-совокупность методов и средств налаживания различного рода коммуникац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Цель: повысить эффективность и качество процесса обогащения активного словаря старших дошкольников 5-6 лет с ОНР по теме: «Одежда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влечь детей к непосредственной образовательной деятельности, вызвать желание работать самостоятельно и в команд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вивать творческие способности и коммуникативные навыки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вивать высшие психические функции, такие как воображение, логическое мышление, внимание, зрительную память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влечь родителей в совместную деятельность с детьми и педагог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К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1197000"/>
            <a:ext cx="4105440" cy="1295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50760" y="279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557360"/>
            <a:ext cx="97164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КТ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3500280"/>
            <a:ext cx="2663640" cy="1295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4292640"/>
            <a:ext cx="2664000" cy="1295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3573360"/>
            <a:ext cx="2627280" cy="1295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3860640"/>
            <a:ext cx="1600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подгруппова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деятельность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780000" y="4581360"/>
            <a:ext cx="156204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работа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 родителям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372360" y="3933720"/>
            <a:ext cx="18856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индивидуальна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деятельность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050560" y="2421000"/>
            <a:ext cx="1297080" cy="1079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492280"/>
            <a:ext cx="0" cy="180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0000" y="2421000"/>
            <a:ext cx="1224000" cy="1152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Verdana"/>
              </a:rPr>
              <a:t>Содержание работы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Подготовительный этап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Основной этап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Заключительный этап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9280" y="115920"/>
          <a:ext cx="8785440" cy="6618240"/>
        </p:xfrm>
        <a:graphic>
          <a:graphicData uri="http://schemas.openxmlformats.org/drawingml/2006/table">
            <a:tbl>
              <a:tblPr/>
              <a:tblGrid>
                <a:gridCol w="2376720"/>
                <a:gridCol w="3600360"/>
                <a:gridCol w="2808360"/>
              </a:tblGrid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тапы работ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бота педагогов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бота родителей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готовительный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кетирование родителей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седа с детьми «Что мы знаем об одежде»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бор презентаций, интерактивных дидактических игр по данной тем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астие в анкетирова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0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каз слайдов по теме «Одежда»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каз различных презентаций «История возникновения одежды», «Профессия-портной» и др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терактивные дидактические игры как с группой детей (с помощью проектора), так и индивидуально (при помощи компьютера):«4 лишний», «Назови ласково», «Одень Машу на прогулку» и др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бор изображений по тем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Одежда»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мотр некоторых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зентаций дома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вторение и закрепле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ученного материала дома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ерез интерактивные дидакти-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еские игр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ключительный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вторное анкетирование родителей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икторина «Об одежде знаю много…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астие в анкетирование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лученные результат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 детей появился интерес к занятия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ети проявляют самостоятельность и инициативу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атериал запоминается быстрее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огатился активный словарь, дети активно используют изучаемую лексику в речи, используют много прилагательных и глагол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Библиограф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1. Бондаренко А. К. Дидактические игры в детском саду: Кн. для воспитателя дет. сада. М.: Просвещение, 1991. 160 с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. Вренева Е. П. Ресурсы информационно-компьютерных технологий в обучении дошкольников с нарушениями речи// «Логопед» №5, 2010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3. Грамолин В.В. Обучающие компьютерные игры//Информатика и образование. 1994.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4. Жукова Н. С., Мастюкова Е. М., Филичёва Т. Е. . Преодоление общего недоразвития речи у дошкольников. – М.; 1990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5.Зуева Л. Н. Думай-говори. Занимательные упражнения по развитию речи дошкольников. – М.; Просвещение, 1996. – 79 с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6. Инновации в образовании. Выступления участников VII Всероссийской дистанционной августовской научно-практической конференции// Интернет-журнал «Эйдос». 10 сентября 2005 г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7. Королевская Т. К. Компьютерные интерактивные технологии и устная речь как средство коммуникации: достижения и поиски//Дефектология. – 1998.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8. Репина З. А., Лизунова Л. Р. Компьютерные средства обучения: проблемы разработки и внедрения// Вопросы гуманитарных наук. 2004. №5 (14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9. Роберт И.В. Современные информационные технологии в образовании: дидактические проблемы, перспективы использования._М.:Школа-Пресс,1994.-204 с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Интернет ресурс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belyk5.narod.ru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vmiredetstva-liza.blogspot.ru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nsportal.ru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vpereplete.blogspot.ru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1september.r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5:25:24Z</dcterms:created>
  <dc:creator>Дмитрий</dc:creator>
  <dc:description/>
  <dc:language>en-US</dc:language>
  <cp:lastModifiedBy>Дмитрий</cp:lastModifiedBy>
  <dcterms:modified xsi:type="dcterms:W3CDTF">2013-04-25T16:31:54Z</dcterms:modified>
  <cp:revision>2</cp:revision>
  <dc:subject/>
  <dc:title>Развитие познавательно-речевой активности детей через ИКТ в процессе непосредственной образовательной деятельности </dc:title>
</cp:coreProperties>
</file>