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5C0-1F2F-4E2F-8DE0-F4B66C8D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933-6395-4DBA-8EF2-758259CF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C40-E1B3-4B00-9910-4FF7FC34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CA2-90E6-4FD7-99B3-CEF051F05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20F-54D8-4D97-AFDE-599DB3D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8D7-C9D6-4572-9BB6-3C39035C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F800-1565-499D-99C8-A15FB229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80D-56EC-4979-AEC5-D6456F46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37D-7DA6-4055-990D-B50825EA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B2E-D45B-4886-AAE3-25E2CF60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530-D6DB-42AA-A1B0-2F38E09A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D43-D630-4F9B-A935-52EB0B6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32DD-EE19-4540-8A1E-E7BF7E00D8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5482.userapi.com/g37750358/a_8624902d.jpg" TargetMode="External"/><Relationship Id="rId2" Type="http://schemas.openxmlformats.org/officeDocument/2006/relationships/hyperlink" Target="http://radikal.ru/F/s60.radikal.ru/i168/1009/16/56d6ff6ec534.png.html" TargetMode="External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6337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амые необычные места в мире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48000" y="3933360"/>
            <a:ext cx="496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Щетинина Елена Германов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БОУ «Кодинская С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ежский рай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547640" y="765000"/>
            <a:ext cx="6912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 можете использов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ое оформ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здания своих презентац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 в своей презентации вы должны указ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ухие долины, Антарктик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мы вроде бы знаем, что Антарктика покрыта льдом, и ничего кроме льда и снега, там нет (конечно, за исключением редких животных и еще более редких растений). Так вот, Земля королевы Виктории включает в себя регион, который представляет собой засушливую и очень холодную пустыню. Правда, есть в этой пустыне и озеро, оно покрыто льдом, и подо              льдом - очень соленая вода, где не живет ничего, кроме простейших организм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Содержимое 6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4859280" y="1484280"/>
            <a:ext cx="3384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Richat, Маврит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т регион привлек к себе внимание ученых, как только искусственные спутники Земли начали фотографировать поверхность нашей планеты. Размер подобного образования составляет 50 километров, а его внешний вид ну очень отличается от окружающих мест. Геологическая структура Richat действительно является уникальной, образование ее вызывает дискуссии в ученом мире, не затихающие до сих п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Содержимое 4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4716360" y="2276640"/>
            <a:ext cx="39592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оторуа, Новая Зеланд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вообще уникальное место, где пахнет тухлыми яйцами (наличие сероводорода) и есть множество грязевых вулканов и гейзеров. Грязи настолько много, что она образовывает грязевые бассейны, которые вы и видите на этой фотографии. Термальная активность здесь идет благодаря кальдере Роторуа, на которой находится целый город с одноименным названием. Кстати, вода здесь очень разных цветов - от желтого и оранжевого до зеленого. Так что множество туристов приезжает, чтобы посмотреть на это чуд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4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1187280" y="1557360"/>
            <a:ext cx="316872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тучий Гейзер, Рен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й местности находится два гейзера, один из которых просыпается время от времени. Другой же, более активный является следствием бурения скважины, попавшей в геотермальный источник. Место является частной собственностью, и посетители сюда не допускают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Содержимое 4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4427640" y="1773360"/>
            <a:ext cx="4248000" cy="31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Kauai, Гавай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Гавайских островах много всего интересного. Этот остров, Kauai, является старейшим из Гавайских островов. Правда, это не самый большой остров, а только четвертый по величине. В любом случае, это очень интересное место с фантастическими лавовыми образованиями, которые делают эту местность похожей на что-то неземно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Содержимое 4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4356000" y="227664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ора Рорайма (Венесуэлла, Бразилия и Гайана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а гора была священной для аборигенов задолго до прибытия европейцев. Многие местные жители чтят это место и сейчас. Оно настолько необычно, что действительно, можно подумать, что это обиталище богов, возвышающееся на 400 метров над остальной местностью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десь есть только одно место, позволяющее взобраться на гору, все остальные подходы недоступны, да и вообще у горы большая часть стен - отвесные. Кстати, у подножия горы почти все время идет дождь, каждый день. Ландшафт просто фантастический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7" descr="Самые необычные места на Земле (6 фото)"/>
          <p:cNvPicPr/>
          <p:nvPr/>
        </p:nvPicPr>
        <p:blipFill>
          <a:blip r:embed="rId1"/>
          <a:stretch/>
        </p:blipFill>
        <p:spPr>
          <a:xfrm>
            <a:off x="1403280" y="1557360"/>
            <a:ext cx="34434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76360" y="1915920"/>
            <a:ext cx="7221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чник: www.xage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5819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окольчик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cs5482.userapi.com/g37750358/a_8624902d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  Отрисовка «Дети за партой»: автор Галин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pusj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Ростовская обла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klip_103_детки-34_ad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32720" y="2781360"/>
            <a:ext cx="1655640" cy="9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Admin</cp:lastModifiedBy>
  <dcterms:modified xsi:type="dcterms:W3CDTF">2013-04-25T15:50:00Z</dcterms:modified>
  <cp:revision>13</cp:revision>
  <dc:subject/>
  <dc:title>Слайд 1</dc:title>
</cp:coreProperties>
</file>