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23E-563C-433C-BB6B-3DA51025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0FA-B4BC-4066-A1BE-CEB5EF91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171-A537-4A87-825F-1C45B948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289-607C-4C36-934A-F8114C00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B469-5A73-473A-BD50-B8B3FFD8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C29-1151-4D78-BF17-55CF314F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F62-D77E-453D-B552-7C54A630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AAA-FDCD-4A65-BDB4-CC36FA6F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3A7-1401-4647-A827-DDAE3609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C25-1867-4798-96F4-BB1484B1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C5D-B7DC-4C81-A63F-F947E3F0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4A5-F103-47F2-84D2-A2A6EA0D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E1B7-C93C-4BB4-9882-37497CE96D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s5482.userapi.com/g37750358/a_8624902d.jpg" TargetMode="External"/><Relationship Id="rId2" Type="http://schemas.openxmlformats.org/officeDocument/2006/relationships/hyperlink" Target="http://radikal.ru/F/s60.radikal.ru/i168/1009/16/56d6ff6ec534.png.html" TargetMode="External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920" y="549000"/>
            <a:ext cx="6337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амые необычные места в мире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348000" y="3933360"/>
            <a:ext cx="496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Щетинина Елена Германо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БОУ «Кодинская СОШ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ежский райо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рхангельская обла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547640" y="765000"/>
            <a:ext cx="69120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 можете использова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ое оформл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оздания своих презентаци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 в своей презентации вы должны указа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точник шаблон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ухие долины, Антарк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мы вроде бы знаем, что Антарктика покрыта льдом, и ничего кроме льда и снега, там нет (конечно, за исключением редких животных и еще более редких растений). Так вот, Земля королевы Виктории включает в себя регион, который представляет собой засушливую и очень холодную пустыню. Правда, есть в этой пустыне и озеро, оно покрыто льдом, и подо              льдом - очень соленая вода, где не живет ничего, кроме простейших организм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Содержимое 6" descr="Самые необычные места на Земле (6 фото)"/>
          <p:cNvPicPr/>
          <p:nvPr/>
        </p:nvPicPr>
        <p:blipFill>
          <a:blip r:embed="rId1"/>
          <a:stretch/>
        </p:blipFill>
        <p:spPr>
          <a:xfrm>
            <a:off x="4859280" y="1484280"/>
            <a:ext cx="3384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Richat, Маврит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т регион привлек к себе внимание ученых, как только искусственные спутники Земли начали фотографировать поверхность нашей планеты. Размер подобного образования составляет 50 километров, а его внешний вид ну очень отличается от окружающих мест. Геологическая структура Richat действительно является уникальной, образование ее вызывает дискуссии в ученом мире, не затихающие до сих пор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Содержимое 4" descr="Самые необычные места на Земле (6 фото)"/>
          <p:cNvPicPr/>
          <p:nvPr/>
        </p:nvPicPr>
        <p:blipFill>
          <a:blip r:embed="rId1"/>
          <a:stretch/>
        </p:blipFill>
        <p:spPr>
          <a:xfrm>
            <a:off x="4716360" y="2276640"/>
            <a:ext cx="395928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оторуа, Новая Зеланд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вообще уникальное место, где пахнет тухлыми яйцами (наличие сероводорода) и есть множество грязевых вулканов и гейзеров. Грязи настолько много, что она образовывает грязевые бассейны, которые вы и видите на этой фотографии. Термальная активность здесь идет благодаря кальдере Роторуа, на которой находится целый город с одноименным названием. Кстати, вода здесь очень разных цветов - от желтого и оранжевого до зеленого. Так что множество туристов приезжает, чтобы посмотреть на это чуд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4" descr="Самые необычные места на Земле (6 фото)"/>
          <p:cNvPicPr/>
          <p:nvPr/>
        </p:nvPicPr>
        <p:blipFill>
          <a:blip r:embed="rId1"/>
          <a:stretch/>
        </p:blipFill>
        <p:spPr>
          <a:xfrm>
            <a:off x="1187280" y="1557360"/>
            <a:ext cx="316872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етучий Гейзер, Рен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й местности находится два гейзера, один из которых просыпается время от времени. Другой же, более активный является следствием бурения скважины, попавшей в геотермальный источник. Место является частной собственностью, и посетители сюда не допускаютс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Содержимое 4" descr="Самые необычные места на Земле (6 фото)"/>
          <p:cNvPicPr/>
          <p:nvPr/>
        </p:nvPicPr>
        <p:blipFill>
          <a:blip r:embed="rId1"/>
          <a:stretch/>
        </p:blipFill>
        <p:spPr>
          <a:xfrm>
            <a:off x="4427640" y="1773360"/>
            <a:ext cx="4248000" cy="31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Kauai, Гавай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Гавайских островах много всего интересного. Этот остров, Kauai, является старейшим из Гавайских островов. Правда, это не самый большой остров, а только четвертый по величине. В любом случае, это очень интересное место с фантастическими лавовыми образованиями, которые делают эту местность похожей на что-то неземно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Содержимое 4" descr="Самые необычные места на Земле (6 фото)"/>
          <p:cNvPicPr/>
          <p:nvPr/>
        </p:nvPicPr>
        <p:blipFill>
          <a:blip r:embed="rId1"/>
          <a:stretch/>
        </p:blipFill>
        <p:spPr>
          <a:xfrm>
            <a:off x="4356000" y="2276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ора Рорайма (Венесуэлла, Бразилия и Гайана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а гора была священной для аборигенов задолго до прибытия европейцев. Многие местные жители чтят это место и сейчас. Оно настолько необычно, что действительно, можно подумать, что это обиталище богов, возвышающееся на 400 метров над остальной местностью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десь есть только одно место, позволяющее взобраться на гору, все остальные подходы недоступны, да и вообще у горы большая часть стен - отвесные. Кстати, у подножия горы почти все время идет дождь, каждый день. Ландшафт просто фантастический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Рисунок 7" descr="Самые необычные места на Земле (6 фото)"/>
          <p:cNvPicPr/>
          <p:nvPr/>
        </p:nvPicPr>
        <p:blipFill>
          <a:blip r:embed="rId1"/>
          <a:stretch/>
        </p:blipFill>
        <p:spPr>
          <a:xfrm>
            <a:off x="1403280" y="1557360"/>
            <a:ext cx="344340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76360" y="1915920"/>
            <a:ext cx="72216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чник: www.xage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5819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окольчик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cs5482.userapi.com/g37750358/a_8624902d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  Отрисовка «Дети за партой»: автор Галина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pusj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, Ростовская обла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klip_103_детки-34_ad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32720" y="2781360"/>
            <a:ext cx="1655640" cy="90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dmin</cp:lastModifiedBy>
  <dcterms:modified xsi:type="dcterms:W3CDTF">2013-04-25T15:50:00Z</dcterms:modified>
  <cp:revision>13</cp:revision>
  <dc:subject/>
  <dc:title>Слайд 1</dc:title>
</cp:coreProperties>
</file>