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BD92B-4BDD-41E9-995C-049742451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1D3C3-B5B8-4673-B1A5-8BF80AD09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ED037-A327-4F4D-A5CE-DBACF3DCF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A0506-B4C1-440C-B83F-2BC465971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77320-759E-403E-881B-370B5F8A2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4146B-6FCD-425D-AD11-277CAE99C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AB2C4-F01B-4BFC-954E-57713628A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847CC-8A9B-4378-954A-F153B7845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87920-017D-4411-8D75-1928F6399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ADC04-FE90-40B4-A7FF-BC8AD9019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39BCF-665C-4AE4-8458-91FA63A26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1F2AB-76E9-4A6C-8C7B-68181712E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18EE4-3D15-4E2A-B378-9849B232D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8DCD3-3A5F-455B-8D68-159B120B8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BDF18-011D-4509-BA6B-5690A9426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B4A5A-1CE4-4F7D-9E84-E4CB11FC8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203B1-3AB6-4B36-AB5A-528C385C9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1810A-116C-4FE2-8DEF-E8AB98B30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23B91-8EF4-4FFC-9A45-95E9439BD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614D0-2A4A-4690-9A61-08A6D2820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6A9FB-0C8E-488B-9EBE-A704217DA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39AF3-2911-4398-8671-69501CA20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36242-CAAF-44A1-A76C-CFFF7DDB9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4F533-73BD-4D8B-A266-654ABB67A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prstGeom prst="pi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prstGeom prst="pie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ffffcc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ffffcc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ffffff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ffffff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C4781-CDD4-44A4-9114-289CF91DC34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prstGeom prst="pi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prstGeom prst="pie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ffffcc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ffffcc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ffffff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ffffff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EA861-4978-4B07-941B-4D6F0586649B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76312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Arial"/>
              </a:rPr>
              <a:t>ПСИХОЛОГО-ПЕДАГОГИЧЕСКИЙ СЕМИНАР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2895480"/>
            <a:ext cx="723888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ffffff"/>
                </a:solidFill>
                <a:latin typeface="Verdana"/>
              </a:rPr>
              <a:t>«ПСИХОЛОГИЧЕСКОЕ ЗДОРОВЬЕ 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ffffff"/>
                </a:solidFill>
                <a:latin typeface="Verdana"/>
              </a:rPr>
              <a:t>ШКОЛЬНИКОВ»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4000"/>
                            </p:stCondLst>
                            <p:childTnLst>
                              <p:par>
                                <p:cTn id="17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5" name="Picture 3" descr="H:\Documents and Settings\Белый\Рабочий стол\здоров. картинки\b_f83045d219a8445fdbd4080da2b3f1a4.jpg"/>
          <p:cNvPicPr/>
          <p:nvPr/>
        </p:nvPicPr>
        <p:blipFill>
          <a:blip r:embed="rId2"/>
          <a:stretch/>
        </p:blipFill>
        <p:spPr>
          <a:xfrm>
            <a:off x="1066680" y="304920"/>
            <a:ext cx="7467840" cy="601956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3000" y="457200"/>
            <a:ext cx="723888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Arial"/>
              </a:rPr>
              <a:t>Классификация нервных нарушений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828800" y="60199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9343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. Минимальная мозговая недостаточность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. Невропатия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3. Невротические реакции, неврозы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4. Психопатия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5. Органические нарушения нервной системы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6. Психическое недоразвитие, умственная отсталость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7. Психические заболевания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0" name="Picture 2" descr="H:\Documents and Settings\Белый\Рабочий стол\здоров. картинки\IMG_3933.jpg"/>
          <p:cNvPicPr/>
          <p:nvPr/>
        </p:nvPicPr>
        <p:blipFill>
          <a:blip r:embed="rId1"/>
          <a:stretch/>
        </p:blipFill>
        <p:spPr>
          <a:xfrm>
            <a:off x="1219320" y="304920"/>
            <a:ext cx="7543800" cy="586728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1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792440" y="304920"/>
            <a:ext cx="54864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90360" y="228600"/>
            <a:ext cx="754380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азличия между невропатией и психопатией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380880" y="609480"/>
          <a:ext cx="8610840" cy="6243840"/>
        </p:xfrm>
        <a:graphic>
          <a:graphicData uri="http://schemas.openxmlformats.org/drawingml/2006/table">
            <a:tbl>
              <a:tblPr/>
              <a:tblGrid>
                <a:gridCol w="538200"/>
                <a:gridCol w="2766960"/>
                <a:gridCol w="3076560"/>
                <a:gridCol w="2229120"/>
              </a:tblGrid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№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фера отграничен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европат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сихопат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9900"/>
                    </a:solidFill>
                  </a:tcPr>
                </a:tc>
              </a:tr>
              <a:tr h="109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оль неблагоприятной наследственност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тносительно небольша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едопределяюща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9900"/>
                    </a:solidFill>
                  </a:tcPr>
                </a:tc>
              </a:tr>
              <a:tr h="71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ремя проявления нервност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епосредственно после рожден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 втором году жизни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9900"/>
                    </a:solidFill>
                  </a:tcPr>
                </a:tc>
              </a:tr>
              <a:tr h="76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едущая область поражен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ервно-вегетативная и соматическая сф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сихическая сфер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9900"/>
                    </a:solidFill>
                  </a:tcPr>
                </a:tc>
              </a:tr>
              <a:tr h="103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тойкость проявлени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еустойчивость и обратимость с возрастом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стойчивость и обратимость с возрастом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9900"/>
                    </a:solidFill>
                  </a:tcPr>
                </a:tc>
              </a:tr>
              <a:tr h="71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зменения с возрастом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меньшаетс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величиваетс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9900"/>
                    </a:solidFill>
                  </a:tcPr>
                </a:tc>
              </a:tr>
              <a:tr h="71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клонность к беспокойству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ыражен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тсутствуе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9900"/>
                    </a:solidFill>
                  </a:tcPr>
                </a:tc>
              </a:tr>
              <a:tr h="71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66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грессивност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66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ехарактерн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66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дно из главных проявлени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669900"/>
                    </a:solidFill>
                  </a:tcPr>
                </a:tc>
              </a:tr>
            </a:tbl>
          </a:graphicData>
        </a:graphic>
      </p:graphicFrame>
    </p:spTree>
  </p:cSld>
  <p:transition spd="med">
    <p:circl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369800" y="609480"/>
            <a:ext cx="7313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369800" y="2286000"/>
            <a:ext cx="7313400" cy="365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Arial"/>
              </a:rPr>
              <a:t>Патологические привычки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Arial"/>
              </a:rPr>
              <a:t>Нарушения сна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Arial"/>
              </a:rPr>
              <a:t>Плаксивость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Arial"/>
              </a:rPr>
              <a:t>Энурез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Arial"/>
              </a:rPr>
              <a:t>Тики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Arial"/>
              </a:rPr>
              <a:t>Заикание 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Rectangle 4"/>
          <p:cNvSpPr/>
          <p:nvPr/>
        </p:nvSpPr>
        <p:spPr>
          <a:xfrm>
            <a:off x="1295280" y="380880"/>
            <a:ext cx="7239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Психические заболевания </a:t>
            </a:r>
            <a:br>
              <a:rPr sz="3200"/>
            </a:b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(нервного происхождения):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wipe dir="d"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898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898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898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898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898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898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898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Система формирования психологического здоровья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90360" y="1523880"/>
            <a:ext cx="76928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Verdana"/>
              </a:rPr>
              <a:t>диагностика тревожности и адаптированности детей к школе и семье, наблюдение за детьми и последующее определение уровня психологического здоровья;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Verdana"/>
              </a:rPr>
              <a:t>включение детей, отнесенных ко второму уровню психологического здоровья – адаптивному, – в еженедельные групповые занятия профилактической направленности;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Verdana"/>
              </a:rPr>
              <a:t>включение детей, отнесенных к третьему уровню психологического здоровья – ассимилятивно-адаптивному – в индивидуальную коррекционную работу с привлечением их родителей к индивидуальному консультированию;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Verdana"/>
              </a:rPr>
              <a:t>фиксация динамики психологического здоровья детей в процессе работы.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comb dir="horz"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8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8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8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8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32" name="Picture 2" descr="H:\Documents and Settings\Белый\Рабочий стол\здоров. картинки\0a909bd1ed3ca2c569f2ad7c831482d3bc81cc83943038.jpg"/>
          <p:cNvPicPr/>
          <p:nvPr/>
        </p:nvPicPr>
        <p:blipFill>
          <a:blip r:embed="rId1"/>
          <a:srcRect l="0" t="15632" r="0" b="15632"/>
          <a:stretch/>
        </p:blipFill>
        <p:spPr>
          <a:xfrm>
            <a:off x="1295280" y="612720"/>
            <a:ext cx="7162920" cy="5635800"/>
          </a:xfrm>
          <a:prstGeom prst="rect">
            <a:avLst/>
          </a:prstGeom>
          <a:ln w="0">
            <a:noFill/>
          </a:ln>
        </p:spPr>
      </p:pic>
    </p:spTree>
  </p:cSld>
  <p:transition spd="med">
    <p:push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34" name="Picture 2" descr="H:\Documents and Settings\Белый\Рабочий стол\здоров. картинки\sentjabr-2011-10-09-15-09-ekspress-kurs-podgotovki-instruktorov-po-detskoj-joge-.jpg"/>
          <p:cNvPicPr/>
          <p:nvPr/>
        </p:nvPicPr>
        <p:blipFill>
          <a:blip r:embed="rId1"/>
          <a:stretch/>
        </p:blipFill>
        <p:spPr>
          <a:xfrm>
            <a:off x="533520" y="457200"/>
            <a:ext cx="8381880" cy="6095880"/>
          </a:xfrm>
          <a:prstGeom prst="rect">
            <a:avLst/>
          </a:prstGeom>
          <a:ln w="0">
            <a:noFill/>
          </a:ln>
        </p:spPr>
      </p:pic>
      <p:sp>
        <p:nvSpPr>
          <p:cNvPr id="135" name="Прямоугольник 3"/>
          <p:cNvSpPr/>
          <p:nvPr/>
        </p:nvSpPr>
        <p:spPr>
          <a:xfrm>
            <a:off x="3505320" y="533520"/>
            <a:ext cx="5486400" cy="557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2060"/>
                </a:solidFill>
                <a:uFillTx/>
                <a:latin typeface="Verdana"/>
              </a:rPr>
              <a:t>10 советов для поддержания психологического здоровья: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2060"/>
                </a:solidFill>
                <a:uFillTx/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2060"/>
                </a:solidFill>
                <a:uFillTx/>
                <a:latin typeface="Verdana"/>
              </a:rPr>
              <a:t>1. Принимайте себя таким, какой вы есть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2060"/>
                </a:solidFill>
                <a:uFillTx/>
                <a:latin typeface="Verdana"/>
              </a:rPr>
              <a:t>2. Сражайтесь до победного конца; умейте проигрывать и прощать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2060"/>
                </a:solidFill>
                <a:uFillTx/>
                <a:latin typeface="Verdana"/>
              </a:rPr>
              <a:t>3. Учитесь строить и поддерживать отношения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2060"/>
                </a:solidFill>
                <a:uFillTx/>
                <a:latin typeface="Verdana"/>
              </a:rPr>
              <a:t>4. Помогайте другим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2060"/>
                </a:solidFill>
                <a:uFillTx/>
                <a:latin typeface="Verdana"/>
              </a:rPr>
              <a:t>5. Стремитесь к свободе и самоопределению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2060"/>
                </a:solidFill>
                <a:uFillTx/>
                <a:latin typeface="Verdana"/>
              </a:rPr>
              <a:t>6. Определите цель и двигайтесь к ней</a:t>
            </a:r>
            <a:r>
              <a:rPr b="1" lang="ru-RU" sz="1800" spc="-1" strike="noStrike">
                <a:solidFill>
                  <a:srgbClr val="002060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2060"/>
                </a:solidFill>
                <a:uFillTx/>
                <a:latin typeface="Verdana"/>
              </a:rPr>
              <a:t>7. Верьте и надейтесь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2060"/>
                </a:solidFill>
                <a:uFillTx/>
                <a:latin typeface="Verdana"/>
              </a:rPr>
              <a:t>8. Сохраняйте сопричастность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2060"/>
                </a:solidFill>
                <a:uFillTx/>
                <a:latin typeface="Verdana"/>
              </a:rPr>
              <a:t>9. Наслаждайтесь прекрасным.</a:t>
            </a:r>
            <a:r>
              <a:rPr b="1" lang="ru-RU" sz="1800" spc="-1" strike="noStrike">
                <a:solidFill>
                  <a:srgbClr val="00206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2060"/>
                </a:solidFill>
                <a:uFillTx/>
                <a:latin typeface="Verdana"/>
              </a:rPr>
              <a:t>10. Не бойтесь изменений, будьте гибким.</a:t>
            </a:r>
            <a:r>
              <a:rPr b="1" lang="ru-RU" sz="1800" spc="-1" strike="noStrike">
                <a:solidFill>
                  <a:srgbClr val="00206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split dir="in" orient="vert"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4" dur="1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9" dur="10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4" dur="10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9" dur="10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4" dur="1000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9" dur="1000"/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4" dur="1000"/>
                                        <p:tgtEl>
                                          <p:spTgt spid="1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3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3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9" dur="1000"/>
                                        <p:tgtEl>
                                          <p:spTgt spid="13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3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3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4" dur="1000"/>
                                        <p:tgtEl>
                                          <p:spTgt spid="13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3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3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9" dur="1000"/>
                                        <p:tgtEl>
                                          <p:spTgt spid="13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3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3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4" dur="1000"/>
                                        <p:tgtEl>
                                          <p:spTgt spid="13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35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35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9" dur="1000"/>
                                        <p:tgtEl>
                                          <p:spTgt spid="135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35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35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4" dur="1000"/>
                                        <p:tgtEl>
                                          <p:spTgt spid="135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3013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Arial"/>
              </a:rPr>
              <a:t>Понятие психологического здоровья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73137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ffffff"/>
                </a:solidFill>
                <a:latin typeface="Verdana"/>
              </a:rPr>
              <a:t>Психологическое здоровье</a:t>
            </a:r>
            <a:r>
              <a:rPr b="0" lang="ru-RU" sz="2900" spc="-1" strike="noStrike">
                <a:solidFill>
                  <a:srgbClr val="ffffff"/>
                </a:solidFill>
                <a:latin typeface="Verdana"/>
              </a:rPr>
              <a:t> – это динамическая гармония человека внутренняя (физического тела, его мыслей и чувств) и внешняя (между человеком и окружающими его людьми, природой, космосом)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circle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828800" y="426708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96" name="Picture 1" descr="H:\Documents and Settings\Белый\Рабочий стол\341_big.jpg"/>
          <p:cNvPicPr/>
          <p:nvPr/>
        </p:nvPicPr>
        <p:blipFill>
          <a:blip r:embed="rId1"/>
          <a:srcRect l="5558" t="0" r="5558" b="0"/>
          <a:stretch/>
        </p:blipFill>
        <p:spPr>
          <a:xfrm>
            <a:off x="685800" y="114480"/>
            <a:ext cx="8356680" cy="674352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600200" y="685800"/>
            <a:ext cx="647712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Arial"/>
              </a:rPr>
              <a:t>Психологическое здоровье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98" name="Rectangle 3" descr=""/>
          <p:cNvPicPr/>
          <p:nvPr/>
        </p:nvPicPr>
        <p:blipFill>
          <a:blip r:embed="rId1"/>
          <a:stretch/>
        </p:blipFill>
        <p:spPr>
          <a:xfrm>
            <a:off x="3657600" y="1523880"/>
            <a:ext cx="4979880" cy="4943520"/>
          </a:xfrm>
          <a:prstGeom prst="rect">
            <a:avLst/>
          </a:prstGeom>
          <a:ln w="0">
            <a:noFill/>
          </a:ln>
        </p:spPr>
      </p:pic>
      <p:pic>
        <p:nvPicPr>
          <p:cNvPr id="99" name="Рисунок 1" descr="Психологическое здоровье"/>
          <p:cNvPicPr/>
          <p:nvPr/>
        </p:nvPicPr>
        <p:blipFill>
          <a:blip r:embed="rId2"/>
          <a:stretch/>
        </p:blipFill>
        <p:spPr>
          <a:xfrm>
            <a:off x="1447920" y="1600200"/>
            <a:ext cx="1904760" cy="132408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02" name="Picture 7" descr="H:\Documents and Settings\Белый\Рабочий стол\66473653_image001_333.jpg"/>
          <p:cNvPicPr/>
          <p:nvPr/>
        </p:nvPicPr>
        <p:blipFill>
          <a:blip r:embed="rId1"/>
          <a:srcRect l="0" t="7651" r="0" b="7651"/>
          <a:stretch/>
        </p:blipFill>
        <p:spPr>
          <a:xfrm>
            <a:off x="762120" y="228600"/>
            <a:ext cx="8153280" cy="6248520"/>
          </a:xfrm>
          <a:prstGeom prst="rect">
            <a:avLst/>
          </a:prstGeom>
          <a:ln w="0">
            <a:noFill/>
          </a:ln>
        </p:spPr>
      </p:pic>
    </p:spTree>
  </p:cSld>
  <p:transition spd="med">
    <p:wheel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545240" cy="58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600200" y="228600"/>
            <a:ext cx="731376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358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ровни психологического здоровья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58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К высшему уровню психологического здоровья – креативному – можно отнести детей с устойчивой адаптацией к среде, наличием резерва сил для преодоления стрессовых ситуаций и активным творческим отношением к действительности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К среднему уровню – адаптивному – отнесем детей, в целом адаптированных к социуму, т. е. по результатам диагностических проверок проявляющих лишь отдельные признаки дезадаптации, несколько повышенную тревожность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К низшему уровню – назовем его ассимилятивно-аккомодативным – отнесем детей с нарушением баланса процессов ассимиляции и аккомодации и использующих для разрешения внутреннего конфликта либо ассимилятивные, либо аккомодативные средства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circle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00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00"/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06" name="Picture 2" descr="H:\Documents and Settings\Белый\Рабочий стол\здоров. картинки\2_6_1_diabetes_at_different_developmental_stages.jpg"/>
          <p:cNvPicPr/>
          <p:nvPr/>
        </p:nvPicPr>
        <p:blipFill>
          <a:blip r:embed="rId1"/>
          <a:stretch/>
        </p:blipFill>
        <p:spPr>
          <a:xfrm>
            <a:off x="1143000" y="457200"/>
            <a:ext cx="7543800" cy="563868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95280" y="304560"/>
            <a:ext cx="7313760" cy="1145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ffffcc"/>
                </a:solidFill>
                <a:latin typeface="Arial"/>
              </a:rPr>
              <a:t>Факторы риска нарушения психологического здоровья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369800" y="2666880"/>
            <a:ext cx="7313400" cy="32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Verdana"/>
              </a:rPr>
              <a:t>Объективные, или факторы среды;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Verdana"/>
              </a:rPr>
              <a:t>Субъективные факторы, обусловленные индивидуально-личностными особенностями. 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fade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Arial"/>
              </a:rPr>
              <a:t>Развитие психики</a:t>
            </a:r>
            <a:br>
              <a:rPr sz="2800"/>
            </a:br>
            <a:r>
              <a:rPr b="1" lang="ru-RU" sz="2800" spc="-1" strike="noStrike">
                <a:solidFill>
                  <a:srgbClr val="ffffcc"/>
                </a:solidFill>
                <a:latin typeface="Arial"/>
              </a:rPr>
              <a:t> умственно-отсталого ребенка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6172200"/>
            <a:ext cx="7467840" cy="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9520" bIns="2952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1" name="Picture 6" descr="H:\Documents and Settings\Белый\Рабочий стол\здоров. картинки\03wd5.jpg"/>
          <p:cNvPicPr/>
          <p:nvPr/>
        </p:nvPicPr>
        <p:blipFill>
          <a:blip r:embed="rId1"/>
          <a:srcRect l="99" t="0" r="99" b="0"/>
          <a:stretch/>
        </p:blipFill>
        <p:spPr>
          <a:xfrm>
            <a:off x="2133720" y="1600200"/>
            <a:ext cx="5867280" cy="44197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6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Белый</cp:lastModifiedBy>
  <dcterms:modified xsi:type="dcterms:W3CDTF">2011-11-02T11:16:42Z</dcterms:modified>
  <cp:revision>2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