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8FF8-1738-4FBA-876C-BB9FB2640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C255-9DCF-48CB-B045-519F64752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25E3-AA05-4F0A-B580-2BAACFF58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A796-6E14-4420-9251-F423929E5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ADB53-509F-4812-9750-503D8D9D3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F5144-B1E6-4C4F-949D-1B23520E2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DCBB6-D20A-4871-84CC-F38551921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17AE6-29DE-4734-947E-F481CC8AC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81AC3-0187-49EF-AAA0-23BC39861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EDC1A-5FAC-4772-A251-4C9554188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43FE0-A731-4885-ABBE-83FDC1AD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FFA9-F939-4DB9-B982-8BF693D44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992EC-B80E-481E-8C8D-09FFC0E9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BED11-5936-422A-B3E8-F853F9D2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C0021-28A7-4EDA-BAAC-B0472928D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C906B-0102-4CE2-96DB-A4EC426D2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0A6C5-5CDD-40C8-8858-C38AC8443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847B-C132-40AA-BD4D-C7F966BED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4F97-4676-4DB6-A137-C07CE9ED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2BCE-144F-4015-9A99-2D7C61A86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942D-C871-448F-8511-F6CB20FF4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9D4F-41A5-4A4C-AA9E-449ACAB7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031D-5DEE-429E-82BE-33EAE19E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7F5D-51FB-4A23-A44D-A937910C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ffff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24F30-6070-4715-AEF8-A1E2FDE8F2F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ffff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D8510-82A4-463F-B16F-7696735A386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ПСИХОЛОГО-ПЕДАГОГИЧЕСКИЙ СЕМИНАР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72388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Verdana"/>
              </a:rPr>
              <a:t>«ПСИХОЛОГИЧЕСКОЕ ЗДОРОВЬЕ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Verdana"/>
              </a:rPr>
              <a:t>ШКОЛЬНИКОВ»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5" name="Picture 3" descr="H:\Documents and Settings\Белый\Рабочий стол\здоров. картинки\b_f83045d219a8445fdbd4080da2b3f1a4.jpg"/>
          <p:cNvPicPr/>
          <p:nvPr/>
        </p:nvPicPr>
        <p:blipFill>
          <a:blip r:embed="rId2"/>
          <a:stretch/>
        </p:blipFill>
        <p:spPr>
          <a:xfrm>
            <a:off x="1066680" y="304920"/>
            <a:ext cx="7467840" cy="60195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Классификация нервных нарушений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828800" y="60199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934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Минимальная мозговая недостаточност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Невропат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Невротические реакции, невроз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Психопат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Органические нарушения нервной систем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. Психическое недоразвитие, умственная отсталость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7. Психические заболевания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0" name="Picture 2" descr="H:\Documents and Settings\Белый\Рабочий стол\здоров. картинки\IMG_3933.jpg"/>
          <p:cNvPicPr/>
          <p:nvPr/>
        </p:nvPicPr>
        <p:blipFill>
          <a:blip r:embed="rId1"/>
          <a:stretch/>
        </p:blipFill>
        <p:spPr>
          <a:xfrm>
            <a:off x="1219320" y="304920"/>
            <a:ext cx="7543800" cy="5867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92440" y="304920"/>
            <a:ext cx="5486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360" y="22860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личия между невропатией и психопатией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80880" y="609480"/>
          <a:ext cx="8610840" cy="6243840"/>
        </p:xfrm>
        <a:graphic>
          <a:graphicData uri="http://schemas.openxmlformats.org/drawingml/2006/table">
            <a:tbl>
              <a:tblPr/>
              <a:tblGrid>
                <a:gridCol w="538200"/>
                <a:gridCol w="2766960"/>
                <a:gridCol w="3076560"/>
                <a:gridCol w="2229120"/>
              </a:tblGrid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фера отгранич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вропат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сихопат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00"/>
                    </a:solidFill>
                  </a:tcPr>
                </a:tc>
              </a:tr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оль неблагоприятной наследственнос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носительно небольш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определяющ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00"/>
                    </a:solidFill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ремя проявления нервнос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посредственно после рожд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 втором году жизн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00"/>
                    </a:solidFill>
                  </a:tcPr>
                </a:tc>
              </a:tr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едущая область пораж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рвно-вегетативная и соматическая сф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сихическая сфе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00"/>
                    </a:solidFill>
                  </a:tcPr>
                </a:tc>
              </a:tr>
              <a:tr h="103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ойкость проявле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устойчивость и обратимость с возрасто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тойчивость и обратимость с возрасто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00"/>
                    </a:solidFill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зменения с возрасто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меньшаетс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величиваетс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00"/>
                    </a:solidFill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клонность к беспокойств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раже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сутству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00"/>
                    </a:solidFill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грессивн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характер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дно из главных проявле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9900"/>
                    </a:solidFill>
                  </a:tcPr>
                </a:tc>
              </a:tr>
            </a:tbl>
          </a:graphicData>
        </a:graphic>
      </p:graphicFrame>
    </p:spTree>
  </p:cSld>
  <p:transition spd="med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609480"/>
            <a:ext cx="7313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69800" y="2286000"/>
            <a:ext cx="73134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Патологические привычки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Нарушения сна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Плаксивость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Энурез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Тики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Заикание 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1295280" y="380880"/>
            <a:ext cx="7239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Психические заболевания 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(нервного происхождения)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98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98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98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98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98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98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Система формирования психологического здоровья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76928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Verdana"/>
              </a:rPr>
              <a:t>диагностика тревожности и адаптированности детей к школе и семье, наблюдение за детьми и последующее определение уровня психологического здоровья;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Verdana"/>
              </a:rPr>
              <a:t>включение детей, отнесенных ко второму уровню психологического здоровья – адаптивному, – в еженедельные групповые занятия профилактической направленности;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Verdana"/>
              </a:rPr>
              <a:t>включение детей, отнесенных к третьему уровню психологического здоровья – ассимилятивно-адаптивному – в индивидуальную коррекционную работу с привлечением их родителей к индивидуальному консультированию;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Verdana"/>
              </a:rPr>
              <a:t>фиксация динамики психологического здоровья детей в процессе работы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8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2" name="Picture 2" descr="H:\Documents and Settings\Белый\Рабочий стол\здоров. картинки\0a909bd1ed3ca2c569f2ad7c831482d3bc81cc83943038.jpg"/>
          <p:cNvPicPr/>
          <p:nvPr/>
        </p:nvPicPr>
        <p:blipFill>
          <a:blip r:embed="rId1"/>
          <a:srcRect l="0" t="15632" r="0" b="15632"/>
          <a:stretch/>
        </p:blipFill>
        <p:spPr>
          <a:xfrm>
            <a:off x="1295280" y="612720"/>
            <a:ext cx="7162920" cy="563580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4" name="Picture 2" descr="H:\Documents and Settings\Белый\Рабочий стол\здоров. картинки\sentjabr-2011-10-09-15-09-ekspress-kurs-podgotovki-instruktorov-po-detskoj-joge-.jpg"/>
          <p:cNvPicPr/>
          <p:nvPr/>
        </p:nvPicPr>
        <p:blipFill>
          <a:blip r:embed="rId1"/>
          <a:stretch/>
        </p:blipFill>
        <p:spPr>
          <a:xfrm>
            <a:off x="533520" y="457200"/>
            <a:ext cx="8381880" cy="609588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3"/>
          <p:cNvSpPr/>
          <p:nvPr/>
        </p:nvSpPr>
        <p:spPr>
          <a:xfrm>
            <a:off x="3505320" y="533520"/>
            <a:ext cx="5486400" cy="55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2060"/>
                </a:solidFill>
                <a:uFillTx/>
                <a:latin typeface="Verdana"/>
              </a:rPr>
              <a:t>10 советов для поддержания психологического здоровья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2060"/>
                </a:solidFill>
                <a:uFillTx/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2060"/>
                </a:solidFill>
                <a:uFillTx/>
                <a:latin typeface="Verdana"/>
              </a:rPr>
              <a:t>1. Принимайте себя таким, какой вы есть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2060"/>
                </a:solidFill>
                <a:uFillTx/>
                <a:latin typeface="Verdana"/>
              </a:rPr>
              <a:t>2. Сражайтесь до победного конца; умейте проигрывать и прощать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2060"/>
                </a:solidFill>
                <a:uFillTx/>
                <a:latin typeface="Verdana"/>
              </a:rPr>
              <a:t>3. Учитесь строить и поддерживать отношения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2060"/>
                </a:solidFill>
                <a:uFillTx/>
                <a:latin typeface="Verdana"/>
              </a:rPr>
              <a:t>4. Помогайте другим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2060"/>
                </a:solidFill>
                <a:uFillTx/>
                <a:latin typeface="Verdana"/>
              </a:rPr>
              <a:t>5. Стремитесь к свободе и самоопределению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2060"/>
                </a:solidFill>
                <a:uFillTx/>
                <a:latin typeface="Verdana"/>
              </a:rPr>
              <a:t>6. Определите цель и двигайтесь к ней</a:t>
            </a:r>
            <a:r>
              <a:rPr b="1" lang="ru-RU" sz="1800" spc="-1" strike="noStrike">
                <a:solidFill>
                  <a:srgbClr val="00206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2060"/>
                </a:solidFill>
                <a:uFillTx/>
                <a:latin typeface="Verdana"/>
              </a:rPr>
              <a:t>7. Верьте и надейтесь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2060"/>
                </a:solidFill>
                <a:uFillTx/>
                <a:latin typeface="Verdana"/>
              </a:rPr>
              <a:t>8. Сохраняйте сопричастность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2060"/>
                </a:solidFill>
                <a:uFillTx/>
                <a:latin typeface="Verdana"/>
              </a:rPr>
              <a:t>9. Наслаждайтесь прекрасным.</a:t>
            </a:r>
            <a:r>
              <a:rPr b="1" lang="ru-RU" sz="18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2060"/>
                </a:solidFill>
                <a:uFillTx/>
                <a:latin typeface="Verdana"/>
              </a:rPr>
              <a:t>10. Не бойтесь изменений, будьте гибким.</a:t>
            </a:r>
            <a:r>
              <a:rPr b="1" lang="ru-RU" sz="18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split dir="in" orient="vert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9" dur="1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10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1000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1000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1000"/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3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1000"/>
                                        <p:tgtEl>
                                          <p:spTgt spid="13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3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1000"/>
                                        <p:tgtEl>
                                          <p:spTgt spid="13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3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3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13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3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13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301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Понятие психологического здоровья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73137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ffffff"/>
                </a:solidFill>
                <a:latin typeface="Verdana"/>
              </a:rPr>
              <a:t>Психологическое здоровье</a:t>
            </a: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 – это динамическая гармония человека внутренняя (физического тела, его мыслей и чувств) и внешняя (между человеком и окружающими его людьми, природой, космосом)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ircl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828800" y="426708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6" name="Picture 1" descr="H:\Documents and Settings\Белый\Рабочий стол\341_big.jpg"/>
          <p:cNvPicPr/>
          <p:nvPr/>
        </p:nvPicPr>
        <p:blipFill>
          <a:blip r:embed="rId1"/>
          <a:srcRect l="5558" t="0" r="5558" b="0"/>
          <a:stretch/>
        </p:blipFill>
        <p:spPr>
          <a:xfrm>
            <a:off x="685800" y="114480"/>
            <a:ext cx="8356680" cy="674352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647712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Психологическое здоровье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8" name="Rectangle 3" descr=""/>
          <p:cNvPicPr/>
          <p:nvPr/>
        </p:nvPicPr>
        <p:blipFill>
          <a:blip r:embed="rId1"/>
          <a:stretch/>
        </p:blipFill>
        <p:spPr>
          <a:xfrm>
            <a:off x="3657600" y="1523880"/>
            <a:ext cx="4979880" cy="494352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" descr="Психологическое здоровье"/>
          <p:cNvPicPr/>
          <p:nvPr/>
        </p:nvPicPr>
        <p:blipFill>
          <a:blip r:embed="rId2"/>
          <a:stretch/>
        </p:blipFill>
        <p:spPr>
          <a:xfrm>
            <a:off x="1447920" y="1600200"/>
            <a:ext cx="1904760" cy="13240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2" name="Picture 7" descr="H:\Documents and Settings\Белый\Рабочий стол\66473653_image001_333.jpg"/>
          <p:cNvPicPr/>
          <p:nvPr/>
        </p:nvPicPr>
        <p:blipFill>
          <a:blip r:embed="rId1"/>
          <a:srcRect l="0" t="7651" r="0" b="7651"/>
          <a:stretch/>
        </p:blipFill>
        <p:spPr>
          <a:xfrm>
            <a:off x="762120" y="228600"/>
            <a:ext cx="8153280" cy="624852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54524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600200" y="228600"/>
            <a:ext cx="73137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ровни психологического здоровья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 высшему уровню психологического здоровья – креативному – можно отнести детей с устойчивой адаптацией к среде, наличием резерва сил для преодоления стрессовых ситуаций и активным творческим отношением к действительност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 среднему уровню – адаптивному – отнесем детей, в целом адаптированных к социуму, т. е. по результатам диагностических проверок проявляющих лишь отдельные признаки дезадаптации, несколько повышенную тревожность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 низшему уровню – назовем его ассимилятивно-аккомодативным – отнесем детей с нарушением баланса процессов ассимиляции и аккомодации и использующих для разрешения внутреннего конфликта либо ассимилятивные, либо аккомодативные средств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ircl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6" name="Picture 2" descr="H:\Documents and Settings\Белый\Рабочий стол\здоров. картинки\2_6_1_diabetes_at_different_developmental_stages.jpg"/>
          <p:cNvPicPr/>
          <p:nvPr/>
        </p:nvPicPr>
        <p:blipFill>
          <a:blip r:embed="rId1"/>
          <a:stretch/>
        </p:blipFill>
        <p:spPr>
          <a:xfrm>
            <a:off x="1143000" y="457200"/>
            <a:ext cx="7543800" cy="56386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313760" cy="114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Факторы риска нарушения психологического здоровья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369800" y="2666880"/>
            <a:ext cx="7313400" cy="32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Объективные, или факторы среды;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Субъективные факторы, обусловленные индивидуально-личностными особенностями. 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Развитие психики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 умственно-отсталого ребенка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6172200"/>
            <a:ext cx="746784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1" name="Picture 6" descr="H:\Documents and Settings\Белый\Рабочий стол\здоров. картинки\03wd5.jpg"/>
          <p:cNvPicPr/>
          <p:nvPr/>
        </p:nvPicPr>
        <p:blipFill>
          <a:blip r:embed="rId1"/>
          <a:srcRect l="99" t="0" r="99" b="0"/>
          <a:stretch/>
        </p:blipFill>
        <p:spPr>
          <a:xfrm>
            <a:off x="2133720" y="1600200"/>
            <a:ext cx="5867280" cy="4419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Белый</cp:lastModifiedBy>
  <dcterms:modified xsi:type="dcterms:W3CDTF">2011-11-02T11:16:42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