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97B7-2AF1-4EFC-9CD0-7C5EB671E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6133-62A5-4B67-8A30-16F9637B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5347-7D9C-4CCD-8AF9-1818ED541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8590-95AA-4C8E-A668-40E4A6F11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1E13-1873-4D3E-B0FE-883CC33F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8F53-6D10-4FDE-AE79-A15ED1B1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99E7-F33C-4650-A58F-5C1F60B5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21ED-027E-4000-BFAC-16638EB7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B656-3D2C-4C4B-839E-5DCE3EDC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5320-FF22-4597-BF6F-790E230B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EDD5C-7E6B-47A5-9931-9FF93B55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14C4-4348-4BE8-8063-0B86121B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8806-6DC9-4BB1-B55B-23D4020F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5311-0227-42F0-AB78-6578FF82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7403-8E2F-4625-A186-89380902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82CE-A412-4FA3-9B76-5ED340250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AA74-A76D-4418-B065-39B893C4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11C4-A413-486C-AAAF-7AF88AB7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4FB9-D325-4ADE-9E37-2952084C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AADC-7FD5-4255-9891-E74AAAAD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8F81-BE2D-42C2-834B-3877D972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4953-53A2-4CD4-B01E-781CB15E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6358-0826-4ADF-8CD2-6EE2807C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A627-436B-4B0D-9CE3-88E385B9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7034-0F42-41FB-8241-8A6F4FFD127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5399-090E-486A-BAAD-7EA8C240A2C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hynotmult.moy.su/_nw/0/52658831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nfoshara.com/uploads/posts/2009-07/1248397139_alisa-v-zazerkale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9" descr="Картинка 25 из 35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7800" y="1268280"/>
            <a:ext cx="3907080" cy="293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3" name="Picture 11" descr="Картинка 45 из 35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14880" y="2924280"/>
            <a:ext cx="4789440" cy="35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4" name="AutoShape 12"/>
          <p:cNvSpPr/>
          <p:nvPr/>
        </p:nvSpPr>
        <p:spPr>
          <a:xfrm>
            <a:off x="3924360" y="260280"/>
            <a:ext cx="5040360" cy="2448000"/>
          </a:xfrm>
          <a:prstGeom prst="wedgeRoundRectCallout">
            <a:avLst>
              <a:gd name="adj1" fmla="val -1476"/>
              <a:gd name="adj2" fmla="val 130912"/>
              <a:gd name="adj3" fmla="val 16667"/>
            </a:avLst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удьте любезны, в каком направлении мне идти? – спросила Али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 известном тебе, - ответил К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о мне неизвес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чит, в неизвестном. Во всяком случае известно, что в известное время ты окажешься там или ту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Л. Кэррол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73960" y="1681560"/>
            <a:ext cx="85993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онопредметный проек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ект, реализующий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рамках одной области 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липредметный (межпредметный) проек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ект, который кас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скольких областей зн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47984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291600"/>
            <a:ext cx="8458200" cy="62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труктура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итульный лис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учреждение, название проекта, разработчик, населенный пунк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звание проект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яркое, емкое, не более пяти слов, оно должно привлекать внимание и отражать тему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ведение, Пояснительная записк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Почему Вы решили его осуществить, для кого он предназначен и почему он необходим, что и как изменится при его реализации. Как ваш проект вписывается в общую картину того, что делаете вы, учреждение в целом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указать конкретный измеримый результат, что вы хотите достичь: Создать условия дл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адач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что надо сдела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Создат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Обеспечит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Привлеч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Провест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Подготовит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Выполнить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0880" y="367560"/>
            <a:ext cx="8458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ормы и методы работ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соревнования, выставка, практические занятия, тренировки, экскур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ериод, в который должен быть выполнен проект, сроки работ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дата начала – окончание проекта): ию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частники, целевая группа, на которые рассчитан проек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учащиеся, посещающие пришкольный оздоровительный лаг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озраст участник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7-10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есто реализаци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Пришкольный оздоровительный лагерь Магдагачинской СОШ №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орма подведения итог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соревнование, презентация, статья, выставка 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пособ оценки эффективности проект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как вы будете оценивать, добились вы успеха или нет (анкетирование, опрос, мнения, результативность участия в мероприятие (награда))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жидаемые результат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Создано, обеспечено, привлечено, проведено, подготовлено, выполнен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4920" y="607680"/>
            <a:ext cx="85341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держание проект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основные виды деятельности, относятся ли они непосредственно к проекту, как они зависят друг от друга, важность, продолжительность. Разбейте крупные виды деятельности на более мелкие. Составьте график или план: когда следует выполнить то или иное задание, сколько времени это займ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мета на реализацию проекта, бюдже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определите какими ресурсами вы обладаете, часто мы недооцениваем или переоцениваем значение тех, которых не имеем. В первую очередь нужно подумать не о том, чего не хватает, а о том, что есть. Затем сколько денег необходимо для осуществления проекта и как они будут израсходов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яснение к смет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откуда вы будете  брать день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акторы риск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что может повлиять на выполнение проекта, какие могут возникнуть осложнения, как их избежать или как с ними справиться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8120" y="914400"/>
            <a:ext cx="2438280" cy="25909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914040" y="358128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бщая копилка мини-проектов,  проектов педагог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04920" y="556560"/>
            <a:ext cx="8458200" cy="57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щую схему проекта можно представить следующим образ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4526"/>
                </a:solidFill>
                <a:latin typeface="Times New Roman"/>
              </a:rPr>
              <a:t>Задумал – спроектировал – осуществ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Проект включает в себя шесть  П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блем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ектирование (планирование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иск информац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дук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езентац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ртфолио (папка, в которой собраны все рабочие материалы проект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505320" y="274320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867280" y="2666880"/>
            <a:ext cx="8384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05720" y="251460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876560" y="2743200"/>
            <a:ext cx="15228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885840" y="2819520"/>
            <a:ext cx="60948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10080" y="2819520"/>
            <a:ext cx="60984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0880" y="1249200"/>
            <a:ext cx="8458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спех проекта оценивается путем анализ хода выполнения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ля этого нуж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сравнить достигнутые результаты с целями про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выработать рекомендации на будущее – они будут включены в ваш отч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Можно провести анализ проекта, отвечая на  следующие вопро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Какие аспекты проекта удалось лучше всего, чтобы их можно было использовать в дальнейшем? Что необходимо сделать, чтобы этот полезный опыт был использован в других проект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Какие аспекты были выполнены удовлетворительно, но могли бы быть лучше? Какие действия следует предпринять, чтобы добиться улучш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Что не удалось и должно быть изменено? Какие действия надо предпринять, чтобы подобные проблемы не возника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веты по написанию текста проек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Кратко и просто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ект должен быть изложен кратко и прост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Будьте логичны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се части проекта должны быть логически связаны между собой. Задачи должны соответствовать главной цел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Постарайтесь, чтобы цели и задачи вашего проекта были разумными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Конкретным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Измеримым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Согласованным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Реалистичным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Распланировано по времен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04480" y="607680"/>
            <a:ext cx="8730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ритерии успеха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остигнут результат – конкретный,  измеримый продукт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Создана активная команда, способная продолжить работу в будущ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Результат проекта может быть воспроизведен другими педагог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Выполнение проекта не требует привлечения значительных средст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орогого и дефицитного оборуд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Информация о проекте распростран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  Участники проекта получили удовольствие от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8600" y="508680"/>
            <a:ext cx="861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еречень ролей, которые предстоит «прожить» педагогу в ходе руководства проектом: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Энтузиас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который повышает мотивацию учащихся, поддерживая, поощряя и направляя их в направлении достижения це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пециалис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который компетентен в нескольких (не во всех!) областя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нсультан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который может организовать доступ к ресурсам, в том числе к другим специалист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уководител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который может четко спланировать и реализовать проек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«Человек, который задает вопросы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который организует обсуждение способов преодоления возникающих трудностей путем косвенных, наводящих вопросов, обнаруживает ошибки и поддерживает обратную связ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ординато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который поддерживает групповой процесс решения проб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Экспер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который дает четкий анализ результатов как выполненного проекта в целом, так и отдельных его этап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35400" y="993600"/>
            <a:ext cx="793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стер-клас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педагогов дополнительного образования ЦВ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рамках Творческой лаборатор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914400" y="2590920"/>
            <a:ext cx="76201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Методик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дготовки успешного проекта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"/>
          <p:cNvSpPr/>
          <p:nvPr/>
        </p:nvSpPr>
        <p:spPr>
          <a:xfrm>
            <a:off x="5046840" y="5143680"/>
            <a:ext cx="353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номарева Елена Юлдаше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етодист МОБУ ДОД Ц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28600" y="-61560"/>
            <a:ext cx="8610480" cy="69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ритерии сплоченной коман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аланс ро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Четкие ц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гласованные зада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диная система цен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ткрыт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ддержка и довер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ответствующая методика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спешное руковод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гулярный обзор проделанн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дивидуальное развит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выки общ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553080" y="45720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1676520" y="609480"/>
            <a:ext cx="8380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057040" y="685800"/>
            <a:ext cx="7621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43600" y="685800"/>
            <a:ext cx="175248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67280" y="762120"/>
            <a:ext cx="137160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8320" y="609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7621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133360" y="838080"/>
            <a:ext cx="114300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34120" y="762120"/>
            <a:ext cx="38088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361960" y="685800"/>
            <a:ext cx="1447560" cy="510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62720" y="762120"/>
            <a:ext cx="1523880" cy="556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914400" y="13716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проектировать абсолютно все невозмож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о не проектировать какие-то частности  еще хуже, потому что они тогда начинают проектировать т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М.А. Кутузов, системный анали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Object 2"/>
          <p:cNvGraphicFramePr/>
          <p:nvPr/>
        </p:nvGraphicFramePr>
        <p:xfrm>
          <a:off x="-47520" y="-19080"/>
          <a:ext cx="9191520" cy="68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7520" y="-19080"/>
                    <a:ext cx="9191520" cy="68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WordArt 3"/>
          <p:cNvSpPr txBox="1"/>
          <p:nvPr/>
        </p:nvSpPr>
        <p:spPr>
          <a:xfrm>
            <a:off x="1116000" y="2708280"/>
            <a:ext cx="6985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0a29e"/>
                  </a:outerShdw>
                </a:effectLst>
                <a:latin typeface="Arial"/>
              </a:rPr>
              <a:t>Желаем успехов!!!</a:t>
            </a:r>
            <a:endParaRPr b="1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0a29e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42400" y="915120"/>
            <a:ext cx="751896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ель: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высить мотивацию педаго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 овладению проектной деятельн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знакомить и углубить знания педагог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 методе проектов, алгоритме создания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0880" y="226440"/>
            <a:ext cx="85345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Мнения педагогов о проектной дея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бота над проектом помогает человеку раскрыть свои внутренние ресурсы и посмотреть на тему, решаемую в проекте по новому, и еще побуждает, к профессиональному и личностному росту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зультатом проектной деятельности является не только продукт или услуга, но и извлеченные уроки, то есть опыт, который будет использоваться в дальнейшем при планировании и выполнении следующих прое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ектная деятельность - это реализация творческого потенциала участников проекта, возможность претворения замыслов в практику, толчок к саморазвитию и самореализации. А бумаготворчество - это необходимое условие для того, чтобы опыт был оценен и мог использоваться другим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ЕКТ - ЭТО РАБОТА НА РЕЗУЛЬТАТ!!!!!!!! Кроме того, это возможность совместной деятельности, учет разных мнений и позиций, включение различных специалистов, распределение ответственности, что позволяет работать эффективн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04920" y="325080"/>
            <a:ext cx="85341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История о старце и лодке или как научиться решать проблемы проектным мето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Н. Болсунов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днажды мудрец странствовал в поисках смыслов и добрел до реки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и моста, ни лодки не было видно… Возникла проблема – надо переправиться, но как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думался мудрец… Что же сделать? Как связать 2 берега реки? Мудрец закрыл глаза и представил, как он переправился на другой берег и радостно продолжает свой пу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Эврика» - сказал мудрец – «Надо сделать лодку, которая приведет меня к моей мечте и решит проблем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ел мудрец нарисовал схему лодки, расчеты произвел, план составил… Тут как раз ученики его подоспели и они вместе начали действовать, периодически заглядывая в план, оценивая правильность и исправляя ошиб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команде дело шло быстро, и очень скоро лодка была готова! Со всех сторон осмотрели ее путники –нет ли где трещин, потом спустили на воду -плывет! Можно переправляться! УРРРР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е прошло и 15 минут как мудрец и ученики были на другой стороне реки! Проблема решена и можно было дальше странствовать. А нам эта мудрость про старца, учеников и лодку пусть станет иллюстрацией того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 этом притча обрывается на самом главном месте… А чем заканчивается предложение? Какие мысли возникли после прочтения притчи? Что она иллюстрирует? Почему эта притча рассматривается именно в теме «Проектная деятельность»? Какие характеристики проектной деятельности мы можем взять из притчи? Что символизирует лодка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0880" y="302760"/>
            <a:ext cx="84582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нения педагог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го, как спланировать и осуществить проект. Мы видим,  как поставлена цель, спланированы действия, привлечены силы, осуществлены планы, оценены риски и все это привело к результату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..Как работать над проектом. Эта притча охватывает и тему планирования, и распределения ролей, и очередности этапов работы над проектом. 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тча иллюстрирует нам как мудрый старец не растерялся и смог правильно решить возникшую проблему: визуализация мечты, постановка цели ,создание проекта переправки на другой берег, реализация проекта с помощью сплоченного коллектива, контроль и мониторинг, переправка на другой берег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…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эт  Антонио Мачадо: "Есть всего четыре вещ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торые бесполезны в открытом мор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уль, якорь, весла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страх пойти ко дну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чень важно научиться договариваться на берегу, а не тогда, когда лодка поплывет. 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7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57200" y="-66240"/>
            <a:ext cx="8458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тапы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этап – подготовительный. На этом этапе выбирается тема проекта, ставится проблема, определяется задание конкретной направленности, по завершении которого участники смогут оценить результаты своего труда, также распределяются ро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 этап – практический. Цель этого этапа: качественное и правильное выполнение  операций, контроль и самооценка работ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 этап - реализация проекта на практике, и его презентация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флексивный : что удалось, а над чем ещё необходимо поработ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447920" y="1066320"/>
            <a:ext cx="638784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07600" indent="-507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Анализ объекта проектирования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07600" indent="-507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Выбор форм проектирования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07600" indent="-507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Теоретическое обеспечение проектирования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07600" indent="-507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Методическое обеспечение проектирования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07600" indent="-507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Пространственно временное обеспечение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07600" indent="-507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Материально-техническое обеспечение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07600" indent="-507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Правовое обеспечение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07600" indent="-507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Выбор систематизирующего фактор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07600" indent="-507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Установление связей и зависимостей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07600" indent="-507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Составление документ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07600" indent="-507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Мысленное применение проект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07600" indent="-507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Экспертная оценка проекта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07600" indent="-507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Корректировк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07600" indent="-507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Принятие решения об использовании проект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2140200" y="457200"/>
            <a:ext cx="50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ЭТАПЫ ПРОЕКТ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01-14T05:37:4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