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FC3-ED9F-420D-8608-F45D42F2E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D05-073B-435C-A063-63BD0B1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306-55A6-4629-ADDD-78211C68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4EA-E368-483B-A353-4ABDEB49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F46C-6971-4242-84F5-5B60CBDD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1260-0585-4239-85D9-F393DEE8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1DA3-2238-453E-B076-D7B19477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17A5-8F6F-42DE-9D7A-5D0C8B77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0138-ABDD-42BA-8CD5-0B1A0F37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BF5C-4BD6-4522-9EBE-991A99A6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91D1-F51F-45FF-B908-6D912E9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90E-7B16-4026-8157-6CABBB1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EF80-A79B-4BFA-9026-5F624DC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CAC3-E0AB-4862-95E6-4980BED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9274-C27B-4467-B46B-CF5467D8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A17D-FDF2-47B8-B2DC-AD6B77C6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CF55-983B-4072-855A-62A586B9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A64-FBD1-4CF7-AE43-136676DE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68A-3450-4313-9122-56DE1E95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D35-0C2D-4F34-9A7A-775AE104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12B-2E3F-4482-8F75-817F0429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DD1-3B81-43E9-8D99-53D3E94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FDA-7D1C-40BF-B6B0-5F52D71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2A1-7BA2-4034-8396-1AF8AA42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0C80-ACCA-4AA8-B30B-61A323AD9C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BB0-CB21-4A6A-AE40-146466D816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hynotmult.moy.su/_nw/0/52658831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nfoshara.com/uploads/posts/2009-07/1248397139_alisa-v-zazerkale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Картинка 25 из 3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800" y="1268280"/>
            <a:ext cx="3907080" cy="293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3" name="Picture 11" descr="Картинка 45 из 3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14880" y="2924280"/>
            <a:ext cx="478944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AutoShape 12"/>
          <p:cNvSpPr/>
          <p:nvPr/>
        </p:nvSpPr>
        <p:spPr>
          <a:xfrm>
            <a:off x="3924360" y="260280"/>
            <a:ext cx="5040360" cy="2448000"/>
          </a:xfrm>
          <a:prstGeom prst="wedgeRoundRectCallout">
            <a:avLst>
              <a:gd name="adj1" fmla="val -1476"/>
              <a:gd name="adj2" fmla="val 130912"/>
              <a:gd name="adj3" fmla="val 16667"/>
            </a:avLst>
          </a:prstGeom>
          <a:solidFill>
            <a:srgbClr val="e5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ьте любезны, в каком направлении мне идти? – спросила Али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 известном тебе, - ответил К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о мне неизве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в неизвестном. Во всяком случае известно, что в известное время ты окажешься там или ту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Л. Кэррол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73960" y="1681560"/>
            <a:ext cx="8599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нопредметный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, реализующий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рамках одной области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ипредметный (межпредметный) про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, который кас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скольких областей 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91600"/>
            <a:ext cx="845820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труктура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итульный ли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чреждение, название проекта, разработчик, населенный пун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яркое, емкое, не более пяти слов, оно должно привлекать внимание и отражать тему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ведение, Пояснительная запис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чему Вы решили его осуществить, для кого он предназначен и почему он необходим, что и как изменится при его реализации. Как ваш проект вписывается в общую картину того, что делаете вы, учреждение в цело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казать конкретный измеримый результат, что вы хотите достичь: Создать условия дл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что надо сдела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зд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Обеспеч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ивлеч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овест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одготов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ыполнить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36756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ы и методы рабо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ревнования, выставка, практические занятия, тренировки,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иод, в который должен быть выполнен проект, сроки рабо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дата начала – окончание проекта): ию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астники, целевая группа, на которые рассчитан проек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учащиеся, посещающие пришкольный оздоровительный лаг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зраст участник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-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сто реализа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Пришкольный оздоровительный лагерь Магдагачинской СОШ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рма подведения итог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ревнование, презентация, статья, выставка 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особ оценки эффективности проек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как вы будете оценивать, добились вы успеха или нет (анкетирование, опрос, мнения, результативность участия в мероприятие (награда))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оздано, обеспечено, привлечено, проведено, подготовлено, выполне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607680"/>
            <a:ext cx="853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держание проек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сновные виды деятельности, относятся ли они непосредственно к проекту, как они зависят друг от друга, важность, продолжительность. Разбейте крупные виды деятельности на более мелкие. Составьте график или план: когда следует выполнить то или иное задание, сколько времени это зай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мета на реализацию проекта, бюдже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пределите какими ресурсами вы обладаете, часто мы недооцениваем или переоцениваем значение тех, которых не имеем. В первую очередь нужно подумать не о том, чего не хватает, а о том, что есть. Затем сколько денег необходимо для осуществления проекта и как они будут израсход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яснение к сме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куда вы будете  брать день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акторы рис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то может повлиять на выполнение проекта, какие могут возникнуть осложнения, как их избежать или как с ними справиться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438280" cy="2590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14040" y="358128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Общая копилка мини-проектов,  проектов педагог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556560"/>
            <a:ext cx="845820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щую схему проекта можно представить следующим образ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4526"/>
                </a:solidFill>
                <a:latin typeface="Times New Roman"/>
              </a:rPr>
              <a:t>Задумал – спроектировал – осущест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ект включает в себя шесть  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бл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ирование (планировани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иск информ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ук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з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ртфолио (папка, в которой собраны все рабочие материалы проект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505320" y="274320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266688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25146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76560" y="2743200"/>
            <a:ext cx="15228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85840" y="2819520"/>
            <a:ext cx="60948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2819520"/>
            <a:ext cx="60984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124920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х проекта оценивается путем анализ хода выполнения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ля этого нуж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равнить достигнутые результаты с целями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выработать рекомендации на будущее – они будут включены в ваш от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ожно провести анализ проекта, отвечая на  следующие 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Какие аспекты проекта удалось лучше всего, чтобы их можно было использовать в дальнейшем? Что необходимо сделать, чтобы этот полезный опыт был использован в других проект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Какие аспекты были выполнены удовлетворительно, но могли бы быть лучше? Какие действия следует предпринять, чтобы добиться улуч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Что не удалось и должно быть изменено? Какие действия надо предпринять, чтобы подобные проблемы не возник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ы по написанию текста про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ратко и просто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 должен быть изложен кратко и прос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удьте логичны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се части проекта должны быть логически связаны между собой. Задачи должны соответствовать главной це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остарайтесь, чтобы цели и задачи вашего проекта были разумными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Конкретным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Измеримы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огласованны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еалистичным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аспланировано по времен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4480" y="607680"/>
            <a:ext cx="873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терии успех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стигнут результат – конкретный,  измеримый продук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Создана активная команда, способная продолжить работу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Результат проекта может быть воспроизведен другими педаго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Выполнение проекта не требует привлечения значительных сред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орогого и дефицитного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Информация о проекте распростран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 Участники проекта получили удовольствие от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50868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ечень ролей, которые предстоит «прожить» педагогу в ходе руководства проектом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нтузиа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повышает мотивацию учащихся, поддерживая, поощряя и направляя их в направлении достижения ц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алис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компетентен в нескольких (не во всех!) област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ультан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может организовать доступ к ресурсам, в том числе к другим специалист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может четко спланировать и реализовать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Человек, который задает вопросы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организует обсуждение способов преодоления возникающих трудностей путем косвенных, наводящих вопросов, обнаруживает ошибки и поддерживает обратную связ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ординато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поддерживает групповой процесс решения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кспер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который дает четкий анализ результатов как выполненного проекта в целом, так и отдельных его этап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35400" y="993600"/>
            <a:ext cx="793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стер-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педагогов дополнительного образования ЦВ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рамках Творческой лаборатор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400" y="2590920"/>
            <a:ext cx="7620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Методика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готовки успешного проект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/>
          <p:nvPr/>
        </p:nvSpPr>
        <p:spPr>
          <a:xfrm>
            <a:off x="5046840" y="5143680"/>
            <a:ext cx="353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омарева Елена Юлдаш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тодист МОБУ ДОД Ц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-61560"/>
            <a:ext cx="8610480" cy="69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ритерии сплоченной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аланс ро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Четки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гласованны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диная система цен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крыт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ддержка и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ответствующая методика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спешное руково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гулярный обзор проделан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ндивидуальное 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выки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45720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676520" y="6094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057040" y="685800"/>
            <a:ext cx="7621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685800"/>
            <a:ext cx="17524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762120"/>
            <a:ext cx="137160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609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762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360" y="838080"/>
            <a:ext cx="114300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762120"/>
            <a:ext cx="38088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361960" y="685800"/>
            <a:ext cx="1447560" cy="510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762120"/>
            <a:ext cx="1523880" cy="556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14400" y="13716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роектировать абсолютно все невозмо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о не проектировать какие-то частности  еще хуже, потому что они тогда начинают проектировать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.А. Кутузов, системный анали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2"/>
          <p:cNvGraphicFramePr/>
          <p:nvPr/>
        </p:nvGraphicFramePr>
        <p:xfrm>
          <a:off x="-47520" y="-19080"/>
          <a:ext cx="9191520" cy="68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-19080"/>
                    <a:ext cx="91915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WordArt 3"/>
          <p:cNvSpPr txBox="1"/>
          <p:nvPr/>
        </p:nvSpPr>
        <p:spPr>
          <a:xfrm>
            <a:off x="1116000" y="2708280"/>
            <a:ext cx="698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0a29e"/>
                  </a:outerShdw>
                </a:effectLst>
                <a:latin typeface="Arial"/>
              </a:rPr>
              <a:t>Желаем успехов!!!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0a29e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42400" y="915120"/>
            <a:ext cx="75189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ысить мотивацию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 овладению проектной деятель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знакомить и углубить знания педаг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 методе проектов, алгоритме создан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22644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нения педагогов о проектн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бота над проектом помогает человеку раскрыть свои внутренние ресурсы и посмотреть на тему, решаемую в проекте по новому, и еще побуждает, к профессиональному и личностному рост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зультатом проектной деятельности является не только продукт или услуга, но и извлеченные уроки, то есть опыт, который будет использоваться в дальнейшем при планировании и выполнении следующих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ная деятельность - это реализация творческого потенциала участников проекта, возможность претворения замыслов в практику, толчок к саморазвитию и самореализации. А бумаготворчество - это необходимое условие для того, чтобы опыт был оценен и мог использоваться други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ЕКТ - ЭТО РАБОТА НА РЕЗУЛЬТАТ!!!!!!!! Кроме того, это возможность совместной деятельности, учет разных мнений и позиций, включение различных специалистов, распределение ответственности, что позволяет работать эффектив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25080"/>
            <a:ext cx="8534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тория о старце и лодке или как научиться решать проблемы проектным мето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Н. Болсу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мудрец странствовал в поисках смыслов и добрел до реки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 моста, ни лодки не было видно… Возникла проблема – надо переправиться, но ка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умался мудрец… Что же сделать? Как связать 2 берега реки? Мудрец закрыл глаза и представил, как он переправился на другой берег и радостно продолжает сво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Эврика» - сказал мудрец – «Надо сделать лодку, которая приведет меня к моей мечте и решит проблем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л мудрец нарисовал схему лодки, расчеты произвел, план составил… Тут как раз ученики его подоспели и они вместе начали действовать, периодически заглядывая в план, оценивая правильность и исправляя оши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оманде дело шло быстро, и очень скоро лодка была готова! Со всех сторон осмотрели ее путники –нет ли где трещин, потом спустили на воду -плывет! Можно переправляться! УРРР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 прошло и 15 минут как мудрец и ученики были на другой стороне реки! Проблема решена и можно было дальше странствовать. А нам эта мудрость про старца, учеников и лодку пусть станет иллюстрацией того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этом притча обрывается на самом главном месте… А чем заканчивается предложение? Какие мысли возникли после прочтения притчи? Что она иллюстрирует? Почему эта притча рассматривается именно в теме «Проектная деятельность»? Какие характеристики проектной деятельности мы можем взять из притчи? Что символизирует лодк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302760"/>
            <a:ext cx="84582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нения педаго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о, как спланировать и осуществить проект. Мы видим,  как поставлена цель, спланированы действия, привлечены силы, осуществлены планы, оценены риски и все это привело к результат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Как работать над проектом. Эта притча охватывает и тему планирования, и распределения ролей, и очередности этапов работы над проектом.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тча иллюстрирует нам как мудрый старец не растерялся и смог правильно решить возникшую проблему: визуализация мечты, постановка цели ,создание проекта переправки на другой берег, реализация проекта с помощью сплоченного коллектива, контроль и мониторинг, переправка на другой бере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  Антонио Мачадо: "Есть всего четыре вещ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торые бесполезны в открытом мор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ль, якорь, весл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трах пойти ко дну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нь важно научиться договариваться на берегу, а не тогда, когда лодка поплывет.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-6624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ап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этап – подготовительный. На этом этапе выбирается тема проекта, ставится проблема, определяется задание конкретной направленности, по завершении которого участники смогут оценить результаты своего труда, также распределяются р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этап – практический. Цель этого этапа: качественное и правильное выполнение  операций, контроль и самооценка работ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 этап - реализация проекта на практике, и его презентац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флексивный : что удалось, а над чем ещё необходимо порабо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47920" y="1066320"/>
            <a:ext cx="63878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Анализ объекта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ыбор форм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Теоретическое обеспечение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етодическое обеспечение проектирования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остранственно временное обесп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атериально-техническое обесп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авовое обеспечение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ыбор систематизирующего фактор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Установление связей и зависимост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Составление докумен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Мысленное применение проек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Экспертная оценка проекта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Корректиров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07600" indent="-507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Принятие решения об использовании проек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140200" y="4572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АПЫ ПРОЕКТ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1-14T05:37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