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FFD-2FFE-4D26-8375-0D102935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500-6657-4DB0-95B0-C9BBA66B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95C-3BB5-41A5-AB9E-6A7D7B23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C0A-18A2-4DFC-9CA6-5D87FA5C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5627-6492-45D1-8006-472ADE52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6832-857F-42C0-BDF7-0C8DC944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D761-E07F-4BEE-AAEF-4F060AE3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1F75-F025-4BC1-8F45-8C0924AC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7281-A70C-49BB-98AC-A9C7FEE4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2CCD-798F-4295-8338-E32EDCB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4757-B6B8-47FC-80E8-4D28FA02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4D2-3C57-427C-814D-549821F4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715A-3AB9-40C9-8CE7-9AF78FC3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70AB-EB10-41D9-83DD-50C7CDA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8052-9003-4B7B-821F-F671A34B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BBD2-5F34-4BB5-B279-80F6FB48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331D-970C-44F7-9339-952B93DC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B1C-47A1-4E4C-9B74-8680DE6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DD8-9C11-4F6D-AF19-FC6A3ADE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4FB-9F8C-493D-9CFF-236E6B77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42F-133A-46BF-A825-D584EDEC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7CE-C0B4-4586-846A-78347144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B82-2060-42CB-96A1-FF46C5D9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B75-FBA3-4AF8-9B78-F743F678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6F27-4A06-41CF-BEF5-BF64E582F1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2703-FE4D-4CF3-9F61-F98E0544EF0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TOP" TargetMode="External"/><Relationship Id="rId2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1" TargetMode="External"/><Relationship Id="rId3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0" TargetMode="External"/><Relationship Id="rId4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2" TargetMode="External"/><Relationship Id="rId5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1" TargetMode="Externa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182880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 квадратных уравнения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7" descr="C:\Documents and Settings\bulekovavi\Application Data\Microsoft\Media Catalog\Downloaded Clips\cl56\j0216708.wmf"/>
          <p:cNvPicPr/>
          <p:nvPr/>
        </p:nvPicPr>
        <p:blipFill>
          <a:blip r:embed="rId1"/>
          <a:stretch/>
        </p:blipFill>
        <p:spPr>
          <a:xfrm>
            <a:off x="5486400" y="3352680"/>
            <a:ext cx="2575080" cy="335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25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00cc"/>
                </a:solidFill>
                <a:uFillTx/>
                <a:latin typeface="Tahoma"/>
              </a:rPr>
              <a:t>Пример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Решить уравнение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3x</a:t>
            </a:r>
            <a:r>
              <a:rPr b="0" i="1" lang="ru-RU" sz="3200" spc="-1" strike="noStrike" baseline="30000">
                <a:solidFill>
                  <a:srgbClr val="6600c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 - 27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  Имеем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3x</a:t>
            </a:r>
            <a:r>
              <a:rPr b="0" i="1" lang="ru-RU" sz="3200" spc="-1" strike="noStrike" baseline="30000">
                <a:solidFill>
                  <a:srgbClr val="6600c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 = 27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 Следовательно корни данного уравнения  </a:t>
            </a: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-3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C:\Documents and Settings\bulekovavi\Application Data\Microsoft\Media Catalog\Downloaded Clips\cl23\j0088956.wmf"/>
          <p:cNvPicPr/>
          <p:nvPr/>
        </p:nvPicPr>
        <p:blipFill>
          <a:blip r:embed="rId1"/>
          <a:stretch/>
        </p:blipFill>
        <p:spPr>
          <a:xfrm>
            <a:off x="2514600" y="3603600"/>
            <a:ext cx="44956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Narrow"/>
              </a:rPr>
              <a:t>Самостоятельно решите уравнения 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1)  3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 Narrow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+ 4x = 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2) 2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 Narro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- 2 =0,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3) 5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 Narro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 =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17" descr="\\msk-server\Users\Students\56\bulekovavi\Разное\КВАДРАТНОЕ УРАВНЕНИЕ.files\d7b.jpg"/>
          <p:cNvPicPr/>
          <p:nvPr/>
        </p:nvPicPr>
        <p:blipFill>
          <a:blip r:embed="rId1"/>
          <a:stretch/>
        </p:blipFill>
        <p:spPr>
          <a:xfrm>
            <a:off x="5145120" y="2284560"/>
            <a:ext cx="380988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C:\Documents and Settings\bulekovavi\Мои документы\Мои рисунки\3.gif"/>
          <p:cNvPicPr/>
          <p:nvPr/>
        </p:nvPicPr>
        <p:blipFill>
          <a:blip r:embed="rId2"/>
          <a:stretch/>
        </p:blipFill>
        <p:spPr>
          <a:xfrm>
            <a:off x="914400" y="35812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C:\Documents and Settings\bulekovavi\Мои документы\Мои рисунки\4.gif"/>
          <p:cNvPicPr/>
          <p:nvPr/>
        </p:nvPicPr>
        <p:blipFill>
          <a:blip r:embed="rId3"/>
          <a:stretch/>
        </p:blipFill>
        <p:spPr>
          <a:xfrm>
            <a:off x="914400" y="49528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C:\Documents and Settings\bulekovavi\Мои документы\Мои рисунки\5.gif"/>
          <p:cNvPicPr/>
          <p:nvPr/>
        </p:nvPicPr>
        <p:blipFill>
          <a:blip r:embed="rId4"/>
          <a:stretch/>
        </p:blipFill>
        <p:spPr>
          <a:xfrm>
            <a:off x="3657600" y="5257800"/>
            <a:ext cx="4572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7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2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7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 уважением ваш коллега по курсу освоения информационных технологий Булекова В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C:\Documents and Settings\bulekovavi\Мои документы\Мои рисунки\формление.gif"/>
          <p:cNvPicPr/>
          <p:nvPr/>
        </p:nvPicPr>
        <p:blipFill>
          <a:blip r:embed="rId1"/>
          <a:stretch/>
        </p:blipFill>
        <p:spPr>
          <a:xfrm>
            <a:off x="5334120" y="4114800"/>
            <a:ext cx="3429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глав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Исторические свед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Определение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Неполные квадратные урав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Способы реш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C:\Program Files\Common Files\Microsoft Shared\Clipart\cagcat50\DD01352_.wmf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6858000" y="250920"/>
            <a:ext cx="1676520" cy="1614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5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5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5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75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35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6170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сторические свед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Tahoma"/>
                <a:ea typeface="Times New Roman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 «Найти стороны поля, имеющего форму прямоугольника, если его площадь 12, а 3/4 длины равны ширине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6999120" y="5410080"/>
            <a:ext cx="1459080" cy="121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пределение квадратного уравн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равнение вида 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ax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+bx+c=0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, b, c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действительные числа, причем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зывают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квадратным уравнение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 = 1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о 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вадратн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 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рав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 называют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приведенным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Symbol"/>
                <a:ea typeface="Symbol"/>
              </a:rPr>
              <a:t>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- то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еприведенным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  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исла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, b, c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сят следующие названия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первый коэффициент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,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- вт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рой коэффициент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- свободный чл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C:\Documents and Settings\bulekovavi\Мои документы\Мои рисунки\мальчик.gif"/>
          <p:cNvPicPr/>
          <p:nvPr/>
        </p:nvPicPr>
        <p:blipFill>
          <a:blip r:embed="rId6"/>
          <a:stretch/>
        </p:blipFill>
        <p:spPr>
          <a:xfrm>
            <a:off x="7848720" y="228600"/>
            <a:ext cx="1012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4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4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Корни уравнения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ax</a:t>
            </a:r>
            <a:r>
              <a:rPr b="1" i="1" lang="ru-RU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+bx+c=0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находят по форму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ыражение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D = b</a:t>
            </a:r>
            <a:r>
              <a:rPr b="1" i="1" lang="ru-RU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- 4ac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зывают 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дискриминантом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квадратного урав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029" descr="\\msk-server\Users\Students\56\bulekovavi\Разное\Квадратные уравнения.files\new_pa6.gif"/>
          <p:cNvPicPr/>
          <p:nvPr/>
        </p:nvPicPr>
        <p:blipFill>
          <a:blip r:embed="rId1"/>
          <a:stretch/>
        </p:blipFill>
        <p:spPr>
          <a:xfrm>
            <a:off x="2514600" y="3124080"/>
            <a:ext cx="2895480" cy="106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38" descr="C:\Documents and Settings\bulekovavi\Мои документы\Мои рисунки\мальчик.gif"/>
          <p:cNvPicPr/>
          <p:nvPr/>
        </p:nvPicPr>
        <p:blipFill>
          <a:blip r:embed="rId2"/>
          <a:stretch/>
        </p:blipFill>
        <p:spPr>
          <a:xfrm>
            <a:off x="7620120" y="380880"/>
            <a:ext cx="10857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ыражение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D = b</a:t>
            </a:r>
            <a:r>
              <a:rPr b="1" i="1" lang="ru-RU" sz="28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- 4ac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зывают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дискриминантом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квадратного уравн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Если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D &lt; 0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, то уравнение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не имеет действительных корней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 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если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D = 0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, то уравнение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имеет один действительный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корен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 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если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D &gt; 0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, то уравнени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имеет два действительных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корня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 случае, когда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D = 0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, иногда говорят, что квадратное уравнение 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имеет два одинаковых корн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C:\Documents and Settings\bulekovavi\Application Data\Microsoft\Media Catalog\Downloaded Clips\cl23\j0088956.wmf"/>
          <p:cNvPicPr/>
          <p:nvPr/>
        </p:nvPicPr>
        <p:blipFill>
          <a:blip r:embed="rId1"/>
          <a:stretch/>
        </p:blipFill>
        <p:spPr>
          <a:xfrm>
            <a:off x="6477120" y="380880"/>
            <a:ext cx="2133360" cy="1325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ahoma"/>
              </a:rPr>
              <a:t>НЕПОЛНЫЕ КВАДРАТНЫЕ УРАВН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120" y="342864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Если в квадратном уравнении </a:t>
            </a:r>
            <a:r>
              <a:rPr b="0" i="1" lang="ru-RU" sz="2400" spc="-1" strike="noStrike">
                <a:solidFill>
                  <a:srgbClr val="6600cc"/>
                </a:solidFill>
                <a:latin typeface="Tahoma"/>
              </a:rPr>
              <a:t>ax</a:t>
            </a:r>
            <a:r>
              <a:rPr b="0" i="1" lang="ru-RU" sz="2400" spc="-1" strike="noStrike" baseline="30000">
                <a:solidFill>
                  <a:srgbClr val="6600cc"/>
                </a:solidFill>
                <a:latin typeface="Tahoma"/>
              </a:rPr>
              <a:t>2</a:t>
            </a:r>
            <a:r>
              <a:rPr b="0" i="1" lang="ru-RU" sz="2400" spc="-1" strike="noStrike">
                <a:solidFill>
                  <a:srgbClr val="6600cc"/>
                </a:solidFill>
                <a:latin typeface="Tahoma"/>
              </a:rPr>
              <a:t>+bx+c=0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второй коэффициент </a:t>
            </a:r>
            <a:r>
              <a:rPr b="0" i="1" lang="ru-RU" sz="2400" spc="-1" strike="noStrike">
                <a:solidFill>
                  <a:srgbClr val="6600cc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или свободный член </a:t>
            </a:r>
            <a:r>
              <a:rPr b="0" i="1" lang="ru-RU" sz="2400" spc="-1" strike="noStrike">
                <a:solidFill>
                  <a:srgbClr val="6600cc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равен нулю,  то квадратное уравнение называется </a:t>
            </a:r>
            <a:r>
              <a:rPr b="1" i="1" lang="ru-RU" sz="2400" spc="-1" strike="noStrike">
                <a:solidFill>
                  <a:srgbClr val="6600cc"/>
                </a:solidFill>
                <a:latin typeface="바탕"/>
              </a:rPr>
              <a:t>неполным</a:t>
            </a: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Неполные уравнения выделяют потому, что для отыскания их корней можно не пользоваться формулой корней квадратного уравнения - проще решить уравнение методом разложения его левой части на множите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особы решения неполных квадратных уравнений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614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6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)  c = 0 ,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то уравнение примет вид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+bx=0.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( ax + b ) = 0 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 = 0 или ax + b = 0 ,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                  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 = -b : a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)  b = 0,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то урав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примет в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+ c = 0 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= -c : a 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x</a:t>
                      </a:r>
                      <a:r>
                        <a:rPr b="1" lang="ru-RU" sz="2800" spc="-1" strike="noStrike" baseline="-30000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 =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или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x</a:t>
                      </a:r>
                      <a:r>
                        <a:rPr b="1" lang="ru-RU" sz="2800" spc="-1" strike="noStrike" baseline="-30000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= -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)  b = 0 и c = 0 , то уравнение примет вид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= 0,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 =0. 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00cc"/>
                </a:solidFill>
                <a:uFillTx/>
                <a:latin typeface="Tahoma"/>
              </a:rPr>
              <a:t>Пример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Решить уравнение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2x</a:t>
            </a:r>
            <a:r>
              <a:rPr b="0" i="1" lang="ru-RU" sz="3200" spc="-1" strike="noStrike" baseline="30000">
                <a:solidFill>
                  <a:srgbClr val="6600c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 - 5x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  Имеем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x(2x - 5)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 Значит либо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x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, либо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2x - 5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, то есть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x = 2.5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 Итак, уравнение имеет два корня: </a:t>
            </a: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C:\Documents and Settings\bulekovavi\Application Data\Microsoft\Media Catalog\Downloaded Clips\cl23\j0089038.wmf"/>
          <p:cNvPicPr/>
          <p:nvPr/>
        </p:nvPicPr>
        <p:blipFill>
          <a:blip r:embed="rId1"/>
          <a:stretch/>
        </p:blipFill>
        <p:spPr>
          <a:xfrm>
            <a:off x="5943600" y="4419720"/>
            <a:ext cx="2209680" cy="2122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11:04:44Z</dcterms:created>
  <dc:creator>bulekovavi</dc:creator>
  <dc:description/>
  <dc:language>en-US</dc:language>
  <cp:lastModifiedBy>baron</cp:lastModifiedBy>
  <dcterms:modified xsi:type="dcterms:W3CDTF">2013-05-26T15:38:02Z</dcterms:modified>
  <cp:revision>27</cp:revision>
  <dc:subject/>
  <dc:title>Презентация PowerPoint</dc:title>
</cp:coreProperties>
</file>