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9.gif" ContentType="image/gif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429-F40A-4715-9602-7A5098AD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391-71D7-41F2-98E6-E0453A9F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A0A-CAB0-4599-B9FE-2ADC6125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D0D-A859-4EA0-8A29-0516D3EA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D420-43EB-4A1D-9FF8-E8354732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D97F-ED88-4D15-8513-87D12980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32B4-1F85-4FCA-9CDC-911AB5FB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1212-9E4E-4CA1-B520-46B2D4C8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674E-D6EC-4224-8978-C8EF7829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DAF9-C4F6-4CCE-8DCC-205B105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8CED-77D9-47A6-BEA9-40B1F92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3AF-3F4F-4473-A4D0-D4E6129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BED5-943F-4BEA-8B39-616E472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559-A332-4554-B103-5DB7E49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D258-251E-4B2D-A39E-8F134D89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6E90-CE9C-405D-9A3A-5129B3FE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818-92E8-487E-B232-8C1156BC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00B-1F0D-4CB1-B27B-C60F8C5F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BFD-250C-4B41-B12D-DC4FB666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347-02D4-4D9A-A9FE-35E5FBB9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A9B-BCD1-44F3-A098-C7317C3A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F24D-FA26-4E26-8292-9EF4241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30B-D0C2-4D07-A25E-E5146445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558-6753-4950-96D4-1149B65B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FD54-B901-4175-83DD-AE6F4DA680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6F8-0EE9-4E84-A557-0AB971372A1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TOP" TargetMode="External"/><Relationship Id="rId2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1" TargetMode="External"/><Relationship Id="rId3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0" TargetMode="External"/><Relationship Id="rId4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2" TargetMode="External"/><Relationship Id="rId5" Type="http://schemas.openxmlformats.org/officeDocument/2006/relationships/hyperlink" Target="http://www.yandex.ru/yandbtm13?q=763990429&amp;p=0&amp;g=0&amp;d=0&amp;ag=h&amp;tg=1&amp;p0=0&amp;q0=763990429&amp;d0=2&amp;script=/yandpage?&amp;p0=0&amp;q0=1747404713&amp;d0=2&amp;script=/yandpage?&amp;q0=1747404713&amp;p0=0&amp;d0=2&amp;a0d0=1397&amp;a1d0=0&amp;url=http%3A%2F%2Ftambov%2Efio%2Eru%2Fvjpusk%2Fvjp008%2Frabot%2F19%2Fnew%5Fpage%5F4%2Ehtm&amp;text=%EC%E0%F2%E5%EC%E0%F2%E8%EA%E0%20%26%20%ED%E5%EF%F0%E8%E2%E5%E4%B8%ED%ED%FB%E5%20%26%20%EA%E2%E0%E4%F0%E0%F2%ED%FB%E5%20%26%20%F3%F0%E0%E2%ED%E5%ED%E8%FF#YANDEX_1" TargetMode="External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1828800"/>
            <a:ext cx="72392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 квадратных уравн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7" descr="C:\Documents and Settings\bulekovavi\Application Data\Microsoft\Media Catalog\Downloaded Clips\cl56\j0216708.wmf"/>
          <p:cNvPicPr/>
          <p:nvPr/>
        </p:nvPicPr>
        <p:blipFill>
          <a:blip r:embed="rId1"/>
          <a:stretch/>
        </p:blipFill>
        <p:spPr>
          <a:xfrm>
            <a:off x="5486400" y="3352680"/>
            <a:ext cx="2575080" cy="335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25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cc"/>
                </a:solidFill>
                <a:uFillTx/>
                <a:latin typeface="Tahoma"/>
              </a:rPr>
              <a:t>Пример 2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Решить уравнение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3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- 27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  Имеем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3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= 27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Следовательно корни данного уравнения 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-3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C:\Documents and Settings\bulekovavi\Application Data\Microsoft\Media Catalog\Downloaded Clips\cl23\j0088956.wmf"/>
          <p:cNvPicPr/>
          <p:nvPr/>
        </p:nvPicPr>
        <p:blipFill>
          <a:blip r:embed="rId1"/>
          <a:stretch/>
        </p:blipFill>
        <p:spPr>
          <a:xfrm>
            <a:off x="2514600" y="3603600"/>
            <a:ext cx="44956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Narrow"/>
              </a:rPr>
              <a:t>Самостоятельно решите уравнения :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 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1)  3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+ 4x = 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 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2) 2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- 2 =0,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3) 5x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 Narrow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=0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7" descr="\\msk-server\Users\Students\56\bulekovavi\Разное\КВАДРАТНОЕ УРАВНЕНИЕ.files\d7b.jpg"/>
          <p:cNvPicPr/>
          <p:nvPr/>
        </p:nvPicPr>
        <p:blipFill>
          <a:blip r:embed="rId1"/>
          <a:stretch/>
        </p:blipFill>
        <p:spPr>
          <a:xfrm>
            <a:off x="5145120" y="2284560"/>
            <a:ext cx="380988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C:\Documents and Settings\bulekovavi\Мои документы\Мои рисунки\3.gif"/>
          <p:cNvPicPr/>
          <p:nvPr/>
        </p:nvPicPr>
        <p:blipFill>
          <a:blip r:embed="rId2"/>
          <a:stretch/>
        </p:blipFill>
        <p:spPr>
          <a:xfrm>
            <a:off x="914400" y="35812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C:\Documents and Settings\bulekovavi\Мои документы\Мои рисунки\4.gif"/>
          <p:cNvPicPr/>
          <p:nvPr/>
        </p:nvPicPr>
        <p:blipFill>
          <a:blip r:embed="rId3"/>
          <a:stretch/>
        </p:blipFill>
        <p:spPr>
          <a:xfrm>
            <a:off x="914400" y="49528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C:\Documents and Settings\bulekovavi\Мои документы\Мои рисунки\5.gif"/>
          <p:cNvPicPr/>
          <p:nvPr/>
        </p:nvPicPr>
        <p:blipFill>
          <a:blip r:embed="rId4"/>
          <a:stretch/>
        </p:blipFill>
        <p:spPr>
          <a:xfrm>
            <a:off x="3657600" y="5257800"/>
            <a:ext cx="45720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2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2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 уважением ваш коллега по курсу освоения информационных технологий Булекова В.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C:\Documents and Settings\bulekovavi\Мои документы\Мои рисунки\формление.gif"/>
          <p:cNvPicPr/>
          <p:nvPr/>
        </p:nvPicPr>
        <p:blipFill>
          <a:blip r:embed="rId1"/>
          <a:stretch/>
        </p:blipFill>
        <p:spPr>
          <a:xfrm>
            <a:off x="5334120" y="4114800"/>
            <a:ext cx="342900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глав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Исторические свед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Определение квадратного урав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5" action="ppaction://hlinksldjump"/>
              </a:rPr>
              <a:t>Неполные квадратные урав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6" action="ppaction://hlinksldjump"/>
              </a:rPr>
              <a:t>Способы реш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4" descr="C:\Program Files\Common Files\Microsoft Shared\Clipart\cagcat50\DD01352_.wmf"/>
          <p:cNvPicPr/>
          <p:nvPr/>
        </p:nvPicPr>
        <p:blipFill>
          <a:blip r:embed="rId7">
            <a:alphaModFix amt="50000"/>
          </a:blip>
          <a:stretch/>
        </p:blipFill>
        <p:spPr>
          <a:xfrm>
            <a:off x="6858000" y="250920"/>
            <a:ext cx="1676520" cy="1614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5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5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75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35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61704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Исторические свед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Tahoma"/>
                <a:ea typeface="Times New Roman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 «Найти стороны поля, имеющего форму прямоугольника, если его площадь 12, а 3/4 длины равны ширине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6999120" y="5410080"/>
            <a:ext cx="145908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Определение квадратного урав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равнение вида 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ax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ahoma"/>
              </a:rPr>
              <a:t>+bx+c=0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действительные числа, причем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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квадратным уравнением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 = 1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то 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вадратно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 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равн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 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риведенным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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- то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еприведенным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   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ла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, b, c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сят следующие названия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-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первый коэффициент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,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- вт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орой коэффициент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- свободный чл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C:\Documents and Settings\bulekovavi\Мои документы\Мои рисунки\мальчик.gif"/>
          <p:cNvPicPr/>
          <p:nvPr/>
        </p:nvPicPr>
        <p:blipFill>
          <a:blip r:embed="rId6"/>
          <a:stretch/>
        </p:blipFill>
        <p:spPr>
          <a:xfrm>
            <a:off x="7848720" y="228600"/>
            <a:ext cx="101268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9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4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9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4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Корни уравнения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ax</a:t>
            </a:r>
            <a:r>
              <a:rPr b="1" i="1" lang="ru-RU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+bx+c=0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находят по форму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Выражение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D = b</a:t>
            </a:r>
            <a:r>
              <a:rPr b="1" i="1" lang="ru-RU" sz="32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- 4ac</a:t>
            </a: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зывают </a:t>
            </a:r>
            <a:r>
              <a:rPr b="1" i="1" lang="ru-RU" sz="3200" spc="-1" strike="noStrike">
                <a:solidFill>
                  <a:srgbClr val="0000ff"/>
                </a:solidFill>
                <a:latin typeface="Tahoma"/>
              </a:rPr>
              <a:t>дискриминантом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квадратного урав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29" descr="\\msk-server\Users\Students\56\bulekovavi\Разное\Квадратные уравнения.files\new_pa6.gif"/>
          <p:cNvPicPr/>
          <p:nvPr/>
        </p:nvPicPr>
        <p:blipFill>
          <a:blip r:embed="rId1"/>
          <a:stretch/>
        </p:blipFill>
        <p:spPr>
          <a:xfrm>
            <a:off x="2514600" y="3124080"/>
            <a:ext cx="28954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38" descr="C:\Documents and Settings\bulekovavi\Мои документы\Мои рисунки\мальчик.gif"/>
          <p:cNvPicPr/>
          <p:nvPr/>
        </p:nvPicPr>
        <p:blipFill>
          <a:blip r:embed="rId2"/>
          <a:stretch/>
        </p:blipFill>
        <p:spPr>
          <a:xfrm>
            <a:off x="7620120" y="380880"/>
            <a:ext cx="10857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ыражение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= b</a:t>
            </a:r>
            <a:r>
              <a:rPr b="1" i="1" lang="ru-RU" sz="2800" spc="-1" strike="noStrike" baseline="30000">
                <a:solidFill>
                  <a:srgbClr val="0000ff"/>
                </a:solidFill>
                <a:latin typeface="Tahoma"/>
              </a:rPr>
              <a:t>2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- 4ac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называют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дискриминантом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квадратного урав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&lt;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не имеет действительных корней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D =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имеет один действительный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корен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 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если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&gt; 0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, то уравнение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 имеет два действительных</a:t>
            </a:r>
            <a:r>
              <a:rPr b="0" i="1" lang="ru-RU" sz="2800" spc="-1" strike="noStrike">
                <a:solidFill>
                  <a:srgbClr val="0000ff"/>
                </a:solidFill>
                <a:latin typeface="Tahoma"/>
              </a:rPr>
              <a:t> корня</a:t>
            </a:r>
            <a:r>
              <a:rPr b="0" i="1" lang="en-US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В случае, когда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Tahoma"/>
              </a:rPr>
              <a:t>D = 0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, иногда говорят, что квадратное уравнение  </a:t>
            </a: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имеет два одинаковых корн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C:\Documents and Settings\bulekovavi\Application Data\Microsoft\Media Catalog\Downloaded Clips\cl23\j0088956.wmf"/>
          <p:cNvPicPr/>
          <p:nvPr/>
        </p:nvPicPr>
        <p:blipFill>
          <a:blip r:embed="rId1"/>
          <a:stretch/>
        </p:blipFill>
        <p:spPr>
          <a:xfrm>
            <a:off x="6477120" y="380880"/>
            <a:ext cx="213336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Tahoma"/>
              </a:rPr>
              <a:t>НЕПОЛНЫЕ КВАДРАТНЫЕ УРАВН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Если в квадратном уравнении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ax</a:t>
            </a:r>
            <a:r>
              <a:rPr b="0" i="1" lang="ru-RU" sz="24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+bx+c=0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второй коэффициент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b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или свободный член </a:t>
            </a:r>
            <a:r>
              <a:rPr b="0" i="1" lang="ru-RU" sz="2400" spc="-1" strike="noStrike">
                <a:solidFill>
                  <a:srgbClr val="6600cc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равен нулю,  то квадратное уравнение называется </a:t>
            </a:r>
            <a:r>
              <a:rPr b="1" i="1" lang="ru-RU" sz="2400" spc="-1" strike="noStrike">
                <a:solidFill>
                  <a:srgbClr val="6600cc"/>
                </a:solidFill>
                <a:latin typeface="바탕"/>
              </a:rPr>
              <a:t>неполным</a:t>
            </a: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6600cc"/>
                </a:solidFill>
                <a:latin typeface="Tahoma"/>
              </a:rPr>
              <a:t>Неполные уравнения выделяют потому, что для отыскания их корней можно не пользоваться формулой корней квадратного уравнения - проще решить уравнение методом разложения его левой части на множите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особы решения неполных квадратных уравнений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614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6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1)  c = 0 , 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то уравнение примет вид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 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+bx=0.          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( ax + b ) = 0 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 0 или ax + b = 0 ,       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                  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 -b : a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.</a:t>
                      </a:r>
                      <a:r>
                        <a:rPr b="1" i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)  b = 0,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то уравн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примет в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+ c = 0 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= -c : a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x</a:t>
                      </a:r>
                      <a:r>
                        <a:rPr b="1" lang="ru-RU" sz="2800" spc="-1" strike="noStrike" baseline="-30000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=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или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x</a:t>
                      </a:r>
                      <a:r>
                        <a:rPr b="1" lang="ru-RU" sz="2800" spc="-1" strike="noStrike" baseline="-30000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2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 Rounded MT Bold"/>
                          <a:ea typeface="Times New Roman"/>
                        </a:rPr>
                        <a:t> = -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3)  b = 0 и c = 0 , то уравнение примет вид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ax</a:t>
                      </a:r>
                      <a:r>
                        <a:rPr b="1" lang="en-US" sz="2800" spc="-1" strike="noStrike" baseline="30000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2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= 0,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 Narrow"/>
                          <a:ea typeface="Times New Roman"/>
                        </a:rPr>
                        <a:t>x =0.  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6600cc"/>
                </a:solidFill>
                <a:uFillTx/>
                <a:latin typeface="Tahoma"/>
              </a:rPr>
              <a:t>Пример 1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Решить уравнение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2x</a:t>
            </a:r>
            <a:r>
              <a:rPr b="0" i="1" lang="ru-RU" sz="3200" spc="-1" strike="noStrike" baseline="30000">
                <a:solidFill>
                  <a:srgbClr val="6600c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 - 5x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  Имеем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(2x - 5)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Значит либо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, либо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2x - 5 = 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, то есть </a:t>
            </a:r>
            <a:r>
              <a:rPr b="0" i="1" lang="ru-RU" sz="3200" spc="-1" strike="noStrike">
                <a:solidFill>
                  <a:srgbClr val="6600cc"/>
                </a:solidFill>
                <a:latin typeface="Tahoma"/>
              </a:rPr>
              <a:t>x = 2.5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. Итак, уравнение имеет два корня: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Documents and Settings\bulekovavi\Application Data\Microsoft\Media Catalog\Downloaded Clips\cl23\j0089038.wmf"/>
          <p:cNvPicPr/>
          <p:nvPr/>
        </p:nvPicPr>
        <p:blipFill>
          <a:blip r:embed="rId1"/>
          <a:stretch/>
        </p:blipFill>
        <p:spPr>
          <a:xfrm>
            <a:off x="5943600" y="4419720"/>
            <a:ext cx="2209680" cy="2122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11:04:44Z</dcterms:created>
  <dc:creator>bulekovavi</dc:creator>
  <dc:description/>
  <dc:language>en-US</dc:language>
  <cp:lastModifiedBy>baron</cp:lastModifiedBy>
  <dcterms:modified xsi:type="dcterms:W3CDTF">2013-05-26T15:38:02Z</dcterms:modified>
  <cp:revision>27</cp:revision>
  <dc:subject/>
  <dc:title>Презентация PowerPoint</dc:title>
</cp:coreProperties>
</file>