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678-4430-44D2-A802-F7269870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5DF-B629-4134-8E9D-B76E42B4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C32-168F-4C3D-9F9B-DB66597C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A7A-D44F-44E1-AA6B-D1ABFA8B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6761-DE7D-4A54-A338-B3A8AB4E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A383-2F82-4E43-9F40-F2976DB9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E5F3-4A11-4B4A-ACED-B5CAB52E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A5CC-7F45-4D1F-AC4C-68A512FC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5512-206D-46AC-A38E-19F17BC2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9D21-627E-4571-A6DA-6401154B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7E1B-4FC4-40F9-A4FB-863CBAA2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18F-5CBB-4E8C-8F01-6A61F8F6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C071-7822-405E-9DBD-97C2136A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0DB8-2A12-40D5-BA43-05C9F2D5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8F2B-CEDA-4B2B-9165-042ECC5D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D152-219F-4AE1-94AE-53D56299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E9CD-078F-4601-AF88-640B1AF4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68AF4-FCBD-484B-9F2D-C5018FCF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A7A57-D881-4A65-B75F-B45F99A4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5CD82-848A-4447-81CB-92DA5272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E305F-6D86-4B08-9E92-A710B446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A0C94-B7B4-4780-BF42-DA01CB54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B2E-5AD7-4A54-A43C-62114B26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12E0A-B491-4FE0-9B52-87BE0510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52167-FA57-4ED0-A623-E74B7BC8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D0BF4-120A-4B56-9877-2E45ED2D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A65DE-F305-4E08-8F1B-CBCFD77F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81F52-4C69-4FC4-B48C-C9C5131D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534B6-97CB-4822-AE5D-1D5EE468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6750F-5DB8-48C0-9D53-AC9761D4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18FE-566C-4B29-B0AD-E1CFE6E7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3F511-FE4F-4552-92B6-AAC39E2B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2058-35B5-4C92-A585-7AB7D976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045-D3D0-441D-8C49-AB3B9413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815F5-B8E1-4490-ABB1-0710FC72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77B66-B2FC-46E6-B615-C588AED0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8EC4C-6516-4755-8961-B26E4A79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B8AE9-7DCA-4883-AC74-551D0620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85772-463F-4070-8C2E-7CF5ADD4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4918F-2751-4282-A07B-F91F6649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79D3C-5F5E-46C8-93E3-66E9FCA8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8DCBC-2B4A-4BBC-BD08-1699EDF1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BCD5C-2101-4B61-9E67-DA28A863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8496-8A34-4304-90D8-ADFD865B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913-36FC-4BEB-97E1-7F810DCF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E65-4D04-45B0-B5EA-DCE97558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FFC-B5B1-41E6-88D0-4D1F57A5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922-D70A-4818-982A-1F432C77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9F2B-0972-4446-88AB-12EB6B20E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E7CD-2865-4B37-B580-6072F3A63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F5DD-63D9-4B2A-A003-3A15714466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0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BD3A-5AAD-4341-A0DF-FAFDA38A1B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tt-RU" sz="4000" spc="-1" strike="noStrike">
                <a:solidFill>
                  <a:srgbClr val="cc0000"/>
                </a:solidFill>
                <a:latin typeface="Arial Black"/>
              </a:rPr>
              <a:t>ТАТАРСТАН  РЕСПУБЛИКАСЫ  - </a:t>
            </a:r>
            <a:br>
              <a:rPr sz="4000"/>
            </a:br>
            <a:r>
              <a:rPr b="1" lang="tt-RU" sz="4000" spc="-1" strike="noStrike">
                <a:solidFill>
                  <a:srgbClr val="cc0000"/>
                </a:solidFill>
                <a:latin typeface="Arial Black"/>
              </a:rPr>
              <a:t>МИНЕМ БИОГРАФИЯМ</a:t>
            </a:r>
            <a:br>
              <a:rPr sz="4000"/>
            </a:br>
            <a:br>
              <a:rPr sz="4000"/>
            </a:br>
            <a:r>
              <a:rPr b="1" lang="tt-RU" sz="4000" spc="-1" strike="noStrike">
                <a:solidFill>
                  <a:srgbClr val="cc0000"/>
                </a:solidFill>
                <a:latin typeface="Arial Black"/>
              </a:rPr>
              <a:t>           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Яшәсен, үссен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                    Мул Татарстан!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Туган илебезгә,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                       Туган илгә дан!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Бу җырны җырлый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                       Татарлар, руслар.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Без барыбыз да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Мәңгелек дуслар. (Җ. Тәрҗеманов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73080"/>
            <a:ext cx="9067680" cy="6784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1814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c0000"/>
                </a:solidFill>
                <a:latin typeface="Arial Black"/>
              </a:rPr>
              <a:t>ЧАТЫР ТАУ – Азнакаебыз горурлыгы. Биеклеге – 343,8 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8880" y="1599840"/>
            <a:ext cx="8385120" cy="30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Arial Black"/>
              </a:rPr>
              <a:t>Иң матур җир - туган җир ул,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cc0066"/>
                </a:solidFill>
                <a:latin typeface="Arial Black"/>
              </a:rPr>
              <a:t>Онытма моны, бала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0880" y="4724280"/>
            <a:ext cx="853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154b16"/>
                </a:solidFill>
                <a:latin typeface="Arial"/>
              </a:rPr>
              <a:t>Мәйданы - 68000 кв.км. 43 районы бар. </a:t>
            </a:r>
            <a:br>
              <a:rPr sz="2000"/>
            </a:br>
            <a:r>
              <a:rPr b="1" lang="ru-RU" sz="2000" spc="-1" strike="noStrike">
                <a:solidFill>
                  <a:srgbClr val="154b16"/>
                </a:solidFill>
                <a:latin typeface="Arial"/>
              </a:rPr>
              <a:t>Өслегенең 16%-ын урманнар били. Мәйданын 4 зур елга кисеп үтә: Идел, Чулман, Нократ, Агыйдел. </a:t>
            </a:r>
            <a:br>
              <a:rPr sz="2000"/>
            </a:br>
            <a:r>
              <a:rPr b="1" lang="ru-RU" sz="2000" spc="-1" strike="noStrike">
                <a:solidFill>
                  <a:srgbClr val="154b16"/>
                </a:solidFill>
                <a:latin typeface="Arial"/>
              </a:rPr>
              <a:t>Халкының 49% - татар, 43% - рус, 7%- чуваш, 1%- башка миллә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ТАТАРСТАН   РЕСПУБЛИКАС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</a:t>
            </a:r>
            <a:r>
              <a:rPr b="1" lang="tt-RU" sz="4400" spc="-1" strike="noStrike">
                <a:solidFill>
                  <a:srgbClr val="ffffb7"/>
                </a:solidFill>
                <a:latin typeface="Arial Black"/>
              </a:rPr>
              <a:t>әүләт  символла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38080" y="4070520"/>
            <a:ext cx="3929040" cy="2025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916520" y="4070520"/>
            <a:ext cx="3929040" cy="2025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135080" y="2185920"/>
            <a:ext cx="7442280" cy="2874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838080" y="1905120"/>
            <a:ext cx="392904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581640" cy="1807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cc0000"/>
                </a:solidFill>
                <a:latin typeface="Arial"/>
              </a:rPr>
              <a:t>ФЛАГ</a:t>
            </a:r>
            <a:br>
              <a:rPr sz="4000"/>
            </a:b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Дәүләт флагы – кабул ителгән зурлыктагы һәм төстәге гадәттә герблы, эмблемалы, бер ягы таякка яки шнурга беркетелгән тукыма кисәг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4342680"/>
            <a:ext cx="8534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атарстан флагы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1991 нче елның ноябрендә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абул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телде.       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Татарстан флагы өч өлештән тора. Югары өлеше – яшел, асты кызыл, ә уртада тар гына ак тасма сузылган. Һәр төснең үз мәгънәсе ба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Кызыл төс – кояш, ут төсе, борынгы бабаларыбызда бу төс көч, күәт һәм яшәү билгесе булган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яшел төс – туган җиребез, табигатебез матурлыгы һәм яшәү, яшьлек билгес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ак төс – пакьлек, намус һәм тынычлык – иминлек символы. Татарстан дәүләт флагының авторы – Тавил Хаҗиәхмәтов.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tt-RU" sz="4000" spc="-1" strike="noStrike">
                <a:solidFill>
                  <a:srgbClr val="cc0000"/>
                </a:solidFill>
                <a:latin typeface="Arial"/>
              </a:rPr>
              <a:t>ГЕР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10080" y="0"/>
            <a:ext cx="3159360" cy="3200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4114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әүләт гербы – аерым бер дәүләтнең, өлкә яки шәһәрнең байракларында, акча һәм мөһерләренә ясалган тамгасы, дәүләт билгесе, махсус эмблем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743200"/>
            <a:ext cx="775656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1992 нче елның февралендә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Татарстан гербы кабул ител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тарстан Республикасының Дәүләт гербында кызыл кояш җирлегенә ак барс сурәтләнгән. Барс байлыкны һәм халыкның көчен белдерә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ың тырнаклары һәм тешләре үткен; уң аягы бераз күтәрелгән. Димәк, ул һәркемне яклый һәм саклый а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рсның уң ягында калкан. Аңа кашкарый чәчәге рәсеме төшерелгән. Калкан иминлекне белдерә, ә чәчәк – озын гомерне.         Яшел боҗра эчендә алтын белән җиребезнең уңдырышлылыгын раслаучы татар орнамент чигелгә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ста "Татарстан” сүзен укыйбы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бның авторлары – Назыйм Ханзафаров һәм Риф Фәхретдин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tt-RU" sz="4000" spc="-1" strike="noStrike">
                <a:solidFill>
                  <a:srgbClr val="cc0000"/>
                </a:solidFill>
                <a:latin typeface="Arial"/>
              </a:rPr>
              <a:t>ГИМН</a:t>
            </a:r>
            <a:br>
              <a:rPr sz="40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Дәүләт гимны – дәүләт яки аерым сыйныфның бердәмлеге символы итеп кабул ителгән тантаналы җыр, мәдх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Татарстанның Дәүләт гимнына музыканы күренекле композитор Рөстәм Яхин язган. Сүзләре Рамазан Байтимеровнык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Гимн 74 секунд яңгыр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1993 нче елның июлендә кабул ителгә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b7"/>
                </a:solidFill>
                <a:latin typeface="Arial Black"/>
              </a:rPr>
              <a:t>Татар әдәбиятында зур       урын тоткан язучыл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Габдулла Тукай, Муса Җәлил, Абдулла Алиш,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лимҗан Ибраһимов, Гаяз Исхакый, Фатих Әмирхан,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Һади Такташ, Хәсән Туф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Якташ язучыларыбыз:Марсе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Галие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Илдус Гыйләҗев, Нур Галиев, Флера Гыйззәтуллина, Гөлсирин Гобәйдуллин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b7"/>
                </a:solidFill>
                <a:latin typeface="Arial Black"/>
              </a:rPr>
              <a:t>Җырчыларыбыз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Илһам Шакиров, Римма Ибраһимова, Салават, Айдар Галим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4267080" cy="37814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cc0000"/>
                </a:solidFill>
                <a:latin typeface="Arial Black"/>
              </a:rPr>
              <a:t>Азнакай район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знакай районы Татарстан республикасының көньяк-көнчыгышын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үзәге- Азнакай шәһә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знакай шәһәре XVIII гасырның беренче яртысында салынга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56 елдан башлап эшчеләр бистәс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87 елда шәһәр статусын ал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занга кадәр ераклыгы 376 к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әйданы 15,3 кв. км, халык саны якынча 35 мең кеш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знакайда "Азнакаевнефть" НГДУсы; "Нефтемаш" тәҗрибәләр заводы, УАЗ машиналарын төзәтү заводы, тегү фабрикасы, май һәм икмәк заводлары урнашка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2011</cp:lastModifiedBy>
  <dcterms:modified xsi:type="dcterms:W3CDTF">2012-01-17T19:00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