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9714-B2EB-4390-B91E-5E5D80AA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A9B6-4639-4069-BDDC-AB903F48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A9DB-36A8-4873-8B34-2A0D45DA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B624-D716-4F2A-9835-593296E5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D81E-1EDB-4F49-A85F-BEC509B5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77F6-9F4D-45BD-B1CA-E5A17A0A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FBE3-9730-4584-908B-D19D59FA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C13A-2FC0-4A17-8253-D91F3CB0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0C73-0804-4579-89C1-2B996C68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2F43-333C-4A92-88B4-28B94013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193A-C6A3-4879-9006-03827A79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C379-C453-4786-A813-C0554B3D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7A88-2B72-4885-9BEE-6A77FDCB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7CA2-A3AA-4951-917E-A826A787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6962-8E87-4F0A-A709-9378344F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3E57-E233-4FD4-95B6-19E2BF9C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4898-AC12-4716-AFA5-597D3B78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8B2167-E84A-423C-903A-61BE5B2A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898339-9280-414E-BD20-1115A4B0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632EB-2755-4846-8F49-2C82B74E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6FC352-BD86-4E79-A316-66C33790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70D2D4-9B90-4CFA-BC05-9D37CDF6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FADD-7DB9-44EC-932D-969301D0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359BED-2E07-4AEF-89E4-A24D599E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B2D11-5329-40BA-A091-CC193766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4AFA61-3C27-4B62-AF51-4BC53E95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6A639-D4A5-4064-A9C7-4E646A48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22B32-AD9C-4E76-8DE5-67DC04DF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985142-40C9-4092-9B97-0116C1F1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6EB7D6-674E-4A22-934B-02377F47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4283F-B8AD-4319-AEA9-972AD854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C0D4A-91FF-43FD-89C4-C2A28880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4A01C-12AD-4235-AE45-875647C4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5F4-9210-41F3-A0A4-A21FF6A4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484D0-BFCB-4833-A104-16018422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6D9E4-7E18-45E3-BD79-76E18CC2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DDD8B-84CC-4260-BEFC-442AEC15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E4C39-B44F-4AFA-A8A0-4522909B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5C69A-1374-4576-9021-5636AC4E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703E5-D7B8-46F2-8B8D-70B15B88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049D9-AF78-4216-987F-DF51D2AD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40B96-E1E6-4C32-9B76-823BB98D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BE159-CFD9-4AA3-884D-EAA6D7A4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2D4F-230E-4286-8983-1D49C398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EE18-BAC6-4345-AAB8-DC2F5EBB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CB12-4C6D-4B37-A03D-BCDBAB4E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3419-EC4A-4160-BA21-5D733A0D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3151-BB56-4606-BF73-07871D98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9505-29C9-4A70-B8E7-C3CC7D575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EAEA-7F80-46A9-8098-7A82A1B0C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08DF-7628-49E0-BA9D-6B4573194C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0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5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4522-B8A4-4735-A38F-9D9CF13A09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tt-RU" sz="4000" spc="-1" strike="noStrike">
                <a:solidFill>
                  <a:srgbClr val="cc0000"/>
                </a:solidFill>
                <a:latin typeface="Arial Black"/>
              </a:rPr>
              <a:t>ТАТАРСТАН  РЕСПУБЛИКАСЫ  - </a:t>
            </a:r>
            <a:br>
              <a:rPr sz="4000"/>
            </a:br>
            <a:r>
              <a:rPr b="1" lang="tt-RU" sz="4000" spc="-1" strike="noStrike">
                <a:solidFill>
                  <a:srgbClr val="cc0000"/>
                </a:solidFill>
                <a:latin typeface="Arial Black"/>
              </a:rPr>
              <a:t>МИНЕМ БИОГРАФИЯМ</a:t>
            </a:r>
            <a:br>
              <a:rPr sz="4000"/>
            </a:br>
            <a:br>
              <a:rPr sz="4000"/>
            </a:br>
            <a:r>
              <a:rPr b="1" lang="tt-RU" sz="4000" spc="-1" strike="noStrike">
                <a:solidFill>
                  <a:srgbClr val="cc0000"/>
                </a:solidFill>
                <a:latin typeface="Arial Black"/>
              </a:rPr>
              <a:t>            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Яшәсен, үссен 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                                      Мул Татарстан! 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                  Туган илебезгә, 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                                         Туган илгә дан! 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                  Бу җырны җырлый 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                                         Татарлар, руслар. 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                  Без барыбыз да 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                   Мәңгелек дуслар. (Җ. Тәрҗеманов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320" y="73080"/>
            <a:ext cx="9067680" cy="67849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51814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cc0000"/>
                </a:solidFill>
                <a:latin typeface="Arial Black"/>
              </a:rPr>
              <a:t>ЧАТЫР ТАУ – Азнакаебыз горурлыгы. Биеклеге – 343,8 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8880" y="1599840"/>
            <a:ext cx="8385120" cy="303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66"/>
                </a:solidFill>
                <a:latin typeface="Arial Black"/>
              </a:rPr>
              <a:t>Иң матур җир - туган җир ул, 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cc0066"/>
                </a:solidFill>
                <a:latin typeface="Arial Black"/>
              </a:rPr>
              <a:t>Онытма моны, бала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7162560" cy="5372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80880" y="4724280"/>
            <a:ext cx="8534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154b16"/>
                </a:solidFill>
                <a:latin typeface="Arial"/>
              </a:rPr>
              <a:t>Мәйданы - 68000 кв.км. 43 районы бар. </a:t>
            </a:r>
            <a:br>
              <a:rPr sz="2000"/>
            </a:br>
            <a:r>
              <a:rPr b="1" lang="ru-RU" sz="2000" spc="-1" strike="noStrike">
                <a:solidFill>
                  <a:srgbClr val="154b16"/>
                </a:solidFill>
                <a:latin typeface="Arial"/>
              </a:rPr>
              <a:t>Өслегенең 16%-ын урманнар били. Мәйданын 4 зур елга кисеп үтә: Идел, Чулман, Нократ, Агыйдел. </a:t>
            </a:r>
            <a:br>
              <a:rPr sz="2000"/>
            </a:br>
            <a:r>
              <a:rPr b="1" lang="ru-RU" sz="2000" spc="-1" strike="noStrike">
                <a:solidFill>
                  <a:srgbClr val="154b16"/>
                </a:solidFill>
                <a:latin typeface="Arial"/>
              </a:rPr>
              <a:t>Халкының 49% - татар, 43% - рус, 7%- чуваш, 1%- башка миллә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ТАТАРСТАН   РЕСПУБЛИКАС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</a:t>
            </a:r>
            <a:r>
              <a:rPr b="1" lang="tt-RU" sz="4400" spc="-1" strike="noStrike">
                <a:solidFill>
                  <a:srgbClr val="ffffb7"/>
                </a:solidFill>
                <a:latin typeface="Arial Black"/>
              </a:rPr>
              <a:t>әүләт  символла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38080" y="4070520"/>
            <a:ext cx="3929040" cy="2025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916520" y="4070520"/>
            <a:ext cx="3929040" cy="2025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135080" y="2185920"/>
            <a:ext cx="7442280" cy="2874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838080" y="1905120"/>
            <a:ext cx="392904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581640" cy="18079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cc0000"/>
                </a:solidFill>
                <a:latin typeface="Arial"/>
              </a:rPr>
              <a:t>ФЛАГ</a:t>
            </a:r>
            <a:br>
              <a:rPr sz="4000"/>
            </a:b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Дәүләт флагы – кабул ителгән зурлыктагы һәм төстәге гадәттә герблы, эмблемалы, бер ягы таякка яки шнурга беркетелгән тукыма кисәг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4342680"/>
            <a:ext cx="85341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атарстан флагы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1991 нче елның ноябрендә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кабул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телде.       </a:t>
            </a: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Татарстан флагы өч өлештән тора. Югары өлеше – яшел, асты кызыл, ә уртада тар гына ак тасма сузылган. Һәр төснең үз мәгънәсе ба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Кызыл төс – кояш, ут төсе, борынгы бабаларыбызда бу төс көч, күәт һәм яшәү билгесе булган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яшел төс – туган җиребез, табигатебез матурлыгы һәм яшәү, яшьлек билгесе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ак төс – пакьлек, намус һәм тынычлык – иминлек символы. Татарстан дәүләт флагының авторы – Тавил Хаҗиәхмәтов.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tt-RU" sz="4000" spc="-1" strike="noStrike">
                <a:solidFill>
                  <a:srgbClr val="cc0000"/>
                </a:solidFill>
                <a:latin typeface="Arial"/>
              </a:rPr>
              <a:t>ГЕР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10080" y="0"/>
            <a:ext cx="3159360" cy="32004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4114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Дәүләт гербы – аерым бер дәүләтнең, өлкә яки шәһәрнең байракларында, акча һәм мөһерләренә ясалган тамгасы, дәүләт билгесе, махсус эмблем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2743200"/>
            <a:ext cx="775656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1992 нче елның февралендә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Татарстан гербы кабул ител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тарстан Республикасының Дәүләт гербында кызыл кояш җирлегенә ак барс сурәтләнгән. Барс байлыкны һәм халыкның көчен белдерә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ың тырнаклары һәм тешләре үткен; уң аягы бераз күтәрелгән. Димәк, ул һәркемне яклый һәм саклый а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рсның уң ягында калкан. Аңа кашкарый чәчәге рәсеме төшерелгән. Калкан иминлекне белдерә, ә чәчәк – озын гомерне.         Яшел боҗра эчендә алтын белән җиребезнең уңдырышлылыгын раслаучы татар орнамент чигелгә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ста "Татарстан” сүзен укыйбыз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рбның авторлары – Назыйм Ханзафаров һәм Риф Фәхретдин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tt-RU" sz="4000" spc="-1" strike="noStrike">
                <a:solidFill>
                  <a:srgbClr val="cc0000"/>
                </a:solidFill>
                <a:latin typeface="Arial"/>
              </a:rPr>
              <a:t>ГИМН</a:t>
            </a:r>
            <a:br>
              <a:rPr sz="40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Дәүләт гимны – дәүләт яки аерым сыйныфның бердәмлеге символы итеп кабул ителгән тантаналы җыр, мәдх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Татарстанның Дәүләт гимнына музыканы күренекле композитор Рөстәм Яхин язган. Сүзләре Рамазан Байтимеровнык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Гимн 74 секунд яңгыры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7d"/>
                </a:solidFill>
                <a:latin typeface="Arial"/>
              </a:rPr>
              <a:t>1993 нче елның июлендә кабул ителгә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ffb7"/>
                </a:solidFill>
                <a:latin typeface="Arial Black"/>
              </a:rPr>
              <a:t>Татар әдәбиятында зур       урын тоткан язучыла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Габдулла Тукай, Муса Җәлил, Абдулла Алиш,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алимҗан Ибраһимов, Гаяз Исхакый, Фатих Әмирхан, 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Һади Такташ, Хәсән Туф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Якташ язучыларыбыз:Марсе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Галиев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Илдус Гыйләҗев, Нур Галиев, Флера Гыйззәтуллина, Гөлсирин Гобәйдуллин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ffffb7"/>
                </a:solidFill>
                <a:latin typeface="Arial Black"/>
              </a:rPr>
              <a:t>Җырчыларыбыз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Илһам Шакиров, Римма Ибраһимова, Салават, Айдар Галимов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648320" y="609480"/>
            <a:ext cx="4267080" cy="37814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3352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cc0000"/>
                </a:solidFill>
                <a:latin typeface="Arial Black"/>
              </a:rPr>
              <a:t>Азнакай район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знакай районы Татарстан республикасының көньяк-көнчыгышын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йон үзәге- Азнакай шәһә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знакай шәһәре XVIII гасырның беренче яртысында салынга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56 елдан башлап эшчеләр бистәс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87 елда шәһәр статусын ал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занга кадәр ераклыгы 376 к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әйданы 15,3 кв. км, халык саны якынча 35 мең кеш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знакайда "Азнакаевнефть" НГДУсы; "Нефтемаш" тәҗрибәләр заводы, УАЗ машиналарын төзәтү заводы, тегү фабрикасы, май һәм икмәк заводлары урнашка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2011</cp:lastModifiedBy>
  <dcterms:modified xsi:type="dcterms:W3CDTF">2012-01-17T19:00:1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