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5C07-3F41-46B7-B3D3-AF312D43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16B2-5BF5-47D1-8767-EA8B3932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CAD6-993E-43AC-B09A-354AE083C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8DF8-28D5-457D-8452-587976271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7B1B-426A-4A9C-BFB9-B26028107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93A0-70D2-4634-AC54-DF000483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0FFD-4ED4-48E3-BF3E-DDB04E62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39B0-4762-4929-AE06-B4C0F0FE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F40A-FC77-4958-9AF6-9717D531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D5F9-482E-4B16-BD1A-4619A44C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1691-FE44-4E41-9278-8C9E342F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300D-C96E-4230-AEFD-68A33B14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9510-0860-4607-BBB3-97AE124F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F45E-71DB-4C33-B4A6-A0B1754B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4AF6-AD17-4724-9D6B-67AFA95D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6A34-C738-4E76-8405-222D4735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ADF9-0479-4DC0-907F-B891D06D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781D-5CDD-444B-968C-73405E84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9C87-5458-40E4-AA01-2CF09CCE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1010-7C05-4C33-9D02-CBE539CF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B4AF-DCD6-4C86-A957-B057C01C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A30D-8EA3-4D08-9C9F-557B8C8B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E411-DA03-4CCB-BFF5-0C4E09B7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1114-C141-41F6-A91D-D529AAEE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573200" cy="6858000"/>
            <a:chOff x="0" y="0"/>
            <a:chExt cx="1573200" cy="6858000"/>
          </a:xfrm>
        </p:grpSpPr>
        <p:sp>
          <p:nvSpPr>
            <p:cNvPr id="1" name=""/>
            <p:cNvSpPr/>
            <p:nvPr/>
          </p:nvSpPr>
          <p:spPr>
            <a:xfrm>
              <a:off x="1268280" y="1440"/>
              <a:ext cx="304920" cy="6856560"/>
            </a:xfrm>
            <a:prstGeom prst="rect">
              <a:avLst/>
            </a:prstGeom>
            <a:gradFill rotWithShape="0">
              <a:gsLst>
                <a:gs pos="0">
                  <a:srgbClr val="819e81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8110" t="0" r="0" b="0"/>
            <a:stretch/>
          </p:blipFill>
          <p:spPr>
            <a:xfrm>
              <a:off x="0" y="0"/>
              <a:ext cx="12603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5173-8F44-4974-BD1D-47C37332B551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BF69-8F29-43F9-A820-C303FB6C324B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спитание Царских детей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183280" y="5105520"/>
            <a:ext cx="3960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ономаренко Антон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Осознавая высокое предназначение своих детей, русские цари заботились о том, чтобы их воспитателями были достойные люди. Приучение к дисциплине считалось необходимым для наследника.Особенно большое внимание стали уделять этому вопросу в XIX веке. День царских детей планировался заранее, и этот план необходимо было соблюдать. Великих князей приучали ежедневно вести личный дневник, куда они записывали все свои впечатления и события, произошедшие за день. Нельзя было лечь спать, не сделав очередную запись. Это укрепляло в царских детях сознание важности своей жизни для государства и приучало их к вдумчивому и ответственному отношению ко всему происходящему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Большое значение придавалось физическому воспитанию дворянских детей, их закаливанию. Хотя, в силу своего социального положения они с детства были окружены роскошью, красотой и комфортом, но воспитание делало их независимыми от этой роскоши, и они были готовы без особого труда приспособиться к лишениям и трудностям, которые иногда случались в их жизни. Дети много времени проводили на свежем воздухе, причем в любую погоду, совершали продолжительные пешеходные и верховые прогулки. Это способствовало закаливанию детей, укреплению их здоровья и развитию такого важного для дворянина качества, как дисциплинированность. Прочные привычки, приобретенные в детстве, сохранялись потом на протяжении всей жизн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Интересно отметить еще и тот факт, что царских детей не только не баловали, но, напротив, держали в весьма суровых, спартанских бытовых условиях. В повседневной жизни они питались более чем скромно. Девочкам из дворянских семей и императорским дочерям практически не давали сладостей, чтобы они сохраняли стройную фигуру. Бывшая воспитанница Павловского института благородных девиц Л. Чарская в своих воспоминаниях рассказывала, что девочки тайком от начальства передавали свои личные деньги сторожу, чтобы тот купил для них в соседней лавке конфет и печенья. Если это обнаруживалось, виновниц сурово наказывали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050920" y="189000"/>
            <a:ext cx="6551640" cy="62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ажным средством физического развития дворянских детей были танцы. Обучение танцам было весьма нелегким делом, занимавшим по 5-6 часов в день. Целью этих уроков было не просто выучить последовательность движений в танце, но и вообще научить ребенка, равно мальчика и девочку, идеально владеть своим телом с тем, чтобы они могли держаться уверенно, свободно и непринужденно. Танцы заменяли гимнастику. Обязательным для дворян обоего пола было владение искусством верховой езды, а для мальчиков — еще и фехтования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За ошибки и различные прегрешения царских детей, равно, как и детей дворян, наказывали: ставили в угол или на колени на длительное время, сажали посередине комнаты на стул на целый час, отсылали на весь день в его комнату, где ребенок должен был в одиночестве пить чай и ужинать. Суровость последнего наказания, вероятно, не понятна современному человеку, а для людей прошлого века это было очень серьезно — провести весь день в одиночестве, тогда как обычно ребенок и даже взрослый человек постоянно находились в обществе — в обществе членов своей семьи, придворных, гувернеров, слуг. Человек практически никогда не оставался совершенно один, поэтому у него не было привычки к одиночеству, и, оказавшись в одиночестве, он чувствовал себя некомфортно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74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Царственные родители, как и все родители в то время, не руководствовались никакими педагогическими теориями, поскольку последние не были известны, а, тем более, популярны в России, и воспитывали детей, опираясь на опыт дедов и на собственную интуицию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75182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е следует идеализировать отношение русских императоров к организации процесса воспитания своих детей. Не все императоры относились достаточно серьезно к воспитанию детей. Например, дети Александра III росли практически без надзора и имели дурные манеры: даже в присутствии родителей они перебрасывались за столом хлебными шариками, если были уверены, что их шалость не будет замечена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ерьезная проблема состояла в том, что в России в XVIII веке не существовало системы образования, поэтому оно осуществлялось на уровне более или менее удачной импровизации. Не было даже учебников на русском языке. В 1760 г. специально для цесаревича Павла по приказу Елизаветы Петровны напечатали учебник по естествознанию с характерным названием «Краткое понятие по физике, для употребления Его Императорского Высочества Государя Великого Князя Павла Петровича». В учебнике содержались различные по уровню, не систематизированные статьи по физике, о свете, о небе и небесных телах, о земном шаре, о натуральной истории и о самом Создателе. К учебнику было сделано приложение — по нравоучительной науке (этике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3672000" cy="2952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51280" y="3213000"/>
            <a:ext cx="4667400" cy="2998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8360" y="189000"/>
            <a:ext cx="3809880" cy="2543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79280" y="2637000"/>
            <a:ext cx="28116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степенно, благодаря целенаправленным усилиям русских императоров и императриц начинает формироваться система образования и воспитания. Особенно много сделано в этом направлении Петром I и Екатериной II. Жуковский, воспитатель будущего Александра II, ввел для своего подопечного регулярную проверку знаний. Устраивались ежемесячные и полугодовые экзамены: первые — в присутствии императрицы, вторые — в присутствии самого императора. Обучение царских детей заканчивалось с наступлением совершеннолетия, примерно в это же время они вступали в брак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492360" y="189000"/>
            <a:ext cx="3949920" cy="63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3333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Times New Roman"/>
              </a:rPr>
              <a:t>«Скажи мне, во что ты играешь, и я скажу тебе, кем ты станешь».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2276640"/>
            <a:ext cx="7772400" cy="45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Игрушка – непременная участница жизни маленького человека, а иногда и взрослого тоже. «Игрушка – зеркало жизни». Игрушки – это средство воспитания и простых детей, и царских наследников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47640" y="833400"/>
            <a:ext cx="734544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imes New Roman"/>
              </a:rPr>
              <a:t>Для девочек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475920"/>
            <a:ext cx="7772400" cy="638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Игрушки тонко и ненавязчиво обучали детей тому, с чем им придется столкнуться дальше в жизни. Девочки непременно получали в подарок кукол с фарфоровыми или мастичными головками английской, французской, немецкой, а иногда и русской работы – кукольное производство в России в это время еще только зарождалось. Эти замечательные куклы, подобные «Украинке», «Осетинке», «Татарке» и «Боярыне», происходящим из Екатерининского дворца, а также кукле в старинном русском костюме и «Царице» из Александровского дворца. Такие куклы были достаточно дороги и не всегда использовались в повседневной жизни. Для кукол делались целые гардеробы с чудесной одеждой и бельем, мебель, фарфоровые сервизы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843280" y="260280"/>
            <a:ext cx="469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imes New Roman"/>
              </a:rPr>
              <a:t>Для мальчиков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404640"/>
            <a:ext cx="7772400" cy="64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Мальчиков воспитывали совсем в ином духе: строже и требовательнее. Их готовили к военной карьере и к управлению государством, потому и игрушки у мальчиков были совсем иные. Лошадки-качалки, луки и стрелы, каски и доспехи, винтовки, сабельки, солдатики, маленькие пушки, предметы для спортивных игр являлись наиболее распространенными. Самый яркий экспонат уникальный конь-качалка, сделанный русскими мастерами по заказу Екатерины II для будущего царя Павла I. Его убранство выполнено с большой тщательностью – удобное, с глубоким выгибом кожаное седло, настоящие подковы, стремена, удила. Изысканный потник из красного сукна украшен вензелем императрицы. В Александровском дворце были найдены игрушечные немецкие детские каски офицеров кавалерийских, пехотных и русских кирасирских полков, изготовленный в Германии детский комплект рыцарских доспехов, сабельки, шинельки, пушечки, миниатюрная модель винтовки. У всех царских отпрысков были целые армии солдатиков из самых разных материалов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3500280" cy="5040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318280" y="907920"/>
            <a:ext cx="343692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740720" cy="26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imes New Roman"/>
              </a:rPr>
              <a:t>Прочие игрушки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03280" y="476280"/>
            <a:ext cx="7740720" cy="61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о не только военная игрушка была предметом забав царских отпрысков – рядом с ней находили свое место в дворцовых детских комнатах спортивные наборы, развивающие силу и ловкость. Английский комплекс для игры в индейцев с вигвамом, пирогой, луками и томагавками, французские наборы спортивных игр – серсо, пинг-понг, «дьяболо», «трибулет», кегли «Богатыри» русской работы и т.д. Немаловажное значение придавалось и игровому обучению. Всевозможные лото, кубики, настольно-печатные игры – сохранившиеся до наших дней свидетельства многих счастливых часов, проведенных детьми последнего российского императора. Теперь все эти и многие другие реликвии хранятся в Сергиевом Посаде – древнейшем духовном и культурном центре Руси. Видимо, в этом есть какая-то высшая правда: преподобный Сергий Радонежский, великий заступник Земли Русской, любивший детей и даже, согласно преданию, вырезавший для них игрушки, взял под свой покров собрание памятных предметов, рассказывающих о детских годах царственных мучеников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26920" y="115920"/>
            <a:ext cx="2401920" cy="2044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012000" y="5084640"/>
            <a:ext cx="2885760" cy="1605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700360" y="1960560"/>
            <a:ext cx="49672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Жизнь детей в царской семье протекала отдельно от жизни родителей, детский и взрослый миры практически не соприкасались. Комнаты детей находились далеко от родительских комнат, в Зимнем дворце — даже в другом здании.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5184720" cy="2714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24000" y="4005360"/>
            <a:ext cx="3719520" cy="2547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211640" y="3273480"/>
            <a:ext cx="4572000" cy="2889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580000" y="404640"/>
            <a:ext cx="315936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Дети гораздо больше времени проводили с нянями, воспитателями и учителями, чем с собственными родителями. Маленькие дети — и мальчики, и девочки — жили в одной комнате, их воспитанием занимались женщины. По достижению ими 6-7 лет мальчики и девочки селились отдельно, но все равно в каждой комнате — по нескольку детей. С этого времени воспитанием мальчиков занимались мужчины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19280" y="115920"/>
            <a:ext cx="3689280" cy="3860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435640" y="2060640"/>
            <a:ext cx="343548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Детей утром приводили к родителям здороваться, а вечером — прощаться перед сном. Для маленьких детей это было настоящим путешествием, занимавшим немало времени. У них для этого путешествия имелись даже специальные комнатные кареты. Детей одевали в подходящую случаю одежду, и в сопровождении свиты они отправлялись с визитом к родителям по длинным коридорам, многочисленным лестницам, по которым гуляли страшные сквозняки. Русские аристократы строго держали дистанцию в отношениях со своими детьми, которые должны были почтительно обращаться к родителям на «вы», целовать им руки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се члены императорской семьи прекрасно сознавали свое высокое назначение и служили ему всей своей жизнью. Даже в мелочах они должны были быть образцом для всех подданных. Поэтому русские императоры придавали такое большое значение воспитанию своих детей, подготовке их к будущему служению отечеству и народу. Важным аспектом воспитания царских детей считалось формирование патриотических чувств, любви к родине и народу. Это не было простой формальностью. Чтобы дворянин мог с честью выполнить это предназначение, его с детства воспитывали в традициях высокого патриотизма и всесторонне готовили к воинской службе, которая никогда — ни в мирное время, ни, тем более, в военное, — не была легким делом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700360" y="260280"/>
            <a:ext cx="540072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2:41:01Z</dcterms:created>
  <dc:creator>User</dc:creator>
  <dc:description/>
  <cp:keywords/>
  <dc:language>en-US</dc:language>
  <cp:lastModifiedBy>User</cp:lastModifiedBy>
  <dcterms:modified xsi:type="dcterms:W3CDTF">2009-05-06T14:49:52Z</dcterms:modified>
  <cp:revision>2</cp:revision>
  <dc:subject/>
  <dc:title>Воспитание Царских детей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71049</vt:lpwstr>
  </property>
</Properties>
</file>