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F1A-BF99-45AC-8DAD-1CC48B0D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E86-68CA-4C0E-8E90-76C32270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76D-30BC-496E-8B48-29E8AE1A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E2D8-E2BC-45DF-8B35-9002F67A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2753-DA2C-4718-9B8B-8B18B8ED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9F3-FF77-4276-BFC5-C57682B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2399-EBB0-46D0-A44C-0FFF28E0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ABA1-1463-41E9-A74F-206E3E2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47E1-1E84-44F4-8375-502754F0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A23A-6BB0-4B52-9F77-7041DC9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2353-523D-402D-AEDC-6DCB0A39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D36-0144-4A49-A7D1-612D33E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8B25-0C84-4E87-B7BD-EB64535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9898-6A25-43D3-AA64-E0C8F10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6DAD-4ECC-47C8-943A-B40E7B4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1543-4974-4460-9F48-D2C6B0C0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38BC-6897-4563-82DC-F2F79358A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46A-4131-46EC-BEA8-79A5BF55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7B1-BDDA-4496-8B40-2D4D579E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511-47B2-4E21-98EF-69B9B0B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A6E-1CC8-4171-ABE3-2F18DF9C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0D1-471D-48B7-A069-883A7AF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102-253C-4CCF-B5BD-6DB6FAD8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D31-D1D8-4AE3-827B-7DA8BE21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819e81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3BC-6E23-468E-A58B-15A26457510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807-83D4-42DD-AD32-595F8E67A05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спитание Царских детей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183280" y="5105520"/>
            <a:ext cx="396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номаренко Антон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ознавая высокое предназначение своих детей, русские цари заботились о том, чтобы их воспитателями были достойные люди. Приучение к дисциплине считалось необходимым для наследника.Особенно большое внимание стали уделять этому вопросу в XIX веке. День царских детей планировался заранее, и этот план необходимо было соблюдать. Великих князей приучали ежедневно вести личный дневник, куда они записывали все свои впечатления и события, произошедшие за день. Нельзя было лечь спать, не сделав очередную запись. Это укрепляло в царских детях сознание важности своей жизни для государства и приучало их к вдумчивому и ответственному отношению ко всему происходящем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Большое значение придавалось физическому воспитанию дворянских детей, их закаливанию. Хотя, в силу своего социального положения они с детства были окружены роскошью, красотой и комфортом, но воспитание делало их независимыми от этой роскоши, и они были готовы без особого труда приспособиться к лишениям и трудностям, которые иногда случались в их жизни. Дети много времени проводили на свежем воздухе, причем в любую погоду, совершали продолжительные пешеходные и верховые прогулки. Это способствовало закаливанию детей, укреплению их здоровья и развитию такого важного для дворянина качества, как дисциплинированность. Прочные привычки, приобретенные в детстве, сохранялись потом на протяжении всей жиз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нтересно отметить еще и тот факт, что царских детей не только не баловали, но, напротив, держали в весьма суровых, спартанских бытовых условиях. В повседневной жизни они питались более чем скромно. Девочкам из дворянских семей и императорским дочерям практически не давали сладостей, чтобы они сохраняли стройную фигуру. Бывшая воспитанница Павловского института благородных девиц Л. Чарская в своих воспоминаниях рассказывала, что девочки тайком от начальства передавали свои личные деньги сторожу, чтобы тот купил для них в соседней лавке конфет и печенья. Если это обнаруживалось, виновниц сурово наказывали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189000"/>
            <a:ext cx="6551640" cy="62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ажным средством физического развития дворянских детей были танцы. Обучение танцам было весьма нелегким делом, занимавшим по 5-6 часов в день. Целью этих уроков было не просто выучить последовательность движений в танце, но и вообще научить ребенка, равно мальчика и девочку, идеально владеть своим телом с тем, чтобы они могли держаться уверенно, свободно и непринужденно. Танцы заменяли гимнастику. Обязательным для дворян обоего пола было владение искусством верховой езды, а для мальчиков — еще и фехтования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За ошибки и различные прегрешения царских детей, равно, как и детей дворян, наказывали: ставили в угол или на колени на длительное время, сажали посередине комнаты на стул на целый час, отсылали на весь день в его комнату, где ребенок должен был в одиночестве пить чай и ужинать. Суровость последнего наказания, вероятно, не понятна современному человеку, а для людей прошлого века это было очень серьезно — провести весь день в одиночестве, тогда как обычно ребенок и даже взрослый человек постоянно находились в обществе — в обществе членов своей семьи, придворных, гувернеров, слуг. Человек практически никогда не оставался совершенно один, поэтому у него не было привычки к одиночеству, и, оказавшись в одиночестве, он чувствовал себя некомфортно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7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Царственные родители, как и все родители в то время, не руководствовались никакими педагогическими теориями, поскольку последние не были известны, а, тем более, популярны в России, и воспитывали детей, опираясь на опыт дедов и на собственную интуицию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75182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 следует идеализировать отношение русских императоров к организации процесса воспитания своих детей. Не все императоры относились достаточно серьезно к воспитанию детей. Например, дети Александра III росли практически без надзора и имели дурные манеры: даже в присутствии родителей они перебрасывались за столом хлебными шариками, если были уверены, что их шалость не будет замечена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ерьезная проблема состояла в том, что в России в XVIII веке не существовало системы образования, поэтому оно осуществлялось на уровне более или менее удачной импровизации. Не было даже учебников на русском языке. В 1760 г. специально для цесаревича Павла по приказу Елизаветы Петровны напечатали учебник по естествознанию с характерным названием «Краткое понятие по физике, для употребления Его Императорского Высочества Государя Великого Князя Павла Петровича». В учебнике содержались различные по уровню, не систематизированные статьи по физике, о свете, о небе и небесных телах, о земном шаре, о натуральной истории и о самом Создателе. К учебнику было сделано приложение — по нравоучительной науке (этике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3672000" cy="29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667400" cy="29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8360" y="18900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9280" y="2637000"/>
            <a:ext cx="28116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тепенно, благодаря целенаправленным усилиям русских императоров и императриц начинает формироваться система образования и воспитания. Особенно много сделано в этом направлении Петром I и Екатериной II. Жуковский, воспитатель будущего Александра II, ввел для своего подопечного регулярную проверку знаний. Устраивались ежемесячные и полугодовые экзамены: первые — в присутствии императрицы, вторые — в присутствии самого императора. Обучение царских детей заканчивалось с наступлением совершеннолетия, примерно в это же время они вступали в брак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3949920" cy="63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Times New Roman"/>
              </a:rPr>
              <a:t>«Скажи мне, во что ты играешь, и я скажу тебе, кем ты станешь»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2276640"/>
            <a:ext cx="7772400" cy="45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грушка – непременная участница жизни маленького человека, а иногда и взрослого тоже. «Игрушка – зеркало жизни». Игрушки – это средство воспитания и простых детей, и царских наследников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833400"/>
            <a:ext cx="73454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Для девочек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75920"/>
            <a:ext cx="777240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грушки тонко и ненавязчиво обучали детей тому, с чем им придется столкнуться дальше в жизни. Девочки непременно получали в подарок кукол с фарфоровыми или мастичными головками английской, французской, немецкой, а иногда и русской работы – кукольное производство в России в это время еще только зарождалось. Эти замечательные куклы, подобные «Украинке», «Осетинке», «Татарке» и «Боярыне», происходящим из Екатерининского дворца, а также кукле в старинном русском костюме и «Царице» из Александровского дворца. Такие куклы были достаточно дороги и не всегда использовались в повседневной жизни. Для кукол делались целые гардеробы с чудесной одеждой и бельем, мебель, фарфоровые сервизы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40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Для мальчиков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404640"/>
            <a:ext cx="7772400" cy="64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альчиков воспитывали совсем в ином духе: строже и требовательнее. Их готовили к военной карьере и к управлению государством, потому и игрушки у мальчиков были совсем иные. Лошадки-качалки, луки и стрелы, каски и доспехи, винтовки, сабельки, солдатики, маленькие пушки, предметы для спортивных игр являлись наиболее распространенными. Самый яркий экспонат уникальный конь-качалка, сделанный русскими мастерами по заказу Екатерины II для будущего царя Павла I. Его убранство выполнено с большой тщательностью – удобное, с глубоким выгибом кожаное седло, настоящие подковы, стремена, удила. Изысканный потник из красного сукна украшен вензелем императрицы. В Александровском дворце были найдены игрушечные немецкие детские каски офицеров кавалерийских, пехотных и русских кирасирских полков, изготовленный в Германии детский комплект рыцарских доспехов, сабельки, шинельки, пушечки, миниатюрная модель винтовки. У всех царских отпрысков были целые армии солдатиков из самых разных материало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3500280" cy="5040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18280" y="907920"/>
            <a:ext cx="34369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Прочие игрушки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7740720" cy="61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о не только военная игрушка была предметом забав царских отпрысков – рядом с ней находили свое место в дворцовых детских комнатах спортивные наборы, развивающие силу и ловкость. Английский комплекс для игры в индейцев с вигвамом, пирогой, луками и томагавками, французские наборы спортивных игр – серсо, пинг-понг, «дьяболо», «трибулет», кегли «Богатыри» русской работы и т.д. Немаловажное значение придавалось и игровому обучению. Всевозможные лото, кубики, настольно-печатные игры – сохранившиеся до наших дней свидетельства многих счастливых часов, проведенных детьми последнего российского императора. Теперь все эти и многие другие реликвии хранятся в Сергиевом Посаде – древнейшем духовном и культурном центре Руси. Видимо, в этом есть какая-то высшая правда: преподобный Сергий Радонежский, великий заступник Земли Русской, любивший детей и даже, согласно преданию, вырезавший для них игрушки, взял под свой покров собрание памятных предметов, рассказывающих о детских годах царственных мученик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2401920" cy="2044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012000" y="5084640"/>
            <a:ext cx="2885760" cy="1605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00360" y="1960560"/>
            <a:ext cx="4967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Жизнь детей в царской семье протекала отдельно от жизни родителей, детский и взрослый миры практически не соприкасались. Комнаты детей находились далеко от родительских комнат, в Зимнем дворце — даже в другом здании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5184720" cy="271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3719520" cy="254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211640" y="3273480"/>
            <a:ext cx="4572000" cy="2889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0000" y="404640"/>
            <a:ext cx="31593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Дети гораздо больше времени проводили с нянями, воспитателями и учителями, чем с собственными родителями. Маленькие дети — и мальчики, и девочки — жили в одной комнате, их воспитанием занимались женщины. По достижению ими 6-7 лет мальчики и девочки селились отдельно, но все равно в каждой комнате — по нескольку детей. С этого времени воспитанием мальчиков занимались мужчины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3689280" cy="386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4354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етей утром приводили к родителям здороваться, а вечером — прощаться перед сном. Для маленьких детей это было настоящим путешествием, занимавшим немало времени. У них для этого путешествия имелись даже специальные комнатные кареты. Детей одевали в подходящую случаю одежду, и в сопровождении свиты они отправлялись с визитом к родителям по длинным коридорам, многочисленным лестницам, по которым гуляли страшные сквозняки. Русские аристократы строго держали дистанцию в отношениях со своими детьми, которые должны были почтительно обращаться к родителям на «вы», целовать им руки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е члены императорской семьи прекрасно сознавали свое высокое назначение и служили ему всей своей жизнью. Даже в мелочах они должны были быть образцом для всех подданных. Поэтому русские императоры придавали такое большое значение воспитанию своих детей, подготовке их к будущему служению отечеству и народу. Важным аспектом воспитания царских детей считалось формирование патриотических чувств, любви к родине и народу. Это не было простой формальностью. Чтобы дворянин мог с честью выполнить это предназначение, его с детства воспитывали в традициях высокого патриотизма и всесторонне готовили к воинской службе, которая никогда — ни в мирное время, ни, тем более, в военное, — не была легким делом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540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2:41:01Z</dcterms:created>
  <dc:creator>User</dc:creator>
  <dc:description/>
  <cp:keywords/>
  <dc:language>en-US</dc:language>
  <cp:lastModifiedBy>User</cp:lastModifiedBy>
  <dcterms:modified xsi:type="dcterms:W3CDTF">2009-05-06T14:49:52Z</dcterms:modified>
  <cp:revision>2</cp:revision>
  <dc:subject/>
  <dc:title>Воспитание Царских дете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