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26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9.wmf" ContentType="image/x-wmf"/>
  <Override PartName="/ppt/media/image5.jpeg" ContentType="image/jpeg"/>
  <Override PartName="/ppt/media/image22.jpeg" ContentType="image/jpeg"/>
  <Override PartName="/ppt/media/image25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D2F-3857-4A2F-8F2F-EC424D02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984-86EC-4B56-9DB2-085B1C1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AF3-CEAA-49FA-8B14-D3C516D4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58B-AC8B-4CF8-9A04-37CCF8FD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029A-88ED-4002-9B22-3466DB3C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CB18-AC75-4B19-8647-125DB543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8CF-D391-4DD7-A008-404A7F57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65E6-A747-4B1A-8EB1-EE5236DB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E7D-F8B9-4E43-8679-0C6BD636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7465-ED2D-4B25-A330-928CF23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9C84-075E-4878-BE45-FFB89B58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4C2C-AC81-4B5A-8F56-AF84E141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7763-E272-4962-88D6-01D6EDD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846-46B0-4C7E-9B07-8BCE0656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DBA2-27C3-4260-96F0-9FFA2B60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96C2-B9A5-42F1-B38E-783FDF5C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85C-9CDA-4CCD-BAF8-580CFF0A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3CA-D312-469A-9503-79288046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04C-E862-4159-B53A-67836E0E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B65-BD4B-477A-91AA-ECBA7547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388-BAC9-4890-8668-D2B4A4D9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A2C-EF6F-44B7-A2AF-44DA82D2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AE4-DDD0-4C5E-A52A-8E60873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C80-0EFD-4785-8F95-B7C10F7A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A8A6-6011-48C6-8C7A-2D0A94A74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Castellar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astellar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B0B-2E12-4B0F-BB7B-44EDF80DF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Презентация </a:t>
            </a: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Автоматизац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звука р в словах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228600" y="4495680"/>
            <a:ext cx="208764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22860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моги Буратино подобрать к картинкам левого столбика подходящие картинки из правого столбика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(например: карась -осётр).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581040" y="1600200"/>
            <a:ext cx="3790800" cy="452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4724280" y="1600200"/>
            <a:ext cx="355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информационные ресурсы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омарова, Л.А.      Автоматизация звука Р в игровых упражнениях. Альбом дошкольника / Л.А. Комарова. — М.: Издательство ГНОМ и Д, 2008. - 3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Зуева Л.Н.Логопедия для дошкольников: Звуки Р, Л: Альбом 3 / Л.Н. Зуева,    Н.Ю. Костылева, О.П. Солошенко. - М.: ООО «Издательство Аст-рель»: 000 «Издательство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CT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», 200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Коноваленко В.В.Пишем и читаем.-Тетради № 1,2.М.Издатель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«Гном и Д», 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Ткаченко Т.А. Логопедическая энциклопедия. — М.: ООО ТД «Издательство Мир книги», 2008. — 248 с: ил.; 32 с. вкл. ц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Бабина Г.В., Сафонкина Н.Ю. Б 12 Слоговая структура слова: обследовани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формирование у детей с недоразвитием речи. Учебно-методическое пособ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http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://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forchel.ru         http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//aida.ucoz.ru        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http://skyclipart.ru/index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Спасибо</a:t>
            </a:r>
            <a:br>
              <a:rPr sz="4400"/>
            </a:br>
            <a:r>
              <a:rPr b="1" lang="ru-RU" sz="4400" spc="-1" strike="noStrike">
                <a:solidFill>
                  <a:srgbClr val="cc3300"/>
                </a:solidFill>
                <a:latin typeface="Castellar"/>
              </a:rPr>
              <a:t>за работу.</a:t>
            </a:r>
            <a:br>
              <a:rPr sz="4400"/>
            </a:b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Прямоугольник 2"/>
          <p:cNvSpPr/>
          <p:nvPr/>
        </p:nvSpPr>
        <p:spPr>
          <a:xfrm>
            <a:off x="252360" y="4495680"/>
            <a:ext cx="1066680" cy="10796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1295280" y="449568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1295280" y="4503600"/>
            <a:ext cx="1067040" cy="1067040"/>
          </a:xfrm>
          <a:prstGeom prst="rect">
            <a:avLst/>
          </a:prstGeom>
          <a:solidFill>
            <a:srgbClr val="fefbd1"/>
          </a:solidFill>
          <a:ln w="9360">
            <a:solidFill>
              <a:srgbClr val="f6e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97" name="Picture 17" descr="090"/>
          <p:cNvPicPr/>
          <p:nvPr/>
        </p:nvPicPr>
        <p:blipFill>
          <a:blip r:embed="rId1"/>
          <a:stretch/>
        </p:blipFill>
        <p:spPr>
          <a:xfrm>
            <a:off x="457200" y="2133720"/>
            <a:ext cx="357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Цели: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1.Закрепить правильное  произношение звука Р в сло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.Учить выделять звук р из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Учить определять место звука в сл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.Учить звуковому анализу слова </a:t>
            </a: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ры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.Развивать логическое мышление и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6.Закрепить деление слов на с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"/>
          <p:cNvSpPr/>
          <p:nvPr/>
        </p:nvSpPr>
        <p:spPr>
          <a:xfrm>
            <a:off x="4419720" y="50292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егодня к нам на занятие пришёл Петрушка. Он будет слушать и смотреть, как ты будешь заниматься.</a:t>
            </a:r>
            <a:endParaRPr b="0" lang="en-US" sz="20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Рассмотри картинки, вспомни, как называются упражнения для язычка, выполни их перед зеркалом.</a:t>
            </a: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16072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3124080" y="1444680"/>
            <a:ext cx="2438640" cy="2219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"/>
          <p:cNvPicPr/>
          <p:nvPr/>
        </p:nvPicPr>
        <p:blipFill>
          <a:blip r:embed="rId3"/>
          <a:srcRect l="1908" t="1563" r="1908" b="1563"/>
          <a:stretch/>
        </p:blipFill>
        <p:spPr>
          <a:xfrm>
            <a:off x="3276720" y="3962520"/>
            <a:ext cx="2133360" cy="2514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5" descr=""/>
          <p:cNvPicPr/>
          <p:nvPr/>
        </p:nvPicPr>
        <p:blipFill>
          <a:blip r:embed="rId4"/>
          <a:srcRect l="1895" t="1592" r="0" b="0"/>
          <a:stretch/>
        </p:blipFill>
        <p:spPr>
          <a:xfrm>
            <a:off x="6539040" y="1447920"/>
            <a:ext cx="19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5" descr="3"/>
          <p:cNvPicPr/>
          <p:nvPr/>
        </p:nvPicPr>
        <p:blipFill>
          <a:blip r:embed="rId5"/>
          <a:stretch/>
        </p:blipFill>
        <p:spPr>
          <a:xfrm>
            <a:off x="6324480" y="4038480"/>
            <a:ext cx="236232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8"/>
          <p:cNvGraphicFramePr/>
          <p:nvPr/>
        </p:nvGraphicFramePr>
        <p:xfrm>
          <a:off x="609480" y="4114800"/>
          <a:ext cx="1987560" cy="2209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480" y="4114800"/>
                    <a:ext cx="1987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азови картинки со звуком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, определ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есто звука в слове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7" name="Picture 4" descr="рубашка"/>
          <p:cNvPicPr/>
          <p:nvPr/>
        </p:nvPicPr>
        <p:blipFill>
          <a:blip r:embed="rId1"/>
          <a:stretch/>
        </p:blipFill>
        <p:spPr>
          <a:xfrm>
            <a:off x="4924440" y="1066680"/>
            <a:ext cx="1795320" cy="2210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828800" cy="1919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286000" cy="243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4"/>
          <a:stretch/>
        </p:blipFill>
        <p:spPr>
          <a:xfrm>
            <a:off x="2057400" y="1371600"/>
            <a:ext cx="2438280" cy="172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"/>
          <p:cNvPicPr/>
          <p:nvPr/>
        </p:nvPicPr>
        <p:blipFill>
          <a:blip r:embed="rId5"/>
          <a:stretch/>
        </p:blipFill>
        <p:spPr>
          <a:xfrm>
            <a:off x="7010280" y="914400"/>
            <a:ext cx="185760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6"/>
          <a:stretch/>
        </p:blipFill>
        <p:spPr>
          <a:xfrm>
            <a:off x="7688160" y="3124080"/>
            <a:ext cx="1125720" cy="2895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7"/>
          <a:stretch/>
        </p:blipFill>
        <p:spPr>
          <a:xfrm>
            <a:off x="2743200" y="3962520"/>
            <a:ext cx="2124000" cy="1896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8"/>
          <a:stretch/>
        </p:blipFill>
        <p:spPr>
          <a:xfrm>
            <a:off x="4952880" y="3733920"/>
            <a:ext cx="262440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пражнение «Подбери слово-предмет».</a:t>
            </a: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 Послушай слова-признаки и назови тот предмет, к которому они относятся. </a:t>
            </a:r>
            <a:r>
              <a:rPr b="1" i="1" lang="ru-RU" sz="2000" spc="-1" strike="noStrike">
                <a:solidFill>
                  <a:srgbClr val="cc6600"/>
                </a:solidFill>
                <a:latin typeface="Arial"/>
              </a:rPr>
              <a:t>Образец: спелый, сочный — ... (арбуз).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48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Скругленный прямоугольник 42"/>
          <p:cNvSpPr/>
          <p:nvPr/>
        </p:nvSpPr>
        <p:spPr>
          <a:xfrm>
            <a:off x="304920" y="4267080"/>
            <a:ext cx="2181240" cy="18576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пражнение «4 лишний»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61640" y="2480760"/>
            <a:ext cx="2810520" cy="2200680"/>
          </a:xfrm>
          <a:prstGeom prst="rect">
            <a:avLst/>
          </a:prstGeom>
          <a:solidFill>
            <a:srgbClr val="008000"/>
          </a:solidFill>
          <a:ln w="25560">
            <a:solidFill>
              <a:srgbClr val="b97702"/>
            </a:solidFill>
            <a:round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Рассмотри картинки, назови.Най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58d"/>
                </a:solidFill>
                <a:latin typeface="Arial"/>
              </a:rPr>
              <a:t>лишний предм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df5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4"/>
          <p:cNvSpPr/>
          <p:nvPr/>
        </p:nvSpPr>
        <p:spPr>
          <a:xfrm>
            <a:off x="152280" y="1143000"/>
            <a:ext cx="2362320" cy="1752480"/>
          </a:xfrm>
          <a:prstGeom prst="roundRect">
            <a:avLst>
              <a:gd name="adj" fmla="val 18269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1" name="Picture 30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69800" y="1219320"/>
            <a:ext cx="1727280" cy="1644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2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33520" y="4343400"/>
            <a:ext cx="179856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Скругленный прямоугольник 46"/>
          <p:cNvSpPr/>
          <p:nvPr/>
        </p:nvSpPr>
        <p:spPr>
          <a:xfrm>
            <a:off x="6019920" y="990720"/>
            <a:ext cx="2286000" cy="1838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4" name="Picture 33" descr="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248520" y="1143000"/>
            <a:ext cx="183168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Скругленный прямоугольник 45"/>
          <p:cNvSpPr/>
          <p:nvPr/>
        </p:nvSpPr>
        <p:spPr>
          <a:xfrm>
            <a:off x="5943600" y="4267080"/>
            <a:ext cx="2428920" cy="1928880"/>
          </a:xfrm>
          <a:prstGeom prst="roundRect">
            <a:avLst>
              <a:gd name="adj" fmla="val 16667"/>
            </a:avLst>
          </a:prstGeom>
          <a:solidFill>
            <a:srgbClr val="e7b016"/>
          </a:solidFill>
          <a:ln w="25560">
            <a:solidFill>
              <a:srgbClr val="f6e0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stellar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6248520" y="4343400"/>
            <a:ext cx="1703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пражнение «Весёлый поезд»</a:t>
            </a:r>
            <a:br>
              <a:rPr sz="3200"/>
            </a:b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омоги пассажирам отправиться в путешествие на весёлом поезде. Назови каждого пассажира, выделяя звук Р. Прохлопай в ладоши количество слогов в каждом слове, и ты узнаешь, кто в каком вагоне поедет (количество слогов в слове совпадает с количеством окошек вагончи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507960" y="990720"/>
            <a:ext cx="4064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Что забыл нарисовать художник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смотри внимательн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тинки, которые нарисо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ран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ие детали он забыл нарисовать у этих предме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Например: самовар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ff"/>
                </a:solidFill>
                <a:latin typeface="Arial"/>
              </a:rPr>
              <a:t>без к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456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гадай загадку, выложи из фишек слово-отгадку, проверь ответ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876920" y="5029200"/>
          <a:ext cx="4038480" cy="94464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stellar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2563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752480"/>
            <a:ext cx="495288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ог нет, да не догон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С хвостом, а не звер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 воде она жив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Нет клюва, а клю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Надежда</cp:lastModifiedBy>
  <dcterms:modified xsi:type="dcterms:W3CDTF">2013-04-26T04:15:09Z</dcterms:modified>
  <cp:revision>40</cp:revision>
  <dc:subject/>
  <dc:title>ThemeGallery PowerTemplate</dc:title>
</cp:coreProperties>
</file>