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26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9.wmf" ContentType="image/x-wmf"/>
  <Override PartName="/ppt/media/image5.jpeg" ContentType="image/jpeg"/>
  <Override PartName="/ppt/media/image22.jpeg" ContentType="image/jpeg"/>
  <Override PartName="/ppt/media/image2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B7D-41D6-49BE-8DFD-DF3A466E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171-B964-48C2-BA00-2DB1E568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0D1-DBCB-4682-B636-A0CCF9DA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813-0657-4E05-8C10-84918F1C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25FA-F1E7-4C19-9007-E3007C94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00F4-96D6-433F-AFA1-F5047B4E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E280-279D-410D-A2A6-582D17A3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A39B-5DCF-4C9E-8F52-C58E8789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82FD-0495-42BB-86BB-C9A3AE58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1B12-3DA4-4B78-B9DC-CA2E3AF5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5AD6-7BA3-4A4B-8280-2C4E5E5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1D3-5401-434C-A3B3-87CCA2E0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1D81-B2BC-4F21-9E96-B9EFE31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F722-995C-4366-ADAA-953A4747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4F45-DC04-41C0-B4AD-F6D75CC4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4254-A246-4BF6-8338-1BC059E3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2A94-F766-4FA3-A506-1E376CA2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A54-874C-47B9-9FCF-063985C7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A17-B076-4186-9499-1B7E3411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1EE-A415-4A13-9DEC-C067A77D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9D7-8C5E-4A6E-8690-43C0310D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521-5E24-4038-A456-4935040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718-0752-4E3F-9D55-06EC128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6BC-3169-4273-AB32-64A1C12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F4C4-DA17-4DD9-A9C9-2F18BB3FA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20D7-F2FA-4C86-AFFE-3375AFEE3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езентация </a:t>
            </a: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Автоматизац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звука р в словах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228600" y="4495680"/>
            <a:ext cx="208764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22860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33360" y="50695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моги Буратино подобрать к картинкам левого столбика подходящие картинки из правого столбика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(например: карась -осётр).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37908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724280" y="1600200"/>
            <a:ext cx="355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информационные ресурсы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омарова, Л.А.      Автоматизация звука Р в игровых упражнениях. Альбом дошкольника / Л.А. Комарова. — М.: Издательство ГНОМ и Д, 2008. - 3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Зуева Л.Н.Логопедия для дошкольников: Звуки Р, Л: Альбом 3 / Л.Н. Зуева,    Н.Ю. Костылева, О.П. Солошенко. - М.: ООО «Издательство Аст-рель»: 000 «Издательство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ACT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», 200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оноваленко В.В.Пишем и читаем.-Тетради № 1,2.М.Издатель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«Гном и Д», 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Ткаченко Т.А. Логопедическая энциклопедия. — М.: ООО ТД «Издательство Мир книги», 2008. — 248 с: ил.; 32 с. вкл. ц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Бабина Г.В., Сафонкина Н.Ю. Б 12 Слоговая структура слова: обследовани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формирование у детей с недоразвитием речи. Учебно-методическое пособ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forchel.ru         http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//aida.ucoz.ru  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http://skyclipart.ru/index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stellar"/>
              </a:rPr>
              <a:t>Спасибо</a:t>
            </a: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stellar"/>
              </a:rPr>
              <a:t>за работу.</a:t>
            </a: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25236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1295280" y="449568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295280" y="450360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97" name="Picture 17" descr="090"/>
          <p:cNvPicPr/>
          <p:nvPr/>
        </p:nvPicPr>
        <p:blipFill>
          <a:blip r:embed="rId1"/>
          <a:stretch/>
        </p:blipFill>
        <p:spPr>
          <a:xfrm>
            <a:off x="457200" y="2133720"/>
            <a:ext cx="357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Цели: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.Закрепить правильное  произношение звука Р в сло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.Учить выделять звук р из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3.Учить определять место звука в сл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4.Учить звуковому анализу слова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ры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5.Развивать логическое мышление и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.Закрепить деление слов на с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"/>
          <p:cNvSpPr/>
          <p:nvPr/>
        </p:nvSpPr>
        <p:spPr>
          <a:xfrm>
            <a:off x="4419720" y="50292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егодня к нам на занятие пришёл Петрушка. Он будет слушать и смотреть, как ты будешь заниматься.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ассмотри картинки, вспомни, как называются упражнения для язычка, выполни их перед зеркалом.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16072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3124080" y="1444680"/>
            <a:ext cx="2438640" cy="2219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"/>
          <p:cNvPicPr/>
          <p:nvPr/>
        </p:nvPicPr>
        <p:blipFill>
          <a:blip r:embed="rId3"/>
          <a:srcRect l="1908" t="1563" r="1908" b="1563"/>
          <a:stretch/>
        </p:blipFill>
        <p:spPr>
          <a:xfrm>
            <a:off x="3276720" y="3962520"/>
            <a:ext cx="2133360" cy="251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5" descr=""/>
          <p:cNvPicPr/>
          <p:nvPr/>
        </p:nvPicPr>
        <p:blipFill>
          <a:blip r:embed="rId4"/>
          <a:srcRect l="1895" t="1592" r="0" b="0"/>
          <a:stretch/>
        </p:blipFill>
        <p:spPr>
          <a:xfrm>
            <a:off x="6539040" y="1447920"/>
            <a:ext cx="19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3"/>
          <p:cNvPicPr/>
          <p:nvPr/>
        </p:nvPicPr>
        <p:blipFill>
          <a:blip r:embed="rId5"/>
          <a:stretch/>
        </p:blipFill>
        <p:spPr>
          <a:xfrm>
            <a:off x="6324480" y="4038480"/>
            <a:ext cx="236232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8"/>
          <p:cNvGraphicFramePr/>
          <p:nvPr/>
        </p:nvGraphicFramePr>
        <p:xfrm>
          <a:off x="609480" y="4114800"/>
          <a:ext cx="1987560" cy="220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4114800"/>
                    <a:ext cx="1987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ови картинки со звуком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, определ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есто звука в слове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7" name="Picture 4" descr="рубашка"/>
          <p:cNvPicPr/>
          <p:nvPr/>
        </p:nvPicPr>
        <p:blipFill>
          <a:blip r:embed="rId1"/>
          <a:stretch/>
        </p:blipFill>
        <p:spPr>
          <a:xfrm>
            <a:off x="4924440" y="1066680"/>
            <a:ext cx="1795320" cy="221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828800" cy="1919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4"/>
          <a:stretch/>
        </p:blipFill>
        <p:spPr>
          <a:xfrm>
            <a:off x="2057400" y="137160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5"/>
          <a:stretch/>
        </p:blipFill>
        <p:spPr>
          <a:xfrm>
            <a:off x="7010280" y="914400"/>
            <a:ext cx="18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6"/>
          <a:stretch/>
        </p:blipFill>
        <p:spPr>
          <a:xfrm>
            <a:off x="7688160" y="3124080"/>
            <a:ext cx="1125720" cy="2895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7"/>
          <a:stretch/>
        </p:blipFill>
        <p:spPr>
          <a:xfrm>
            <a:off x="2743200" y="3962520"/>
            <a:ext cx="2124000" cy="1896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8"/>
          <a:stretch/>
        </p:blipFill>
        <p:spPr>
          <a:xfrm>
            <a:off x="4952880" y="3733920"/>
            <a:ext cx="26244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пражнение «Подбери слово-предмет».</a:t>
            </a: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 Послушай слова-признаки и назови тот предмет, к которому они относятся.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Образец: спелый, сочный — ... (арбуз).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48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кругленный прямоугольник 42"/>
          <p:cNvSpPr/>
          <p:nvPr/>
        </p:nvSpPr>
        <p:spPr>
          <a:xfrm>
            <a:off x="304920" y="4267080"/>
            <a:ext cx="2181240" cy="18576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пражнение «4 лишний»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61640" y="2480760"/>
            <a:ext cx="2810520" cy="2200680"/>
          </a:xfrm>
          <a:prstGeom prst="rect">
            <a:avLst/>
          </a:prstGeom>
          <a:solidFill>
            <a:srgbClr val="008000"/>
          </a:solidFill>
          <a:ln w="25560">
            <a:solidFill>
              <a:srgbClr val="b97702"/>
            </a:solidFill>
            <a:round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58d"/>
                </a:solidFill>
                <a:latin typeface="Arial"/>
              </a:rPr>
              <a:t>Рассмотри картинки, назови.Най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58d"/>
                </a:solidFill>
                <a:latin typeface="Arial"/>
              </a:rPr>
              <a:t>лишний пред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df5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44"/>
          <p:cNvSpPr/>
          <p:nvPr/>
        </p:nvSpPr>
        <p:spPr>
          <a:xfrm>
            <a:off x="152280" y="1143000"/>
            <a:ext cx="2362320" cy="1752480"/>
          </a:xfrm>
          <a:prstGeom prst="roundRect">
            <a:avLst>
              <a:gd name="adj" fmla="val 18269"/>
            </a:avLst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1" name="Picture 30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69800" y="1219320"/>
            <a:ext cx="1727280" cy="1644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2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33520" y="4343400"/>
            <a:ext cx="1798560" cy="1676520"/>
          </a:xfrm>
          <a:prstGeom prst="rect">
            <a:avLst/>
          </a:prstGeom>
          <a:ln w="0">
            <a:noFill/>
          </a:ln>
        </p:spPr>
      </p:pic>
      <p:sp>
        <p:nvSpPr>
          <p:cNvPr id="173" name="Скругленный прямоугольник 46"/>
          <p:cNvSpPr/>
          <p:nvPr/>
        </p:nvSpPr>
        <p:spPr>
          <a:xfrm>
            <a:off x="6019920" y="990720"/>
            <a:ext cx="2286000" cy="1838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4" name="Picture 33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248520" y="1143000"/>
            <a:ext cx="1831680" cy="1600200"/>
          </a:xfrm>
          <a:prstGeom prst="rect">
            <a:avLst/>
          </a:prstGeom>
          <a:ln w="0">
            <a:noFill/>
          </a:ln>
        </p:spPr>
      </p:pic>
      <p:sp>
        <p:nvSpPr>
          <p:cNvPr id="175" name="Скругленный прямоугольник 45"/>
          <p:cNvSpPr/>
          <p:nvPr/>
        </p:nvSpPr>
        <p:spPr>
          <a:xfrm>
            <a:off x="5943600" y="4267080"/>
            <a:ext cx="2428920" cy="1928880"/>
          </a:xfrm>
          <a:prstGeom prst="roundRect">
            <a:avLst>
              <a:gd name="adj" fmla="val 16667"/>
            </a:avLst>
          </a:prstGeom>
          <a:solidFill>
            <a:srgbClr val="e7b016"/>
          </a:solidFill>
          <a:ln w="25560">
            <a:solidFill>
              <a:srgbClr val="f6e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6" name="Picture 35" descr="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6248520" y="4343400"/>
            <a:ext cx="1703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пражнение «Весёлый поезд»</a:t>
            </a:r>
            <a:br>
              <a:rPr sz="3200"/>
            </a:b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омоги пассажирам отправиться в путешествие на весёлом поезде. Назови каждого пассажира, выделяя звук Р. Прохлопай в ладоши количество слогов в каждом слове, и ты узнаешь, кто в каком вагоне поедет (количество слогов в слове совпадает с количеством окошек вагонч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07960" y="990720"/>
            <a:ext cx="4064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Что забыл нарисовать художник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смотри внимательно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ртинки, которые нарисов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ран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ие детали он забыл нарисовать у этих предме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апример: самовар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ез к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456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тгадай загадку, выложи из фишек слово-отгадку, проверь ответ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876920" y="5029200"/>
          <a:ext cx="4038480" cy="94464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733560" cy="2563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752480"/>
            <a:ext cx="49528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ог нет, да не догон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 хвостом, а не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 воде она 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ет клюва, а клю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Надежда</cp:lastModifiedBy>
  <dcterms:modified xsi:type="dcterms:W3CDTF">2013-04-26T04:15:09Z</dcterms:modified>
  <cp:revision>40</cp:revision>
  <dc:subject/>
  <dc:title>ThemeGallery PowerTemplate</dc:title>
</cp:coreProperties>
</file>