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7743-A65E-4EC7-935B-B74136DD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C00F-0602-4C42-B2B1-094D119A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ED3F-731F-478E-A3FB-D52F91E5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6E16-7B72-4D13-942B-02D1E4749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CF6F-5F93-4BA1-AB8D-E39D716E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5830-7127-4F51-81D3-6D68CFAD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2A3B-07BE-4F93-BE3D-8B3A7695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5CE4-DAC5-4B69-8F72-2A4C73B7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1894-AED8-4ECC-8E8C-B5B577BF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9BFC-C3A2-44AE-9A27-4769213F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0019-E3F1-46A0-A7E4-5532227E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1F8A-0A11-43B2-848F-8D2D759D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7D81-D34F-4B38-B853-7060489FAA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9" descr="G:\Документы для работы\программа Здоровье на Грант\Оформление для слайдов от Марины\фон_заголовок_21х60(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85480"/>
            <a:ext cx="64008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Презентац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Рабочей  програм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круж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совместной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Родителей и дете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«Бумажкино царств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8" descr="http://im8-tub.yandex.net/i?id=384979626-12-72"/>
          <p:cNvPicPr/>
          <p:nvPr/>
        </p:nvPicPr>
        <p:blipFill>
          <a:blip r:embed="rId2"/>
          <a:stretch/>
        </p:blipFill>
        <p:spPr>
          <a:xfrm>
            <a:off x="4714920" y="4071960"/>
            <a:ext cx="30002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G:\Документы для работы\программа Здоровье на Грант\Оформление для слайдов от Марины\фон_заголовок_21х60(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Заключительный этап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Задачи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632523"/>
                </a:solidFill>
                <a:uFillTx/>
                <a:latin typeface="Calibri"/>
              </a:rPr>
              <a:t>Для воспитателей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рганизовать презентацию детских работ, показать результаты детского творчества. Оценить участие родителе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632523"/>
                </a:solidFill>
                <a:uFillTx/>
                <a:latin typeface="Calibri"/>
              </a:rPr>
              <a:t>Для детей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: 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одготовить творческие работы, представить и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632523"/>
                </a:solidFill>
                <a:uFillTx/>
                <a:latin typeface="Calibri"/>
              </a:rPr>
              <a:t>Для родителей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едставить на презентацию альбомы с семейными поделками. Тематические панно. Образцы собственных графических схем, книжки – самоделки с оригамскими персонаж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http://im3-tub.yandex.net/i?id=98478684-35-72"/>
          <p:cNvPicPr/>
          <p:nvPr/>
        </p:nvPicPr>
        <p:blipFill>
          <a:blip r:embed="rId2"/>
          <a:stretch/>
        </p:blipFill>
        <p:spPr>
          <a:xfrm>
            <a:off x="7143840" y="5072040"/>
            <a:ext cx="17143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G:\Документы для работы\программа Здоровье на Грант\Оформление для слайдов от Марины\фон_заголовок_21х60(3).jpg"/>
          <p:cNvPicPr/>
          <p:nvPr/>
        </p:nvPicPr>
        <p:blipFill>
          <a:blip r:embed="rId1"/>
          <a:stretch/>
        </p:blipFill>
        <p:spPr>
          <a:xfrm>
            <a:off x="0" y="142920"/>
            <a:ext cx="9001080" cy="6715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1f497d"/>
                </a:solidFill>
                <a:uFillTx/>
                <a:latin typeface="Calibri"/>
              </a:rPr>
              <a:t>В результате изучения курса воспитанник должен знать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простейшие схемы складывани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международные условные знаки, принятые в ориг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понимать терминологию, принятую в оригам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овладеть основными приемами складыва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знать базовые формы и уметь их складыват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технику безопасности при работ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http://im3-tub.yandex.net/i?id=98478684-35-72"/>
          <p:cNvPicPr/>
          <p:nvPr/>
        </p:nvPicPr>
        <p:blipFill>
          <a:blip r:embed="rId2"/>
          <a:stretch/>
        </p:blipFill>
        <p:spPr>
          <a:xfrm>
            <a:off x="7143840" y="5072040"/>
            <a:ext cx="17143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G:\Документы для работы\программа Здоровье на Грант\Оформление для слайдов от Марины\фон_заголовок_21х60(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Программа предусматривает проведение различных видов занятий -  игровых занятий, занятий по памяти, занятий по развитию речи (обыгрывание фигурок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" descr="j0343359"/>
          <p:cNvPicPr/>
          <p:nvPr/>
        </p:nvPicPr>
        <p:blipFill>
          <a:blip r:embed="rId2">
            <a:lum bright="-4000"/>
          </a:blip>
          <a:stretch/>
        </p:blipFill>
        <p:spPr>
          <a:xfrm>
            <a:off x="3071880" y="3214800"/>
            <a:ext cx="22892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57200" y="285840"/>
          <a:ext cx="8229600" cy="514332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914400"/>
                <a:gridCol w="2743200"/>
              </a:tblGrid>
              <a:tr h="1285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зрастная груп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учебных заня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должительность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128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В н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В ме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В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12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шая груп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– 3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готовительная  груп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– 35 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Горизонтальный свиток 3"/>
          <p:cNvSpPr/>
          <p:nvPr/>
        </p:nvSpPr>
        <p:spPr>
          <a:xfrm>
            <a:off x="857160" y="214200"/>
            <a:ext cx="7286760" cy="635796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емь главных правил оригамис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.Готовь квадраты бумаги заране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2.Работай мол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3.Хочешь спросить – подними ру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4.Всегда держи фигурку так, как она нарисова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а доске или так, как ее держит преподавател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5.Сделал правильно сам – помоги сосе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6.Складывай фигуру на стол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7.После работы убери за собой рабочее мест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stock-photo--d-books-stacked-on-top-of-eachother-1768994"/>
          <p:cNvPicPr/>
          <p:nvPr/>
        </p:nvPicPr>
        <p:blipFill>
          <a:blip r:embed="rId1"/>
          <a:stretch/>
        </p:blipFill>
        <p:spPr>
          <a:xfrm>
            <a:off x="6480000" y="4500720"/>
            <a:ext cx="26640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Горизонтальный свиток 3"/>
          <p:cNvSpPr/>
          <p:nvPr/>
        </p:nvSpPr>
        <p:spPr>
          <a:xfrm>
            <a:off x="1000080" y="428760"/>
            <a:ext cx="7572600" cy="578628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Что требуется для начала заняти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1.познакомиться с историей ориг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2. выучить международные условные знак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инятые в ориг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3.понимать терминологию, принятую в ориг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4. овладеть основными приемами склады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5.знать базовые формы и уметь их складыв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6.запас белой и цветной бумаги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stock-photo--d-books-stacked-on-top-of-eachother-1768994"/>
          <p:cNvPicPr/>
          <p:nvPr/>
        </p:nvPicPr>
        <p:blipFill>
          <a:blip r:embed="rId1"/>
          <a:stretch/>
        </p:blipFill>
        <p:spPr>
          <a:xfrm>
            <a:off x="6480000" y="4500720"/>
            <a:ext cx="26640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G:\Документы для работы\программа Здоровье на Грант\Оформление для слайдов от Марины\фон_заголовок_21х60(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Что необходимо для занятий оригам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1.Набор цветной  бумаги для аппликации (двусторонней, мелованной и т.д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2.Заранее приготовленные квадраты или прямоугольники белой или цветной    бумаги         со стороной не менее 15- 20 с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3.набор цветного картона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4.бумага белая альбомная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5.ножницы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6.простой карандаш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7.линейка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8.клей – карандаш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9.Папка или коробка, куда можно складывать   сложенные на занятиях издел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http://im3-tub.yandex.net/i?id=98478684-35-72"/>
          <p:cNvPicPr/>
          <p:nvPr/>
        </p:nvPicPr>
        <p:blipFill>
          <a:blip r:embed="rId2"/>
          <a:stretch/>
        </p:blipFill>
        <p:spPr>
          <a:xfrm>
            <a:off x="7143840" y="5072040"/>
            <a:ext cx="17143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G:\Документы для работы\программа Здоровье на Грант\Оформление для слайдов от Марины\фон_заголовок_21х60(3).jpg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715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Совместная деятельность воспитателя и детей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Совместная деятельность воспитателя и детей – процесс взаимовоспитания, взаимооткрытия новых творческих возможносте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- заучивание стихов и загадок о природе, явлениях природ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- посещение цирковых представлений и т.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- работа со схема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- рассказы воспитателя, чтение детской художественной литератур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- создание книг – самодело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- игры с оригамскими игрушками по мотивам знакомых сказо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- разучивание диалогов по рекомендации педагога и разыгрывание их с помощью игрушек – орига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- создание театра орига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http://im3-tub.yandex.net/i?id=98478684-35-72"/>
          <p:cNvPicPr/>
          <p:nvPr/>
        </p:nvPicPr>
        <p:blipFill>
          <a:blip r:embed="rId2"/>
          <a:stretch/>
        </p:blipFill>
        <p:spPr>
          <a:xfrm>
            <a:off x="7143840" y="5072040"/>
            <a:ext cx="17143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G:\Документы для работы\программа Здоровье на Грант\Оформление для слайдов от Марины\фон_заголовок_21х60(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Совместная деятельность детей и родителе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Совместная деятельность детей и родителей  - процесс взаимообучения творчеству, взаимопомощи, уваж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- Просмотр передач о животны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- Придумывание веселых историй об игрушках орига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- Составление описательных рассказов об игрушках орига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- Придумывание характерного образа, имени игрушки орига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- Придумывание собственных авторских семейных схе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нахождение дополнительной информации о животном или растении, сделанном на занят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- Создание альбома с семейными поделка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- Придумывание загадок о какой – либо игрушке орига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http://im3-tub.yandex.net/i?id=98478684-35-72"/>
          <p:cNvPicPr/>
          <p:nvPr/>
        </p:nvPicPr>
        <p:blipFill>
          <a:blip r:embed="rId2"/>
          <a:stretch/>
        </p:blipFill>
        <p:spPr>
          <a:xfrm>
            <a:off x="7143840" y="5072040"/>
            <a:ext cx="17143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G:\Документы для работы\программа Здоровье на Грант\Оформление для слайдов от Марины\фон_заголовок_21х60(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Самостоятельная деятельность дете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Проговаривание последовательности сборки ориг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- Обмен мыслями, знаниями, чувств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- Создание своего альбома подело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- Изготовление поделки по желани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- Игры с игрушками ориг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- Экспериментирование с бумаго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- Осуществление анализа и синтеза в процессе сборки ориг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- Зарисовывание воображаемого мира для игрушки ориг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- Изготовление игрушек для малыше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«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Умей занять детей – вот единственное правило дисциплины»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.В.Луначар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G:\Документы для работы\программа Здоровье на Грант\Оформление для слайдов от Марины\фон_заголовок_21х60(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15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Умей занять детей – вот единственное правило дисциплины»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А.В.Луначар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ще в начале века был сделан вывод педагогами и психологами, о том, что предметы эстетические: лепка, рисование, пение, музыка и ручной труд – отнюдь не являются чем – то второстепенным, какой – то роскошью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учной труд в детском саду должен опережать все другие занятия или, по крайней мере, начинаться одновременно с ни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G:\Документы для работы\программа Здоровье на Грант\Оформление для слайдов от Марины\фон_заголовок_21х60(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азвитие творческих способностей ребенка  в процессе обучения искусству ориг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сполнительские: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ыразительность речи, мим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ечетворчество: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идумывание имен своим поделкам, составление рассказов о них, передача настро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Художественные: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ередача настроения, передача характера образа, передача своего отношения к образ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онструктивные: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чтение схем, создание собственных сх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G:\Документы для работы\программа Здоровье на Грант\Оформление для слайдов от Марины\фон_заголовок_21х60(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Дипло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Вручается _____________________________________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Ф.И ребен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За успешное окончание школы оригами с правом конструирования сказочных животных и растени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Грамот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Вручается  __________________________________________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Ф.И.О. родител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За выдержку и терпение в освоении искусства оригам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G:\Документы для работы\программа Здоровье на Грант\Оформление для слайдов от Марины\фон_заголовок_21х60(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43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Творчество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всегда результат работы мысли, создающей нечто новое, ведущей к открытиям, решению жизненных практических задач. Развитию детского творчества способствует такое искусство как ориг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названии этого искусства звучит и его основная идея.  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«Ори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японском языке обозначает «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складываю», а «ками» - «бумага»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продуктивная деятельность, результат которой ребенок видит сраз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 процесс изготовления бумажных фигурок способствует решению многих задач стоящих перед дошкольным воспитанием. Прежде всего, 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это развитие мелкой моторики рук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, что оригами развивает кисти рук – бесспорный факт. Занятия оригами способствуют развитию и психических процессов, таких как 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память, внимание, мышление, воображ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G:\Документы для работы\программа Здоровье на Грант\Оформление для слайдов от Марины\фон_заголовок_21х60(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чая учебная программа «Бумажкино царство» разработана на основе методических рекомендаций Т.В.Дороновой, Е.В.Соловьевой, С.Г.Якобсон, С.В.Соколовой, О.М.Жихаревой. Система работы по обучению детей технике оригами адресована воспитанникам старшей и подготовительной групп и их родителям. Программа  рассчитана на 2 годичный срок обучения. В старшей группе дети и их родители   знакомятся с историей оригами, с международными условными знаками, с терминологией, принятыми в оригами, овладевают основными приемами складывания, учатся  складывать базовые форм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Выноска со стрелкой вниз 3"/>
          <p:cNvSpPr/>
          <p:nvPr/>
        </p:nvSpPr>
        <p:spPr>
          <a:xfrm>
            <a:off x="642960" y="571680"/>
            <a:ext cx="7143840" cy="5929200"/>
          </a:xfrm>
          <a:prstGeom prst="downArrowCallout">
            <a:avLst>
              <a:gd name="adj1" fmla="val 10510"/>
              <a:gd name="adj2" fmla="val 25000"/>
              <a:gd name="adj3" fmla="val 25000"/>
              <a:gd name="adj4" fmla="val 7035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13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Це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ъединить усилия детского сада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емь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развитии творческих способнос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тей средствами ориг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0" descr="stock-photo-professor-series-m-65128369"/>
          <p:cNvPicPr/>
          <p:nvPr/>
        </p:nvPicPr>
        <p:blipFill>
          <a:blip r:embed="rId1"/>
          <a:stretch/>
        </p:blipFill>
        <p:spPr>
          <a:xfrm>
            <a:off x="6500880" y="4454640"/>
            <a:ext cx="233028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Выноска со стрелкой вниз 3"/>
          <p:cNvSpPr/>
          <p:nvPr/>
        </p:nvSpPr>
        <p:spPr>
          <a:xfrm>
            <a:off x="500040" y="357120"/>
            <a:ext cx="8072640" cy="5643720"/>
          </a:xfrm>
          <a:prstGeom prst="downArrowCallout">
            <a:avLst>
              <a:gd name="adj1" fmla="val -7808"/>
              <a:gd name="adj2" fmla="val 24998"/>
              <a:gd name="adj3" fmla="val 25000"/>
              <a:gd name="adj4" fmla="val 7283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учить детей конструировать по типу оригами, используя графический язык ориг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вивать эстетическое восприятие, компоновать готовые оригам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панно, учить созерцать красоту, наслаждаться е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сширять представление детей  о разнообразии  животного и растительного мира, активизировать их познавательную и речевую актив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 воспитывать у детей внимание, собранность, дисциплинированность, уверенность в своих силах и способност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0" descr="stock-photo-professor-series-m-65128369"/>
          <p:cNvPicPr/>
          <p:nvPr/>
        </p:nvPicPr>
        <p:blipFill>
          <a:blip r:embed="rId1"/>
          <a:stretch/>
        </p:blipFill>
        <p:spPr>
          <a:xfrm>
            <a:off x="6500880" y="4454640"/>
            <a:ext cx="233028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G:\Документы для работы\программа Здоровье на Грант\Оформление для слайдов от Марины\фон_заголовок_21х60(3).jpg"/>
          <p:cNvPicPr/>
          <p:nvPr/>
        </p:nvPicPr>
        <p:blipFill>
          <a:blip r:embed="rId1"/>
          <a:stretch/>
        </p:blipFill>
        <p:spPr>
          <a:xfrm>
            <a:off x="214200" y="0"/>
            <a:ext cx="89298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истема педагогического взаимодейств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ованное обуч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местная деятельность взрослого с ребенк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амостоятельная деятельность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7" descr="stock-photo-magnifying-glass-11647426"/>
          <p:cNvPicPr/>
          <p:nvPr/>
        </p:nvPicPr>
        <p:blipFill>
          <a:blip r:embed="rId2"/>
          <a:stretch/>
        </p:blipFill>
        <p:spPr>
          <a:xfrm>
            <a:off x="1071720" y="3714840"/>
            <a:ext cx="20714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G:\Документы для работы\программа Здоровье на Грант\Оформление для слайдов от Марины\фон_заголовок_21х60(3).jpg"/>
          <p:cNvPicPr/>
          <p:nvPr/>
        </p:nvPicPr>
        <p:blipFill>
          <a:blip r:embed="rId1"/>
          <a:stretch/>
        </p:blipFill>
        <p:spPr>
          <a:xfrm>
            <a:off x="214200" y="0"/>
            <a:ext cx="89298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alibri"/>
              </a:rPr>
              <a:t>Этапы и основные мероприятия при освоении искусства орига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58ed5"/>
                </a:solidFill>
                <a:latin typeface="Calibri"/>
              </a:rPr>
              <a:t>Подготовительный этап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632523"/>
                </a:solidFill>
                <a:uFillTx/>
                <a:latin typeface="Calibri"/>
              </a:rPr>
              <a:t>Для воспитателей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познакомить детей с искусством оригами, создать единственное образовательное пространство детского сада и семьи для решения поставленной проблем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632523"/>
                </a:solidFill>
                <a:uFillTx/>
                <a:latin typeface="Calibri"/>
              </a:rPr>
              <a:t>Для детей: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усвоить, что такое орига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632523"/>
                </a:solidFill>
                <a:uFillTx/>
                <a:latin typeface="Calibri"/>
              </a:rPr>
              <a:t>Для родителей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познакомиться с программой, заинтересовать ребенка в изготовлении бумажных игрушек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G:\Документы для работы\программа Здоровье на Грант\Оформление для слайдов от Марины\фон_заголовок_21х60(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70c0"/>
                </a:solidFill>
                <a:latin typeface="Calibri"/>
              </a:rPr>
              <a:t>Основной этап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70c0"/>
                </a:solidFill>
                <a:latin typeface="Calibri"/>
              </a:rPr>
              <a:t>Задачи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632523"/>
                </a:solidFill>
                <a:uFillTx/>
                <a:latin typeface="Calibri"/>
              </a:rPr>
              <a:t>Для воспитателей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: обучить детей искусству оригами, познакомить их с графическим языком оригами, развивать творческое воображение, познавательную и речевую активность, предлагать домашнее задание для родителей и дете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632523"/>
                </a:solidFill>
                <a:uFillTx/>
                <a:latin typeface="Calibri"/>
              </a:rPr>
              <a:t>Для детей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научиться самостоятельно, складывать простейшие оригами по схеме, оформлять их в небольшое панно, создавать свои игрушки, научиться творчески мыслить, собрать свой альбом поделок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632523"/>
                </a:solidFill>
                <a:uFillTx/>
                <a:latin typeface="Calibri"/>
              </a:rPr>
              <a:t>Для родителей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: поддерживать интерес к оригами. Стимулировать нестандартные и интересные решения, помогать детям в выполнении домашних работ, придумывать вместе с детьми своих «оригамских» животных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04:34:47Z</dcterms:created>
  <dc:creator>Ксения</dc:creator>
  <dc:description/>
  <dc:language>en-US</dc:language>
  <cp:lastModifiedBy>Ксения</cp:lastModifiedBy>
  <dcterms:modified xsi:type="dcterms:W3CDTF">2011-07-19T04:47:12Z</dcterms:modified>
  <cp:revision>2</cp:revision>
  <dc:subject/>
  <dc:title>Слайд 1</dc:title>
</cp:coreProperties>
</file>