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29C-5CE6-4524-82FF-508FC769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535-C920-4C00-AB33-793DE0B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62B-7415-42F6-B3FD-E355D901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B33-B8F8-42A4-B4D1-1A536FF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109-8AEF-436D-8213-BF9B6D2B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44D-28E4-4EF3-864A-DD74F350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3C7-F550-40C0-A1EE-9A193E10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C9D-5BD5-41D4-92A2-D715B8BF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772-7448-448A-A4D0-7C6B2B2D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7B7-2169-4F16-839D-D05CE55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C06-FACC-456A-9812-59D2375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42F-BF56-4BDB-99A2-FB96573E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5612-540B-4AEF-9ABD-66FC257DF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9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85480"/>
            <a:ext cx="64008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езентац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абочей 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руж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совместно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Родителей и дет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«Бумажкино цар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http://im8-tub.yandex.net/i?id=384979626-12-72"/>
          <p:cNvPicPr/>
          <p:nvPr/>
        </p:nvPicPr>
        <p:blipFill>
          <a:blip r:embed="rId2"/>
          <a:stretch/>
        </p:blipFill>
        <p:spPr>
          <a:xfrm>
            <a:off x="4714920" y="4071960"/>
            <a:ext cx="3000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Заключительный эта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Задачи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рганизовать презентацию детских работ, показать результаты детского творчества. Оценить участие роди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дет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одготовить творческие работы, представить 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едставить на презентацию альбомы с семейными поделками. Тематические панно. Образцы собственных графических схем, книжки – самоделки с оригамскими персонаж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142920"/>
            <a:ext cx="9001080" cy="671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f497d"/>
                </a:solidFill>
                <a:uFillTx/>
                <a:latin typeface="Calibri"/>
              </a:rPr>
              <a:t>В результате изучения курса воспитанник должен знать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ростейшие схемы складывания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международные условные знаки, принятые в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понимать терминологию, принятую в орига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овладеть основными приемами складыва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знать базовые формы и уметь их складыва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технику безопасности при рабо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грамма предусматривает проведение различных видов занятий -  игровых занятий, занятий по памяти, занятий по развитию речи (обыгрывание фигурок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j0343359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3071880" y="3214800"/>
            <a:ext cx="2289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285840"/>
          <a:ext cx="8229600" cy="51433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914400"/>
                <a:gridCol w="2743200"/>
              </a:tblGrid>
              <a:tr h="1285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н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учебных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ме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В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12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шая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  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– 35 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Горизонтальный свиток 3"/>
          <p:cNvSpPr/>
          <p:nvPr/>
        </p:nvSpPr>
        <p:spPr>
          <a:xfrm>
            <a:off x="857160" y="214200"/>
            <a:ext cx="7286760" cy="63579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емь главных правил оригамис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.Готовь квадраты бумаги заран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2.Работай мол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3.Хочешь спросить – подними ру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4.Всегда держи фигурку так, как она нарисов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 доске или так, как ее держит преподават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5.Сделал правильно сам – помоги сосед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6.Складывай фигуру на ст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7.После работы убери за собой рабочее ме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stock-photo--d-books-stacked-on-top-of-eachother-1768994"/>
          <p:cNvPicPr/>
          <p:nvPr/>
        </p:nvPicPr>
        <p:blipFill>
          <a:blip r:embed="rId1"/>
          <a:stretch/>
        </p:blipFill>
        <p:spPr>
          <a:xfrm>
            <a:off x="6480000" y="4500720"/>
            <a:ext cx="266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Горизонтальный свиток 3"/>
          <p:cNvSpPr/>
          <p:nvPr/>
        </p:nvSpPr>
        <p:spPr>
          <a:xfrm>
            <a:off x="1000080" y="428760"/>
            <a:ext cx="7572600" cy="57862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требуется для начала заняти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познакомиться с историей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ыучить международные условные зна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нятые в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понимать терминологию, принятую в ориг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овладеть основными приемами склады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5.знать базовые формы и уметь их склады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6.запас белой и цветной бумаги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stock-photo--d-books-stacked-on-top-of-eachother-1768994"/>
          <p:cNvPicPr/>
          <p:nvPr/>
        </p:nvPicPr>
        <p:blipFill>
          <a:blip r:embed="rId1"/>
          <a:stretch/>
        </p:blipFill>
        <p:spPr>
          <a:xfrm>
            <a:off x="6480000" y="4500720"/>
            <a:ext cx="266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Что необходимо для занятий оригам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1.Набор цветной  бумаги для аппликации (двусторонней, мелованной и т.д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2.Заранее приготовленные квадраты или прямоугольники белой или цветной    бумаги         со стороной не менее 15- 20 с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3.набор цветного карто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4.бумага белая альбомн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5.ножниц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6.простой карандаш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7.линейк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8.клей – карандаш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9.Папка или коробка, куда можно складывать   сложенные на занятиях издел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вместная деятельность воспитателя и детей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вместная деятельность воспитателя и детей – процесс взаимовоспитания, взаимооткрытия новых творческих возможност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заучивание стихов и загадок о природе, явлениях приро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осещение цирковых представлений и т.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бота со схем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ссказы воспитателя, чтение детской художественной литерат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книг – самоде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игры с оригамскими игрушками по мотивам знакомых сказ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разучивание диалогов по рекомендации педагога и разыгрывание их с помощью игрушек –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театра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овместная деятельность детей и родителе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вместная деятельность детей и родителей  - процесс взаимообучения творчеству, взаимопомощи, уваж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осмотр передач о животны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веселых историй об игрушках ориг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ставление описательных рассказов об игрушках ориг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характерного образа, имени игрушки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собственных авторских семейных сх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ахождение дополнительной информации о животном или растении, сделанном на занят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Создание альбома с семейными подел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- Придумывание загадок о какой – либо игрушке ориг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http://im3-tub.yandex.net/i?id=98478684-35-72"/>
          <p:cNvPicPr/>
          <p:nvPr/>
        </p:nvPicPr>
        <p:blipFill>
          <a:blip r:embed="rId2"/>
          <a:stretch/>
        </p:blipFill>
        <p:spPr>
          <a:xfrm>
            <a:off x="7143840" y="507204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амостоятельная деятельность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Проговаривание последовательности сбор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Обмен мыслями, знаниями, чувств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Создание своего альбома подел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зготовление поделки по жела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гры с игрушкам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Экспериментирование с бумаг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Осуществление анализа и синтеза в процессе сбор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Зарисовывание воображаемого мира для игрушки ориг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- Изготовление игрушек для малыш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мей занять детей – вот единственное правило дисциплины»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В.Луначар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Умей занять детей – вот единственное правило дисциплины»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.В.Луначар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ще в начале века был сделан вывод педагогами и психологами, о том, что предметы эстетические: лепка, рисование, пение, музыка и ручной труд – отнюдь не являются чем – то второстепенным, какой – то роскошью жиз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учной труд в детском саду должен опережать все другие занятия или, по крайней мере, начинаться одновременно с 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звитие творческих способностей ребенка  в процессе обучения искусству ори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полнительски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ыразительность речи, мим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четворчество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думывание имен своим поделкам, составление рассказов о них, передача настро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удожествен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дача настроения, передача характера образа, передача своего отношения к обра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структивные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тение схем, создание собственных сх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Дипл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ручается _____________________________________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.И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 успешное окончание школы оригами с правом конструирования сказочных животных и растени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Грамот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ручается  __________________________________________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.И.О. род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 выдержку и терпение в освоении искусства ориг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Творчеств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сегда результат работы мысли, создающей нечто новое, ведущей к открытиям, решению жизненных практических задач. Развитию детского творчества способствует такое искусство как ориг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звании этого искусства звучит и его основная идея. 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«Ор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японском языке обозначает «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складываю», а «ками» - «бумага»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родуктивная деятельность, результат которой ребенок видит сра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 процесс изготовления бумажных фигурок способствует решению многих задач стоящих перед дошкольным воспитанием. Прежде всего,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это развитие мелкой моторики рук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, что оригами развивает кисти рук – бесспорный факт. Занятия оригами способствуют развитию и психических процессов, таких как </a:t>
            </a: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память, внимание, мышление, вообра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чая учебная программа «Бумажкино царство» разработана на основе методических рекомендаций Т.В.Дороновой, Е.В.Соловьевой, С.Г.Якобсон, С.В.Соколовой, О.М.Жихаревой. Система работы по обучению детей технике оригами адресована воспитанникам старшей и подготовительной групп и их родителям. Программа  рассчитана на 2 годичный срок обучения. В старшей группе дети и их родители   знакомятся с историей оригами, с международными условными знаками, с терминологией, принятыми в оригами, овладевают основными приемами складывания, учатся  складывать базовые ф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Выноска со стрелкой вниз 3"/>
          <p:cNvSpPr/>
          <p:nvPr/>
        </p:nvSpPr>
        <p:spPr>
          <a:xfrm>
            <a:off x="642960" y="571680"/>
            <a:ext cx="7143840" cy="5929200"/>
          </a:xfrm>
          <a:prstGeom prst="downArrowCallout">
            <a:avLst>
              <a:gd name="adj1" fmla="val 10510"/>
              <a:gd name="adj2" fmla="val 25000"/>
              <a:gd name="adj3" fmla="val 25000"/>
              <a:gd name="adj4" fmla="val 703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3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ъединить усилия детского сада 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мь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развитии творческих способ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тей средствами ориг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0" descr="stock-photo-professor-series-m-65128369"/>
          <p:cNvPicPr/>
          <p:nvPr/>
        </p:nvPicPr>
        <p:blipFill>
          <a:blip r:embed="rId1"/>
          <a:stretch/>
        </p:blipFill>
        <p:spPr>
          <a:xfrm>
            <a:off x="6500880" y="4454640"/>
            <a:ext cx="233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Выноска со стрелкой вниз 3"/>
          <p:cNvSpPr/>
          <p:nvPr/>
        </p:nvSpPr>
        <p:spPr>
          <a:xfrm>
            <a:off x="500040" y="357120"/>
            <a:ext cx="8072640" cy="5643720"/>
          </a:xfrm>
          <a:prstGeom prst="downArrowCallout">
            <a:avLst>
              <a:gd name="adj1" fmla="val -7808"/>
              <a:gd name="adj2" fmla="val 24998"/>
              <a:gd name="adj3" fmla="val 25000"/>
              <a:gd name="adj4" fmla="val 72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учить детей конструировать по типу оригами, используя графический язык ориг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вать эстетическое восприятие, компоновать готовые орига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анно, учить созерцать красоту, наслаждаться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ширять представление детей  о разнообразии  животного и растительного мира, активизировать их познавательную и речевую актив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воспитывать у детей внимание, собранность, дисциплинированность, уверенность в своих силах и способно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0" descr="stock-photo-professor-series-m-65128369"/>
          <p:cNvPicPr/>
          <p:nvPr/>
        </p:nvPicPr>
        <p:blipFill>
          <a:blip r:embed="rId1"/>
          <a:stretch/>
        </p:blipFill>
        <p:spPr>
          <a:xfrm>
            <a:off x="6500880" y="4454640"/>
            <a:ext cx="23302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истема педагогического взаимо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нное обу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местная деятельность взрослого с ребен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стоятельная деятельность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7" descr="stock-photo-magnifying-glass-11647426"/>
          <p:cNvPicPr/>
          <p:nvPr/>
        </p:nvPicPr>
        <p:blipFill>
          <a:blip r:embed="rId2"/>
          <a:stretch/>
        </p:blipFill>
        <p:spPr>
          <a:xfrm>
            <a:off x="1071720" y="3714840"/>
            <a:ext cx="20714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Этапы и основные мероприятия при освоении искусства ориг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58ed5"/>
                </a:solidFill>
                <a:latin typeface="Calibri"/>
              </a:rPr>
              <a:t>Подготовительный эта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познакомить детей с искусством оригами, создать единственное образовательное пространство детского сада и семьи для решения поставленной проблем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детей: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своить, что такое ориг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познакомиться с программой, заинтересовать ребенка в изготовлении бумажных игруш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G:\Документы для работы\программа Здоровье на Грант\Оформление для слайдов от Марины\фон_заголовок_21х60(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Основной эта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Задачи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воспитател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: обучить детей искусству оригами, познакомить их с графическим языком оригами, развивать творческое воображение, познавательную и речевую активность, предлагать домашнее задание для родителей и дет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детей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научиться самостоятельно, складывать простейшие оригами по схеме, оформлять их в небольшое панно, создавать свои игрушки, научиться творчески мыслить, собрать свой альбом под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632523"/>
                </a:solidFill>
                <a:uFillTx/>
                <a:latin typeface="Calibri"/>
              </a:rPr>
              <a:t>Для родителей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: поддерживать интерес к оригами. Стимулировать нестандартные и интересные решения, помогать детям в выполнении домашних работ, придумывать вместе с детьми своих «оригамских» животных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4:34:47Z</dcterms:created>
  <dc:creator>Ксения</dc:creator>
  <dc:description/>
  <dc:language>en-US</dc:language>
  <cp:lastModifiedBy>Ксения</cp:lastModifiedBy>
  <dcterms:modified xsi:type="dcterms:W3CDTF">2011-07-19T04:47:12Z</dcterms:modified>
  <cp:revision>2</cp:revision>
  <dc:subject/>
  <dc:title>Слайд 1</dc:title>
</cp:coreProperties>
</file>