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10A-5618-425D-A3D9-45485CF4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804-4EFC-4A8F-B1BC-9F0C0CE6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4695-590B-4B6D-8EE9-686925F7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A217-0CF9-43B2-A788-0CE4CD1D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C8D-01AA-424D-9C3F-A65513A2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3E1-A3F7-4BF4-B303-F3118D19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B47-5655-4651-A456-67412D50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8A7-3E44-422A-956F-BC23B89B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DAE-AEDB-4982-BB63-DA05F8BC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BB6-1713-4173-96E9-01F84487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621-A518-4799-9DD7-31356F8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5C3-8969-4EE6-9E7F-25EE9F86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53E-FBB9-4EAB-9691-04726CCB9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file:///&#1095;&#1077;&#1084;%20&#1087;&#1080;&#1090;&#1072;&#1102;&#1090;&#1089;&#1103;.doc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hyperlink" Target="http://ru.wikipedia.org/wiki/&#1055;&#1088;&#1080;&#1096;&#1074;&#1080;&#1085;,_&#1052;&#1080;&#1093;&#1072;&#1080;&#1083;_&#1052;&#1080;&#1093;&#1072;&#1081;&#1083;&#1086;&#1074;&#1080;&#1095;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85;&#1072;&#1073;&#1083;&#1102;&#1076;&#1072;&#1077;&#1084;%20&#1095;&#1080;&#1073;&#1080;&#1089;&#1072;%20&#1074;%20&#1087;&#1088;&#1080;&#1088;&#1086;&#1076;&#1077;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loranimal.ru/pages/animal/ch/1376.html" TargetMode="External"/><Relationship Id="rId3" Type="http://schemas.openxmlformats.org/officeDocument/2006/relationships/hyperlink" Target="http://www.floranimal.ru/pages/animal/ch/1376.html" TargetMode="External"/><Relationship Id="rId4" Type="http://schemas.openxmlformats.org/officeDocument/2006/relationships/hyperlink" Target="http://pticy.dljatebja.ru/Pticy/Chibis.html" TargetMode="External"/><Relationship Id="rId5" Type="http://schemas.openxmlformats.org/officeDocument/2006/relationships/hyperlink" Target="http://ru.wikipedia.org/wiki/Vanellus_vanellus" TargetMode="External"/><Relationship Id="rId6" Type="http://schemas.openxmlformats.org/officeDocument/2006/relationships/hyperlink" Target="http://www.rbcu.ru/gallery/empty/333/4425/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hyperlink" Target="file:///&#1074;&#1085;&#1077;&#1096;&#1085;&#1080;&#1081;%20&#1074;&#1080;&#1076;.doc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90;&#1086;&#1082;&#1086;&#1074;&#1072;&#1085;&#1080;&#1077;%20&#1080;%20&#1087;&#1086;&#1089;&#1090;&#1088;&#1086;&#1081;&#1082;&#1072;%20&#1075;&#1085;&#1077;&#1079;&#1076;&#1072;.doc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371600" y="914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имвол года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 rot="819000">
            <a:off x="1143000" y="137160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БИ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791320" y="4191120"/>
            <a:ext cx="2819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земцева В.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Полта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алинский рай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4920" y="47242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Продолжительность насиживания 24—29 суток. В конце мая появляются птенцы, которые в возрасте 33 дней, т. е. в начале июля, становятся летными.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птенец1"/>
          <p:cNvPicPr/>
          <p:nvPr/>
        </p:nvPicPr>
        <p:blipFill>
          <a:blip r:embed="rId2"/>
          <a:stretch/>
        </p:blipFill>
        <p:spPr>
          <a:xfrm>
            <a:off x="4648320" y="3808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птенец 4"/>
          <p:cNvPicPr/>
          <p:nvPr/>
        </p:nvPicPr>
        <p:blipFill>
          <a:blip r:embed="rId3"/>
          <a:stretch/>
        </p:blipFill>
        <p:spPr>
          <a:xfrm>
            <a:off x="304920" y="3808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птенец в траве"/>
          <p:cNvPicPr/>
          <p:nvPr/>
        </p:nvPicPr>
        <p:blipFill>
          <a:blip r:embed="rId1"/>
          <a:stretch/>
        </p:blipFill>
        <p:spPr>
          <a:xfrm>
            <a:off x="304920" y="304920"/>
            <a:ext cx="259056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Рисунок1"/>
          <p:cNvPicPr/>
          <p:nvPr/>
        </p:nvPicPr>
        <p:blipFill>
          <a:blip r:embed="rId2"/>
          <a:stretch/>
        </p:blipFill>
        <p:spPr>
          <a:xfrm>
            <a:off x="3124080" y="304920"/>
            <a:ext cx="2664000" cy="2895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724280" y="3200400"/>
            <a:ext cx="41911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росшие выводки соединяются в стайки, которые сначала держатся по берегам речек и прудов, потом, собравшись в большие стаи, перекочевывают на обширные болота и луга, а затем и в речные долины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ктивно питаются.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летают чибисы в сентяб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line15"/>
          <p:cNvPicPr/>
          <p:nvPr/>
        </p:nvPicPr>
        <p:blipFill>
          <a:blip r:embed="rId4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PGYQHXCAKC2BMQCA4TC4AOCAS2O5TICA12A33CCA0V1HR9CALN05X5CAAC883ECADKDC8HCA6P941PCA9VIQ0CCA4APPZFCAQY8E7GCAXO21M2CAE9F2MWCA73F6OWCAY5QHBRCAH44FSQCAPO3B9NCALFUEGW"/>
          <p:cNvPicPr/>
          <p:nvPr/>
        </p:nvPicPr>
        <p:blipFill>
          <a:blip r:embed="rId5"/>
          <a:stretch/>
        </p:blipFill>
        <p:spPr>
          <a:xfrm>
            <a:off x="6019920" y="3049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молодой и взрослый"/>
          <p:cNvPicPr/>
          <p:nvPr/>
        </p:nvPicPr>
        <p:blipFill>
          <a:blip r:embed="rId6"/>
          <a:stretch/>
        </p:blipFill>
        <p:spPr>
          <a:xfrm>
            <a:off x="380880" y="3352680"/>
            <a:ext cx="411480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533520" y="5943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ой и взрослый  чиб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800px-Kiebitz"/>
          <p:cNvPicPr/>
          <p:nvPr/>
        </p:nvPicPr>
        <p:blipFill>
          <a:blip r:embed="rId1"/>
          <a:stretch/>
        </p:blipFill>
        <p:spPr>
          <a:xfrm>
            <a:off x="1523880" y="1066680"/>
            <a:ext cx="6172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вышивка"/>
          <p:cNvPicPr/>
          <p:nvPr/>
        </p:nvPicPr>
        <p:blipFill>
          <a:blip r:embed="rId1"/>
          <a:stretch/>
        </p:blipFill>
        <p:spPr>
          <a:xfrm>
            <a:off x="2514600" y="914400"/>
            <a:ext cx="4572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марка"/>
          <p:cNvPicPr/>
          <p:nvPr/>
        </p:nvPicPr>
        <p:blipFill>
          <a:blip r:embed="rId2"/>
          <a:stretch/>
        </p:blipFill>
        <p:spPr>
          <a:xfrm>
            <a:off x="533520" y="1600200"/>
            <a:ext cx="3809880" cy="358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марка 4"/>
          <p:cNvPicPr/>
          <p:nvPr/>
        </p:nvPicPr>
        <p:blipFill>
          <a:blip r:embed="rId3"/>
          <a:stretch/>
        </p:blipFill>
        <p:spPr>
          <a:xfrm>
            <a:off x="4572000" y="1600200"/>
            <a:ext cx="4114800" cy="3581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371600" y="3808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Чибис  на  почтовых  мар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береги 2"/>
          <p:cNvPicPr/>
          <p:nvPr/>
        </p:nvPicPr>
        <p:blipFill>
          <a:blip r:embed="rId1"/>
          <a:stretch/>
        </p:blipFill>
        <p:spPr>
          <a:xfrm>
            <a:off x="380880" y="1447920"/>
            <a:ext cx="3581640" cy="4343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сохрани птицу"/>
          <p:cNvPicPr/>
          <p:nvPr/>
        </p:nvPicPr>
        <p:blipFill>
          <a:blip r:embed="rId2"/>
          <a:stretch/>
        </p:blipFill>
        <p:spPr>
          <a:xfrm>
            <a:off x="4952880" y="1447920"/>
            <a:ext cx="37339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066680" y="304920"/>
            <a:ext cx="75438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Берегите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Этикетки на спичечных короб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line15"/>
          <p:cNvPicPr/>
          <p:nvPr/>
        </p:nvPicPr>
        <p:blipFill>
          <a:blip r:embed="rId3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371600" y="380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бис в фолькл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Пришвин"/>
          <p:cNvPicPr/>
          <p:nvPr/>
        </p:nvPicPr>
        <p:blipFill>
          <a:blip r:embed="rId2"/>
          <a:stretch/>
        </p:blipFill>
        <p:spPr>
          <a:xfrm>
            <a:off x="457200" y="1295280"/>
            <a:ext cx="2540160" cy="349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380880" y="4952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Приш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038480" y="1371600"/>
            <a:ext cx="464832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вестный русский писател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хаил Пришви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писал про чибиса (лу́говку) рассказ «Лугов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глядел я туда, куда покосилась лошадь, и вижу — сидит луговка прямо на ходу у лошади.   Я тронул коня, луговка слетела, и показалось на земле пять яиц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т ведь как у них: невитые гнёзда, чуть только поцарапано, и прямо на земле лежат яйца, — чисто, как на ст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447920" y="380880"/>
            <a:ext cx="624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Чибис в фольклор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HC838DCA8XC691CADY9ULQCAER3YGECAYZVKVZCAE7H139CA3L1GCLCAIY1XD1CAE36E8KCAM56CEDCA4UK9K4CARYO67ICA1LQAAECA00CJBQCAFTR9V9CAJ72F3TCASTDU7OCA8316PKCA8439S5CANBVUTB"/>
          <p:cNvPicPr/>
          <p:nvPr/>
        </p:nvPicPr>
        <p:blipFill>
          <a:blip r:embed="rId2"/>
          <a:stretch/>
        </p:blipFill>
        <p:spPr>
          <a:xfrm>
            <a:off x="685800" y="152388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RI6NPUCAB6E085CA5RN7AYCACEAFC7CA6U1EXICAXQ7CDOCA9CQN4RCALL0PD1CA7YP46ACAHEM2Z0CAZ9SCXZCASHIAZXCAOG42DLCAXG3H4YCAPW8UXTCAGTC295CANIFCD6CAN3NDUTCAR4UEJ1CA7MQ2LL"/>
          <p:cNvPicPr/>
          <p:nvPr/>
        </p:nvPicPr>
        <p:blipFill>
          <a:blip r:embed="rId3"/>
          <a:stretch/>
        </p:blipFill>
        <p:spPr>
          <a:xfrm>
            <a:off x="685800" y="3944880"/>
            <a:ext cx="2057400" cy="2075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200400" y="15238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чибис голос.mp3" descr=""/>
          <p:cNvPicPr/>
          <p:nvPr/>
        </p:nvPicPr>
        <p:blipFill>
          <a:blip r:embed="rId4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4495680" y="1752480"/>
            <a:ext cx="3886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"У дороги чибис, У дороги чиб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н кричит, волнуется, чуд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«Ах, скажите, чьи 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х, скажите, чьи 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 зачем, зачем идёте вы сюда?»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.Пришелец (1947г.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У дороги чибис.mp3" descr=""/>
          <p:cNvPicPr/>
          <p:nvPr/>
        </p:nvPicPr>
        <p:blipFill>
          <a:blip r:embed="rId5"/>
          <a:stretch/>
        </p:blipFill>
        <p:spPr>
          <a:xfrm>
            <a:off x="8534520" y="5943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7924680" y="6095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1984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054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фарфор чибиса"/>
          <p:cNvPicPr/>
          <p:nvPr/>
        </p:nvPicPr>
        <p:blipFill>
          <a:blip r:embed="rId1"/>
          <a:stretch/>
        </p:blipFill>
        <p:spPr>
          <a:xfrm>
            <a:off x="1981080" y="838080"/>
            <a:ext cx="5105520" cy="4496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2133720" y="56386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елки из фар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1143000"/>
            <a:ext cx="8382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 настоящее время мы все обязаны помочь птицам, зимующим в нашей местности. Птицы голодают, потому что осенью прошлого года не было урожая рябины красной, калины, шиповника . Каждому из нас , следует развесить кормушки в парках, у себя дома и подкормить голодающих пти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572000" y="6095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аблюдаем чибисов в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429000" y="304920"/>
            <a:ext cx="5410080" cy="62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</a:rPr>
              <a:t>В России ежегодная кампания "Птица года" проводится с 1996 год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Ее цель - привлечь внимание жителей нашей страны к проблемам охраны птиц и их местообитаний. В ходе акции решаются комплекс взаимосвязанных задач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гитационно-пропагандистская работа, посвященная птице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бор сведений о ее распространении и числен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) комплекс практических мероприятий, направленный на решение проблем птицы года (организация биотехнических мероприятий, охраны мест обитания и т.д.) Но главное событие праздника - организация новоселья для пернаты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281952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Рисунок1"/>
          <p:cNvPicPr/>
          <p:nvPr/>
        </p:nvPicPr>
        <p:blipFill>
          <a:blip r:embed="rId3"/>
          <a:stretch/>
        </p:blipFill>
        <p:spPr>
          <a:xfrm>
            <a:off x="0" y="434340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вышивка"/>
          <p:cNvPicPr/>
          <p:nvPr/>
        </p:nvPicPr>
        <p:blipFill>
          <a:blip r:embed="rId4"/>
          <a:stretch/>
        </p:blipFill>
        <p:spPr>
          <a:xfrm>
            <a:off x="0" y="1371600"/>
            <a:ext cx="2819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962520" y="3338640"/>
            <a:ext cx="380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1600200" y="1295280"/>
            <a:ext cx="647712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Используемые ресур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oranimal.ru/pages/animal/ch/13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pticy.dljatebja.ru/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ru.wikipedia.org/wiki/Vanellus_vanel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rbcu.ru/gallery/empty/333/442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vegetarian.ru/news/detail.php?ID=3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y/Chibi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aterbirds.narod.ru/opis_gnezdo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990720" y="2438280"/>
            <a:ext cx="723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04920" y="457200"/>
            <a:ext cx="8839080" cy="62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бор чибиса птицей 2010 года не случаен. Популяция этого одного из самых крупных куликов в последние годы стремительно сокращ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ная причина тому - деятельность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к как чибис гнездится преимущественно в сельхозугодиях, многие чибисы погибают под сельскохозяйственной техникой или от рук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роме того, сказывается на численности чибиса и общий упадок сельского хозяйства в России, а также истощение черноземных поч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ньше коровы и бычки подрезали высокую траву, создавая для луговых птиц и зверей удобную среду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ейчас бывшие сенокосные луга и пастбища зарастают кустарником и становятся непригодными для чибиса и других луговых куликов. Кроме того, чибис ежегодно попадает под прицел охо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решена охота на чибиса в Европе, в Китае, а также в Иране и Передней Азии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880" y="609480"/>
            <a:ext cx="845820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Интересно, что чибиса в России в народе ещё зовут пигалицей или луговкой (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шивик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шик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(устар.)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), а в Украине и Польше называют ча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лавяне издавна любили эту птицу, запрещалось её убивать и гнезда не трогали. Это во многом поясняется средневековой легендой, по которой в плачущего чибиса (чайку) превратилась молодая жена, у которой враги убили мужа. Вот она летает над его могилой и громко плач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та птица – также образ бедной, горемычной матери: жнецы хотят забрать у нее детей, и птицы ее обижают. Рассказывают, что Богдан Хмельницкий  сделали эту птицу символом Украины-матери. Кто убьет «чайку», с тем случится несчастье, говорят в Украин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 flipV="1">
            <a:off x="1295280" y="36720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6002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Легенда о чиби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image209"/>
          <p:cNvPicPr/>
          <p:nvPr/>
        </p:nvPicPr>
        <p:blipFill>
          <a:blip r:embed="rId1"/>
          <a:stretch/>
        </p:blipFill>
        <p:spPr>
          <a:xfrm rot="21277200">
            <a:off x="2514240" y="487656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line15"/>
          <p:cNvPicPr/>
          <p:nvPr/>
        </p:nvPicPr>
        <p:blipFill>
          <a:blip r:embed="rId2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ost-22230-1210689219"/>
          <p:cNvPicPr/>
          <p:nvPr/>
        </p:nvPicPr>
        <p:blipFill>
          <a:blip r:embed="rId3"/>
          <a:stretch/>
        </p:blipFill>
        <p:spPr>
          <a:xfrm rot="20843400">
            <a:off x="5715000" y="4800240"/>
            <a:ext cx="19810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Чибис, или пигалица, или луговка, или вшивик, или пшик (устар.) — Vanellus vanellus"/>
          <p:cNvPicPr/>
          <p:nvPr/>
        </p:nvPicPr>
        <p:blipFill>
          <a:blip r:embed="rId2"/>
          <a:stretch/>
        </p:blipFill>
        <p:spPr>
          <a:xfrm>
            <a:off x="304920" y="1295280"/>
            <a:ext cx="4190760" cy="4724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447920" y="228600"/>
            <a:ext cx="6933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ибис (Vanellus vanel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тряд  ржанкооб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800600" y="137160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Чиб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игалиц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уговк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шивик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шик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(уста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029200" y="3124080"/>
            <a:ext cx="3581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   Чибис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еличиной с галку или чуть поменьше. От других куликов он легко отличается своей черно-белой окраской и тупыми крыльями. Размеры крыла 21,5- 23,75 санти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line15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расселение с картой"/>
          <p:cNvPicPr/>
          <p:nvPr/>
        </p:nvPicPr>
        <p:blipFill>
          <a:blip r:embed="rId2"/>
          <a:stretch/>
        </p:blipFill>
        <p:spPr>
          <a:xfrm>
            <a:off x="380880" y="1143000"/>
            <a:ext cx="388620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343400" y="533520"/>
            <a:ext cx="44197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бис гнездится с запада на восток от Британских до Японских остро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ая граница гнездовой области проходит по 62° северной широты в Европейской части России, по 58° на Енисее, 64° на Ангаре и, не захватывая бассейна Лены, идет через южную половину Забайкалья и Уссурийского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югу чибис гнездится в большей части Европы и даже в северо-западной Африке (Марокко). Гнездится в Закавказье, северной части Ирана, Средней Азии и южной Монгол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04920" y="5335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0880" y="304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Где гнездится  чиби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371600" y="2826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362320" y="227160"/>
            <a:ext cx="62481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6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иб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имвол 201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029200" y="1905120"/>
            <a:ext cx="3048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Чибис - птица пока довольно обычная в нашей стране, только в Челябинской области, по экспертной оценке, его   численность на гнездовании доходит до 100 000 пар, а на пролете и вовсе до миллиона особ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карта"/>
          <p:cNvPicPr/>
          <p:nvPr/>
        </p:nvPicPr>
        <p:blipFill>
          <a:blip r:embed="rId2"/>
          <a:stretch/>
        </p:blipFill>
        <p:spPr>
          <a:xfrm>
            <a:off x="609480" y="2057400"/>
            <a:ext cx="3048120" cy="3962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герб Челябинской области"/>
          <p:cNvPicPr/>
          <p:nvPr/>
        </p:nvPicPr>
        <p:blipFill>
          <a:blip r:embed="rId3"/>
          <a:stretch/>
        </p:blipFill>
        <p:spPr>
          <a:xfrm>
            <a:off x="990720" y="0"/>
            <a:ext cx="2209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4267080" y="762120"/>
            <a:ext cx="45720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Чибис прилетает на места гнездования очень рано, когда появляются проталины, с первой волной мигрантов: жаворонками, скворцами, дикими голуб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Гнездо устраивает в ямочке на земле, которая выстилается очень скудно сухой травой. На сырой почве дно и бока лотка имеют более обильную подстилку из сухой травы, иногда до 30 мм толщиной. Диаметр лотка 110—140 мм. </a:t>
            </a:r>
            <a:br>
              <a:rPr sz="2000"/>
            </a:b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  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остройке гнезда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приступает во второй половине апреля, а в последних числах этого месяца встречаются свежие кладки я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51_chibis"/>
          <p:cNvPicPr/>
          <p:nvPr/>
        </p:nvPicPr>
        <p:blipFill>
          <a:blip r:embed="rId3"/>
          <a:stretch/>
        </p:blipFill>
        <p:spPr>
          <a:xfrm>
            <a:off x="457200" y="762120"/>
            <a:ext cx="3657600" cy="246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4267080" y="46483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пара"/>
          <p:cNvPicPr/>
          <p:nvPr/>
        </p:nvPicPr>
        <p:blipFill>
          <a:blip r:embed="rId4"/>
          <a:stretch/>
        </p:blipFill>
        <p:spPr>
          <a:xfrm>
            <a:off x="457200" y="3352680"/>
            <a:ext cx="3657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line15"/>
          <p:cNvPicPr/>
          <p:nvPr/>
        </p:nvPicPr>
        <p:blipFill>
          <a:blip r:embed="rId1"/>
          <a:stretch/>
        </p:blipFill>
        <p:spPr>
          <a:xfrm>
            <a:off x="0" y="604836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_2bf7c_a4bcef71_L"/>
          <p:cNvPicPr/>
          <p:nvPr/>
        </p:nvPicPr>
        <p:blipFill>
          <a:blip r:embed="rId2"/>
          <a:stretch/>
        </p:blipFill>
        <p:spPr>
          <a:xfrm>
            <a:off x="3352680" y="914400"/>
            <a:ext cx="2667240" cy="1541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на гнезде7"/>
          <p:cNvPicPr/>
          <p:nvPr/>
        </p:nvPicPr>
        <p:blipFill>
          <a:blip r:embed="rId3"/>
          <a:stretch/>
        </p:blipFill>
        <p:spPr>
          <a:xfrm>
            <a:off x="304920" y="30492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на гнезде 6"/>
          <p:cNvPicPr/>
          <p:nvPr/>
        </p:nvPicPr>
        <p:blipFill>
          <a:blip r:embed="rId4"/>
          <a:stretch/>
        </p:blipFill>
        <p:spPr>
          <a:xfrm>
            <a:off x="304920" y="3048120"/>
            <a:ext cx="259056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на гнезде4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3276720" y="2514600"/>
            <a:ext cx="2971800" cy="40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Самка кладет четыре яйца, которые высиживает совместно с самц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ладка из 4 буровато-желтых конусообразной формы яиц, испещренных черновато-бурыми пятнами. Размеры яиц: (42— 47) х (31—34)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делаем гнездо"/>
          <p:cNvPicPr/>
          <p:nvPr/>
        </p:nvPicPr>
        <p:blipFill>
          <a:blip r:embed="rId6"/>
          <a:stretch/>
        </p:blipFill>
        <p:spPr>
          <a:xfrm>
            <a:off x="6248520" y="3048120"/>
            <a:ext cx="2590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ина</dc:creator>
  <dc:description/>
  <cp:keywords>чибис птица года</cp:keywords>
  <dc:language>en-US</dc:language>
  <cp:lastModifiedBy>vtina</cp:lastModifiedBy>
  <dcterms:modified xsi:type="dcterms:W3CDTF">2012-07-25T19:18:30Z</dcterms:modified>
  <cp:revision>9</cp:revision>
  <dc:subject>Чибис 2010</dc:subject>
  <dc:title>Чибис 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