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16A4-B1DB-45EA-B5B8-A3B68F4E36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03EF-60F6-4D08-B688-14927E636A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F13-5D83-455D-9709-D72BB8CA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33D-18EE-4B50-A1D2-91DBFBD7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A1B35-8CB2-4A0A-A84A-A1769952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B0DB4-1C73-4DDD-8F75-640842E3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6E53B-2988-4946-AD72-8206606D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E6FBE-1A37-4128-9C96-FDFB04C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EDCB4-543D-423B-9D18-D0FA477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0DCF9-685A-45B0-9B13-199BEFE7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9D034-38F5-466B-A1C0-86D18CC0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A8246-865A-489B-AFC2-D507EE89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84C2B-3B6A-4F59-86DE-61F04806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51349-CFBD-4682-9995-2821E133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723-246F-45C4-AA86-F4CDC554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9D670-99DD-4021-A6C5-3C368103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088D4-60FA-46A9-B190-1061F8A3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2A4A1-1642-4A02-B358-DCB210CF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C9CA9-FA0F-44AF-98ED-0E347176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6B77F-405D-41E6-A949-82783083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1C1AC-F867-4215-8ADA-8A9ED551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4912D-F89C-4D39-87A6-202DBDD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DADC8-0C48-48A1-AF17-F526654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22EE8-6EA9-461E-8C1C-0EDC9E14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08D22-4004-40D3-9D75-92FBA062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EF2F-01C0-4FBB-B0DD-987CF88A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00F79-05D1-4FAA-967E-BDEECCA4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4633D-FFD4-4452-B838-F4077737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F6396-A243-4763-930F-E5837FF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247EB-80F4-40A4-9510-072C758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69C7C-A3D1-4510-88A0-42F57076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2CB24-8CD3-43AB-B6A9-88BDC722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35BA9-BD0C-41F1-8723-EA25C8E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913BF-FAB5-4E13-89CC-84B051D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B7775-282F-4273-840A-06700274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D054C-995B-4B6B-98C0-7100209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BAD1-E4AC-46E9-B75B-A40F5EBD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4F342-1048-4D64-9EE0-E380B577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20A2E-7D74-47D6-88F5-D3839C7C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7548F-6816-4686-87EC-4EA1DF3C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111C7-5755-451B-AA82-78A16750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410AF-9E76-4F40-A6F0-42220A40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244DD-4D2D-4B88-8DC0-48B75CB4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E173A-F2F8-4155-95AA-C14C04F7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73040-66B9-41B4-820D-19C16572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591D3-17F2-4716-B62F-6DA12F44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F0D5B-E014-4FA9-B007-4C45961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1628-4225-4ABF-8A56-27F01AD4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7DF02-AEFD-4F20-AEF7-32ABFD94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151E2-239B-4F50-BF6F-23E2DAA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A713B-7F9E-4278-A678-F651F4DE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1BDCC-39EF-44B2-A3D0-C762FC3D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0C5C5-C09E-4058-AFF1-7F6CAF9D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0A0B-CC4B-4EC6-8D9B-171929B4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B973-E5E6-46BE-B44D-92E177F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E8B2-FD84-4B6E-8D6F-91B22029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6CA9-9554-43E0-BAD7-04143D98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5D58-AAC2-44FA-AFB1-381AE6E4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4C9-31B3-41F5-906A-6DAF8293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7D6A-0F3B-4AF4-A7F9-C0509E2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F116-BA72-4D5C-A9A2-E70EF6B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F9C7-8AD5-4634-B97D-CECF0AC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FBF2-4315-4334-B971-085F1802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A5CA-704E-4813-9965-E11125B7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3DB25-49CA-4E37-A813-F261BE08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9389-EACC-4FC7-A19D-AAD9D4D8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DA9D3-6038-4305-B300-CE0783BD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8968-16E1-4526-86AD-86642224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05CF-1791-4E36-9A14-BF698965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554-03AA-4EC6-9F2B-3AF9CD6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6E8D-5BA4-4272-AEF4-DFC2CA9A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B121-2876-4FFD-8B67-7AC640E5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8447-3ACE-4077-BE62-0141C4B5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4514-F034-4B51-B07B-5C1D21B8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D918A-F9B9-493A-A2D9-8050E624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1164D-6B3A-4535-97EA-7B32CABD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BF2E-EC53-42B3-BCCB-E0DF0BEB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0F2C1-8056-43AC-950F-0B5C2003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185F-7B2A-4176-A933-430B353F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6B9E-3247-4498-8192-D7A7830C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3AD-14D9-4F19-ADD5-30EED3EF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2C7D-FE2A-4CD3-B3F4-15440C75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B6E0C-6616-45A1-9A53-2DA4619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5289-343C-45AD-82ED-6F5FCC3B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C0D7-7A74-42D6-9FA3-A0191F4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3FD6F-D291-41A2-AF8A-3B13C71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72EE-16E8-4B9C-B49B-BF16282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A11D9-D78A-4EAF-8C10-7A5D7626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5107-01C0-4B41-BA8D-0EDECDA5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9FF6-5632-49AA-826E-8A9D7CE1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051B1-CBB3-4B24-9998-0C2EDAB6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49F-9BC6-4E66-80E2-696A05C2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E7A4E-EB7E-4739-85EE-9CA1ED94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FF959-D550-464A-86E5-80C945B4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3845-3C1A-41E1-9DFA-326C76F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2146E-3AEC-4EC5-A6FA-79122740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2AC4A-A13C-43D7-816E-8B264CA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13A0E-DC81-43DC-BC79-B224E082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7A286-F139-48F5-AFCE-395090A8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A6E15-CAE7-493C-B129-C391CE4A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E8680-FAA0-403C-ACF7-549E5F0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755B0-0A93-4408-AE87-C3947898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180-527F-49DD-9CD4-BFDA945D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5F86B-D9B5-417A-A551-4E0CB30D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94F85-AC1C-42F9-AEF9-741419A5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C3257-E692-46BD-BD76-8808D6F3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15F25-1372-4F23-8644-0CCBA6C6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8EBEE-1157-49D4-82C9-1C6CDAE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F35E-24C8-4301-84B9-156FFA16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D9393-A910-40FF-8DD8-4FCE44A8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675A-DB33-4925-B842-12BD6065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11D68-C9F0-484E-924D-A698CBC2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5177D-84BC-4595-A4CC-B9A0637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8ED-D595-47D0-8B0D-DDA06498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97FCF-B3EE-4042-BEBC-40E9694A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FD514-B3AB-4722-9B92-4FDA1672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26598-A1DE-433E-B505-149FE375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DD736-20FD-42DD-A43B-369A56E9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3C073-DA80-4BB5-A18C-0807718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60273-363B-439E-86D0-B4F48D7A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D559-AA42-4C6C-9F23-9D81FF7D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1D12B-FF4B-4D1A-9209-41A4ED6B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ED63E-CEBB-4D89-866F-F315CF1B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D35D3-338C-4789-A346-8A16036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6B8-7F11-45E1-BC6F-C274B2D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C104E-A760-4C38-8FBC-ED7E38D7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320D0-92F8-42B3-BDB1-548498B9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1D65-C9F3-4E42-A1AE-3DF7996B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3565C-5D22-4B2D-9318-420DC991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087F4-3807-4177-B00C-93217F0F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982E9-14CF-440A-AFA9-42CF8A59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9FC59-E434-4D25-8AD0-B8EA5D3D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9B4B-307F-4BBB-9129-4363950B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8EC7C-F2F6-4B49-A777-C84CECF6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5F386-D3DA-4168-AD43-ABB0216C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DE9-A368-4347-B553-182C0EE5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D086B-6C84-48B1-A105-7BA4C318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46F5-7E79-4CB2-9F25-475BCA8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BB647-B735-4D18-914C-50F1096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A76E1-19AB-41EF-90F7-648A0095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47266-D026-46E4-A03C-A37AA814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51A92-8C0B-4D24-BE8C-35ABD5AA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4E667-B2DB-4C30-B240-1A98EAAF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C6EE9-128A-4E04-B8E8-9C98227A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40E0B-A81A-4A9A-971C-E2D92F1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10D86-82A9-41DE-A1E0-DF83E45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15AD-AD6F-4A21-AF46-996E16483C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A19C-E828-4399-BC48-D80DBECC35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B3F8-FBF6-41E3-A8C2-2A086899F6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BAD-74F1-4299-90A0-938427318B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25F0-AE7B-4773-A803-1CF19DDF0CE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2AD0-364A-4EC7-85EF-661111E54E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E914-00E1-4384-9891-327AA255D4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B5FE-7EDE-41E0-AA97-F68A92F9C4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A0B0-BA80-44A0-A8C5-BDFFEE36B65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55E7-F07B-425E-B0C1-61AD151C83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B3F8-253C-49BE-8826-CF7C9C58DE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A5D0-F6E9-4F5B-AAF1-5191B271F77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дошкольное образовательное учреждение детский сад № 55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пинского района Санкт-Петербург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00040" y="2143080"/>
            <a:ext cx="8143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ендерное воспитание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етей раннего возраст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фольклорных произведениях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ченко Е.А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б, 2013 год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42960" y="1642680"/>
            <a:ext cx="4857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делать так, чтобы из крошечной девочки выросла прекрасная Женщина, которая не только достигнет успеха в бизнесе, науке или искусстве, но станет нежной матерью, заботливой женой, рачительной хозяйкой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 мальчика вырастить Мужчину, способного защитить свой семейный очаг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ли воспитать девочек и мальчиков так, чтобы они еще в детстве поняли и приняли свои роли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3" name="Picture 4" descr="C:\Documents and Settings\Admin\Мои документы\Мои рисунки\imgpreview.jpg1.jpg"/>
          <p:cNvPicPr/>
          <p:nvPr/>
        </p:nvPicPr>
        <p:blipFill>
          <a:blip r:embed="rId1"/>
          <a:stretch/>
        </p:blipFill>
        <p:spPr>
          <a:xfrm>
            <a:off x="5834160" y="26431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28400" y="1785960"/>
            <a:ext cx="83581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благоприятному протеканию процесса полоролевой социализации мальчиков и девочек раннего возраста, формированию начал мужественности и женственности у дет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6" name="Picture 9" descr="K:\дети играют\SDC14363.JPG"/>
          <p:cNvPicPr/>
          <p:nvPr/>
        </p:nvPicPr>
        <p:blipFill>
          <a:blip r:embed="rId1"/>
          <a:stretch/>
        </p:blipFill>
        <p:spPr>
          <a:xfrm>
            <a:off x="2714760" y="3571920"/>
            <a:ext cx="38574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дерные особенности фольклор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286160" y="2642760"/>
            <a:ext cx="44006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не просто к маленькому ребенку, а к девочкам и мальчикам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я доченька уснёт», «Спи Ванюшка, спи родной»,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евание качеств личност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 девочке мы говорим – красивая, нежная, хрупкая, о мальчике – сильный, крепкий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9" name="Picture 6" descr="C:\Documents and Settings\Admin\Мои документы\Мои рисунки\imgpreview.jpg4.jpg"/>
          <p:cNvPicPr/>
          <p:nvPr/>
        </p:nvPicPr>
        <p:blipFill>
          <a:blip r:embed="rId1"/>
          <a:stretch/>
        </p:blipFill>
        <p:spPr>
          <a:xfrm>
            <a:off x="642960" y="2714760"/>
            <a:ext cx="346716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дерные особенности фольклор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6840" y="1999800"/>
            <a:ext cx="43290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ент на внешних особенностях мальчиков и девочек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, прическа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будущего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уд мальчиков и девочек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ое соблюдение норм морал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важение к старшим, заботливое отношение к старикам и младшим детям, доброта, отзывчивость, вежливость и дисциплинированность, исполнительность и честность.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2" name="Picture 12" descr="DSC00143"/>
          <p:cNvPicPr/>
          <p:nvPr/>
        </p:nvPicPr>
        <p:blipFill>
          <a:blip r:embed="rId1"/>
          <a:stretch/>
        </p:blipFill>
        <p:spPr>
          <a:xfrm>
            <a:off x="5257800" y="4343400"/>
            <a:ext cx="3048120" cy="1981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DSC00138"/>
          <p:cNvPicPr/>
          <p:nvPr/>
        </p:nvPicPr>
        <p:blipFill>
          <a:blip r:embed="rId2"/>
          <a:stretch/>
        </p:blipFill>
        <p:spPr>
          <a:xfrm>
            <a:off x="5500800" y="1857240"/>
            <a:ext cx="2881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8568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народного фольклора и русских традиций является одним из средств гендерного воспитания дошкольник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воспитывать уважение к старшим, способствовать благоприятному протеканию процесса полоролевой социализации мальчиков и девочек дошкольного возраста, формированию начал мужественности и женственности у дошкольников, мы можем и должны использовать богатейший опыт народа, накопленный векам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6" name="Picture 5" descr="211a9ac7770c"/>
          <p:cNvPicPr/>
          <p:nvPr/>
        </p:nvPicPr>
        <p:blipFill>
          <a:blip r:embed="rId1"/>
          <a:stretch/>
        </p:blipFill>
        <p:spPr>
          <a:xfrm>
            <a:off x="785880" y="285840"/>
            <a:ext cx="1268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Прямоугольник 1"/>
          <p:cNvSpPr/>
          <p:nvPr/>
        </p:nvSpPr>
        <p:spPr>
          <a:xfrm>
            <a:off x="1949040" y="2786040"/>
            <a:ext cx="527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3:22:34Z</dcterms:created>
  <dc:creator>Admin</dc:creator>
  <dc:description/>
  <dc:language>en-US</dc:language>
  <cp:lastModifiedBy>Admin</cp:lastModifiedBy>
  <dcterms:modified xsi:type="dcterms:W3CDTF">2013-02-25T09:36:46Z</dcterms:modified>
  <cp:revision>84</cp:revision>
  <dc:subject/>
  <dc:title>Государственное бюджетное дошкольное образовательное учреждение детский сад № 55  Колпинского района Санкт-Петербурга</dc:title>
</cp:coreProperties>
</file>