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09A2-76B8-4678-8800-E5409BDFC1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AA4D-9D83-4FC9-B018-7C761D2E9D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C32-6E98-46FD-BA0E-10C97694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CC3-3049-40FC-B2C1-914E969D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7E819-B349-4779-A042-373A4F3B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F97DC-8755-4E51-B38F-795631DF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F183F-B8F1-4B80-8986-5BDEC797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E8584-9E67-4761-989A-5445493C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DA6EE-4683-44AA-A409-A1ADA452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AB233-CEDF-4C63-9CB7-40B8EE40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A43FA-DE3B-476B-AD08-F783BED1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4B1D7-EB4F-4B02-9E6C-A78A4DC9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28CC4-46E6-4969-90F3-2703C83B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D8D4E-8C00-4663-B7AC-AD75EC4B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4BB-3B1B-4318-90CC-FA739A41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387CF-8E6A-4664-9A96-A82F6CB3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54C3C-5096-47B6-9F08-7EF5A54D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16AEE-F0BD-4475-99A0-65DC9A53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EAF86-1635-4FD7-84D7-BBEC2B65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C3075-E718-410D-925D-0295DB04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BC5EF-D980-43DE-909B-465AE380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97AC8-522E-4C81-8ECC-8870B64D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FB2EC-56A2-4318-8B15-8BF33125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B6C3F-5ADD-413E-A870-BA5D7488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5CB39-CBEA-4699-8BFF-3FA294F7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8F1-5C9F-44E9-AD74-71F94865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D623A-AE13-455B-B971-35637D8D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8B26F-D2B2-4670-A011-A070ECEF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3C518-ADB7-4A5D-964C-DF00A728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31E0D-431C-4543-8C46-DED2F1CE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3FBEA-8B4C-475F-B4F4-7194726C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89FCD-DC33-4A42-859D-BA8397CA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FEBD7-55C4-4493-BD25-50EB6889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3BB00-15DB-4D38-AE25-7EAA691A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D4775-E5A2-4385-BF4E-274BE1BE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B9E6F-97CA-455D-859E-1E22BA05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CB65-3400-4B16-860A-83B4E765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FFD76-CA43-40EF-8F7C-420EE19C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7EEFC-593A-4D39-94BA-EDD3C1E6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B6591-655D-45EE-879F-0494CAD9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5CA16-1868-4F2A-8992-C5313AE9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F32FF-302E-4CBD-AF30-7E4600A1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9ACB6-0B8C-4692-98B6-4616B9F3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BEF94-B809-4A73-AE6B-55B4BE1B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6EC09-493C-460E-80E5-B8D854EB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6C0AE-6C53-4F13-9A74-BB27B560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BE2B5-E215-437B-8774-DBEF2D85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D28C-AE57-4AFB-AF05-324D9341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83CA5-1274-4E20-86C2-269C1F63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5F510-22E3-4865-9ED6-578906ED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E275A-64E5-4110-BCA6-B079CE04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47CEB-F823-403F-B5E2-E5447578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C7605-8F6F-4BA9-A2CF-5274CEC8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0EB3-4C4F-46E7-90E1-35367A80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464E-9FBA-427C-A38D-B544FD20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1665-4749-4730-914E-40C2407C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0D5A-CA14-43C7-ABA5-6D5D3E7D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C70B-88D8-4459-BAFB-131AB6B7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766-4103-4E08-A520-CC610D94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B63D-1244-4FDC-BB63-A7C02294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AF3B-105C-4015-B727-2AF7CD33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7ADC-7BC5-42B9-97B8-6EE59FEE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504F-012B-4A3F-A829-6B983888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DEF4-24C4-4995-883A-BA436124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3A54F-0AD6-44BD-B2C5-AE9B7C5A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C2170-6BA0-4E9D-8E86-1295FF16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1AD60-4092-48CB-95EA-2982C7FB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B93F-FC6C-427A-906F-B8838AF7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CFBAB-B2A3-4BF4-9F3E-FA78B63F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47A-5B0E-4125-AF47-AB50960E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FB491-41D9-4A8C-89A5-FDB923A8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CE1D-83BC-42DF-A843-8516A753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1669B-4538-45D2-B150-3EB1CDF0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5C91B-7963-42F0-B363-9A15EA23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E040E-B89D-4434-88EF-436987B7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A200-8B10-4064-BD53-A6E740DC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735BD-AFEE-4275-962E-D39F4657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E17D-FD3D-456C-891B-E331316D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0BAC2-67CF-4D4A-8C8E-D5A89DC3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6075A-D641-4532-BE66-4C54143C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EBB-97AB-4B3F-94DB-B1166E1D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4FC19-32A8-42EB-8DFF-66B5A35A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3AB46-3F9C-4377-8F10-D152EA1C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CCA5F-BF1B-4600-9722-81649AAA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B7C3-B3F6-41F9-A39E-5876C758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A007F-D473-48F6-8C84-E2B6B2F9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CBD43-7B6B-41E0-9479-9D8A8AA2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34B34-0102-4CC9-80D7-67CD1DFD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AC182-AFCB-491E-A8F0-139F65AF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F75DA-69FA-4DC0-BA2D-4D483433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C3B83-42F6-4DED-9EA4-6C909930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A9B-830E-42A5-833F-2086CFC0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BD332-7983-4BDC-9185-8EF8A10A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C6F2D-E85F-49A6-977F-1E269487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D54D5-1128-45C3-BDB3-3F128099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CC00A-8362-44D2-A844-B70E207C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15946-5A21-43B2-BBCF-0E173D5F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5E53B-1299-404D-91EE-11C713CB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7A099-1C94-4E42-98A2-441B0872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AB7A4-7A29-4491-A973-4C0B77B9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8D333-0F59-4374-BE91-F8333EA5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93671-00A3-42ED-B013-1F685C64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44C-EFDA-48A7-8FCE-FE1556AE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C4352-9A1F-4732-9A22-308E8159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916FD-C972-4128-B67A-27349195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FDB8A-BEDE-4C22-83DB-D0C342B6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050C5-006C-486F-8153-7C18017F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AB438-61B8-40C2-8344-C34A8601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7BDDA-0B3D-43E9-B7FB-7239D203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98F31-13CF-4B1A-954C-1CD3ACE7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1BD65-F744-442E-956D-67E8C47F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7F3CE-5DFA-42A9-8488-34AFCEEE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D7817-8449-40D4-99B2-618E9154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AFD-662C-4648-8776-18A4ACD5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F21F2-B726-4475-BFE3-645528CA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D5F96-C5C9-41AF-8FE8-D3F5EFDC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51840-60C0-4ED1-AED7-60EDB848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28144-C193-4964-B6BB-1D30BD0E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A3908-92F8-42F5-85B1-92C1C758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8F1CA-7BBD-419D-AFB7-84A1E28F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58E18-8F4B-4621-80FB-CB296F22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07980-C98D-4507-9F1B-C6F7BEFD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70195-D8C4-4FFF-99E7-EB8FD024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DF960-CA7A-4AB9-9D6D-6E0E28C9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7CB-C56D-47E4-995A-ABBB221D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285B1-347A-48CA-A1BA-B65E171E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05768-B6C4-40DD-A9FC-38801755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74C27-6EBB-4A58-A3D2-75A9D0CC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AF909-714D-4AD5-A37E-84736747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363DD-09CF-4E51-8B7A-DB14A8C9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507B0-29EF-4EA2-8BFD-465BF779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6557D-757B-48CD-987F-D54B04EF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2497E-A9F5-452D-8A35-9F7EA94D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F228D-18F3-40C4-A1CA-51A74904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3327D-96FE-43C5-89C2-3E712891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E4A-BD5A-4046-8AC0-9DAE6B19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66F3D-37AD-4615-89E0-83D27C06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D0788-8CCB-43B0-9161-6DBB3B29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9D1A1-7850-4878-AB62-600F15F2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8DCC7-B943-496B-9F27-86B3F658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EABAC-7E83-42A0-A927-8E1FF08C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0491B-7FB2-4544-BC7C-7A654992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E2D95-634F-4536-96CB-D5B8923E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FA46F-2DAF-48EB-B1F8-6C4D8406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0A1FD-F18A-4E2B-BA07-411AFAF4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7982D-22A0-41AA-BCE6-1CEFDF72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D159-65F3-4D16-BEA6-103CA68E391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B935-9F89-44B7-9E12-BB2D17D8504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29B1-22A7-4093-82C3-AACA039C725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E646-E3E6-414D-98D2-5A93CC002BB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224E-9FC0-4BC4-A56C-76BAC02F814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2CE5-AA8C-4BDB-9850-19B14703381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0135-A352-4A76-82C3-3656FD0314B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DF96-B59C-4FE4-8B14-3C32BC1EA1A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FF3F-F175-4905-BF62-F34367CE4EF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FCD8-9689-4C4E-875A-DB76537768A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1BD1-95EE-4BA3-B86F-B02F63C110E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DBBC-5C9E-4EF2-9908-30699D35B92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дошкольное образовательное учреждение детский сад № 55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пинского района Санкт-Петербург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0040" y="2143080"/>
            <a:ext cx="8143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ендерное воспитание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тей раннего возраст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фольклорных произведениях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ченко Е.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б, 2013 год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42960" y="1642680"/>
            <a:ext cx="48578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делать так, чтобы из крошечной девочки выросла прекрасная Женщина, которая не только достигнет успеха в бизнесе, науке или искусстве, но станет нежной матерью, заботливой женой, рачительной хозяйкой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 мальчика вырастить Мужчину, способного защитить свой семейный очаг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, ли воспитать девочек и мальчиков так, чтобы они еще в детстве поняли и приняли свои роли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3" name="Picture 4" descr="C:\Documents and Settings\Admin\Мои документы\Мои рисунки\imgpreview.jpg1.jpg"/>
          <p:cNvPicPr/>
          <p:nvPr/>
        </p:nvPicPr>
        <p:blipFill>
          <a:blip r:embed="rId1"/>
          <a:stretch/>
        </p:blipFill>
        <p:spPr>
          <a:xfrm>
            <a:off x="5834160" y="264312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28400" y="1785960"/>
            <a:ext cx="83581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благоприятному протеканию процесса полоролевой социализации мальчиков и девочек раннего возраста, формированию начал мужественности и женственности у дете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6" name="Picture 9" descr="K:\дети играют\SDC14363.JPG"/>
          <p:cNvPicPr/>
          <p:nvPr/>
        </p:nvPicPr>
        <p:blipFill>
          <a:blip r:embed="rId1"/>
          <a:stretch/>
        </p:blipFill>
        <p:spPr>
          <a:xfrm>
            <a:off x="2714760" y="3571920"/>
            <a:ext cx="38574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дерные особенности фольклор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286160" y="2642760"/>
            <a:ext cx="44006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не просто к маленькому ребенку, а к девочкам и мальчикам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я доченька уснёт», «Спи Ванюшка, спи родной»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евание качеств личност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 девочке мы говорим – красивая, нежная, хрупкая, о мальчике – сильный, крепкий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9" name="Picture 6" descr="C:\Documents and Settings\Admin\Мои документы\Мои рисунки\imgpreview.jpg4.jpg"/>
          <p:cNvPicPr/>
          <p:nvPr/>
        </p:nvPicPr>
        <p:blipFill>
          <a:blip r:embed="rId1"/>
          <a:stretch/>
        </p:blipFill>
        <p:spPr>
          <a:xfrm>
            <a:off x="642960" y="2714760"/>
            <a:ext cx="346716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дерные особенности фольклор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6840" y="1999800"/>
            <a:ext cx="43290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ент на внешних особенностях мальчиков и девочек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, прическа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будущег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уд мальчиков и девочек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ое соблюдение норм морал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важение к старшим, заботливое отношение к старикам и младшим детям, доброта, отзывчивость, вежливость и дисциплинированность, исполнительность и честность.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2" name="Picture 12" descr="DSC00143"/>
          <p:cNvPicPr/>
          <p:nvPr/>
        </p:nvPicPr>
        <p:blipFill>
          <a:blip r:embed="rId1"/>
          <a:stretch/>
        </p:blipFill>
        <p:spPr>
          <a:xfrm>
            <a:off x="5257800" y="4343400"/>
            <a:ext cx="3048120" cy="1981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1" descr="DSC00138"/>
          <p:cNvPicPr/>
          <p:nvPr/>
        </p:nvPicPr>
        <p:blipFill>
          <a:blip r:embed="rId2"/>
          <a:stretch/>
        </p:blipFill>
        <p:spPr>
          <a:xfrm>
            <a:off x="5500800" y="1857240"/>
            <a:ext cx="2881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8568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народного фольклора и русских традиций является одним из средств гендерного воспитания дошкольник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оспитывать уважение к старшим, способствовать благоприятному протеканию процесса полоролевой социализации мальчиков и девочек дошкольного возраста, формированию начал мужественности и женственности у дошкольников, мы можем и должны использовать богатейший опыт народа, накопленный векам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6" name="Picture 5" descr="211a9ac7770c"/>
          <p:cNvPicPr/>
          <p:nvPr/>
        </p:nvPicPr>
        <p:blipFill>
          <a:blip r:embed="rId1"/>
          <a:stretch/>
        </p:blipFill>
        <p:spPr>
          <a:xfrm>
            <a:off x="785880" y="285840"/>
            <a:ext cx="12682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Прямоугольник 1"/>
          <p:cNvSpPr/>
          <p:nvPr/>
        </p:nvSpPr>
        <p:spPr>
          <a:xfrm>
            <a:off x="1949040" y="2786040"/>
            <a:ext cx="527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3:22:34Z</dcterms:created>
  <dc:creator>Admin</dc:creator>
  <dc:description/>
  <dc:language>en-US</dc:language>
  <cp:lastModifiedBy>Admin</cp:lastModifiedBy>
  <dcterms:modified xsi:type="dcterms:W3CDTF">2013-02-25T09:36:46Z</dcterms:modified>
  <cp:revision>84</cp:revision>
  <dc:subject/>
  <dc:title>Государственное бюджетное дошкольное образовательное учреждение детский сад № 55  Колпинского района Санкт-Петербурга</dc:title>
</cp:coreProperties>
</file>