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2A2-DABA-490B-AB8C-7EA7A60C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AE8-DF96-4986-A6AD-8C9344A0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4B0-890E-4D29-B6E6-20B25008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C70-8A4C-435C-8F0B-582EA880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EA0-17A9-45F8-B861-F495F7CF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E92-75AF-4164-9B27-323F8391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4AE-9539-4A4F-A026-6C78D262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30A-81D3-4E7E-A32D-4A794A1C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8E4-672D-4E1A-8F52-F801D4FF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02F-78F4-4898-BA5E-DA968619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92C-DE0C-4CA7-88E5-FDF31DFE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9F0-2E4A-420A-A381-6AD916A9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0202-4923-4366-A613-3D2C4B7E6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Интерактивные методы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бота с информ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Рисунок2ыв"/>
          <p:cNvPicPr/>
          <p:nvPr/>
        </p:nvPicPr>
        <p:blipFill>
          <a:blip r:embed="rId1"/>
          <a:stretch/>
        </p:blipFill>
        <p:spPr>
          <a:xfrm>
            <a:off x="2971800" y="3733920"/>
            <a:ext cx="29718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Инсе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НСЕР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звуковой аналог условного английского сокращени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Noting Sistem f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and Thinkin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в дословном переводе означает: интерактивная система записи для эффективного чтения и размышления. (Авторы – Воган и Эстес, 1986; модификация Мередит и Стил, 199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спользование инсе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 эта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Учащимся предлагается система маркировки текста, чтобы подразделить заключённую в нём информацию следующим образ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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алочкой» помечается то, что им уже извест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 «минус» помечается то, что противоречит их представл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знаком «плюс» помечается то, что является для них интерес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опросительный знак» ставится, если что-то неясно, возникло желание узнать бол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спользование инсе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 этап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Читая текст, учащиеся помечают соответствующим значком на полях отдельные абзацы и предложения.       Знакомство с текстом и его маркировка может производиться в аудитории, при этом преподаватель может давать свои комментарии по ходу чт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mage020"/>
          <p:cNvPicPr/>
          <p:nvPr/>
        </p:nvPicPr>
        <p:blipFill>
          <a:blip r:embed="rId1"/>
          <a:stretch/>
        </p:blipFill>
        <p:spPr>
          <a:xfrm>
            <a:off x="6705720" y="5092560"/>
            <a:ext cx="198108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спользование инсе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 этап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Учащимся предлагается систематизировать информацию, расположив её в соответствии со своими пометками в следующей таблиц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04920" y="3809880"/>
          <a:ext cx="8610480" cy="2362320"/>
        </p:xfrm>
        <a:graphic>
          <a:graphicData uri="http://schemas.openxmlformats.org/drawingml/2006/table">
            <a:tbl>
              <a:tblPr/>
              <a:tblGrid>
                <a:gridCol w="2152440"/>
                <a:gridCol w="2152800"/>
                <a:gridCol w="2152440"/>
                <a:gridCol w="21528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25" descr="Рисунок2е78"/>
          <p:cNvPicPr/>
          <p:nvPr/>
        </p:nvPicPr>
        <p:blipFill>
          <a:blip r:embed="rId1"/>
          <a:stretch/>
        </p:blipFill>
        <p:spPr>
          <a:xfrm>
            <a:off x="7850160" y="533520"/>
            <a:ext cx="129384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спользование инсе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 этап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следовательное обсуждение каждой графы табли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EETING3"/>
          <p:cNvPicPr/>
          <p:nvPr/>
        </p:nvPicPr>
        <p:blipFill>
          <a:blip r:embed="rId1"/>
          <a:stretch/>
        </p:blipFill>
        <p:spPr>
          <a:xfrm>
            <a:off x="2514600" y="3505320"/>
            <a:ext cx="3962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спользование инсе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едметная область использован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ые тексты с большим количеством фактов и свед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ём способствует развитию аналитического мышления, является средством отслеживания понимания матери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OOKS2"/>
          <p:cNvPicPr/>
          <p:nvPr/>
        </p:nvPicPr>
        <p:blipFill>
          <a:blip r:embed="rId1"/>
          <a:stretch/>
        </p:blipFill>
        <p:spPr>
          <a:xfrm>
            <a:off x="4419720" y="5334120"/>
            <a:ext cx="13716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спользование инсе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ИНСЕРТА соответствуют трём стадиям: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зов, осмысление, рефлек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ные значки могут быть заменены другими символами по усмотрению педаг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е – чёткие критерии ранжирования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43"/>
          <p:cNvPicPr/>
          <p:nvPr/>
        </p:nvPicPr>
        <p:blipFill>
          <a:blip r:embed="rId1"/>
          <a:stretch/>
        </p:blipFill>
        <p:spPr>
          <a:xfrm>
            <a:off x="3733920" y="4952880"/>
            <a:ext cx="228600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Лучше всего человек учится, когда его роль акти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бучение через деятельность позволяет преодолеть проблему трансформации абстрактных знаний в навыки, даёт результат непосредственно в процессе обуч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3-04-26T16:01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