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E4F-EBB4-4F28-B185-02E043CE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816-0A6F-40D4-878A-FC7DA0B6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30E-7231-4DA8-9112-F07A55BD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90F-BB90-43EF-90B4-5046D052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6CA-CADE-4312-A144-3B82DD67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91B-CC32-4ED5-AEFC-F29C2091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BC3-D62E-49CB-B328-F091A64C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390-4FD9-4FF1-B986-67319ABC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786-0E45-45D0-9FC2-AEF8D7EE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27F-F12F-471D-B203-C78F52A2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07E-9D3D-4547-A80E-F30FB062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185-812B-4BEA-9963-F73385E4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D1F4-22E8-4D8A-BDB3-CBF717FEFC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Интерактивные методы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абота с информ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Рисунок2ыв"/>
          <p:cNvPicPr/>
          <p:nvPr/>
        </p:nvPicPr>
        <p:blipFill>
          <a:blip r:embed="rId1"/>
          <a:stretch/>
        </p:blipFill>
        <p:spPr>
          <a:xfrm>
            <a:off x="2971800" y="3733920"/>
            <a:ext cx="2971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Инсе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СЕР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вуковой аналог условного английского сокращени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Noting Sistem f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and Thinkin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в дословном переводе означает: интерактивная система записи для эффективного чтения и размышления. (Авторы – Воган и Эстес, 1986; модификация Мередит и Стил, 199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пользование инс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 эта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Учащимся предлагается система маркировки текста, чтобы подразделить заключённую в нём информацию следующим образ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Symbol"/>
                <a:ea typeface="Symbol"/>
              </a:rPr>
              <a:t>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алочкой» помечается то, что им уже извест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 «минус» помечается то, что противоречит их представл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знаком «плюс» помечается то, что является для них интерес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опросительный знак» ставится, если что-то неясно, возникло желание узнать бол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пользование инс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 этап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Читая текст, учащиеся помечают соответствующим значком на полях отдельные абзацы и предложения.       Знакомство с текстом и его маркировка может производиться в аудитории, при этом преподаватель может давать свои комментарии по ходу чт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mage020"/>
          <p:cNvPicPr/>
          <p:nvPr/>
        </p:nvPicPr>
        <p:blipFill>
          <a:blip r:embed="rId1"/>
          <a:stretch/>
        </p:blipFill>
        <p:spPr>
          <a:xfrm>
            <a:off x="6705720" y="5092560"/>
            <a:ext cx="198108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пользование инс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 этап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Учащимся предлагается систематизировать информацию, расположив её в соответствии со своими пометками в следующей таблиц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04920" y="3809880"/>
          <a:ext cx="8610480" cy="2362320"/>
        </p:xfrm>
        <a:graphic>
          <a:graphicData uri="http://schemas.openxmlformats.org/drawingml/2006/table">
            <a:tbl>
              <a:tblPr/>
              <a:tblGrid>
                <a:gridCol w="2152440"/>
                <a:gridCol w="2152800"/>
                <a:gridCol w="2152440"/>
                <a:gridCol w="2152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25" descr="Рисунок2е78"/>
          <p:cNvPicPr/>
          <p:nvPr/>
        </p:nvPicPr>
        <p:blipFill>
          <a:blip r:embed="rId1"/>
          <a:stretch/>
        </p:blipFill>
        <p:spPr>
          <a:xfrm>
            <a:off x="7850160" y="533520"/>
            <a:ext cx="12938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пользование инс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 этап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следовательное обсуждение каждой графы таблиц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EETING3"/>
          <p:cNvPicPr/>
          <p:nvPr/>
        </p:nvPicPr>
        <p:blipFill>
          <a:blip r:embed="rId1"/>
          <a:stretch/>
        </p:blipFill>
        <p:spPr>
          <a:xfrm>
            <a:off x="2514600" y="350532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пользование инс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едметная область использова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чебные тексты с большим количеством фактов и сведе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ём способствует развитию аналитического мышления, является средством отслеживания понимания матери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OOKS2"/>
          <p:cNvPicPr/>
          <p:nvPr/>
        </p:nvPicPr>
        <p:blipFill>
          <a:blip r:embed="rId1"/>
          <a:stretch/>
        </p:blipFill>
        <p:spPr>
          <a:xfrm>
            <a:off x="4419720" y="5334120"/>
            <a:ext cx="137160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Использование инсе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ИНСЕРТА соответствуют трём стадиям: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зов, осмысление, рефлек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ные значки могут быть заменены другими символами по усмотрению педаг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 – чёткие критерии ранжирования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43"/>
          <p:cNvPicPr/>
          <p:nvPr/>
        </p:nvPicPr>
        <p:blipFill>
          <a:blip r:embed="rId1"/>
          <a:stretch/>
        </p:blipFill>
        <p:spPr>
          <a:xfrm>
            <a:off x="3733920" y="4952880"/>
            <a:ext cx="22860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учше всего человек учится, когда его роль акти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бучение через деятельность позволяет преодолеть проблему трансформации абстрактных знаний в навыки, даёт результат непосредственно в процессе обучени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13-04-26T16:01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