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45B-F2FF-43C5-A8E9-29467221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688-27E7-4E98-82C9-FF732FEC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915-8CCC-42EE-B4C3-35855F6D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756C-0CF1-4192-AE79-52A189F9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8EC-DC4B-42FA-8E70-83B1997D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5BD-284A-403A-B8C4-253D0FCB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649-92C3-4849-9A12-B92F06B8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367-012C-4CFA-8CC2-3CDC16BD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779-EA92-4828-8202-73F6C1EF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9887-DA4D-45DF-A527-4624FE24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542-E47D-496D-925D-F804834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739-FCF1-4977-BFB4-655F60B9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7A8E-A542-4A42-9AAD-D765A45B9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активные методы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етодика поэтапного формирования умственных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225612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хема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  назначение  схемы ООД - помочь правильно выполнять (ориентировать) двигательные, перцептивные, речевые и мыслительны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E01460_"/>
          <p:cNvPicPr/>
          <p:nvPr/>
        </p:nvPicPr>
        <p:blipFill>
          <a:blip r:embed="rId1"/>
          <a:stretch/>
        </p:blipFill>
        <p:spPr>
          <a:xfrm>
            <a:off x="2979720" y="3505320"/>
            <a:ext cx="25542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хема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схем ООД (ориентировочной основы деятельности) могут играть учебные или учебно-тренировочные карты, содержащие все сведения о порядке и последовательности выполнения заданных действий и опе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S02064_"/>
          <p:cNvPicPr/>
          <p:nvPr/>
        </p:nvPicPr>
        <p:blipFill>
          <a:blip r:embed="rId1"/>
          <a:stretch/>
        </p:blipFill>
        <p:spPr>
          <a:xfrm>
            <a:off x="2971800" y="4278240"/>
            <a:ext cx="32004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оль учителя в обучении на основе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64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подаватель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ед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оцесс обучения через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йствия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выполняемы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ащими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E02484_"/>
          <p:cNvPicPr/>
          <p:nvPr/>
        </p:nvPicPr>
        <p:blipFill>
          <a:blip r:embed="rId1"/>
          <a:stretch/>
        </p:blipFill>
        <p:spPr>
          <a:xfrm>
            <a:off x="5638680" y="4525920"/>
            <a:ext cx="2971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Формы действия со зна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альные действия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 знаниями  -  это действие с реальными предметами (вещами) по их преобразованию (или моделями веще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lass"/>
          <p:cNvPicPr/>
          <p:nvPr/>
        </p:nvPicPr>
        <p:blipFill>
          <a:blip r:embed="rId1"/>
          <a:stretch/>
        </p:blipFill>
        <p:spPr>
          <a:xfrm>
            <a:off x="2666880" y="3909960"/>
            <a:ext cx="373392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Формы действия со зна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нешнеречевая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 действия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зует тот этап овладения деятельностью, когда он уже может обойтись без внешних материальных ориентиров, но еще не совсем уверен и поэтому подкрепляет свои действия рассуждениями вслух, контролируя себя через слышимую (внешнюю) реч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Рисунок2е78"/>
          <p:cNvPicPr/>
          <p:nvPr/>
        </p:nvPicPr>
        <p:blipFill>
          <a:blip r:embed="rId1"/>
          <a:stretch/>
        </p:blipFill>
        <p:spPr>
          <a:xfrm>
            <a:off x="7162920" y="5408640"/>
            <a:ext cx="129384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Формы действия со зна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Умственная форм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я указывает на тот уровень освоения его обучаемым, когда он способен все выполнить в уме, без какой-либо опоры на внешние материальные или громкоречевые ориент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WRITE"/>
          <p:cNvPicPr/>
          <p:nvPr/>
        </p:nvPicPr>
        <p:blipFill>
          <a:blip r:embed="rId1"/>
          <a:stretch/>
        </p:blipFill>
        <p:spPr>
          <a:xfrm>
            <a:off x="6172200" y="4343400"/>
            <a:ext cx="2438280" cy="2301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стоинства метод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кратно ускоряется процесс выработки интеллектуальных и практических навыков и ум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ьшается количество ошибок при решении практических задач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вается возможность самообуч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Рисунок16кен6еаг"/>
          <p:cNvPicPr/>
          <p:nvPr/>
        </p:nvPicPr>
        <p:blipFill>
          <a:blip r:embed="rId1"/>
          <a:stretch/>
        </p:blipFill>
        <p:spPr>
          <a:xfrm>
            <a:off x="3124080" y="4560840"/>
            <a:ext cx="22100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стоинства метод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лючается этап специальног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учи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ся уровень осознанности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ся уровень индивидуализации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Рисунок4"/>
          <p:cNvPicPr/>
          <p:nvPr/>
        </p:nvPicPr>
        <p:blipFill>
          <a:blip r:embed="rId1"/>
          <a:stretch/>
        </p:blipFill>
        <p:spPr>
          <a:xfrm>
            <a:off x="3886200" y="4038480"/>
            <a:ext cx="2301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достатки метод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сть создания высокого уровня мотивации обучающих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предварительная подготовка учебно-методических материа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Рисунок3ыва"/>
          <p:cNvPicPr/>
          <p:nvPr/>
        </p:nvPicPr>
        <p:blipFill>
          <a:blip r:embed="rId1"/>
          <a:stretch/>
        </p:blipFill>
        <p:spPr>
          <a:xfrm>
            <a:off x="2590920" y="4010040"/>
            <a:ext cx="38098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достатки метод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сть психолого-педагогического анализа учебной деятельности и приближение ее к реаль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сть разработки и постановки системы задач, моделирующих реальную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Рисунок6еув"/>
          <p:cNvPicPr/>
          <p:nvPr/>
        </p:nvPicPr>
        <p:blipFill>
          <a:blip r:embed="rId1"/>
          <a:stretch/>
        </p:blipFill>
        <p:spPr>
          <a:xfrm>
            <a:off x="2971800" y="5181480"/>
            <a:ext cx="167652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Теоретические основания метод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 основу методики ускоренного усвоения умственных действий положена теория поэтапного формирования умственных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гласно данной теории усилия обучающегося направляются не на получение знаний, а на овладение деятельностью, т.е. умениями и навыками практических (мыслительных, речевых, перцептивных, физических и т.д.) действий с использованием знаний для решения практических зада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8001000" y="152280"/>
            <a:ext cx="968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оллеги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елаю успехов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4493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ущность метод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правильного выполнения действий (деятельности) обучающемуся представляются достаточные и зримые (наглядные) ориентиры, при опоре на которые человек, только начинающий обучаться, мог бы сразу, без получения каких-либо предварительных знаний, без заучивания, зазубривания, механического их запоминания, безошибочно действовать в практическом пл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Рисунок1нгш"/>
          <p:cNvPicPr/>
          <p:nvPr/>
        </p:nvPicPr>
        <p:blipFill>
          <a:blip r:embed="rId1"/>
          <a:stretch/>
        </p:blipFill>
        <p:spPr>
          <a:xfrm>
            <a:off x="5105520" y="5486400"/>
            <a:ext cx="977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ущность метод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римые (наглядные) ориентиры названы схемами ООД (ориентировочной основы деятельност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 ООД выдается каждому обучающемуся, и, руководствуясь схемой ООД, он выполняет те или иные практические действия со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Рисунок15656"/>
          <p:cNvPicPr/>
          <p:nvPr/>
        </p:nvPicPr>
        <p:blipFill>
          <a:blip r:embed="rId1"/>
          <a:stretch/>
        </p:blipFill>
        <p:spPr>
          <a:xfrm>
            <a:off x="2971800" y="4813200"/>
            <a:ext cx="240192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руктура учебного процесса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на основе 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6858000"/>
          <a:ext cx="9144000" cy="24382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352680" y="2590920"/>
          <a:ext cx="2057400" cy="175248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189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ботка действий при       опоре 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ОД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172200" y="2590920"/>
          <a:ext cx="2743200" cy="173664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чный результат: умение действовать с заданными качествами "со знанием дела"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09480" y="2590920"/>
          <a:ext cx="1981440" cy="1752480"/>
        </p:xfrm>
        <a:graphic>
          <a:graphicData uri="http://schemas.openxmlformats.org/drawingml/2006/table">
            <a:tbl>
              <a:tblPr/>
              <a:tblGrid>
                <a:gridCol w="1981440"/>
              </a:tblGrid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щий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т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ему О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Line 49"/>
          <p:cNvSpPr/>
          <p:nvPr/>
        </p:nvSpPr>
        <p:spPr>
          <a:xfrm>
            <a:off x="2590920" y="3581280"/>
            <a:ext cx="757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0"/>
          <p:cNvSpPr/>
          <p:nvPr/>
        </p:nvSpPr>
        <p:spPr>
          <a:xfrm>
            <a:off x="5410080" y="3581280"/>
            <a:ext cx="757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3" descr="PE02002_"/>
          <p:cNvPicPr/>
          <p:nvPr/>
        </p:nvPicPr>
        <p:blipFill>
          <a:blip r:embed="rId1"/>
          <a:stretch/>
        </p:blipFill>
        <p:spPr>
          <a:xfrm>
            <a:off x="6781680" y="5116680"/>
            <a:ext cx="1905120" cy="146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4" descr=""/>
          <p:cNvPicPr/>
          <p:nvPr/>
        </p:nvPicPr>
        <p:blipFill>
          <a:blip r:embed="rId2"/>
          <a:stretch/>
        </p:blipFill>
        <p:spPr>
          <a:xfrm>
            <a:off x="914400" y="4800600"/>
            <a:ext cx="168120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6" descr="bebe14"/>
          <p:cNvPicPr/>
          <p:nvPr/>
        </p:nvPicPr>
        <p:blipFill>
          <a:blip r:embed="rId3"/>
          <a:stretch/>
        </p:blipFill>
        <p:spPr>
          <a:xfrm>
            <a:off x="3429000" y="4876920"/>
            <a:ext cx="182880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руктура учебного процесса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на основе 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йся читает предъявленную задачу, которую не знает, как решать и знать не обязан (он только начинает обучение предмет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22557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руктура учебного процесса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на основе 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торо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в задачу, он, следуя схеме ООД, и, опираясь на нее, проделывает нужные действия в соответствии с условиям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ebe14"/>
          <p:cNvPicPr/>
          <p:nvPr/>
        </p:nvPicPr>
        <p:blipFill>
          <a:blip r:embed="rId1"/>
          <a:stretch/>
        </p:blipFill>
        <p:spPr>
          <a:xfrm>
            <a:off x="2895480" y="3738600"/>
            <a:ext cx="32767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труктура учебного процесса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на основе  О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бучающийся  строго следует указаниям "схемы" (при необходимости обращаясь за консультацией к преподавателю, инструктору, товарищу), то через какое-то время задача будет реш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PE02002_"/>
          <p:cNvPicPr/>
          <p:nvPr/>
        </p:nvPicPr>
        <p:blipFill>
          <a:blip r:embed="rId1"/>
          <a:stretch/>
        </p:blipFill>
        <p:spPr>
          <a:xfrm>
            <a:off x="2819520" y="4178160"/>
            <a:ext cx="32004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хема ООД (ориентировочная основа деятельност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"схема" имеет условный обобщенный характ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ждом конкретном случае схема ООД может быть реализована в тех или иных ориентирующих средств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а ООД - это учебно-методическое средство, представляющее собой структурно-логическую схему практического  дейст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быть выполнены в виде схемы,  таблицы, графа, инструкции, учебной карты, последовательного ряда вопросов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Рисунок2ыв"/>
          <p:cNvPicPr/>
          <p:nvPr/>
        </p:nvPicPr>
        <p:blipFill>
          <a:blip r:embed="rId1"/>
          <a:stretch/>
        </p:blipFill>
        <p:spPr>
          <a:xfrm>
            <a:off x="7391520" y="5962680"/>
            <a:ext cx="15238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3-04-26T16:12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