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920-C4A5-41D6-99B3-186F0422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B9A-F273-4ABB-8D2B-B17747F0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50F-2A06-4C10-815E-89BD1BDB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B89-C1D0-4C84-8E9F-02D43C62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393-11A0-4ADF-A4E6-10E944D1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789-C276-4765-8873-8321C26C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31D-7643-4FEE-8000-5152FA2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BE9-4169-4107-8B50-6936715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C13-9815-4204-B86D-52AC110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ABA-151D-4C20-9016-3042172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BFC-7D5A-4928-9B50-FF8971F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80B-72AF-4DC3-98E8-6C5CAF7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B60-48F2-4CD9-B702-17F018539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активные метод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етодика поэтапного формирования умствен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2561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хема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 назначение  схемы ООД - помочь правильно выполнять (ориентировать) двигательные, перцептивные, речевые и мыслитель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01460_"/>
          <p:cNvPicPr/>
          <p:nvPr/>
        </p:nvPicPr>
        <p:blipFill>
          <a:blip r:embed="rId1"/>
          <a:stretch/>
        </p:blipFill>
        <p:spPr>
          <a:xfrm>
            <a:off x="2979720" y="3505320"/>
            <a:ext cx="25542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хема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хем ООД (ориентировочной основы деятельности) могут играть учебные или учебно-тренировочные карты, содержащие все сведения о порядке и последовательности выполнения заданных действий и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S02064_"/>
          <p:cNvPicPr/>
          <p:nvPr/>
        </p:nvPicPr>
        <p:blipFill>
          <a:blip r:embed="rId1"/>
          <a:stretch/>
        </p:blipFill>
        <p:spPr>
          <a:xfrm>
            <a:off x="2971800" y="4278240"/>
            <a:ext cx="32004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ль учителя в обучении на основе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подаватель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ед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оцесс обучения чере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йстви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выполняемы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ащими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E02484_"/>
          <p:cNvPicPr/>
          <p:nvPr/>
        </p:nvPicPr>
        <p:blipFill>
          <a:blip r:embed="rId1"/>
          <a:stretch/>
        </p:blipFill>
        <p:spPr>
          <a:xfrm>
            <a:off x="5638680" y="452592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рмы действия со зн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альные действ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 знаниями  -  это действие с реальными предметами (вещами) по их преобразованию (или моделями вещ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lass"/>
          <p:cNvPicPr/>
          <p:nvPr/>
        </p:nvPicPr>
        <p:blipFill>
          <a:blip r:embed="rId1"/>
          <a:stretch/>
        </p:blipFill>
        <p:spPr>
          <a:xfrm>
            <a:off x="2666880" y="3909960"/>
            <a:ext cx="37339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рмы действия со зн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нешнеречев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 действия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тот этап овладения деятельностью, когда он уже может обойтись без внешних материальных ориентиров, но еще не совсем уверен и поэтому подкрепляет свои действия рассуждениями вслух, контролируя себя через слышимую (внешнюю) ре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Рисунок2е78"/>
          <p:cNvPicPr/>
          <p:nvPr/>
        </p:nvPicPr>
        <p:blipFill>
          <a:blip r:embed="rId1"/>
          <a:stretch/>
        </p:blipFill>
        <p:spPr>
          <a:xfrm>
            <a:off x="7162920" y="5408640"/>
            <a:ext cx="1293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рмы действия со зн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мственная форм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указывает на тот уровень освоения его обучаемым, когда он способен все выполнить в уме, без какой-либо опоры на внешние материальные или громкоречевые ориен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WRITE"/>
          <p:cNvPicPr/>
          <p:nvPr/>
        </p:nvPicPr>
        <p:blipFill>
          <a:blip r:embed="rId1"/>
          <a:stretch/>
        </p:blipFill>
        <p:spPr>
          <a:xfrm>
            <a:off x="6172200" y="4343400"/>
            <a:ext cx="2438280" cy="230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стоинства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кратно ускоряется процесс выработки интеллектуальных и практических навыков и ум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ается количество ошибок при решении практически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вается возможность самообу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Рисунок16кен6еаг"/>
          <p:cNvPicPr/>
          <p:nvPr/>
        </p:nvPicPr>
        <p:blipFill>
          <a:blip r:embed="rId1"/>
          <a:stretch/>
        </p:blipFill>
        <p:spPr>
          <a:xfrm>
            <a:off x="3124080" y="4560840"/>
            <a:ext cx="22100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стоинства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лючается этап специальног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учи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уровень осознанности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уровень индивидуализ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Рисунок4"/>
          <p:cNvPicPr/>
          <p:nvPr/>
        </p:nvPicPr>
        <p:blipFill>
          <a:blip r:embed="rId1"/>
          <a:stretch/>
        </p:blipFill>
        <p:spPr>
          <a:xfrm>
            <a:off x="3886200" y="4038480"/>
            <a:ext cx="2301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достатки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создания высокого уровня мотивации обучаю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предварительная подготовка учебно-методических матери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Рисунок3ыва"/>
          <p:cNvPicPr/>
          <p:nvPr/>
        </p:nvPicPr>
        <p:blipFill>
          <a:blip r:embed="rId1"/>
          <a:stretch/>
        </p:blipFill>
        <p:spPr>
          <a:xfrm>
            <a:off x="2590920" y="4010040"/>
            <a:ext cx="3809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достатки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психолого-педагогического анализа учебной деятельности и приближение ее к реа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разработки и постановки системы задач, моделирующих реальн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Рисунок6еув"/>
          <p:cNvPicPr/>
          <p:nvPr/>
        </p:nvPicPr>
        <p:blipFill>
          <a:blip r:embed="rId1"/>
          <a:stretch/>
        </p:blipFill>
        <p:spPr>
          <a:xfrm>
            <a:off x="2971800" y="5181480"/>
            <a:ext cx="16765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еоретические основания метод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основу методики ускоренного усвоения умственных действий положена теория поэтапного формирования умствен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данной теории усилия обучающегося направляются не на получение знаний, а на овладение деятельностью, т.е. умениями и навыками практических (мыслительных, речевых, перцептивных, физических и т.д.) действий с использованием знаний для решения практическ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001000" y="152280"/>
            <a:ext cx="968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ллеги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елаю успехов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449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ущность метод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авильного выполнения действий (деятельности) обучающемуся представляются достаточные и зримые (наглядные) ориентиры, при опоре на которые человек, только начинающий обучаться, мог бы сразу, без получения каких-либо предварительных знаний, без заучивания, зазубривания, механического их запоминания, безошибочно действовать в практическом пл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1нгш"/>
          <p:cNvPicPr/>
          <p:nvPr/>
        </p:nvPicPr>
        <p:blipFill>
          <a:blip r:embed="rId1"/>
          <a:stretch/>
        </p:blipFill>
        <p:spPr>
          <a:xfrm>
            <a:off x="5105520" y="5486400"/>
            <a:ext cx="977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щность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имые (наглядные) ориентиры названы схемами ООД (ориентировочной основы деятельност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ООД выдается каждому обучающемуся, и, руководствуясь схемой ООД, он выполняет те или иные практические действия со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15656"/>
          <p:cNvPicPr/>
          <p:nvPr/>
        </p:nvPicPr>
        <p:blipFill>
          <a:blip r:embed="rId1"/>
          <a:stretch/>
        </p:blipFill>
        <p:spPr>
          <a:xfrm>
            <a:off x="2971800" y="4813200"/>
            <a:ext cx="24019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6858000"/>
          <a:ext cx="9144000" cy="2438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352680" y="2590920"/>
          <a:ext cx="2057400" cy="1752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8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ботка действий при       опоре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Д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172200" y="2590920"/>
          <a:ext cx="2743200" cy="17366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ый результат: умение действовать с заданными качествами "со знанием дела"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9480" y="2590920"/>
          <a:ext cx="1981440" cy="175248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й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у О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Line 49"/>
          <p:cNvSpPr/>
          <p:nvPr/>
        </p:nvSpPr>
        <p:spPr>
          <a:xfrm>
            <a:off x="2590920" y="3581280"/>
            <a:ext cx="757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0"/>
          <p:cNvSpPr/>
          <p:nvPr/>
        </p:nvSpPr>
        <p:spPr>
          <a:xfrm>
            <a:off x="5410080" y="3581280"/>
            <a:ext cx="757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3" descr="PE02002_"/>
          <p:cNvPicPr/>
          <p:nvPr/>
        </p:nvPicPr>
        <p:blipFill>
          <a:blip r:embed="rId1"/>
          <a:stretch/>
        </p:blipFill>
        <p:spPr>
          <a:xfrm>
            <a:off x="6781680" y="5116680"/>
            <a:ext cx="1905120" cy="146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4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168120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6" descr="bebe14"/>
          <p:cNvPicPr/>
          <p:nvPr/>
        </p:nvPicPr>
        <p:blipFill>
          <a:blip r:embed="rId3"/>
          <a:stretch/>
        </p:blipFill>
        <p:spPr>
          <a:xfrm>
            <a:off x="3429000" y="4876920"/>
            <a:ext cx="18288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 читает предъявленную задачу, которую не знает, как решать и знать не обязан (он только начинает обучение предмет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2557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в задачу, он, следуя схеме ООД, и, опираясь на нее, проделывает нужные действия в соответствии с условиям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be14"/>
          <p:cNvPicPr/>
          <p:nvPr/>
        </p:nvPicPr>
        <p:blipFill>
          <a:blip r:embed="rId1"/>
          <a:stretch/>
        </p:blipFill>
        <p:spPr>
          <a:xfrm>
            <a:off x="2895480" y="3738600"/>
            <a:ext cx="3276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бучающийся  строго следует указаниям "схемы" (при необходимости обращаясь за консультацией к преподавателю, инструктору, товарищу), то через какое-то время задача будет реш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E02002_"/>
          <p:cNvPicPr/>
          <p:nvPr/>
        </p:nvPicPr>
        <p:blipFill>
          <a:blip r:embed="rId1"/>
          <a:stretch/>
        </p:blipFill>
        <p:spPr>
          <a:xfrm>
            <a:off x="2819520" y="4178160"/>
            <a:ext cx="32004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хема ООД (ориентировочная основа деятельност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"схема" имеет условный обобщенны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ждом конкретном случае схема ООД может быть реализована в тех или иных ориентирующих средств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ООД - это учебно-методическое средство, представляющее собой структурно-логическую схему практического 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быть выполнены в виде схемы,  таблицы, графа, инструкции, учебной карты, последовательного ряда вопросо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Рисунок2ыв"/>
          <p:cNvPicPr/>
          <p:nvPr/>
        </p:nvPicPr>
        <p:blipFill>
          <a:blip r:embed="rId1"/>
          <a:stretch/>
        </p:blipFill>
        <p:spPr>
          <a:xfrm>
            <a:off x="7391520" y="5962680"/>
            <a:ext cx="15238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4-26T16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