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6AF-26E7-488A-8FCE-D1EDEFA4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3A9-ADC6-4EE3-8BE0-856B5FC9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104-616B-4090-8C4F-DFB19533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FAF-3A7C-422D-9319-84ADE5AB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3F8C-B687-40A2-97A3-71CDA4E7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8D4A-49D2-4C5B-A39F-746D6BA0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8466-F22E-48B9-8842-3DFC8479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05B3-A79D-4BC6-9EAA-6B80C2FD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601D-7278-4DD2-8C04-D1BE6069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B893-7E65-476C-B4BE-369EC066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0295-90EE-4DF0-95AF-142BB0A4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0C4-AA95-4D9F-A08A-0DA6CEA5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470C-8AD2-40BE-A4B9-E2DB56D7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96CA-50C4-49DF-925B-3E84216E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F654-8903-4EF6-90BB-82A469CA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CC74-8B42-494E-A799-E1099602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139C-990E-4E39-8EDC-F65C3CBC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040-5FE1-4BBB-909C-2DA4F748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569-541B-4731-81D3-0FAD867E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E94-1D3C-4F0C-8346-03A93ECA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DF5-0F73-4C00-8D95-E4975256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4E2-9BD4-4AA8-85A3-CE2D5B73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42B-3A3D-4AB5-899E-C4E6F24C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F75-6A09-4C4C-B912-DF88CD9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86DC-6FAE-4AC6-B6F0-D7DCD1AEB6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7F24-87F7-4802-A780-ED7311D042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Кластеры компетенций              учителей математики и физик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астер компетенций- набор тесно связанных между собой компетенц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Учебные умения. Таблица №3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0160" y="1827360"/>
          <a:ext cx="7313400" cy="4525920"/>
        </p:xfrm>
        <a:graphic>
          <a:graphicData uri="http://schemas.openxmlformats.org/drawingml/2006/table">
            <a:tbl>
              <a:tblPr/>
              <a:tblGrid>
                <a:gridCol w="2554200"/>
                <a:gridCol w="4759200"/>
              </a:tblGrid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адиционная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ование потребности к самообразованию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о-поисковая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я целеполагания, анализа, рефлексии, самооценк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юща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овладевать креативными навыками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ючевыми образовательными компетенциями являютс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Ценностно-смысл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Общекультур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Учебно-познаватель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.Информацион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.Коммуникатив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.Социально- труд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Личностного совершенствова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о-смысловая компетенция предполагает умения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формулировать собственные ценностные ориентиры по отношению к изучаемым предмет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Уметь принимать решения, брать на себя ответственность, брать на себя ответственность за их последств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существлять индивидуальную образовательную траектор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Учебно-познавательные компетенци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ь цель и организовывать ее достижение, уметь пояснить свою це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ганизовывать планирование, анализ, рефлексию, самооценку своей учебно-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 познавательные задачи и выдвигать гипоте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Иметь опыт восприятия картины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щекультур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ять свое место и роль в окружающем мире, владеть культурными  нормами и традиц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Действовать в сфере трудовых отношений в соответствии с личной и общественной польз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еть представление о системе социальных норм и ценностей в России и других стран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оммуникативные компетенц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ть представить себя устно и письменно, написать анкету, заявл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ладеть разными видами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взаимодействия с окружающими и удаленными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работы в групп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он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навыками работы с различными источниками информ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амостоятельно искать, извлекать, систематизировать, анализировать необходимую для решения задач информ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иентироваться в информационных потоках, выделять в них глав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1.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териально-практическая деятельность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0160" y="1827360"/>
          <a:ext cx="7313400" cy="4541760"/>
        </p:xfrm>
        <a:graphic>
          <a:graphicData uri="http://schemas.openxmlformats.org/drawingml/2006/table">
            <a:tbl>
              <a:tblPr/>
              <a:tblGrid>
                <a:gridCol w="2338200"/>
                <a:gridCol w="49752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ная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т способности к научному творчеству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рнет- урок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Интернет- информацией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КТ-технолог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дение навыками работы с компьютор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грированные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обработкой количественных дан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2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циальная деятельно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1413000"/>
          <a:ext cx="7313760" cy="5452920"/>
        </p:xfrm>
        <a:graphic>
          <a:graphicData uri="http://schemas.openxmlformats.org/drawingml/2006/table">
            <a:tbl>
              <a:tblPr/>
              <a:tblGrid>
                <a:gridCol w="2554200"/>
                <a:gridCol w="4759560"/>
              </a:tblGrid>
              <a:tr h="11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ульная 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в группах, приобретаются навыки коллективной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радиционные уро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ешать проблему новыми способ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овы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взаимодействовать с окружающими, умение представить себ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оровьесберегающие технологи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тие положительных привычек 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13:46Z</dcterms:created>
  <dc:creator>Customer</dc:creator>
  <dc:description/>
  <dc:language>en-US</dc:language>
  <cp:lastModifiedBy>Герда</cp:lastModifiedBy>
  <dcterms:modified xsi:type="dcterms:W3CDTF">2013-01-10T12:51:54Z</dcterms:modified>
  <cp:revision>5</cp:revision>
  <dc:subject/>
  <dc:title>Кластеры компетенций              учителей математики.</dc:title>
</cp:coreProperties>
</file>