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116-49B9-4DC4-8B90-53768996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16D-9CA9-4B41-9008-D31EA3A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D888-7E41-4F95-97BA-A2C3282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A7C-8B47-4961-92C5-5C20C962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13A4-EC9A-4D12-AE2C-4704DD2E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D45D-2C5E-4444-B907-A58F030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F984-536D-44C1-8A11-00E80D1A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551F-F156-4E90-9BCF-2CC3CAC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9F7F-AF41-4483-8FDA-EB5E2C01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8B8-4419-43F3-8F26-16812EA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0427-91D6-4E61-BF86-8D1F8EBD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756-E141-4E12-B1D4-540F4CD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B92D-55C5-41FF-9AF8-DBCDFADF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3F4C-6613-422F-869F-294EC1A1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62EF-588B-4B89-BB27-6E1F587D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DB81-E529-4E2E-BE7C-8E1DA7D8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0F1-7E27-414A-B696-1EF9E957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74C-16B9-4B87-B5A8-764DFC08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F81-8952-4608-B336-0104734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FF94-D70F-4DF1-9309-0867B5FA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AE7-406C-42A7-94D2-E02FBA40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C3F-B250-4827-BCEB-FCF8B4A7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383-3566-4854-B722-3A59D749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5E2-85F2-4B07-9373-8368D58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BE69-2A49-4DA7-91C3-77E4D75A14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B93-BD4B-4E83-A1D3-07D637F579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 компетенций              учителей математики и физик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Герда</cp:lastModifiedBy>
  <dcterms:modified xsi:type="dcterms:W3CDTF">2013-01-10T12:51:54Z</dcterms:modified>
  <cp:revision>5</cp:revision>
  <dc:subject/>
  <dc:title>Кластеры компетенций              учителей математики.</dc:title>
</cp:coreProperties>
</file>