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B895-9871-42AB-8162-9030D1668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CF63-1985-4A1C-992F-7B16E7E7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851E-4507-400A-8217-6D4E578CF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954E-D38F-42FD-83FB-B0D9896A3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007B-65C2-4AE2-BCB6-72D99F23F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71F9-794A-44E1-ABF5-65D7C68D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7BE7-7DFC-404F-A83C-1FD028E4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DE20-D748-46E1-BCC9-12093633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59F5-E9BB-45BD-84C7-1F6BDCB3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1AC6-9B75-4E78-A8FB-C09A1D28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5BF1-3EC5-410C-82C7-F071A8E9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76EB-825A-409C-94BC-0999CE8F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CA25-7351-4370-B31A-912B4550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7684-E557-4CFB-8889-870AAE54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94FB-8B06-43EA-B9CC-C2D6CDF3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6DDB-9023-4CE7-87B6-B87A4F9F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21B0-57FB-43F4-815C-A5C6553F4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9ADB-07EC-4A91-9232-B7DB5B70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EAA2-1E21-4401-8C10-640E64B7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F3B8-4A6B-488A-9699-FCEAEE73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C2F8-627F-4E93-8110-A84A282A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56CD-B741-4825-BCCC-DA254E04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E22E-FDA8-4175-8286-774BB9BC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84FD-9DCA-4BD4-B37E-82A8D6EF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4713-B4BA-4F9B-A502-18D6950CBA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EE8F-5892-4C64-9BEA-D22C9DDCBC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66"/>
                </a:solidFill>
                <a:latin typeface="Arial"/>
              </a:rPr>
              <a:t>Кластеры компетенций              учителей математики и физики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ластер компетенций- набор тесно связанных между собой компетенци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Кластер компетенций. Учебные умения. Таблица №3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370160" y="1827360"/>
          <a:ext cx="7313400" cy="4525920"/>
        </p:xfrm>
        <a:graphic>
          <a:graphicData uri="http://schemas.openxmlformats.org/drawingml/2006/table">
            <a:tbl>
              <a:tblPr/>
              <a:tblGrid>
                <a:gridCol w="2554200"/>
                <a:gridCol w="4759200"/>
              </a:tblGrid>
              <a:tr h="10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Виды технологий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Формируемые компетентности учащихся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радиционная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ирование потребности к самообразованию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блемно-поисковая.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рганизация целеполагания, анализа, рефлексии, самооценки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вивающая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ние овладевать креативными навыками.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Ключевыми образовательными компетенциями являются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.Ценностно-смыслова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2.Общекультурна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3.Учебно-познавательна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4.Информационна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5.Коммуникативна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6.Социально- трудова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7.Личностного совершенствования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Ценностно-смысловая компетенция предполагает умения: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формулировать собственные ценностные ориентиры по отношению к изучаемым предмета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Уметь принимать решения, брать на себя ответственность, брать на себя ответственность за их последств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Осуществлять индивидуальную образовательную траектори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Учебно-познавательные компетенции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ставить цель и организовывать ее достижение, уметь пояснить свою цел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организовывать планирование, анализ, рефлексию, самооценку своей учебно-познавательной деятель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Ставит познавательные задачи и выдвигать гипотез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Иметь опыт восприятия картины мир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бщекультурные компетенции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ределять свое место и роль в окружающем мире, владеть культурными  нормами и традиция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Действовать в сфере трудовых отношений в соответствии с личной и общественной польз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еть представление о системе социальных норм и ценностей в России и других страна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Коммуникативные компетенции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еть представить себя устно и письменно, написать анкету, заявле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ладеть разными видами речевой деятель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Владеть способами взаимодействия с окружающими и удаленными людь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владеть способами работы в групп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Информационные компетенции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Владеть навыками работы с различными источниками информац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Самостоятельно искать, извлекать, систематизировать, анализировать необходимую для решения задач информаци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Ориентироваться в информационных потоках, выделять в них главно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Кластер компетенций. Таблица №1.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Материально-практическая деятельность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370160" y="1827360"/>
          <a:ext cx="7313400" cy="4541760"/>
        </p:xfrm>
        <a:graphic>
          <a:graphicData uri="http://schemas.openxmlformats.org/drawingml/2006/table">
            <a:tbl>
              <a:tblPr/>
              <a:tblGrid>
                <a:gridCol w="2338200"/>
                <a:gridCol w="497520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Виды технологий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Формируемые компетентности учащихся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ектная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ирует способности к научному творчеству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тернет- уроки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ние работать с Интернет- информацией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КТ-технолог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ладение навыками работы с компьюторо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тегрированные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рок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ние работать с обработкой количественных данных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Кластер компетенций. Таблица №2.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оциальная деятельность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403280" y="1413000"/>
          <a:ext cx="7313760" cy="5452920"/>
        </p:xfrm>
        <a:graphic>
          <a:graphicData uri="http://schemas.openxmlformats.org/drawingml/2006/table">
            <a:tbl>
              <a:tblPr/>
              <a:tblGrid>
                <a:gridCol w="2554200"/>
                <a:gridCol w="4759560"/>
              </a:tblGrid>
              <a:tr h="116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Виды технологи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Формируемые компетентности учащихся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дульная техн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ние работать в группах, приобретаются навыки коллективной работ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радиционные уро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ние решать проблему новыми способам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гровые технолог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мение взаимодействовать с окружающими, умение представить себ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доровьесберегающие технологии</a:t>
                      </a: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витие положительных привычек 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4:13:46Z</dcterms:created>
  <dc:creator>Customer</dc:creator>
  <dc:description/>
  <dc:language>en-US</dc:language>
  <cp:lastModifiedBy>Герда</cp:lastModifiedBy>
  <dcterms:modified xsi:type="dcterms:W3CDTF">2013-01-10T12:51:54Z</dcterms:modified>
  <cp:revision>5</cp:revision>
  <dc:subject/>
  <dc:title>Кластеры компетенций              учителей математики.</dc:title>
</cp:coreProperties>
</file>