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F38-42DB-4FD6-90A0-28E719E0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B52-4D69-46D2-B6FB-972D33FC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455-5A52-42FF-9A8E-3DE85879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EAD-1C53-425A-9317-85EF09FE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2153-D78F-42B8-BF3F-FBE6E9E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4EC3-3169-406F-B1EF-0FF55624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2D15-1F6D-47B7-8C87-7D9EDF12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58D6-EA0A-4B17-83EB-8CE6380A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AD91-E95C-4101-953E-4FE5DFE3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D9AD-829C-4E85-A6AC-76EEC8FB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75B-C370-413A-BCAB-6B82616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13A-2805-4D5D-934B-1375B1FF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FA9-A774-4C0F-A2BC-4E15106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C12F-78FF-4E16-8491-F355A4BC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5FFC-881E-4702-A1FA-17A2C8CA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F608-F09F-492A-A849-D93CFBA9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3BF-067C-461C-B173-A0912603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2D0-E42B-4C9F-9DFF-1D2165E8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718-6280-4636-930D-926BB5BF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417-94EE-4580-B0F9-08F3037F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8C3-84EC-4714-88B9-E9EA17F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279-C071-43D8-A229-817306F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745-D96F-4FDF-84CA-04CB70BD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8C6-CB93-4571-99C7-2784B0B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40D2-BFA0-4DA6-B253-005079CE7E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682-5EE1-4D16-925F-CAAADB014C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 компетенций              учителей математики и физик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Герда</cp:lastModifiedBy>
  <dcterms:modified xsi:type="dcterms:W3CDTF">2013-01-10T12:51:54Z</dcterms:modified>
  <cp:revision>5</cp:revision>
  <dc:subject/>
  <dc:title>Кластеры компетенций              учителей математики.</dc:title>
</cp:coreProperties>
</file>