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30.png" ContentType="image/png"/>
  <Override PartName="/ppt/media/image32.jpeg" ContentType="image/jpeg"/>
  <Override PartName="/ppt/media/image36.jpeg" ContentType="image/jpeg"/>
  <Override PartName="/ppt/media/image41.jpeg" ContentType="image/jpeg"/>
  <Override PartName="/ppt/media/image42.png" ContentType="image/png"/>
  <Override PartName="/ppt/media/image34.jpeg" ContentType="image/jpeg"/>
  <Override PartName="/ppt/media/image37.png" ContentType="image/png"/>
  <Override PartName="/ppt/media/image48.jpeg" ContentType="image/jpeg"/>
  <Override PartName="/ppt/media/image3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19.jpeg" ContentType="image/jpeg"/>
  <Override PartName="/ppt/media/image43.png" ContentType="image/png"/>
  <Override PartName="/ppt/media/image47.jpeg" ContentType="image/jpeg"/>
  <Override PartName="/ppt/media/image12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617-2FC3-4FB2-AA0E-74780B67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003-444B-4B72-92F2-73A7A170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2C3-9663-4180-B8CB-9B77A4CB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F52-A59C-4DAD-93B2-75D6F2F0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8F0-5E63-4BCA-9F13-C96FE2E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9BB-B896-4C9D-9D45-F288653D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FF0-FCA7-494D-99C1-AF133F3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32B-5B43-4689-82EB-73AC0A45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94A-502F-402F-BAD6-1414BD17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452-9070-47B0-8086-EADC1896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8F0-449D-46A0-8C3E-FA0875F1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A5B-9887-43A8-AEF7-CA7DF5DD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5F7F-9B3A-4316-881B-42053D0D7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0;&#1079;&#1084;&#1072;_%28&#1086;&#1087;&#1090;&#1080;&#1082;&#1072;%29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189000"/>
            <a:ext cx="81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 бюджетное общеобразовательное учреждение гимназия №7 г. Балти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435640" y="443700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.п.н. 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пушнян Герд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619280" y="2276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Все загадки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971640" y="260280"/>
            <a:ext cx="799308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Таким образом, можно сформулировать закон преломления св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84360" y="1341360"/>
            <a:ext cx="65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EpsilonCTT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Лучи падающий, преломлённый и перпендикуляр, проведённый к границе раздела двух сред в точке падения луча, лежат в одн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55640" y="2997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EpsilonCTT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Отношение синуса угла падения к синусу угла преломления есть величина постоянная для двух с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Безымянный1"/>
          <p:cNvPicPr/>
          <p:nvPr/>
        </p:nvPicPr>
        <p:blipFill>
          <a:blip r:embed="rId1"/>
          <a:stretch/>
        </p:blipFill>
        <p:spPr>
          <a:xfrm>
            <a:off x="4067280" y="4221000"/>
            <a:ext cx="4716360" cy="2060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7"/>
          <p:cNvSpPr/>
          <p:nvPr/>
        </p:nvSpPr>
        <p:spPr>
          <a:xfrm>
            <a:off x="250920" y="5300640"/>
            <a:ext cx="367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носительный показатель преломления для двух данных сред. Например, если луч переходит из воздуха в воду, то относительный показатель их преломления равен 1,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14396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124000" y="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Дисп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upload.wikimedia.org/wikipedia/commons/thumb/0/06/Prism_rainbow_schema.png/220px-Prism_rainbow_schema.png"/>
          <p:cNvPicPr/>
          <p:nvPr/>
        </p:nvPicPr>
        <p:blipFill>
          <a:blip r:embed="rId1"/>
          <a:stretch/>
        </p:blipFill>
        <p:spPr>
          <a:xfrm>
            <a:off x="5940360" y="4724280"/>
            <a:ext cx="2482920" cy="1559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5724360" y="189000"/>
            <a:ext cx="2914920" cy="4268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250920" y="968400"/>
            <a:ext cx="554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явление, обусловленное зависимостью абсолютного показателя преломления вещества от частоты (или длины волны) света, или зависимость фазовой скорости света в веществе от длины волны (или часто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46083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quantum_phys_Opit_1.avi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27813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258920" y="404640"/>
            <a:ext cx="61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ndara"/>
              </a:rPr>
              <a:t>Приз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395280" y="1557360"/>
            <a:ext cx="639144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Призма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 — устройство для преломления световых лучей, имеющая форму геометрической приз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4819b3ababfe1b5e23fc94f2151.jpg"/>
          <p:cNvPicPr/>
          <p:nvPr/>
        </p:nvPicPr>
        <p:blipFill>
          <a:blip r:embed="rId2"/>
          <a:stretch/>
        </p:blipFill>
        <p:spPr>
          <a:xfrm>
            <a:off x="3267000" y="3133800"/>
            <a:ext cx="41814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403280" y="18900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ломления пучка св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охождении им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4320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учок света падает нормально на стеклянную призму (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 = 1,5) и после преломления выходит из нее. Найдите угол β отклонения пучка света от первоначального направления, если преломляющий угол призмы α = 3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opt_cd24"/>
          <p:cNvPicPr/>
          <p:nvPr/>
        </p:nvPicPr>
        <p:blipFill>
          <a:blip r:embed="rId1"/>
          <a:stretch/>
        </p:blipFill>
        <p:spPr>
          <a:xfrm>
            <a:off x="2843280" y="1700280"/>
            <a:ext cx="3817800" cy="2454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539640" y="155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Задач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46600" y="260280"/>
            <a:ext cx="8849160" cy="7034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ndara"/>
              </a:rPr>
              <a:t>Плоскопараллельная пласт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00" y="-321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95280" y="126828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лоскопараллельная пластинка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ограниченный параллельными поверхностями слой однородной среды, прозрачной в некотором интервале длин волн λ оптического изл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i010-001-245123978.jpg"/>
          <p:cNvPicPr/>
          <p:nvPr/>
        </p:nvPicPr>
        <p:blipFill>
          <a:blip r:embed="rId1"/>
          <a:stretch/>
        </p:blipFill>
        <p:spPr>
          <a:xfrm>
            <a:off x="2195640" y="2781360"/>
            <a:ext cx="48956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1292400"/>
            <a:ext cx="3168720" cy="1963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140360" y="981000"/>
            <a:ext cx="4825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Garamond"/>
              </a:rPr>
              <a:t>Линз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зрачное тело, образованное двумя сферическим поверхностями либо сферическое с одной стороны и плоское с другой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340000" y="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Garamond"/>
              </a:rPr>
              <a:t>Лин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Безымянный"/>
          <p:cNvPicPr/>
          <p:nvPr/>
        </p:nvPicPr>
        <p:blipFill>
          <a:blip r:embed="rId2"/>
          <a:stretch/>
        </p:blipFill>
        <p:spPr>
          <a:xfrm>
            <a:off x="4643280" y="3933720"/>
            <a:ext cx="3457800" cy="2132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324000" y="386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3860640"/>
            <a:ext cx="403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лавный фокус линзы находится в точки пересечения преломлённых лучей, падающих на линзу параллельно главной оптическо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Безымянный"/>
          <p:cNvPicPr/>
          <p:nvPr/>
        </p:nvPicPr>
        <p:blipFill>
          <a:blip r:embed="rId1"/>
          <a:stretch/>
        </p:blipFill>
        <p:spPr>
          <a:xfrm>
            <a:off x="5292720" y="404640"/>
            <a:ext cx="3240000" cy="2009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189000"/>
            <a:ext cx="45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EpsilonCTT"/>
              </a:rPr>
              <a:t>Фокусное расстояние-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сстояние между главным фокусом (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)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оптическим центро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(O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1773360"/>
            <a:ext cx="42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тическая сила обратно пропорциональна фокусному расстоя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Безымянный"/>
          <p:cNvPicPr/>
          <p:nvPr/>
        </p:nvPicPr>
        <p:blipFill>
          <a:blip r:embed="rId2"/>
          <a:stretch/>
        </p:blipFill>
        <p:spPr>
          <a:xfrm>
            <a:off x="611280" y="4149720"/>
            <a:ext cx="3024000" cy="1852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716360" y="4149720"/>
            <a:ext cx="41767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EpsilonCTT"/>
              </a:rPr>
              <a:t>Увеличение-</a:t>
            </a:r>
            <a:r>
              <a:rPr b="1" lang="ru-RU" sz="4400" spc="-1" strike="noStrike">
                <a:solidFill>
                  <a:srgbClr val="000000"/>
                </a:solidFill>
                <a:latin typeface="EpsilonCTT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то отношение высоты изображени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H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к высоте предмет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h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\Large D=\frac{1}{F}=\frac{1}{d }+\frac{1}{f } "/>
          <p:cNvPicPr/>
          <p:nvPr/>
        </p:nvPicPr>
        <p:blipFill>
          <a:blip r:embed="rId3"/>
          <a:stretch/>
        </p:blipFill>
        <p:spPr>
          <a:xfrm>
            <a:off x="4859280" y="2924280"/>
            <a:ext cx="3384720" cy="698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1"/>
          <p:cNvSpPr/>
          <p:nvPr/>
        </p:nvSpPr>
        <p:spPr>
          <a:xfrm>
            <a:off x="4390200" y="3629520"/>
            <a:ext cx="49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системе СИ — (Дптр) — диопт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линза 2.avi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25401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825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1763640" y="750960"/>
            <a:ext cx="525636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4360" y="476280"/>
            <a:ext cx="6912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Цели и задачи: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формулировать законы геометрической опт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формулировать законы  волновой оп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Безымянный"/>
          <p:cNvPicPr/>
          <p:nvPr/>
        </p:nvPicPr>
        <p:blipFill>
          <a:blip r:embed="rId1"/>
          <a:stretch/>
        </p:blipFill>
        <p:spPr>
          <a:xfrm>
            <a:off x="468360" y="949320"/>
            <a:ext cx="74883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1908000" y="260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нов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95280" y="3213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Волна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процесс переноса в пространстве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Rectangle 12" descr=""/>
          <p:cNvPicPr/>
          <p:nvPr/>
        </p:nvPicPr>
        <p:blipFill>
          <a:blip r:embed="rId1"/>
          <a:stretch/>
        </p:blipFill>
        <p:spPr>
          <a:xfrm>
            <a:off x="255600" y="1017720"/>
            <a:ext cx="7566120" cy="2286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4"/>
          <p:cNvSpPr/>
          <p:nvPr/>
        </p:nvSpPr>
        <p:spPr>
          <a:xfrm>
            <a:off x="468360" y="4365720"/>
            <a:ext cx="7920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лновая оптика рассматривает свет как электромагнитные вол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Garamond"/>
              </a:rPr>
              <a:t>Явления интерференции и дифракции служат опытным подтверждением его волново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526040" y="549360"/>
            <a:ext cx="56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ff"/>
                </a:solidFill>
                <a:latin typeface="Garamond"/>
              </a:rPr>
              <a:t>Свет как вол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187280" y="2349360"/>
            <a:ext cx="70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лновым процессам характерна интерференция и дифракция, дисперсия т.е. если предположить, что свет - волна, то нужно обнаружить его волнов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324000" y="890280"/>
            <a:ext cx="85024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EpsilonCTT"/>
              </a:rPr>
              <a:t>Диспе́рсия све́т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(разложение света) — это явление зависимости абсолютного показателя преломления вещества от длины волны света а также, от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050920" y="260280"/>
            <a:ext cx="48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EpsilonCTT"/>
              </a:rPr>
              <a:t>Диспер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24000" y="2336760"/>
            <a:ext cx="81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результате прохождения света через прозрачную призму получается упорядоченное расположение монохроматических электромагнитных волн оптического диапазона – спектр. Изучение этого спектра привело И. Ньютона в 1672 году к открытию дисперсии с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post-69603-1256944021"/>
          <p:cNvPicPr/>
          <p:nvPr/>
        </p:nvPicPr>
        <p:blipFill>
          <a:blip r:embed="rId1"/>
          <a:stretch/>
        </p:blipFill>
        <p:spPr>
          <a:xfrm>
            <a:off x="3564000" y="4653000"/>
            <a:ext cx="26636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сперсия 3.avi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4124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619280" y="765000"/>
            <a:ext cx="590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68360" y="54936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EpsilonCTT"/>
              </a:rPr>
              <a:t>Интерференц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1485360"/>
            <a:ext cx="7386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aramond"/>
              </a:rPr>
              <a:t>Интерференцией</a:t>
            </a: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лн называется явление, возникающее при сложении двух волн, вследствие которого наблюдается усиление или ослабление результирующих колебаний в различных точках простран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68360" y="3933720"/>
            <a:ext cx="7272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образования устойчивой интерференционной картины необходимо, чтобы источники волн имели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одинаковую частоту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стоянную разность фаз их колебани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Такие волны называются 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когерент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-718200" y="226080"/>
            <a:ext cx="109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Условие максимума интерференционной карт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19280" y="1052640"/>
          <a:ext cx="1873080" cy="792000"/>
        </p:xfrm>
        <a:graphic>
          <a:graphicData uri="http://schemas.openxmlformats.org/drawingml/2006/table">
            <a:tbl>
              <a:tblPr/>
              <a:tblGrid>
                <a:gridCol w="18730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15"/>
          <p:cNvSpPr/>
          <p:nvPr/>
        </p:nvSpPr>
        <p:spPr>
          <a:xfrm>
            <a:off x="2003400" y="3474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00119626719702882"/>
          <p:cNvPicPr/>
          <p:nvPr/>
        </p:nvPicPr>
        <p:blipFill>
          <a:blip r:embed="rId1"/>
          <a:stretch/>
        </p:blipFill>
        <p:spPr>
          <a:xfrm>
            <a:off x="1692360" y="105264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6"/>
          <p:cNvSpPr/>
          <p:nvPr/>
        </p:nvSpPr>
        <p:spPr>
          <a:xfrm>
            <a:off x="0" y="2308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Условие минимума интерференционной карт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0000" y="3429000"/>
          <a:ext cx="2519640" cy="158436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Rectangle 27"/>
          <p:cNvSpPr/>
          <p:nvPr/>
        </p:nvSpPr>
        <p:spPr>
          <a:xfrm>
            <a:off x="2038320" y="3727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00119626719734883"/>
          <p:cNvPicPr/>
          <p:nvPr/>
        </p:nvPicPr>
        <p:blipFill>
          <a:blip r:embed="rId2"/>
          <a:stretch/>
        </p:blipFill>
        <p:spPr>
          <a:xfrm>
            <a:off x="900000" y="3500280"/>
            <a:ext cx="2519640" cy="1470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inter5"/>
          <p:cNvPicPr/>
          <p:nvPr/>
        </p:nvPicPr>
        <p:blipFill>
          <a:blip r:embed="rId3"/>
          <a:stretch/>
        </p:blipFill>
        <p:spPr>
          <a:xfrm>
            <a:off x="485928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0001-001-Interferentsija-i-difraktsija-sveta"/>
          <p:cNvPicPr/>
          <p:nvPr/>
        </p:nvPicPr>
        <p:blipFill>
          <a:blip r:embed="rId4"/>
          <a:stretch/>
        </p:blipFill>
        <p:spPr>
          <a:xfrm>
            <a:off x="4716360" y="907920"/>
            <a:ext cx="223380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835280" y="333360"/>
            <a:ext cx="51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EpsilonCTT"/>
              </a:rPr>
              <a:t>Дифра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39640" y="859320"/>
            <a:ext cx="82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ff"/>
                </a:solidFill>
                <a:latin typeface="Garamond"/>
              </a:rPr>
              <a:t>Дифракцией свет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называется явление отклонения света от прямолинейного направления распространения при прохождении вблизи препятствий. Как показывает опыт, свет при определенных условиях может заходить в область геометрической тени. Если на пути параллельного светового пучка расположено круглое препятствие (круглый диск, шарик или круглое отверстие в непрозрачном экране), то на экране, расположенном на достаточно большом расстоянии от препятствия, появляется </a:t>
            </a:r>
            <a:r>
              <a:rPr b="1" i="1" lang="ru-RU" sz="2400" spc="-1" strike="noStrike">
                <a:solidFill>
                  <a:srgbClr val="ff99ff"/>
                </a:solidFill>
                <a:latin typeface="Garamond"/>
              </a:rPr>
              <a:t>дифракционная карти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– система чередующихся светлых и темных колец. Если препятствие имеет линейный характер (щель, нить, край экрана), то на экране возникает система параллельных дифракционных пол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mage049"/>
          <p:cNvPicPr/>
          <p:nvPr/>
        </p:nvPicPr>
        <p:blipFill>
          <a:blip r:embed="rId1"/>
          <a:stretch/>
        </p:blipFill>
        <p:spPr>
          <a:xfrm>
            <a:off x="468360" y="260280"/>
            <a:ext cx="1254240" cy="87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difractia"/>
          <p:cNvPicPr/>
          <p:nvPr/>
        </p:nvPicPr>
        <p:blipFill>
          <a:blip r:embed="rId2"/>
          <a:stretch/>
        </p:blipFill>
        <p:spPr>
          <a:xfrm rot="371400">
            <a:off x="6432480" y="83880"/>
            <a:ext cx="1625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ptic_Opit_4.avi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997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0356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95280" y="260280"/>
            <a:ext cx="82803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Book Antiqua"/>
              </a:rPr>
              <a:t>Оптика  -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то раздел физики, изучающий законы распространения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324000" y="1341360"/>
            <a:ext cx="84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Book Antiqua"/>
              </a:rPr>
              <a:t>Свет —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электромагнитное излучение, испускаемое нагретым или находящимся в возбуждённом состоянии веществом, воспринимаемое человеческим глазом</a:t>
            </a:r>
            <a:r>
              <a:rPr b="0" lang="de-DE" sz="2800" spc="-1" strike="noStrike">
                <a:solidFill>
                  <a:srgbClr val="ffff00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Book Antiqua"/>
              </a:rPr>
              <a:t>Световой луч –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то линия вдоль которой распространяется световая энергия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6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-17640" y="20520"/>
            <a:ext cx="9161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2152440" y="334080"/>
            <a:ext cx="50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Дифракционная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 решёт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95280" y="10134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Дифракционная решёт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оптический прибор, предназначенный для анализа спектрального состава оптического изл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8360" y="4724280"/>
            <a:ext cx="81360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ракционная решётка состоит из тысяч узких и близко расположенных щ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-за интерференции интенсивность света прошедшего через дифракционную решётку различна в различных направлениях. Имеются выделенные направления в которых световые волны от различных щелей решётки складываются в фазе, многократно усиливая друг д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освещении решётки монохроматическим светом на её выходе наблюдаются узкие лучи с большой интенсивност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24000" y="1989000"/>
            <a:ext cx="83883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img41"/>
          <p:cNvPicPr/>
          <p:nvPr/>
        </p:nvPicPr>
        <p:blipFill>
          <a:blip r:embed="rId1"/>
          <a:stretch/>
        </p:blipFill>
        <p:spPr>
          <a:xfrm>
            <a:off x="539640" y="189000"/>
            <a:ext cx="81378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Diffraction-grating2"/>
          <p:cNvPicPr/>
          <p:nvPr/>
        </p:nvPicPr>
        <p:blipFill>
          <a:blip r:embed="rId1"/>
          <a:stretch/>
        </p:blipFill>
        <p:spPr>
          <a:xfrm>
            <a:off x="1332000" y="404640"/>
            <a:ext cx="2808360" cy="1863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image468"/>
          <p:cNvPicPr/>
          <p:nvPr/>
        </p:nvPicPr>
        <p:blipFill>
          <a:blip r:embed="rId2"/>
          <a:stretch/>
        </p:blipFill>
        <p:spPr>
          <a:xfrm>
            <a:off x="3924360" y="2708280"/>
            <a:ext cx="33843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72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ptic_Opit_5.avi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0" dur="12896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5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http://www.chiefspb.ru/images/st1img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68360" y="0"/>
            <a:ext cx="899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еречность световых волн. Поляризация света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79280" y="1079640"/>
            <a:ext cx="8713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 – поперечная вол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овая волна, идущая от источника света, полностью симметрична относительно направления распрост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на, вышедшая из первого кристалла, не обладает осевой симметри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овой поток, в котором колебания происходят по всем направлениям, перпендикулярным направлению волн, называют естественным с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сталл турмалина обладает способностью пропускать световые волны с колебаниями, происходящими в одной определённой плос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й свет называется поляризованным(плоскополяризованны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C:\Documents and Settings\Admin\Рабочий стол\Свет\fdgdfgzd 044.jpg"/>
          <p:cNvPicPr/>
          <p:nvPr/>
        </p:nvPicPr>
        <p:blipFill>
          <a:blip r:embed="rId1"/>
          <a:stretch/>
        </p:blipFill>
        <p:spPr>
          <a:xfrm>
            <a:off x="4788000" y="4508640"/>
            <a:ext cx="3240000" cy="19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Admin\Рабочий стол\Свет\fdgdfgzd 043.jpg"/>
          <p:cNvPicPr/>
          <p:nvPr/>
        </p:nvPicPr>
        <p:blipFill>
          <a:blip r:embed="rId2"/>
          <a:stretch/>
        </p:blipFill>
        <p:spPr>
          <a:xfrm>
            <a:off x="826920" y="4581360"/>
            <a:ext cx="3311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260280"/>
            <a:ext cx="38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EpsilonCTT"/>
              </a:rPr>
              <a:t>Оп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177840" y="2492280"/>
            <a:ext cx="51116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Геометри́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оптики, изучающий законы распространения света в прозрачных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ах и принципы постро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ражений при прохождении света в оптических системах без учёта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новых св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4643280" y="2421000"/>
            <a:ext cx="424836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Garamond"/>
              </a:rPr>
              <a:t>Волнова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оптики, который описывает распространение света с учётом его волно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ения волновой оптики — </a:t>
            </a:r>
            <a:r>
              <a:rPr b="0" lang="ru-RU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интерференция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рак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ляриз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1835280" y="1268280"/>
            <a:ext cx="576000" cy="1154160"/>
          </a:xfrm>
          <a:prstGeom prst="downArrow">
            <a:avLst>
              <a:gd name="adj1" fmla="val 50000"/>
              <a:gd name="adj2" fmla="val 3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0"/>
          <p:cNvSpPr/>
          <p:nvPr/>
        </p:nvSpPr>
        <p:spPr>
          <a:xfrm>
            <a:off x="6300720" y="1268280"/>
            <a:ext cx="503280" cy="1154160"/>
          </a:xfrm>
          <a:prstGeom prst="downArrow">
            <a:avLst>
              <a:gd name="adj1" fmla="val 50000"/>
              <a:gd name="adj2" fmla="val 341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376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124000" y="189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отражения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92360" y="333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ломление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1484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Преломление све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изменение направления распространения света при его переходе из одной среды в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Безымянный"/>
          <p:cNvPicPr/>
          <p:nvPr/>
        </p:nvPicPr>
        <p:blipFill>
          <a:blip r:embed="rId1"/>
          <a:stretch/>
        </p:blipFill>
        <p:spPr>
          <a:xfrm>
            <a:off x="826920" y="2565360"/>
            <a:ext cx="3384720" cy="3925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979640" y="64008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реломление света в стакане с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8a21009c8aba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608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1332000" y="404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уга – пример преломления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95280" y="126828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уга возникает из-за преломления света в капельках дождя или тумана, парящих в атмосф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upload.wikimedia.org/wikipedia/commons/thumb/8/8e/Rainbow_formation.png/320px-Rainbow_formation.png"/>
          <p:cNvPicPr/>
          <p:nvPr/>
        </p:nvPicPr>
        <p:blipFill>
          <a:blip r:embed="rId2"/>
          <a:stretch/>
        </p:blipFill>
        <p:spPr>
          <a:xfrm>
            <a:off x="1258920" y="3068640"/>
            <a:ext cx="1950840" cy="18921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3780000" y="256536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хема образования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 сферическая капл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внутреннее отраже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) первичная радуг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) преломле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) вторичная радуг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) входящий луч свет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) ход лучей при формировании первичной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) ход лучей при формировании вторичной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) наблюдател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) область формирования первичной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) область формирования вторичной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) облако капел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69236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Garamond"/>
              </a:rPr>
              <a:t>Преломление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620640"/>
            <a:ext cx="5796000" cy="73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ссмотрим преломление света подробн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Ли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N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оверхность раздела двух сред (вода-возду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На эту поверхность из точк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адает пучок света. Его направление задано лучом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O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Луч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O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адающий лу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уч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реломлённый лу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4</a:t>
            </a:r>
            <a:r>
              <a:rPr b="0" lang="ru-RU" sz="2000" spc="-1" strike="noStrike">
                <a:solidFill>
                  <a:srgbClr val="ff0000"/>
                </a:solidFill>
                <a:latin typeface="Garamond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з точки падения луча О проведём перпендикуляр к ОС к поверхности раздела двух с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5</a:t>
            </a:r>
            <a:r>
              <a:rPr b="0" lang="ru-RU" sz="2000" spc="-1" strike="noStrike">
                <a:solidFill>
                  <a:srgbClr val="ff99ff"/>
                </a:solidFill>
                <a:latin typeface="Garamond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гол между падающий лучом и перпендикуляром к отражающей поверхности в точке падения луча называется лучом отражё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Garamond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Угол между преломлённым лучом и перпендикуляром к отражающей поверхности в точке падения луча называется углом преломления.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опия Безымянный"/>
          <p:cNvPicPr/>
          <p:nvPr/>
        </p:nvPicPr>
        <p:blipFill>
          <a:blip r:embed="rId1"/>
          <a:stretch/>
        </p:blipFill>
        <p:spPr>
          <a:xfrm>
            <a:off x="5867280" y="1916280"/>
            <a:ext cx="23400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2602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1125360"/>
            <a:ext cx="85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личие углов падения и преломления обусловлено тем, что стекло и воздух имеют разную оптическую плотность. Оптическая плотность среды характеризуется различной скоростью распространения света в ней. Чем больше скорость распространения света, тем меньше оптическая плотность среды. Скорость распространения света в стекле меньше, чем в воздухе. Поэтому оптическая плотность стекла больше, чем оптическая плотность воздуха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зымянный"/>
          <p:cNvPicPr/>
          <p:nvPr/>
        </p:nvPicPr>
        <p:blipFill>
          <a:blip r:embed="rId1"/>
          <a:stretch/>
        </p:blipFill>
        <p:spPr>
          <a:xfrm>
            <a:off x="468360" y="3517920"/>
            <a:ext cx="3959280" cy="293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Безымянный1"/>
          <p:cNvPicPr/>
          <p:nvPr/>
        </p:nvPicPr>
        <p:blipFill>
          <a:blip r:embed="rId2"/>
          <a:stretch/>
        </p:blipFill>
        <p:spPr>
          <a:xfrm>
            <a:off x="4427640" y="3521160"/>
            <a:ext cx="4248000" cy="2932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835280" y="404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реломление с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09:01:01Z</dcterms:created>
  <dc:creator>Admin</dc:creator>
  <dc:description/>
  <dc:language>en-US</dc:language>
  <cp:lastModifiedBy>Герда</cp:lastModifiedBy>
  <dcterms:modified xsi:type="dcterms:W3CDTF">2013-04-24T21:43:10Z</dcterms:modified>
  <cp:revision>41</cp:revision>
  <dc:subject/>
  <dc:title>Слайд 1</dc:title>
</cp:coreProperties>
</file>