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media/image7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9880-DE5E-4041-93B1-7B3068FD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2B75-C559-4CF0-B4D3-63F0BF11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781A-88DA-4741-8C17-C1135A674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FFC1-95CB-4CC1-BE45-B8990DF26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DF33-DA3F-46D3-A0C2-CA86E7AE9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828E-FC66-4FED-B6CB-33B7391D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9A4E-AA36-4B46-AD44-46610C49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AD94-D807-4EA0-A4AE-89339A7B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6B21-0B11-4A77-ADED-AF193507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EB62-C8FD-4EE3-B320-9E1A8738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73AC-32BD-4D33-BC8C-B7F8ED9B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6D4D-5C39-4FB5-B787-FEDA995A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B38F-587B-450C-8B44-1B1CEB55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9AE3-70D6-4117-AC40-EDA8CEF4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3B42-BDF9-4CEC-B947-788A4731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5CEEE-F770-4578-B8CD-4A19835C5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F8F6-C38C-4BD4-A6B9-0988BDFEE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9DE45-7BFA-4AA1-BE6E-EBF39321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1F00D-2A64-44F7-92EA-BA580804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622C2-B1F4-4587-A218-33332E00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0E10B-E06A-4EE3-B18E-BBA63762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077BE-933F-4F60-9D23-165BB466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23D2-C753-4B7C-9F18-0E643D6E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3D6AE-B57F-4107-8F7A-1D3B27ED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F430A-15A7-40DC-AE4D-A2A221F6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F77CA-4649-4910-98B3-AE0C238A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986B6-5D4E-4BC6-8A98-A7C469A6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63886-B001-4571-BD4B-77C655A4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B631E-6091-48B1-B5A3-6F8D212EA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D851E-C0A9-4BCB-80DB-4812424C5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6BED9-F0DD-4181-9164-82E002C8E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A8F27-FE8C-4F61-B78D-E213123E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F6F02-26CC-4E5F-9309-94202D59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2B59-9469-4B26-91B3-DF697B19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B66D0-A6B3-4388-A32B-00F9AE30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FBCA7-77CA-485B-AC3E-2938F6BA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E0278-F0A9-4E85-8C03-38DDB60A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19CB0-EED8-4524-8979-4BE0F737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A9AA2-D344-46DF-B8BD-702A48E5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C7CC2-5DCC-4EFD-A1DA-E0E45F20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A3E36-877F-4B54-8F86-026FC4C7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575A6-C667-44CA-8AAD-811D85B08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2035B-9950-4ABA-803D-C5B581BE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BDE3-C88B-4D30-88A1-BEB57CE3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FD05-9ED9-4FB0-8C69-1686B73A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0C17-CFE8-4DEF-8AF1-84DD0179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6FC1-9490-4D25-8DE5-0CF797BB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0FD9-89E3-482B-8450-2CA44830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CD72-3456-49E1-8639-14CB481F546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0669-53AB-4D5A-AC87-C92E17692C3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A4C8-68E5-4A14-8D74-0B63C41818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6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37C2-81DC-44EB-8FC9-0A0B6E9F7A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924360" y="189000"/>
            <a:ext cx="2593800" cy="364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0" y="3833640"/>
            <a:ext cx="2962440" cy="3024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6095880" y="3762360"/>
            <a:ext cx="3048120" cy="3095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6732720" y="404640"/>
            <a:ext cx="2092320" cy="32864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023920" cy="25448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7"/>
          <a:stretch/>
        </p:blipFill>
        <p:spPr>
          <a:xfrm>
            <a:off x="3132000" y="4800600"/>
            <a:ext cx="2406960" cy="20574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8"/>
          <a:stretch/>
        </p:blipFill>
        <p:spPr>
          <a:xfrm>
            <a:off x="2050920" y="189000"/>
            <a:ext cx="2140200" cy="32623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684360" y="2276640"/>
            <a:ext cx="81356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ир професси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158400"/>
            <a:ext cx="8686800" cy="9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66"/>
                </a:solidFill>
                <a:latin typeface="Garamond"/>
              </a:rPr>
              <a:t>Викторина «Угадай профессию»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763640" y="1052640"/>
            <a:ext cx="4092480" cy="33382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0" y="3722760"/>
            <a:ext cx="3995640" cy="32018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5999040" y="2852640"/>
            <a:ext cx="3144960" cy="37386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5651640" y="5013360"/>
            <a:ext cx="29620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8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f197"/>
                </a:solidFill>
                <a:latin typeface="Garamond"/>
              </a:rPr>
              <a:t>«Назови специальности, относящиеся к одной профессии.»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2130120"/>
            <a:ext cx="8229600" cy="39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Franklin Gothic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Heavy"/>
              </a:rPr>
              <a:t>ПРОФЕССИЯ - род трудовой деятельности, требующий специальных знаний и опыта, обеспечивающий условия существования челове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Franklin Gothic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Heavy"/>
              </a:rPr>
              <a:t>СПЕЦИАЛЬНОСТЬ - более узкая область приложения физических и духовных сил человека в рамках той или иной професс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Выполните рисунок предметов, по которым можно определить профессию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877080" y="333360"/>
            <a:ext cx="1900080" cy="11653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7093080" y="458136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324000" y="333360"/>
            <a:ext cx="1827000" cy="11113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324000" y="4797360"/>
            <a:ext cx="176976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771640" y="616572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Г. Мясоедов «Косцы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06:00:48Z</dcterms:created>
  <dc:creator>D845EPI/D845GVSR</dc:creator>
  <dc:description/>
  <dc:language>en-US</dc:language>
  <cp:lastModifiedBy>D845EPI/D845GVSR</cp:lastModifiedBy>
  <dcterms:modified xsi:type="dcterms:W3CDTF">2013-04-26T14:45:54Z</dcterms:modified>
  <cp:revision>4</cp:revision>
  <dc:subject/>
  <dc:title>Слайд 1</dc:title>
</cp:coreProperties>
</file>