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F42-5422-4000-8859-653786DC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1B7-E1BD-40F4-9FEC-ABF4104F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B4B-0089-40CA-AB07-D2107574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6A7-B751-4491-A1D9-E385E1C6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879A-04A2-41F0-8BE9-A588DDA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2F21-0A43-44E3-BDE4-804974F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EEDC-6BE3-4271-9253-B6C0C50A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F30-7168-41CC-9EDB-0B63D98C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B39-0DEC-4A08-9AEB-A317F6B9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95F8-4F7C-4147-8976-9777D20E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184-2E30-45D9-A713-76E2311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4A7-3D74-42D1-BD41-C7A3E9D0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3016-0260-4005-92F0-B5E945DD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8586-052D-45FE-A94D-4BACE17F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457C-B944-4941-887E-E0534BB2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F6E3-8523-4063-A173-9D5462F1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8DB8-2FC4-4ACB-B96E-C2ED3045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7E344-7DBB-4462-B0B2-073A2C228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9830-D87B-48CB-9FE4-D59465AA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EE68-86D6-4C35-BA2A-C82F20BC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F0A5-A564-4A95-A8A5-8EB7B950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EF92-98CE-4C66-9E91-F89F1A5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8EE-9250-4A4C-BC1F-751643F3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8201-38F5-488F-8664-E46AD4FE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67BD-A1BF-4186-8B88-AEA49A0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F879-F379-4F3B-AA08-C650A97B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F573-9B00-4488-953E-186AD75F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4ECC-B6D8-49A8-B237-E4C33BC1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E42C-B96C-469E-92B0-4AF50F66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5C63-96B5-4CA9-9463-E7DE3579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7486E-B27B-4E70-B0F1-B6A8E5E7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E2622-8E36-4C05-8223-B5C5B333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9361-42CF-41E4-A8C0-238BCF80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D41-80B0-49D9-ABA1-5F08169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B6F7-694A-4ED6-9C66-8A5DDCC4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1EC63-9716-450E-A220-2E0AF5D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81DE-4583-469A-8ABE-08E0E30F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333E5-5945-4D8E-B942-B58D004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2665B-44F5-4DF5-B12D-416BD4AC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A098-E6DB-48E4-9DEF-233CCD9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51F0C-131A-4082-9ED8-7CDB2906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55F7-CA8B-48D1-960C-E7157DF7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26C90-AC59-4399-9DEE-E8449A4F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1D8-CCA0-46FA-9877-236FBAC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1DF-E521-42FE-8B36-74C9A985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47B-B03F-46C3-B5D3-A798B03E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F80-9891-48E9-8FA8-755B67E9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2CF-DCCC-436C-A2D2-A25FC14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901D-8CA6-4DA6-87D8-762AFA9013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B94-16E6-4A89-8A2C-78754A5AD9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A05C-0F62-4D67-9FC5-415856CA40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2ABF-3302-484A-9E48-767A5B580C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2593800" cy="364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0" y="3833640"/>
            <a:ext cx="2962440" cy="3024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95880" y="3762360"/>
            <a:ext cx="3048120" cy="30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6732720" y="404640"/>
            <a:ext cx="2092320" cy="3286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23920" cy="25448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3132000" y="4800600"/>
            <a:ext cx="2406960" cy="2057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2050920" y="189000"/>
            <a:ext cx="2140200" cy="3262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84360" y="2276640"/>
            <a:ext cx="8135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р професс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86868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66"/>
                </a:solidFill>
                <a:latin typeface="Garamond"/>
              </a:rPr>
              <a:t>Викторина «Угадай профессию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63640" y="1052640"/>
            <a:ext cx="4092480" cy="3338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0" y="3722760"/>
            <a:ext cx="3995640" cy="3201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999040" y="2852640"/>
            <a:ext cx="3144960" cy="3738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5651640" y="501336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f197"/>
                </a:solidFill>
                <a:latin typeface="Garamond"/>
              </a:rPr>
              <a:t>«Назови специальности, относящиеся к одной профессии.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130120"/>
            <a:ext cx="822960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ПРОФЕССИЯ - род трудовой деятельности, требующий специальных знаний и опыта, обеспечивающий условия существования челове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Franklin Gothic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СПЕЦИАЛЬНОСТЬ - более узкая область приложения физических и духовных сил человека в рамках той или иной професс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Выполните рисунок предметов, по которым можно определить профессию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827000" cy="1111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324000" y="4797360"/>
            <a:ext cx="17697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71640" y="6165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Г. Мясоедов «Косц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00:48Z</dcterms:created>
  <dc:creator>D845EPI/D845GVSR</dc:creator>
  <dc:description/>
  <dc:language>en-US</dc:language>
  <cp:lastModifiedBy>D845EPI/D845GVSR</cp:lastModifiedBy>
  <dcterms:modified xsi:type="dcterms:W3CDTF">2013-04-26T14:45:54Z</dcterms:modified>
  <cp:revision>4</cp:revision>
  <dc:subject/>
  <dc:title>Слайд 1</dc:title>
</cp:coreProperties>
</file>