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684-EFD4-4C00-BCA4-BB446729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1C3B-029C-4638-9CBA-BE37BCE5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259-DB64-44DD-8CFD-9BEA3176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B77-37C0-41F2-AC38-E1569BC2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4EC1-15DE-4901-AEC0-471666B0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2D4D-A1B3-45C4-B828-9A78FDE4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A4D2-7224-41F0-A12A-9E6A5E72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229-F7F0-4E8D-A752-5A43090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ED3A-660D-4C45-85FF-EC37E5D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B566-C162-4856-A769-D1AA208D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2CB-521D-4B6F-9516-11DB3F6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E45-7857-4CFC-AFA7-F6A507D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503-9743-4116-909C-8C7BB486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5BD-75F6-4396-9D48-D18C100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D8A-E500-4029-9DE1-6C6E595B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F5FC-6739-4D58-8A9D-AE0E908F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8702-B981-471F-AD40-3514B581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829-59A1-4F6C-A4DA-AC14F911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F2C-30DB-43DF-B05D-82C24553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372-85A1-400B-BF16-25742C59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247-F921-4F64-A785-F6A46489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65A-42B2-4E3B-8175-4AA0433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3D6-2DB5-43C4-A1F2-0F1B54A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0F1-015F-4D1E-A042-EEB88C2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E10A-7609-4B46-939C-2A6BF251C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12AE-FBAC-43C6-95FF-D5A628FE9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Тема урока «Мы – юные дизайнеры»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рменный зн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38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слибрес-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это миниатюрный художентвенный знак, определяющий владельца книги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39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7080" cy="309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913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059440" cy="561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11280" y="6093000"/>
            <a:ext cx="80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нижный знак Александра Викторовича Кузнецова, артиста цир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816360" cy="5487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59160" y="623088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нижный знак Алена Шепарда, космонавта 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8:03:00Z</dcterms:created>
  <dc:creator>D845EPI/D845GVSR</dc:creator>
  <dc:description/>
  <dc:language>en-US</dc:language>
  <cp:lastModifiedBy>D845EPI/D845GVSR</cp:lastModifiedBy>
  <dcterms:modified xsi:type="dcterms:W3CDTF">2013-04-26T14:41:00Z</dcterms:modified>
  <cp:revision>4</cp:revision>
  <dc:subject/>
  <dc:title>Слайд 1</dc:title>
</cp:coreProperties>
</file>