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DA7-2854-408B-B10D-3F8022C8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B6E-FA3F-462B-8D90-BD34E250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417-F15C-4464-9BC5-8096C2AC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AB6-9D98-4004-AA66-3D572A6E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911D-0BB9-419D-9C1D-09AA0CDE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5545-5A3D-49D3-8CD0-E8ADD4EF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1048-AD97-4158-A544-9832BDED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359C-49F3-4B8E-A00F-36679CB1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2AB-4D27-4637-9EEA-FA792E8E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E169-0D5D-4F59-8F37-2F4CFA3B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4BEA-BB4B-4D07-B254-3869058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56A-9E88-44EF-AA39-95C239F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7DA-DC46-4409-9205-E77C037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137-7CBD-40B1-A79F-C77EC3A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CBA0-F149-41C5-AB31-0E97C32C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EB72-0FF3-453F-9FC1-2ED11F47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FDD-3F29-4684-A7DC-DC598C40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EA9-E308-4CA5-B528-1AB26D56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30D-530F-483E-A4E1-6BC58F1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971-2754-45A1-878E-BA0D237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54B-25CE-4BEC-B9A3-882432D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D25-0396-4B70-83D0-8D7C126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CE2-524C-4D2D-B8CB-00FB3AB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FA1-7B96-4604-8AEB-5E99682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325-A6C2-4D0F-A703-C487E4811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FB6B-883B-4C78-8929-9786C0426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ма урока «Мы – юные дизайнеры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рменный зн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38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слибрес-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это миниатюрный художентвенный знак, определяющий владельца книг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39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309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913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059440" cy="56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609300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нижный знак Александра Викторовича Кузнецова, артиста ци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16360" cy="5487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59160" y="623088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нижный знак Алена Шепарда, космонавта 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8:03:00Z</dcterms:created>
  <dc:creator>D845EPI/D845GVSR</dc:creator>
  <dc:description/>
  <dc:language>en-US</dc:language>
  <cp:lastModifiedBy>D845EPI/D845GVSR</cp:lastModifiedBy>
  <dcterms:modified xsi:type="dcterms:W3CDTF">2013-04-26T14:41:00Z</dcterms:modified>
  <cp:revision>4</cp:revision>
  <dc:subject/>
  <dc:title>Слайд 1</dc:title>
</cp:coreProperties>
</file>