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C96-44FC-4DC6-A06D-5AD34FA5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585-0E9A-49BD-BD9E-A919410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29F12-B853-4A60-AD09-2A8329CF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4B344-2B6F-48D5-A898-EDE1D10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E4DC6-4AF6-4AB8-9F06-F44AD0DC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473EA-6A05-46D4-AFFD-1DDC598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C8DF3-FB97-49D3-84EF-B9AAB83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4B41C-EA74-4857-B1FF-42575AE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22A29-4AC1-409D-939B-65D9B66B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008DB-016C-4AD9-A917-798012B7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37B45-9B51-422E-91AA-BE9889C6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A025D-53F3-47E4-AAA2-AACB9D9C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9FC-504E-4337-9D5E-3CEED559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BB3B4-5346-44B7-83E6-55062E82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83A8C-7B47-4951-B03A-5A258956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47E3D-9611-471D-B335-E38F362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607D-4A83-4C02-A9FB-8905254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A2B51-0870-4BBD-B5B0-0626DD64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EE95A-CDCE-4CBC-9E2D-4300D2B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D6394-92FE-45CD-87B3-A8F173E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C723-56F2-4994-BE55-F992E595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D00BF-E36A-4CB0-98D0-00FB2A3E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209A4-F185-4C84-8914-36251024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98F-0906-48CD-ABCC-E79A6984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1FBB-D739-47AE-97AB-34734566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D1DF7-ADDE-4501-8FBC-679C9476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6AFDF-2E72-4742-9D50-0C0A6FB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A235F-99DA-4706-B225-FDE47E0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B9D8-4568-410E-9294-FCF378A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6D84-AC00-4E93-A18E-971E1829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E4A6-1840-41C4-A7BC-7C353E68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D9890-1306-4F76-A8BE-64CC5CA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A3C4C-B8FF-4FE3-9C7B-D6CD3BA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AA910-5BF0-493D-8355-8919AD4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114-104E-4506-8E9A-A70779EB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C4A87-2133-4943-84CB-C4233831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56E0-E937-4F23-98A0-8FA55DC0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2C7EF-D382-450C-BA46-14939E95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52AF8-7A12-4D35-8033-EEFABFCD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8F1E8-1E69-4A74-8B6D-4585381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59B6E-C597-4A63-8468-34206BD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92533-963A-418B-A4BB-E7014E2E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1CAB9-913E-48CD-9DA3-6CF62C1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75DBA-289A-4629-9CBC-DCD3614D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2C3FF-79AB-40A9-93C5-F5EEC6F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9D08-BA9C-4FC0-941D-B8F76C67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32E93-50A9-4AB3-BA7C-BE4C55F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C367E-A108-4EDA-BDBD-76CBE4F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CB46D-4495-4309-AA2C-30168F2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91B0A-70EB-4F6F-9FCF-ECDD4DF1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FF9B1-AEB8-4C4E-8B21-E9824970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8A71-E2AC-4040-830C-AC5A288B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A0C-2CAD-4C83-9FC4-E9C651F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4131-AE5E-4BED-BDED-BB10AED2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31DA-B2F8-4BDE-BE7D-F8A887A6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7769-B4DA-4310-ABA2-942A6F2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2E2-BA24-4E32-9409-AC2DE0BB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FFD9-DCD9-4E34-9845-1D0A3156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800-A5B1-4CE6-B853-AF01768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866E-89B3-402E-AA48-E62170F2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A1A8-5449-4FCB-81A9-5B0A0A75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760D-9843-4F3F-88AF-B1B8EF28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292F-245D-4558-84B9-CF7C4EB8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74EE-3004-46D8-84A1-460574F9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86EE-A3B7-40BC-947B-8D2F66D1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2251-13B2-418F-BDF2-7CA302B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7AE7-6D4D-4233-9BDA-FE9AC78B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2D6-FCE5-4476-9B3D-DCBB0F4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DCD9-4DE9-4C58-8D14-2683B531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4812-5CB2-4C2C-85B5-206DCE7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A9CE-5A61-4448-A1F3-9526E19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B7AC-4CAD-4274-A39B-C83078DB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2DCF-E0D1-4CD0-8B98-D1F87D16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74C6-3B66-40A2-A0AB-D3BDA3BD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32F9-80FE-4B32-802F-5F3E62D3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DAC8-8E8D-4A91-8A9E-BB385CC3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8024-2135-4B13-8D80-05BAABC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CDD1-4D5C-413C-A32D-56BC90FB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6F6-8059-406B-8CAF-67509D4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4309-2F8F-48AB-9AF1-C1A23D47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AA66-364A-4E15-B2C3-FD5C1BD3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46EC-4432-48AD-8F7A-842E8F5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F794-85DD-4AF0-8866-EFCC6E7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7D55-5A00-461B-91C1-34DC53A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0737-478F-4428-8704-83A2496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F445-3F9F-43B8-B510-3E14EFC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6382-6D48-454A-B700-AD974C40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9E11-0357-4031-94B3-5C650A27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EAA3-95ED-4800-A26C-76BC992D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975-8215-430B-A93F-D33BD16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39EC-6DF3-40AF-A111-A77E4E3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4F42-1CE2-4831-BC06-AC57784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5613-A64B-4D06-BD57-E9E58DD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36A23-C1D6-4B20-A29E-8DED399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3D1D-B01E-40B7-823A-5095D9D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E873-8EFB-404B-9D05-2D61EE1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F54C1-5489-48FE-8F61-D381816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EB15-709A-421C-98A2-20DFAD0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FD2E-9F4D-49BE-AC9B-904BFEC9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E942-5A08-4C5C-A057-747EDC6E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791-23BE-459E-AB40-9237B7A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1733-A57F-48EF-BE9B-0BC3522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ED6A-1AC5-4C93-ACA9-B4B0A592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07FF-A967-456D-8A1B-461A3CE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3BF7-F13E-4C11-AE32-8E96321D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CA62-77E1-492E-8608-51B49C0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D774-7922-4D6E-A237-57EAF9D4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357C-3EBA-4C04-B147-B606E1B5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ABAF-0265-4EC7-AB3E-3233EA65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56589-EF38-46BE-A13E-0B53145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1474-7667-47B3-93EA-5C7B8D5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0B6-D46A-438D-B508-13C93F8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01DB-72AA-4058-93C9-1A9B67A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C5B2-C0C0-4AAE-9E72-E341FEFC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42FB-A730-4E9F-8401-FAAD907D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659A-79A6-40BE-AAE1-C816222F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8F06-18C2-4DE3-8801-203D280A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CA8A-27F3-4F02-89C2-A5B4EAB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F877-491F-491A-AFDA-B465692B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D9E85-6220-4356-AB5E-11211453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DC967-7691-46E8-B795-7B427DA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81086-96FA-4DE0-BBA7-0C8172C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D63-FF4B-4220-B294-93B5CB8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1AA2-092A-4BF4-897B-4E0A8EA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6472-34B9-4FC2-B3AD-F25EF68E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D696C-E6F4-4B48-B258-BD56C0F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778C-2DC2-43FF-B7D5-878BB850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E2D7-1C78-4F60-98A4-0B852849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1EECD-734C-4601-80AC-D5DD76F9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0E5B6-E365-410E-BDEC-EC16C804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D9215-3AA7-4339-B3F9-5B6EE04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7B25-3F26-4AD5-9AA0-25B07A9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11024-0F73-4E06-A3D0-CB6E7D8B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E7A-D811-49A9-A813-5079055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7E64-D7CE-4A85-B2A7-2FF2A9B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A42F4-707A-460E-9A68-7E7AB36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6D37-CEB3-4244-9EC9-9DBCDC5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B7563-0602-4C5B-AA3A-D2BCE4E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B24B8-0AE4-46AF-91F0-EE6B53C0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8071D-BE63-48E4-BAF2-5C164317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FB4F-7929-4CCD-8D89-31BBB3E3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9077C-8E86-4D3B-92B3-EF2FD2FC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2B741-5EB6-418C-9151-4F418272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C51AA-21DF-49DF-8077-C9F6A89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7DF-355F-4126-A1AA-0221FC26D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985-3A4B-42F2-A350-A7CA4F0E2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5320-0E2E-4483-9573-A23E7E5F9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A3E-0DEB-4D03-A6E3-5436D82B7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055-E6DE-4E73-8F50-E7DAC9AD6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412B-5EDB-4EBA-849C-6885FC2F3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0745-9E59-4D2C-AE03-FEB367AF3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EB7-58F4-475F-8BCD-0F3BA278C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799-BA43-4A4F-905C-757C4ED1B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89D7-1483-4A10-AD04-94F2E3265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03A8-33F6-458F-8B95-FA98274F4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12CE-CF93-4E11-AD60-C2B25438E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У вас появились деньги. Могли бы вы истратить всё, что у вас есть, на подарки друзья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Товарищ рассказывает вам о своих невзгодах. Дадите ли вы ему понять, что вас это мало интерес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Если ваш партнёр плохо играет в шахматы или другую игру, будете ли вы иногда ему поддаваться, чтобы сделать ему прият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Добрый человек- не тот, кто умеет делать добро, а тот , кто не умеет делать зло»</a:t>
            </a:r>
            <a:br>
              <a:rPr sz="3200"/>
            </a:br>
            <a:r>
              <a:rPr b="0" lang="ru-RU" sz="3200" spc="-1" strike="noStrike">
                <a:solidFill>
                  <a:srgbClr val="a6a6a6"/>
                </a:solidFill>
                <a:latin typeface="Calibri"/>
              </a:rPr>
              <a:t>                                    В.О.Ключев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не знаю, что такое добро. То, что люди ценят во мне, и есть мои достоинст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 не знаю, что такое зло. То, что люди не любят во мне,- вот это и есть мои порок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Древнекитайское изр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Часто ли вы говорите приятное людям, просто чтобы поднять им настро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Любите ли вы злые шут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Вы злопамят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Сможете ли вы терпеливо выслушивать даже то,что вас совершенно не интерес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Умеете ли вы на практике применять свои способ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Бросаете ли вы игру, когда начинаете проигры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 Если вы уверены в своей правот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ываетесь ли вы слушать аргументы оппоне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)Вы охотно выполняете просьб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) Станете ли вы подтрунивать над кем-то,чтобы развеселить окружающи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Добрый человек- не тот, кто умеет делать добро, а тот , кто не умеет делать зло»</a:t>
            </a:r>
            <a:br>
              <a:rPr sz="3200"/>
            </a:br>
            <a:r>
              <a:rPr b="0" lang="ru-RU" sz="3200" spc="-1" strike="noStrike">
                <a:solidFill>
                  <a:srgbClr val="a6a6a6"/>
                </a:solidFill>
                <a:latin typeface="Calibri"/>
              </a:rPr>
              <a:t>                                    В.О.Ключев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не знаю, что такое добро. То, что люди ценят во мне, и есть мои достоинст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 не знаю, что такое зло. То, что люди не любят во мне,- вот это и есть мои порок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Древнекитайское изречение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6978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 ДОБР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ЗЛ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ТА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асс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кт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зида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казывание мудрых люд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и один…человек не бывает счастлив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изнь….  людей полна трево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обро помни, а … забыва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делай …, а то на зло нарвёшьс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Если не хочешь знать страха, не делай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 не наступить, а уступ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хватить, а отд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улак показать, а протянуть ладо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прятать, а подел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ричать, а выслуш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зорвать, а скле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 – то,что способствует моральной деградации человека,толкает к дурным поступкам,губит душу.Зло обычно выступает под личиной  ложного добра,пытаясь подменить собой истинное доб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 – то,что способствует моральному совершенству человека и спасению его душ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8:53:44Z</dcterms:created>
  <dc:creator>User</dc:creator>
  <dc:description/>
  <dc:language>en-US</dc:language>
  <cp:lastModifiedBy>User</cp:lastModifiedBy>
  <dcterms:modified xsi:type="dcterms:W3CDTF">2012-10-21T19:45:04Z</dcterms:modified>
  <cp:revision>6</cp:revision>
  <dc:subject/>
  <dc:title>« Добрый человек- не тот, кто умеет делать добро, а тот , кто не умеет делать зло»                                     В.О.Ключевский «Я не знаю, что такое добро. То, что люди ценят во мне, и есть мои достоинства.  Я не знаю, что такое зло. То, что люди не любят во мне,- вот это и есть мои пороки».                            Древнекитайское изречение.</dc:title>
</cp:coreProperties>
</file>