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7FF-2DFF-4DD4-8843-3832A777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788-62A4-4022-A083-16769272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ADC57-F948-45AF-833F-F0ABDF7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DED9D-127F-4D25-8053-2ED2CE2B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104D0-E652-4C48-9EEA-B47DFDC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09157-256C-45C3-BD50-E7F1961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2BDE9-1692-47C1-9D42-0788E551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31718-A28D-4E1C-9383-7963022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9074A-32D7-4E57-A23B-8A9E3F5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23A29-8CE7-44BB-AFBE-F14D5C01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42A1C-5990-475B-833B-0CF74FFA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A4918-B4D1-4291-98F6-207DFFB9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DED-9E95-4082-AB83-4FD78DAB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25001-5E72-4E82-A6F4-2556CECA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2EC81-EF1A-46BB-B953-668464A9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EA204-191E-4C8F-A239-8955DA14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0627C-1D6F-465D-9A75-B51A9D6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D2D8F-B6AF-4E12-A65A-0996A34C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387D4-E13F-4D28-930C-688C3280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807D7-89CC-4135-A8AD-194025B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D4860-35BF-46E2-B3D8-C333478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73CDE-F567-40AC-AD59-5BB67086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EDE2-D7CE-426E-A415-95AC8631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A65-8A1E-40B2-9EDF-593C1039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11775-FD93-4C94-95CF-801D9F47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04B7A-40F6-4BA5-9ADB-E2915920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94128-E4EF-47A3-B02A-E5077CE6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817B9-79B4-401E-BB27-244965D8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2D2D6-EDF1-4BE5-A369-B1D41457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A59A6-5CF0-4B3A-8901-92634400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D4969-E9E4-454D-BE70-B7035EEB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76978-149F-42D2-B955-4FDE8D1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A8083-A371-4F79-A335-E4D09D4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31FA0-4C81-4F37-A639-CE10870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74D3-D643-4018-8A57-200AC921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30590-2926-4AE8-B850-D40A50C6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3EF95-7D43-4DA6-9C07-35E0051F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950F7-724C-4B59-A5B2-EDFA70CC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58B45-3097-4BE4-8CCC-6AD9BE1F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271A6-CEA5-4899-B4B7-237AEABC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B6C7C-3340-45DD-94A7-29305CD5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E02E3-AF8E-4FD7-88E7-7E81F57B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BA36D-887C-4A54-A4F6-B5D31447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5E7CB-9ADC-42C0-8E29-5E15E617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6E8E8-515F-4A99-83EA-86FAAF1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F2DA-4845-4215-89A1-6A4CAD15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956F1-AD02-4470-A805-912AB59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5D7A1-2EA2-468A-A0A3-3BAB2F8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BCF97-71C3-4448-B3A8-121168D7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DBCA5-4D85-447C-A41A-99C16A15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D461E-155B-467E-93DE-822AEC5D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E1B6-A198-44AF-952B-6D9B3329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BC78-C0D1-4B87-989C-E0655FB9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F055-FD1A-432C-AA11-FB9B9B8B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83FA-2856-451A-9EC4-6914F906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4CF-BA47-411F-A671-526C917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558-E9E5-4A1F-A9AE-21FFB67C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F3C6-2610-4CB8-8AB4-E608841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A53C-A11B-4D58-84AF-99E52459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9022-A1CD-40F5-84B5-19FC6617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E3D0-E663-4588-9957-5180DF06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A698-791F-45C2-8E39-26525F4D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599B-8CF8-432A-B494-D92CA070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79E7-CCB0-4086-BA26-0A0D439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03E6-AAA2-4D26-A7FE-03FE7788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3F48-F238-484F-ACBD-35E4FF8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4846-92B7-4ECB-9183-76182DEC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4C5-EDEF-4615-A8DD-E450D503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D3504-33C6-4C37-A794-0FC7019E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7401-63FD-48E0-B30D-B9F19A9A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B754-0628-42F0-BD3E-ECC40E3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4FD68-1CB6-4740-945E-7EF6DB3F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877D-AD30-4613-807A-5461F0AC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0492-B0F6-4EC4-ADB0-985084E66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B6FB-6EF5-42D0-AA50-7EE920E3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1959-19EB-4DB9-8B64-1B34A636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AC21-4F11-44BC-957E-7623B905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5918-D2C7-446F-9113-C456B817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FA22-4ECE-4479-929A-C00D3261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2093-B2FF-459A-981C-63E3400B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E26BF-8262-4EB5-A9D0-89DD827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AFD56-1A82-46F1-BD32-BD053EF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BF4D-47F2-4890-8B7C-F2E9F791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D15B1-75F6-4A26-BE17-D9E73A37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3B05-C201-4898-883B-B833C96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CC09-21EB-47BB-BDCA-632E8C8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416E-666E-4A27-9F6E-CF1B5206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DDEA-141F-4ABF-A938-0D83B2B6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580BF-CA81-4526-AF4A-41AC919E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5D47-F21B-499C-8EC8-A5D056F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9FCC-17C4-48D0-8F73-44B70B4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56E2-B22B-4F27-8358-5DC07AD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8A7E-DE73-477D-8757-A1BEA82B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EFEF-E673-4F3A-9EFA-853B8CDB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32F1-6580-4227-895B-C589DC39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76C0-7471-44CD-8E5C-25DAFFB4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BA805-708E-4DCB-B8DC-F9AF9EC5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ED4A-11A2-4BB5-ADA4-75FDD3E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657E-BF7A-4BA3-990D-790839F6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1BE0-A60B-4F86-81CE-EF3E3D8D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1309-33BB-41C1-A8A6-E38AD8D9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0200-E865-43A6-B796-8484AFE0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A594-9B3F-400C-95E0-1498C3DC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4CE1-AE37-4B82-AD4B-4928E0E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7A508-D697-4E60-934E-3E4A0F7A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2FB6B-9D4F-43A5-83E2-68403F29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BCDD0-2E4F-4137-8B8A-859E9CD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2B280-3835-4C13-A7CD-0E0A7046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7163-2441-420F-A172-378ACDF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070F1-E628-4D96-8697-C547805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49738-78CD-46F8-A009-85D2DD2F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224-C511-4A3D-86F0-610B0C6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17382-CAEF-477C-955D-CD1F5A3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3C00-FD9A-4DAE-A997-824246F2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5480-4BFE-4BE0-BDF5-3CDA5B1E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75FE-EC67-4C01-84D0-4E926C3B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2B686-7E01-46DC-A271-C3E5C39D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4292-380B-4F77-9F67-7A15DD4A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5777D-D129-4512-A291-A214FF0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41F2-A6C7-4463-AC17-0B52F724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A6333-B5E9-4936-AEF7-DB254F0D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A0D1-FD5B-4099-96DE-831A1228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D7E-A2DE-490D-81EB-2D61FF5F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1CF6-F4CB-4AF5-B01B-FB70E06B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104C-7647-40E9-9D73-60D03BB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2E49E-4424-4F1B-9EDD-A7E443A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D584C-25E7-4668-9662-ED05C2DC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F3E3B-3D9D-4F8C-A826-D667149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9E9E-F348-4D6D-8EAC-26E7C5C3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87866-4D5A-480D-BCC1-3E36595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3D22-333B-4711-9558-372A981E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8C02-C52D-4745-8026-0B889029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78914-4AA1-4C35-9C3D-DBC69FC1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090-2D9E-4F66-9935-CE7629B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2EA6A-AAAA-4F63-8648-3D6F89D3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E286-B0B0-4703-BCF2-1809224F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78CD0-31D3-4774-9CCB-D45A02A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04BA9-4D0A-4359-B558-D1F138E3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AB8AA-B205-4A1E-8075-08FEE15E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F8095-1487-466B-B14A-3F63D444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3E72F-70BF-4952-97CE-0558948A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1B785-C7DC-44D3-B3D6-98EA865A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B52FE-24A9-4265-985C-4F3B5678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A8C2C-61A0-4476-B650-113D10F6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9545-E360-41DC-B2FD-24E04E376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9031-6111-494B-93EC-8B9EC59D4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C17-100C-4A60-952F-6FBBA1783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2B3D-1F85-4527-9F4A-071612395E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B2C-3F6B-4465-9790-88B41964B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B141-BAB5-4B35-B5FC-3A8AB8878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8536-8E8B-459D-9B3F-711252064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01C7-EAD8-4E1E-B3D6-BE3D3AE6E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570-D209-427D-9B4F-3EFFFDB8B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978-7AA5-4345-A101-ABB409C18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E21F-A314-4255-B1E0-D51D14959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6F46-382D-4361-AE35-EFC360DC3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У вас появились деньги. Могли бы вы истратить всё, что у вас есть, на подарки друзья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Товарищ рассказывает вам о своих невзгодах. Дадите ли вы ему понять, что вас это мало интерес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Если ваш партнёр плохо играет в шахматы или другую игру, будете ли вы иногда ему поддаваться, чтобы сделать ему приятно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Добрый человек- не тот, кто умеет делать добро, а тот , кто не умеет делать зло»</a:t>
            </a:r>
            <a:br>
              <a:rPr sz="3200"/>
            </a:br>
            <a:r>
              <a:rPr b="0" lang="ru-RU" sz="3200" spc="-1" strike="noStrike">
                <a:solidFill>
                  <a:srgbClr val="a6a6a6"/>
                </a:solidFill>
                <a:latin typeface="Calibri"/>
              </a:rPr>
              <a:t>                                    В.О.Ключев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не знаю, что такое добро. То, что люди ценят во мне, и есть мои достоинст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 не знаю, что такое зло. То, что люди не любят во мне,- вот это и есть мои порок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Древнекитайское изр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Часто ли вы говорите приятное людям, просто чтобы поднять им настро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Любите ли вы злые шут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) Вы злопамятн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)Сможете ли вы терпеливо выслушивать даже то,что вас совершенно не интересу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)Умеете ли вы на практике применять свои способно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) Бросаете ли вы игру, когда начинаете проигры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) Если вы уверены в своей правот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азываетесь ли вы слушать аргументы оппонен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1)Вы охотно выполняете просьб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) Станете ли вы подтрунивать над кем-то,чтобы развеселить окружающи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Добрый человек- не тот, кто умеет делать добро, а тот , кто не умеет делать зло»</a:t>
            </a:r>
            <a:br>
              <a:rPr sz="3200"/>
            </a:br>
            <a:r>
              <a:rPr b="0" lang="ru-RU" sz="3200" spc="-1" strike="noStrike">
                <a:solidFill>
                  <a:srgbClr val="a6a6a6"/>
                </a:solidFill>
                <a:latin typeface="Calibri"/>
              </a:rPr>
              <a:t>                                    В.О.Ключев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не знаю, что такое добро. То, что люди ценят во мне, и есть мои достоинств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 не знаю, что такое зло. То, что люди не любят во мне,- вот это и есть мои пороки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Древнекитайское изречение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669780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 ДОБРО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ЗЛ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ТА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асс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ктив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озидат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сказывание мудрых люд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и один…человек не бывает счастлив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Жизнь….  людей полна тревог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обро помни, а … забывай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делай …, а то на зло нарвёшьс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Если не хочешь знать страха, не делай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 не наступить, а уступ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хватить, а отд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улак показать, а протянуть ладо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прятать, а подели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кричать, а выслуш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орвать, а скле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МН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ло – то,что способствует моральной деградации человека,толкает к дурным поступкам,губит душу.Зло обычно выступает под личиной  ложного добра,пытаясь подменить собой истинное добр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 – то,что способствует моральному совершенству человека и спасению его душ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18:53:44Z</dcterms:created>
  <dc:creator>User</dc:creator>
  <dc:description/>
  <dc:language>en-US</dc:language>
  <cp:lastModifiedBy>User</cp:lastModifiedBy>
  <dcterms:modified xsi:type="dcterms:W3CDTF">2012-10-21T19:45:04Z</dcterms:modified>
  <cp:revision>6</cp:revision>
  <dc:subject/>
  <dc:title>« Добрый человек- не тот, кто умеет делать добро, а тот , кто не умеет делать зло»                                     В.О.Ключевский «Я не знаю, что такое добро. То, что люди ценят во мне, и есть мои достоинства.  Я не знаю, что такое зло. То, что люди не любят во мне,- вот это и есть мои пороки».                            Древнекитайское изречение.</dc:title>
</cp:coreProperties>
</file>