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1948-572C-4463-AAC0-B799DCAD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A5F-0661-462D-8A8E-0847413A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79BE-ED3E-41E2-AE87-A4EB05F2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B6E-E7CC-42B0-A628-C5685A10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14A0-092B-4E3C-9232-E108E1D1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4091-3EB4-42C4-A05F-AFA7BCA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4750-EA21-4C5B-A3B2-7F9A30C5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3EB8-D581-4430-B905-8673304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1DD-D0AB-4F00-AF36-8DA2352C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22CD-4AEE-4014-A800-26C87D1F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5412-085F-4140-A1A6-E18B4A5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648-D2F2-4A1E-812B-22F2B51A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A3AC-6747-4259-89BB-35BF966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B73D-28E8-4090-858B-16FE9660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3A47-FDDF-43D2-A28E-8693A33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8F1A-8DA3-4498-90E4-5DAB37A9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C8CC-A92A-4CA4-AC8A-3111CA57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76C-0501-46C4-A5E3-DE646A1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D27-2616-4E60-8C89-C6AC2424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DFE-7EF6-4EED-98BC-4B985A68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B22-9484-4063-B660-7532B09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FEC-1697-4C78-BE10-297E8D7F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AAA-E8A7-422C-AA99-EA8FFE0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0EA-71DD-4755-BA75-F6E64D52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0D4F-6360-4C6B-8E04-65012D3947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7972-DAE2-4E73-B2B7-BE095F68EAFA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Black"/>
              </a:rPr>
              <a:t>Павловск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66"/>
                </a:solidFill>
                <a:latin typeface="Arial Black"/>
              </a:rPr>
              <a:t>Павловский замок!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352" name="Object 91"/>
          <p:cNvGraphicFramePr/>
          <p:nvPr/>
        </p:nvGraphicFramePr>
        <p:xfrm>
          <a:off x="10218600" y="5950080"/>
          <a:ext cx="1157400" cy="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9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18600" y="5950080"/>
                    <a:ext cx="1157400" cy="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no Pro Smbd SmText"/>
              </a:rPr>
              <a:t>В развилке каких рек находится Павловский замок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Славянки и Тызв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Тигра и Евфрат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олги и Енисе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ll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Где был задушен Павел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Петро-Павловской креп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Павловском зам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Михайловском замке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mb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По проекту какого архитектора была построена крепос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Растрелл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Бренн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Бену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Презентацию подготовили ученики 6а класс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Шемякова Валерия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Меньших Игорь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Жуковская Александр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Арипов Владислав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cover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Павловский замок!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Picture 6" descr="Vladimir Borovikovskiiy Portret imperatora Pavla pervogo"/>
          <p:cNvPicPr/>
          <p:nvPr/>
        </p:nvPicPr>
        <p:blipFill>
          <a:blip r:embed="rId1"/>
          <a:stretch/>
        </p:blipFill>
        <p:spPr>
          <a:xfrm>
            <a:off x="1319040" y="2254320"/>
            <a:ext cx="2544840" cy="356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bip"/>
          <p:cNvPicPr/>
          <p:nvPr/>
        </p:nvPicPr>
        <p:blipFill>
          <a:blip r:embed="rId2"/>
          <a:stretch/>
        </p:blipFill>
        <p:spPr>
          <a:xfrm>
            <a:off x="4300560" y="2859120"/>
            <a:ext cx="4108320" cy="2424240"/>
          </a:xfrm>
          <a:prstGeom prst="rect">
            <a:avLst/>
          </a:prstGeom>
          <a:ln w="0">
            <a:noFill/>
          </a:ln>
        </p:spPr>
      </p:pic>
    </p:spTree>
  </p:cSld>
  <p:transition advTm="2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ru-RU" sz="4400" spc="-1" strike="noStrike">
                <a:solidFill>
                  <a:srgbClr val="9933ff"/>
                </a:solidFill>
                <a:latin typeface="Arial Black"/>
              </a:rPr>
              <a:t>Павел </a:t>
            </a:r>
            <a:r>
              <a:rPr b="0" lang="en-US" sz="4400" spc="-1" strike="noStrike">
                <a:solidFill>
                  <a:srgbClr val="9933ff"/>
                </a:solidFill>
                <a:latin typeface="Arial Black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518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Павел I Петрович император России (1796-1801), сын Петра III Фёдоровича и Екатерины II Алексеевны. Наследник престола с 26 декабря 1761 г. С 20 декабря 1762 г. генерал-адмирал. 16 декабря 1798 г. избран Великим магистром и протектором Мальтийского ордена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Павел I укрепил царствующую династию. Оставил после себя многочисленное потомство, получив прозвище императора-родоначальника. Ввёл указ о престолонаследии, по которому власть передавалась от отца к старшему сыну, что способствовало прекращению дворцовых переворотов. Первым попытался ограничить крепостное право, запретив барщину крестьян на помещика более чем три дня в неделю. Чувство порядка, дисциплины, равенства было руководящим в деятельности императора, борьба с сословными привилегиями – главнейшей целью. Прекратил преследование старообрядцев. Учредил Российско-американскую компанию. В его правление А.В. Суворов совершил Итальянский и Швейцарский походы, Ф.Ф. Ушаков – Средиземноморскую экспедицию, вписав ярчайшие страницы в военную историю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no Pro Sm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no Pro SmText"/>
              </a:rPr>
              <a:t>В результате дворцового переворота 11 марта 1801 г. Павел I был задушен в своей спальне в Михайловском замке. Вскоре на его гробнице в Петропавловском соборе стали происходить чудеса. В начале ХХ века обсуждался вопрос о причтении погибшего императора к лику святых. В 1809 г. в честь Павла I в Павловске был установлен памятник-мавзолей. В 1851 г. в Гатчине, а в 1872 г. в Павловске установлены памятники по модели скульптора И.П. Витали. В 2003 г. оригинальный монумент был воздвигнут во дворе Михайловского замка (главной резиденции императора)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Picture 7" descr="200912140908201"/>
          <p:cNvPicPr/>
          <p:nvPr/>
        </p:nvPicPr>
        <p:blipFill>
          <a:blip r:embed="rId1"/>
          <a:stretch/>
        </p:blipFill>
        <p:spPr>
          <a:xfrm>
            <a:off x="5940360" y="1557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 </a:t>
            </a:r>
            <a:r>
              <a:rPr b="0" lang="ru-RU" sz="2000" spc="-1" strike="noStrike">
                <a:solidFill>
                  <a:srgbClr val="ff3399"/>
                </a:solidFill>
                <a:latin typeface="Arno Pro Smbd SmText"/>
              </a:rPr>
              <a:t>В городе Павловск (25 км от Санкт-Петербурга) в развилке рек Славянки и Тызвы висятся монументальные башни разрушенной в 1941- 1944 гг. крепости "Бип", напоминающей своим силуэтом, зубцами высоких стен и башен средневековый рыцарский замок. Крепость была построена в 1798 г. по проекту архитектора В. Бренн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6" descr="0_2d915_955a773a_XL"/>
          <p:cNvPicPr/>
          <p:nvPr/>
        </p:nvPicPr>
        <p:blipFill>
          <a:blip r:embed="rId1"/>
          <a:stretch/>
        </p:blipFill>
        <p:spPr>
          <a:xfrm>
            <a:off x="2124000" y="2708280"/>
            <a:ext cx="5079960" cy="3429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7"/>
          <p:cNvSpPr/>
          <p:nvPr/>
        </p:nvSpPr>
        <p:spPr>
          <a:xfrm>
            <a:off x="-46134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Black"/>
              </a:rPr>
              <a:t>  </a:t>
            </a:r>
            <a:r>
              <a:rPr b="0" lang="ru-RU" sz="2000" spc="-1" strike="noStrike">
                <a:solidFill>
                  <a:srgbClr val="ffe103"/>
                </a:solidFill>
                <a:latin typeface="Arno Pro Smbd SmText"/>
              </a:rPr>
              <a:t>В самом здании и казармах, находившихся на прилегающей территории, размещался гарнизон Павловска и </a:t>
            </a:r>
            <a:r>
              <a:rPr b="1" lang="ru-RU" sz="2000" spc="-1" strike="noStrike">
                <a:solidFill>
                  <a:srgbClr val="ffe103"/>
                </a:solidFill>
                <a:latin typeface="Arno Pro Smbd SmText"/>
              </a:rPr>
              <a:t>специальная артиллерийская команда, производившая салюты по различным поводам: по приезде и отъезде хозяев, во время их прогулок по Мариентальскому пруду и торжественных обедов, а также в связи с другими местными событиями. Салютовала крепостная артиллерия сто одним залпом и при оглашении реляций о победах А.В. Суворова во время Швейцарского и Итальянского походов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5" descr="bip2"/>
          <p:cNvPicPr/>
          <p:nvPr/>
        </p:nvPicPr>
        <p:blipFill>
          <a:blip r:embed="rId1"/>
          <a:stretch/>
        </p:blipFill>
        <p:spPr>
          <a:xfrm>
            <a:off x="1835280" y="2603520"/>
            <a:ext cx="5402160" cy="425448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no Pro Smbd SmText"/>
              </a:rPr>
              <a:t>Приезжая в Павловск, Павел I жил обычно в крепости, там же проводил вахт-парады, а иногда и смотры. Провинившихся офицеров сажали на гауптвахту, находившуюся в подвале здания.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no Pro Smbd SmText"/>
              </a:rPr>
              <a:t>   В 1799 г. в Мариентале устроили капеллу Св. Иоанна Иерусалимского (Мальтийскую капеллу), в которой установили переносной алтар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6857640"/>
            <a:ext cx="8156520" cy="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5640" bIns="35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Picture 4" descr="bip3"/>
          <p:cNvPicPr/>
          <p:nvPr/>
        </p:nvPicPr>
        <p:blipFill>
          <a:blip r:embed="rId1"/>
          <a:stretch/>
        </p:blipFill>
        <p:spPr>
          <a:xfrm>
            <a:off x="1619280" y="2492280"/>
            <a:ext cx="6119640" cy="4023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В каком году убили Павла 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83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В 179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Кто построил Павловский замок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Екатерина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Петр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Павел </a:t>
            </a:r>
            <a:r>
              <a:rPr b="0" lang="en-US" sz="3200" spc="-1" strike="noStrike">
                <a:solidFill>
                  <a:srgbClr val="ffcc00"/>
                </a:solidFill>
                <a:latin typeface="Arno Pro Smbd SmText"/>
              </a:rPr>
              <a:t>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diamond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Годы правления Павла</a:t>
            </a:r>
            <a:r>
              <a:rPr b="0" lang="en-US" sz="3200" spc="-1" strike="noStrike">
                <a:solidFill>
                  <a:srgbClr val="ffffff"/>
                </a:solidFill>
                <a:latin typeface="Arno Pro Smbd SmText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Arno Pro Smbd SmText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75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96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no Pro Smbd SmT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no Pro Smbd SmText"/>
              </a:rPr>
              <a:t>1789-180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3:23:46Z</dcterms:created>
  <dc:creator>Пользователь</dc:creator>
  <dc:description/>
  <dc:language>en-US</dc:language>
  <cp:lastModifiedBy>Максим</cp:lastModifiedBy>
  <dcterms:modified xsi:type="dcterms:W3CDTF">2012-03-21T19:36:40Z</dcterms:modified>
  <cp:revision>6</cp:revision>
  <dc:subject/>
  <dc:title>Павловск!</dc:title>
</cp:coreProperties>
</file>