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A7D4-6BD0-41A3-A352-71DEF03A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8E3-79BC-443F-AB27-549E1951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872F-1BFF-465E-8EE2-E99BE2D3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554-54F6-4A40-9216-792604D7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F467-198B-4090-B88A-C04AA5D6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B8E7-32B7-4FDF-A779-AEC9F77B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3706-C76D-4D12-8815-EE9681DC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1774-CF46-4DC6-B3D1-2A804B1C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B29E-7FF6-4A41-8A91-E142ECA0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F1E0-3E40-45E0-B4C5-AA3086B7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A933-52AE-48BE-B003-377DA64A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02BB-2507-4D5A-A2B8-EEA6569D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B4EE-022E-45F4-8D23-335459AA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1CA8-1188-4AE9-8836-EFDB8581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9726-A5C4-47F9-9C60-A326F27F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EB00-E1F2-44A5-BB05-B7E6ADD8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AFE8-402D-4BF2-AA30-88435B64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BA7-4125-40DC-AA94-32B316B6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356-C4AA-48F1-AE59-19CF6F36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7BFE-7396-4C2E-98EC-D00760BB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873-606A-418B-AB09-D5EB1E51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8C75-89D7-4C95-83AB-A17A3BB3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8D67-F8EE-4309-9BEA-1B35AEB1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7EFD-15E3-4D86-8D4D-BB4CEB4C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25BD-F554-40A2-8BD7-1BF37B71CC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3090-191D-446B-B976-058A1F85718C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Павловск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66"/>
                </a:solidFill>
                <a:latin typeface="Arial Black"/>
              </a:rPr>
              <a:t>Павловский замок!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352" name="Object 91"/>
          <p:cNvGraphicFramePr/>
          <p:nvPr/>
        </p:nvGraphicFramePr>
        <p:xfrm>
          <a:off x="10218600" y="5950080"/>
          <a:ext cx="1157400" cy="7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9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18600" y="5950080"/>
                    <a:ext cx="1157400" cy="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no Pro Smbd SmText"/>
              </a:rPr>
              <a:t>В развилке каких рек находится Павловский замок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Славянки и Тызв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Тигра и Евфрат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Волги и Енисе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pull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no Pro Smbd SmText"/>
              </a:rPr>
              <a:t>Где был задушен Павел</a:t>
            </a:r>
            <a:r>
              <a:rPr b="0" lang="en-US" sz="3200" spc="-1" strike="noStrike">
                <a:solidFill>
                  <a:srgbClr val="ffffff"/>
                </a:solidFill>
                <a:latin typeface="Arno Pro Smbd SmText"/>
              </a:rPr>
              <a:t> I</a:t>
            </a:r>
            <a:r>
              <a:rPr b="0" lang="ru-RU" sz="3200" spc="-1" strike="noStrike">
                <a:solidFill>
                  <a:srgbClr val="ffffff"/>
                </a:solidFill>
                <a:latin typeface="Arno Pro Smbd SmText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В Петро-Павловской крепост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В Павловском замк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В Михайловском замк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mb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no Pro Smbd SmText"/>
              </a:rPr>
              <a:t>По проекту какого архитектора была построена крепость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Растрелл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Бренн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Бену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no Pro Smbd SmText"/>
              </a:rPr>
              <a:t>Презентацию подготовили ученики 6а класс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Шемякова Валери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Меньших Игорь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Жуковская Александр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Арипов Владислав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ver dir="u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 Black"/>
              </a:rPr>
              <a:t>Павловский замок!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5" name="Picture 6" descr="Vladimir Borovikovskiiy Portret imperatora Pavla pervogo"/>
          <p:cNvPicPr/>
          <p:nvPr/>
        </p:nvPicPr>
        <p:blipFill>
          <a:blip r:embed="rId1"/>
          <a:stretch/>
        </p:blipFill>
        <p:spPr>
          <a:xfrm>
            <a:off x="1319040" y="2254320"/>
            <a:ext cx="2544840" cy="3568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bip"/>
          <p:cNvPicPr/>
          <p:nvPr/>
        </p:nvPicPr>
        <p:blipFill>
          <a:blip r:embed="rId2"/>
          <a:stretch/>
        </p:blipFill>
        <p:spPr>
          <a:xfrm>
            <a:off x="4300560" y="2859120"/>
            <a:ext cx="4108320" cy="2424240"/>
          </a:xfrm>
          <a:prstGeom prst="rect">
            <a:avLst/>
          </a:prstGeom>
          <a:ln w="0">
            <a:noFill/>
          </a:ln>
        </p:spPr>
      </p:pic>
    </p:spTree>
  </p:cSld>
  <p:transition advTm="2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740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      </a:t>
            </a:r>
            <a:r>
              <a:rPr b="0" lang="ru-RU" sz="4400" spc="-1" strike="noStrike">
                <a:solidFill>
                  <a:srgbClr val="9933ff"/>
                </a:solidFill>
                <a:latin typeface="Arial Black"/>
              </a:rPr>
              <a:t>Павел </a:t>
            </a:r>
            <a:r>
              <a:rPr b="0" lang="en-US" sz="4400" spc="-1" strike="noStrike">
                <a:solidFill>
                  <a:srgbClr val="9933ff"/>
                </a:solidFill>
                <a:latin typeface="Arial Black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518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no Pro Sm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no Pro SmText"/>
              </a:rPr>
              <a:t>Павел I Петрович император России (1796-1801), сын Петра III Фёдоровича и Екатерины II Алексеевны. Наследник престола с 26 декабря 1761 г. С 20 декабря 1762 г. генерал-адмирал. 16 декабря 1798 г. избран Великим магистром и протектором Мальтийского ордена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no Pro Sm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no Pro SmText"/>
              </a:rPr>
              <a:t>Павел I укрепил царствующую династию. Оставил после себя многочисленное потомство, получив прозвище императора-родоначальника. Ввёл указ о престолонаследии, по которому власть передавалась от отца к старшему сыну, что способствовало прекращению дворцовых переворотов. Первым попытался ограничить крепостное право, запретив барщину крестьян на помещика более чем три дня в неделю. Чувство порядка, дисциплины, равенства было руководящим в деятельности императора, борьба с сословными привилегиями – главнейшей целью. Прекратил преследование старообрядцев. Учредил Российско-американскую компанию. В его правление А.В. Суворов совершил Итальянский и Швейцарский походы, Ф.Ф. Ушаков – Средиземноморскую экспедицию, вписав ярчайшие страницы в военную историю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no Pro Sm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no Pro SmText"/>
              </a:rPr>
              <a:t>В результате дворцового переворота 11 марта 1801 г. Павел I был задушен в своей спальне в Михайловском замке. Вскоре на его гробнице в Петропавловском соборе стали происходить чудеса. В начале ХХ века обсуждался вопрос о причтении погибшего императора к лику святых. В 1809 г. в честь Павла I в Павловске был установлен памятник-мавзолей. В 1851 г. в Гатчине, а в 1872 г. в Павловске установлены памятники по модели скульптора И.П. Витали. В 2003 г. оригинальный монумент был воздвигнут во дворе Михайловского замка (главной резиденции императора)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Picture 7" descr="200912140908201"/>
          <p:cNvPicPr/>
          <p:nvPr/>
        </p:nvPicPr>
        <p:blipFill>
          <a:blip r:embed="rId1"/>
          <a:stretch/>
        </p:blipFill>
        <p:spPr>
          <a:xfrm>
            <a:off x="5940360" y="1557360"/>
            <a:ext cx="273996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 </a:t>
            </a:r>
            <a:r>
              <a:rPr b="0" lang="ru-RU" sz="2000" spc="-1" strike="noStrike">
                <a:solidFill>
                  <a:srgbClr val="ff3399"/>
                </a:solidFill>
                <a:latin typeface="Arno Pro Smbd SmText"/>
              </a:rPr>
              <a:t>В городе Павловск (25 км от Санкт-Петербурга) в развилке рек Славянки и Тызвы висятся монументальные башни разрушенной в 1941- 1944 гг. крепости "Бип", напоминающей своим силуэтом, зубцами высоких стен и башен средневековый рыцарский замок. Крепость была построена в 1798 г. по проекту архитектора В. Бренн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 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Picture 6" descr="0_2d915_955a773a_XL"/>
          <p:cNvPicPr/>
          <p:nvPr/>
        </p:nvPicPr>
        <p:blipFill>
          <a:blip r:embed="rId1"/>
          <a:stretch/>
        </p:blipFill>
        <p:spPr>
          <a:xfrm>
            <a:off x="2124000" y="2708280"/>
            <a:ext cx="5079960" cy="342900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-461340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heel spokes="1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68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68" fill="hold"/>
                                        <p:tgtEl>
                                          <p:spTgt spid="3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  </a:t>
            </a:r>
            <a:r>
              <a:rPr b="0" lang="ru-RU" sz="2000" spc="-1" strike="noStrike">
                <a:solidFill>
                  <a:srgbClr val="ffe103"/>
                </a:solidFill>
                <a:latin typeface="Arno Pro Smbd SmText"/>
              </a:rPr>
              <a:t>В самом здании и казармах, находившихся на прилегающей территории, размещался гарнизон Павловска и </a:t>
            </a:r>
            <a:r>
              <a:rPr b="1" lang="ru-RU" sz="2000" spc="-1" strike="noStrike">
                <a:solidFill>
                  <a:srgbClr val="ffe103"/>
                </a:solidFill>
                <a:latin typeface="Arno Pro Smbd SmText"/>
              </a:rPr>
              <a:t>специальная артиллерийская команда, производившая салюты по различным поводам: по приезде и отъезде хозяев, во время их прогулок по Мариентальскому пруду и торжественных обедов, а также в связи с другими местными событиями. Салютовала крепостная артиллерия сто одним залпом и при оглашении реляций о победах А.В. Суворова во время Швейцарского и Итальянского походов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95280" y="6858000"/>
            <a:ext cx="822960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5" descr="bip2"/>
          <p:cNvPicPr/>
          <p:nvPr/>
        </p:nvPicPr>
        <p:blipFill>
          <a:blip r:embed="rId1"/>
          <a:stretch/>
        </p:blipFill>
        <p:spPr>
          <a:xfrm>
            <a:off x="1835280" y="2603520"/>
            <a:ext cx="5402160" cy="42544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no Pro Smbd SmText"/>
              </a:rPr>
              <a:t>Приезжая в Павловск, Павел I жил обычно в крепости, там же проводил вахт-парады, а иногда и смотры. Провинившихся офицеров сажали на гауптвахту, находившуюся в подвале здания.</a:t>
            </a:r>
            <a:br>
              <a:rPr sz="2000"/>
            </a:br>
            <a:r>
              <a:rPr b="0" lang="ru-RU" sz="2000" spc="-1" strike="noStrike">
                <a:solidFill>
                  <a:srgbClr val="ff6600"/>
                </a:solidFill>
                <a:latin typeface="Arno Pro Smbd SmText"/>
              </a:rPr>
              <a:t>   В 1799 г. в Мариентале устроили капеллу Св. Иоанна Иерусалимского (Мальтийскую капеллу), в которой установили переносной алтарь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8920" y="6857640"/>
            <a:ext cx="815652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5640" bIns="356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9" name="Picture 4" descr="bip3"/>
          <p:cNvPicPr/>
          <p:nvPr/>
        </p:nvPicPr>
        <p:blipFill>
          <a:blip r:embed="rId1"/>
          <a:stretch/>
        </p:blipFill>
        <p:spPr>
          <a:xfrm>
            <a:off x="1619280" y="2492280"/>
            <a:ext cx="6119640" cy="4023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no Pro Smbd SmText"/>
              </a:rPr>
              <a:t>В каком году убили Павла </a:t>
            </a:r>
            <a:r>
              <a:rPr b="0" lang="en-US" sz="3200" spc="-1" strike="noStrike">
                <a:solidFill>
                  <a:srgbClr val="ffffff"/>
                </a:solidFill>
                <a:latin typeface="Arno Pro Smbd SmText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Arno Pro Smbd SmText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В 183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В 180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В 1798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no Pro Smbd SmText"/>
              </a:rPr>
              <a:t>Кто построил Павловский замок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Екатерина </a:t>
            </a:r>
            <a:r>
              <a:rPr b="0" lang="en-US" sz="3200" spc="-1" strike="noStrike">
                <a:solidFill>
                  <a:srgbClr val="ffcc00"/>
                </a:solidFill>
                <a:latin typeface="Arno Pro Smbd SmText"/>
              </a:rPr>
              <a:t>I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Петр </a:t>
            </a:r>
            <a:r>
              <a:rPr b="0" lang="en-US" sz="3200" spc="-1" strike="noStrike">
                <a:solidFill>
                  <a:srgbClr val="ffcc00"/>
                </a:solidFill>
                <a:latin typeface="Arno Pro Smbd SmText"/>
              </a:rPr>
              <a:t>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Павел </a:t>
            </a:r>
            <a:r>
              <a:rPr b="0" lang="en-US" sz="3200" spc="-1" strike="noStrike">
                <a:solidFill>
                  <a:srgbClr val="ffcc00"/>
                </a:solidFill>
                <a:latin typeface="Arno Pro Smbd SmText"/>
              </a:rPr>
              <a:t>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diamond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no Pro Smbd SmText"/>
              </a:rPr>
              <a:t>Годы правления Павла</a:t>
            </a:r>
            <a:r>
              <a:rPr b="0" lang="en-US" sz="3200" spc="-1" strike="noStrike">
                <a:solidFill>
                  <a:srgbClr val="ffffff"/>
                </a:solidFill>
                <a:latin typeface="Arno Pro Smbd SmText"/>
              </a:rPr>
              <a:t> I</a:t>
            </a:r>
            <a:r>
              <a:rPr b="0" lang="ru-RU" sz="3200" spc="-1" strike="noStrike">
                <a:solidFill>
                  <a:srgbClr val="ffffff"/>
                </a:solidFill>
                <a:latin typeface="Arno Pro Smbd SmText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1775-180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1796-180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1789-180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newsflash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3:23:46Z</dcterms:created>
  <dc:creator>Пользователь</dc:creator>
  <dc:description/>
  <dc:language>en-US</dc:language>
  <cp:lastModifiedBy>Максим</cp:lastModifiedBy>
  <dcterms:modified xsi:type="dcterms:W3CDTF">2012-03-21T19:36:40Z</dcterms:modified>
  <cp:revision>6</cp:revision>
  <dc:subject/>
  <dc:title>Павловск!</dc:title>
</cp:coreProperties>
</file>