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1F7-3EE2-4849-9188-880A5FB5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263-6870-4926-B3F9-F39910D4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C43-E7C1-48F0-8FD0-AFB9B4FA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F96-5B49-4AEA-99F9-502AE789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FDA0-13D8-4E52-A2C3-55EF86F1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065B-632B-4914-9A69-5BDA99C3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25B1-A10F-4391-AB7A-AB8CD1C4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CD98-31DE-4D91-8956-27EC67E9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E062-1E90-4DBC-94CC-CD66A5A1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11E9-B2D6-447E-AB2F-E3601256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1C30-8B5F-400D-8211-A6155E56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B8C-1722-46F5-90FF-352E53E4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0332-B6AE-42C3-9538-3C073A60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4161-CD22-4585-9A11-19BCAB5F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3B65-A654-4C8A-94BF-67DBCB80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A2E-C8E7-45F5-B37A-4962C8FA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AADC-DBAB-4B31-BE00-640413AC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801-844F-4313-B443-DF9DF543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1A7-E561-4F57-ABFC-554EF628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5C0-EF5D-41FB-8121-DF1655C9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A4A-E4BD-4854-81F5-1D04F37E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25B-84D1-489E-B364-A4E02DF4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A30-1510-46C6-82CA-C2447FD5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7E3-D275-43FE-AB0C-68A748CB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95C-2048-49F4-9724-1066D8448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18A8-70C6-48AC-852A-418390B40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700360" y="620640"/>
            <a:ext cx="6265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ость, время, расстояние  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59080" cy="2781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5148360" y="2637000"/>
            <a:ext cx="37152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3573360"/>
            <a:ext cx="85327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дорожного движения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659640" y="4737240"/>
            <a:ext cx="230508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тоциклист едет со скоростью 75км/ч, а скорость велосипедиста в 6 раз меньше. На сколько километров скорость велосипедиста меньше чем у мотоциклист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Тормозной пу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68360" y="1176480"/>
          <a:ext cx="8229600" cy="5681520"/>
        </p:xfrm>
        <a:graphic>
          <a:graphicData uri="http://schemas.openxmlformats.org/drawingml/2006/table">
            <a:tbl>
              <a:tblPr/>
              <a:tblGrid>
                <a:gridCol w="1800000"/>
                <a:gridCol w="1492560"/>
                <a:gridCol w="1644480"/>
                <a:gridCol w="1542960"/>
                <a:gridCol w="17496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хая доро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края доро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,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а льдо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-2251" t="2901" r="0" b="0"/>
          <a:stretch/>
        </p:blipFill>
        <p:spPr>
          <a:xfrm>
            <a:off x="6129360" y="2205000"/>
            <a:ext cx="3014640" cy="465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68360" y="112536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6443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уть торможения по сухому асфальту составляет 26% от скорости. На расстоянии  14 метров шофер заметил опасность и нажал на тормоз. Можно ли избежать опасности в этом случае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3357360"/>
            <a:ext cx="8064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  <a:ea typeface="Arial"/>
              </a:rPr>
              <a:t>3)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14 – 10,4 =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3,6 (м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расстояние до опасно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476280"/>
            <a:ext cx="9972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1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40 : 100 • 26 = 0, 0104 (км) путь тормож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52360" y="2276640"/>
            <a:ext cx="741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2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0,0104 км = 10,4 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корость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6360" y="1989000"/>
            <a:ext cx="61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ремя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350028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уть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Хочешь найти расстояние, путь?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Скорость на время умножь, не забудь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411280" y="422100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4508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429264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4437000"/>
            <a:ext cx="2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4076640"/>
            <a:ext cx="72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Arial Narrow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Если же скорость захочешь найти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То расстояние на время дел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9280" y="4508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95640" y="422100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7800" y="4437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11640" y="429264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422100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4005360"/>
            <a:ext cx="100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Если же время ты должен найти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То расстояние на скорость дел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3933720"/>
            <a:ext cx="9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3440" y="4221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140360" y="407664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4076640"/>
            <a:ext cx="3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000" y="407664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anlighta.gif"/>
          <p:cNvPicPr/>
          <p:nvPr/>
        </p:nvPicPr>
        <p:blipFill>
          <a:blip r:embed="rId1"/>
          <a:stretch/>
        </p:blipFill>
        <p:spPr>
          <a:xfrm>
            <a:off x="0" y="-963720"/>
            <a:ext cx="1992240" cy="4419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835280" y="0"/>
            <a:ext cx="66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Для чего нужны светофоры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1028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Ширина дороги 15 метров. Зеленый сигнал светофора горит 20 секунд. С какой скоростью должен идти пешеход с момента загорания светофора, чтобы благополучно перейти дорог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Какое главное правило при переходе улицы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8036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чему нельзя перебегать дорогу перед близко идущим транспортом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30751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8.09249E-007 L 0.19027 -0.00231 E">
                                      <p:cBhvr>
                                        <p:cTn id="6" dur="3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8:17:29Z</dcterms:created>
  <dc:creator>ADIO</dc:creator>
  <dc:description/>
  <dc:language>en-US</dc:language>
  <cp:lastModifiedBy>ADIO</cp:lastModifiedBy>
  <dcterms:modified xsi:type="dcterms:W3CDTF">2009-10-14T03:25:00Z</dcterms:modified>
  <cp:revision>6</cp:revision>
  <dc:subject/>
  <dc:title>Слайд 1</dc:title>
</cp:coreProperties>
</file>