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5379-82B0-4C3D-A2E5-6FD4204F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87E6-EB62-46F8-9608-2C923C87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DEFD-0663-4BCA-A228-5676FB56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36D2-124A-4BF6-9EF1-573E748A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A970-678C-44E0-9EC4-C71F66E0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7CB5-9BC5-4CC1-9B7A-5D301904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4121-AEEF-436F-B84B-F15BC2D2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B730-1BF1-43E3-9D40-5707FCC7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6BFE-07BC-4944-AE30-277C7435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3E84-E28C-4650-874C-5541308B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7621-328B-467C-93DF-85AC02FE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7C4-05D1-42A7-AB0E-86A69352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F244-F83B-476E-96CB-3D587B67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D343-D2DD-4366-A374-990483E5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DAD9-CEEF-4476-8ED5-E11A4D2E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17DB-E6FB-41C6-9DC5-40A3EBDC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F3D4-E84D-4075-99AC-860A14E5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DDFE-2E18-4AEC-8D85-6FE42931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A328-3974-4BA6-8BE5-E899D321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53FC-1DD7-4829-A265-58AD9BAE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6A10-583B-476F-99F5-FFC1961C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65BB-4621-440D-BA8A-13CAD7FF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098F-0AC5-4282-ADD5-2C9EBC7D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7A5-5A78-4AF7-BFD9-745A4766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4F1B-7FD7-45E1-B09F-294D24D13F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6BC5-8DCA-47B8-BEBE-89066A14D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700360" y="620640"/>
            <a:ext cx="62658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орость, время, расстояние  </a:t>
            </a:r>
            <a:endParaRPr b="0" lang="en-US" sz="54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59080" cy="27813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5148360" y="2637000"/>
            <a:ext cx="371520" cy="82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0920" y="3573360"/>
            <a:ext cx="853272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а дорожного движения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659640" y="4737240"/>
            <a:ext cx="2305080" cy="19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отоциклист едет со скоростью 75км/ч, а скорость велосипедиста в 6 раз меньше. На сколько километров скорость велосипедиста меньше чем у мотоциклист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Тормозной пут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68360" y="1176480"/>
          <a:ext cx="8229600" cy="5681520"/>
        </p:xfrm>
        <a:graphic>
          <a:graphicData uri="http://schemas.openxmlformats.org/drawingml/2006/table">
            <a:tbl>
              <a:tblPr/>
              <a:tblGrid>
                <a:gridCol w="1800000"/>
                <a:gridCol w="1492560"/>
                <a:gridCol w="1644480"/>
                <a:gridCol w="1542960"/>
                <a:gridCol w="17496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км/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км/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км/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км/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хая дорог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м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,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,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края дорог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м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3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5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,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рыта льдо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м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,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7,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rcRect l="-2251" t="2901" r="0" b="0"/>
          <a:stretch/>
        </p:blipFill>
        <p:spPr>
          <a:xfrm>
            <a:off x="6129360" y="2205000"/>
            <a:ext cx="3014640" cy="4653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68360" y="1125360"/>
            <a:ext cx="54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64436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уть торможения по сухому асфальту составляет 26% от скорости. На расстоянии  14 метров шофер заметил опасность и нажал на тормоз. Можно ли избежать опасности в этом случае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23640" y="3357360"/>
            <a:ext cx="80643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99"/>
                </a:solidFill>
                <a:latin typeface="Arial"/>
                <a:ea typeface="Arial"/>
              </a:rPr>
              <a:t>3)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14 – 10,4 =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3,6 (м)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расстояние до опасност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4000" y="476280"/>
            <a:ext cx="99723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99"/>
                </a:solidFill>
                <a:latin typeface="Arial"/>
              </a:rPr>
              <a:t>1)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40 : 100 • 26 = 0, 0104 (км) путь тормож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252360" y="2276640"/>
            <a:ext cx="7416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99"/>
                </a:solidFill>
                <a:latin typeface="Arial"/>
              </a:rPr>
              <a:t>2)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0,0104 км = 10,4 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Скорость  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V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76360" y="1989000"/>
            <a:ext cx="619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ремя   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24000" y="350028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Путь   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34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Хочешь найти расстояние, путь?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Скорость на время умножь, не забудь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411280" y="4221000"/>
            <a:ext cx="4572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32000" y="450864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35280" y="429264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onotype Corsiva"/>
              </a:rPr>
              <a:t>V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3280" y="4437000"/>
            <a:ext cx="2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19640" y="4076640"/>
            <a:ext cx="72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Arial Narrow"/>
              </a:rPr>
              <a:t>t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Если же скорость захочешь найти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То расстояние на время дели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9280" y="450864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195640" y="422100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Monotype Corsiva"/>
              </a:rPr>
              <a:t>V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77800" y="4437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211640" y="4292640"/>
            <a:ext cx="4572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76720" y="4221000"/>
            <a:ext cx="6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51640" y="4005360"/>
            <a:ext cx="100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Если же время ты должен найти,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46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То расстояние на скорость дели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50920" y="3933720"/>
            <a:ext cx="93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3440" y="422100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140360" y="4076640"/>
            <a:ext cx="4572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03640" y="4076640"/>
            <a:ext cx="3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80000" y="407664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onotype Corsiva"/>
              </a:rPr>
              <a:t>V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3" descr="anlighta.gif"/>
          <p:cNvPicPr/>
          <p:nvPr/>
        </p:nvPicPr>
        <p:blipFill>
          <a:blip r:embed="rId1"/>
          <a:stretch/>
        </p:blipFill>
        <p:spPr>
          <a:xfrm>
            <a:off x="0" y="-963720"/>
            <a:ext cx="1992240" cy="44197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835280" y="0"/>
            <a:ext cx="66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onotype Corsiva"/>
              </a:rPr>
              <a:t>Для чего нужны светофоры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2" marL="10285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Ширина дороги 15 метров. Зеленый сигнал светофора горит 20 секунд. С какой скоростью должен идти пешеход с момента загорания светофора, чтобы благополучно перейти дорог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Какое главное правило при переходе улицы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8036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очему нельзя перебегать дорогу перед близко идущим транспортом?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95280" y="4508640"/>
            <a:ext cx="30751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8.09249E-007 L 0.19027 -0.00231 E">
                                      <p:cBhvr>
                                        <p:cTn id="6" dur="3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8:17:29Z</dcterms:created>
  <dc:creator>ADIO</dc:creator>
  <dc:description/>
  <dc:language>en-US</dc:language>
  <cp:lastModifiedBy>ADIO</cp:lastModifiedBy>
  <dcterms:modified xsi:type="dcterms:W3CDTF">2009-10-14T03:25:00Z</dcterms:modified>
  <cp:revision>6</cp:revision>
  <dc:subject/>
  <dc:title>Слайд 1</dc:title>
</cp:coreProperties>
</file>