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236-E2A7-490B-B22E-6F370DD5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134-8B04-4C5B-B44E-CE097FCF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BEF-359D-44ED-BC77-855AC046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959-E8E6-4754-B8A3-91E80D9E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D6FE-DD76-4AA1-8293-D1EA5E5C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63A7-3160-4A1B-8946-204A1D85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575E-433C-4431-AFAD-B0FA4A84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A2A5-57F4-475C-9A08-3997C3D1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C80A-0B80-4EA6-A8E9-EC6A5E99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A667-9079-4216-BCA3-D1A205D7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BA7D-8586-4E05-8B11-D7539D14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3E8-3E58-42F5-B7A9-420C2E7B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261C-D08A-41E3-A65A-14FF3C12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F328-091B-48AB-82F9-622B07C0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A996-D717-429E-8B31-DC7D561F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823C-8FA4-4943-BDB8-5077EFC2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383E-3D54-449E-AE3E-407C687E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1C2-BBBD-4E3D-BD36-C0263FB2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7B2-CE5C-4650-AA19-4ADED09F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B6E-48AB-47A1-A41D-0982897A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8BC-E0E8-4ADD-B831-B63CE452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8A0-B1A7-447E-8C29-5373FD25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A74-4086-414C-8B46-71DB8FAC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CF0-0BB7-4F32-8866-723C9230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C704-C2A4-4243-99CC-33AF2554AF0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78D0-68E9-4698-9DCA-E5C0026E1B1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блемно-ситуативный анали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-stu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ические рекомендации к кейс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сматриваются примерные вопросы по данному кейс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еделена целевая группа, цели преподавани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ставлен анализ проблем и их концептуальное обоснова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лагается конкретная методика работы с групп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исхождение кейс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ольшинство учебных ситуаций основывается на исследованиях автора «кейса», то есть его посещении конкретной организ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спользуется реальная информация о деятельности фирм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качестве дополнительной или альтернативной информации могут быть использованы материалы, опубликованные в печати (газеты, журналы, другие издания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кейсов для системы повышения квалифик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ассический кейс -  развернутое описания ситуаций, содержащее от 5 до 500 страниц информаци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енными описаниями конкретных ситуаций, в которых  предельно конкретизирована учебная пробле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ейс, представленный в форме видеоматериа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исание случая из жизни, произошедшего с кем-либо из участников семинар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лучай, возникший в процессе обу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торный  случай, то есть – анализ принятого решения по конкретной ситу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учебной деятель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ФОРМАЦИОННЫЙ ПОИС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НАЛИЗ, ВЫЯВЛЕНИЕ ПРОБЛЕ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ТРОЕНИЕ КРИТЕРИЕВ РЕШЕНИЯ ПРОБЛЕ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РАБОТКА КОНКТРУКТИВНЫХ ИД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ЕКТИРОВАНИЕ, ПЛАН ДЕЙСТВ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зможные учебные действия на базе кей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явление причин, источников, движущих  сил процесса, содержащегося в конкретной ситуа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уктурирование, построение моделей описания ситуа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нализ и сопоставление отдельных данных в описании КС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явление проблемы, содержащейся в КС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ение сценариев возможного развития  КС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зможные учебные действия на базе кей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работка критериев  и показателей разрешения проблем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работка методов возможного решения проблем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работка практических управленческих действий по решению проблем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ение описания аналоговых КС из собственной управленческой практ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Дополнительные возможности кейса в учебном процесс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тивация участников семина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ллюстрация конкретной  идеи или мет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ргументация утвержд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ейс-метод на практик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варительный индивидуальный анализ кей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нализ кейса в малых группах (выявление проблемы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рупповая дискуссия по спорным вопросам кей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ейс-метод на практи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ектирование, моделирование (критерии, идеи, проекты решений) – индивидуально и в малых групп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щита проектов в группе в соответствии с выработанными критери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тоговый анализ процесса работы (групповой или индивидуальны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Преимущества метода. Участники учатся системному мышлени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ссматривать любую ситуацию  во всех ее составляющих и взаимосвязя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ыявлять движущие силы и этапы протекания любого процесс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роить структурные модели в отношении  любой ситу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нимать, что в становлении любой системы может наступать момент, когда ее развитие может существенно изменить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личать управляемые процессы  и те процессы, управление которыми затруднено;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«выходить за рамки системы» для того, чтобы понять подлинную причину происходящего или увидеть возможное реш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Теоретико-практические  основания метода 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блемно-поисковы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анализ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гматическое обуч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иентацию на  создание ситуаций выбора (обучение с учетом вариативности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учение через анализ собственного опы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иски при работе с кейс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ейсы очень трудно «сочинять», качественный кейс требует серьезных исследований, особой культуры излож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ейсами трудно работать, тьютор должен обладать значительным опытом в применении кейсов, работа с одним и тем же кейсом в разных аудиториях  может протекать совершенно по-разно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иски при работе с кейс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аботе с кейсами участники семинара могут испытывать существенные затруднения, неудачи в ходе аналитической работы могут снижать мотиваци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иски при работе с кейс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ободные дискуссии, которые применяются в группе – могут увести участников от проблемы к решению других вопросов, показавшихся аудитории более интересны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бота с кейсом  требует существенных затрат времени, в условиях его постоянного дефицита – велик риск  замены кейс-метода иллюстративной составляющ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и и задачи проекта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здание пакета кейсов к действующему комплексу учебно-методических пособий для повышения квалификации администраторов системы профессионального образов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труктура апробируемых кейс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кст кей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ционные Прилож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одические рекоменд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блиография для тьюто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Обучающий цикл Д.Колба как теоретическое основание метод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ение конкретной ситуации (ориентации на  конкретный опыт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нализ ситуации (рефлексия, осмысление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формирование выводов, оценок, обобщения (концептуализация опыт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работка плана управленческих действий (активное экспериментировани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-study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– конкретные ситуации для обуч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онкретные  ситуации (КС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представляют собой  описание действительных  событий  в словах, цифрах, образах, действиях. КС – это «срез» процесса, фиксация его динамики в определенных временных границах в целях постановки обучающегося  перед выбором  путей и способов дальнейшего решения проблемы или определением перспективных тенденций развития ситу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-study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– конкретные ситуации для обуч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С – это «срез» процесса, фиксация его динамики в определенных временных границах в целях постановки обучающегося  перед выбором  путей и способов дальнейшего решения проблемы или определением перспективных тенденций развития ситуац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ем кейс отличается от проблемной ситуац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ейс  не предлагает обучающимс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блем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в открытом виде; участникам образовательного процесс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едстоит вычлени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ее из той информации, которая содержится в  описании кей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держащаяся в кейсе проблем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е  имеет однозначного реш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суть метода в том и состоит, чтобы из множеств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льтернативных вариант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в соответствии с выработанными ране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критериям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выбрать наиболее целесообразное решение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азработать практическую управленческу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одель его реализ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Общие подходы к конструированию кейс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альность собы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ставление событий в динамике на  протяжении определенного временного отрезка, четкое определение хронологии событ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бщие подходы к конструированию кейсо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итуация описывается в событийном стиле, с широким применением конкретных образов, метафор, в ней должна присутствовать «определенная интрига», выступающая дополнительным источником мотивации к образовательному процесс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бщие подходы к конструированию кейсо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аточность материала для его последующего анализ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можность выделения в ситуации управленческой проблемы, представляющей  интерес для обучающихся и   порождающей новое знание в области  того  или иного аспекта содержательной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7:38:34Z</dcterms:created>
  <dc:creator>Elena KAZAKOVA</dc:creator>
  <dc:description/>
  <dc:language>en-US</dc:language>
  <cp:lastModifiedBy>Elena KAZAKOVA</cp:lastModifiedBy>
  <dcterms:modified xsi:type="dcterms:W3CDTF">2007-04-02T15:37:06Z</dcterms:modified>
  <cp:revision>22</cp:revision>
  <dc:subject/>
  <dc:title>Проблемно-ситуативный анализ</dc:title>
</cp:coreProperties>
</file>