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DA53-B6DC-4413-96CB-97E89922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5E1-F96C-4CEB-8EFC-2765AAA7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B45-3D8E-4077-8D2A-2D225C8D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12E-00AE-4DA8-B686-FDEA9B63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F9EC-425E-48F5-A7FD-E1C9A5BF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6667-4EA6-49E7-B8CF-D55D4A13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C4FB-2E0E-4DFC-98B6-90164439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566A-C441-444B-8020-6CC355EE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74E9-C7D0-410A-A992-24CD79C8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9639-8E57-4913-8C94-E3369876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244C-8A98-4854-8044-FF314A93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862-0FAF-4A64-A1FC-886BAB2C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6472-892E-4CEB-8107-F44A8859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A4E6-B8BF-4B65-85B6-9CC5E5C4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0E9D-C8C0-4F83-84A7-148E53CE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DB8F-55A6-4630-8EAC-379CE5F3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07DE-5493-4FFF-85DA-5FCC5C0F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7641-1575-4FE3-B200-BA01D115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467A-8935-47B4-8558-05A1B1F9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E13E-8FEE-457D-9544-008DB889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8729-F4D3-4E97-B858-A239CF40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7B3-DF98-4E2A-B98B-460A5B8C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928D-CF04-4EF7-B1AB-2B0F1CB9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774C-D1BF-4B69-A8D5-47C846FE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A8B0-483A-4197-BF04-34113A7719E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6A12-9CAA-476B-B902-14FFAD5E1D4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блемно-ситуативный анали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-stu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тодические рекомендации к кейс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ссматриваются примерные вопросы по данному кейсу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пределена целевая группа, цели преподавани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едставлен анализ проблем и их концептуальное обоснован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едлагается конкретная методика работы с групп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исхождение кейс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ольшинство учебных ситуаций основывается на исследованиях автора «кейса», то есть его посещении конкретной организа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спользуется реальная информация о деятельности фирм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качестве дополнительной или альтернативной информации могут быть использованы материалы, опубликованные в печати (газеты, журналы, другие издания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иды кейсов для системы повышения квалификац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лассический кейс -  развернутое описания ситуаций, содержащее от 5 до 500 страниц информации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кращенными описаниями конкретных ситуаций, в которых  предельно конкретизирована учебная проблем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ейс, представленный в форме видеоматериал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исание случая из жизни, произошедшего с кем-либо из участников семинар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лучай, возникший в процессе обуч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торный  случай, то есть – анализ принятого решения по конкретной ситу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иды учебной деятель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ФОРМАЦИОННЫЙ ПОИСК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НАЛИЗ, ВЫЯВЛЕНИЕ ПРОБЛЕ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ТРОЕНИЕ КРИТЕРИЕВ РЕШЕНИЯ ПРОБЛЕ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ЫРАБОТКА КОНКТРУКТИВНЫХ ИД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ЕКТИРОВАНИЕ, ПЛАН ДЕЙСТВИ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зможные учебные действия на базе кей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явление причин, источников, движущих  сил процесса, содержащегося в конкретной ситуац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руктурирование, построение моделей описания ситуац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нализ и сопоставление отдельных данных в описании КС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явление проблемы, содержащейся в КС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троение сценариев возможного развития  КС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зможные учебные действия на базе кей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работка критериев  и показателей разрешения проблем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работка методов возможного решения проблем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работка практических управленческих действий по решению проблемы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троение описания аналоговых КС из собственной управленческой практи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Дополнительные возможности кейса в учебном процесс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отивация участников семина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ллюстрация конкретной  идеи или мет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ргументация утвержд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ейс-метод на практике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едварительный индивидуальный анализ кей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нализ кейса в малых группах (выявление проблемы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рупповая дискуссия по спорным вопросам кей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ейс-метод на практи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ектирование, моделирование (критерии, идеи, проекты решений) – индивидуально и в малых групп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ащита проектов в группе в соответствии с выработанными критери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тоговый анализ процесса работы (групповой или индивидуальный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Преимущества метода. Участники учатся системному мышлению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ссматривать любую ситуацию  во всех ее составляющих и взаимосвязях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ыявлять движущие силы и этапы протекания любого процесс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троить структурные модели в отношении  любой ситу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нимать, что в становлении любой системы может наступать момент, когда ее развитие может существенно изменить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зличать управляемые процессы  и те процессы, управление которыми затруднено;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«выходить за рамки системы» для того, чтобы понять подлинную причину происходящего или увидеть возможное реше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Теоретико-практические  основания метода 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блемно-поисковый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анализ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агматическое обучен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риентацию на  создание ситуаций выбора (обучение с учетом вариативности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учение через анализ собственного опы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иски при работе с кейс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ейсы очень трудно «сочинять», качественный кейс требует серьезных исследований, особой культуры излож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кейсами трудно работать, тьютор должен обладать значительным опытом в применении кейсов, работа с одним и тем же кейсом в разных аудиториях  может протекать совершенно по-разном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иски при работе с кейс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аботе с кейсами участники семинара могут испытывать существенные затруднения, неудачи в ходе аналитической работы могут снижать мотивацию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иски при работе с кейс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ободные дискуссии, которые применяются в группе – могут увести участников от проблемы к решению других вопросов, показавшихся аудитории более интересным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бота с кейсом  требует существенных затрат времени, в условиях его постоянного дефицита – велик риск  замены кейс-метода иллюстративной составляющ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и и задачи проекта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здание пакета кейсов к действующему комплексу учебно-методических пособий для повышения квалификации администраторов системы профессионального образовани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труктура апробируемых кейс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кст кей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формационные Прилож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етодические рекоменд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оссар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иблиография для тьюто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Обучающий цикл Д.Колба как теоретическое основание метод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учение конкретной ситуации (ориентации на  конкретный опыт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нализ ситуации (рефлексия, осмысление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формирование выводов, оценок, обобщения (концептуализация опыта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работка плана управленческих действий (активное экспериментирование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-study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– конкретные ситуации для обуч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онкретные  ситуации (КС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представляют собой  описание действительных  событий  в словах, цифрах, образах, действиях. КС – это «срез» процесса, фиксация его динамики в определенных временных границах в целях постановки обучающегося  перед выбором  путей и способов дальнейшего решения проблемы или определением перспективных тенденций развития ситуац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-study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– конкретные ситуации для обуч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С – это «срез» процесса, фиксация его динамики в определенных временных границах в целях постановки обучающегося  перед выбором  путей и способов дальнейшего решения проблемы или определением перспективных тенденций развития ситуаци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ем кейс отличается от проблемной ситуаци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ейс  не предлагает обучающимся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блему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в открытом виде; участникам образовательного процесса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едстоит вычленит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ее из той информации, которая содержится в  описании кей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держащаяся в кейсе проблема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е  имеет однозначного решен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суть метода в том и состоит, чтобы из множества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альтернативных варианто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в соответствии с выработанными ранее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критериям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выбрать наиболее целесообразное решение и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азработать практическую управленческу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одель его реализ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Общие подходы к конструированию кейсо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альность собы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едставление событий в динамике на  протяжении определенного временного отрезка, четкое определение хронологии событ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Общие подходы к конструированию кейсо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итуация описывается в событийном стиле, с широким применением конкретных образов, метафор, в ней должна присутствовать «определенная интрига», выступающая дополнительным источником мотивации к образовательному процесс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Общие подходы к конструированию кейсо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статочность материала для его последующего анализ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зможность выделения в ситуации управленческой проблемы, представляющей  интерес для обучающихся и   порождающей новое знание в области  того  или иного аспекта содержательной программ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7:38:34Z</dcterms:created>
  <dc:creator>Elena KAZAKOVA</dc:creator>
  <dc:description/>
  <dc:language>en-US</dc:language>
  <cp:lastModifiedBy>Elena KAZAKOVA</cp:lastModifiedBy>
  <dcterms:modified xsi:type="dcterms:W3CDTF">2007-04-02T15:37:06Z</dcterms:modified>
  <cp:revision>22</cp:revision>
  <dc:subject/>
  <dc:title>Проблемно-ситуативный анализ</dc:title>
</cp:coreProperties>
</file>