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5.png" ContentType="image/png"/>
  <Override PartName="/ppt/media/image19.jpeg" ContentType="image/jpeg"/>
  <Override PartName="/ppt/media/image21.jpeg" ContentType="image/jpeg"/>
  <Override PartName="/ppt/media/image36.gif" ContentType="image/gif"/>
  <Override PartName="/ppt/media/image20.png" ContentType="image/png"/>
  <Override PartName="/ppt/media/image2.jpeg" ContentType="image/jpeg"/>
  <Override PartName="/ppt/media/image18.jpeg" ContentType="image/jpeg"/>
  <Override PartName="/ppt/media/image15.png" ContentType="image/png"/>
  <Override PartName="/ppt/media/image27.gif" ContentType="image/gif"/>
  <Override PartName="/ppt/media/image7.png" ContentType="image/png"/>
  <Override PartName="/ppt/media/image32.png" ContentType="image/png"/>
  <Override PartName="/ppt/media/image22.jpeg" ContentType="image/jpeg"/>
  <Override PartName="/ppt/media/image9.gif" ContentType="image/gif"/>
  <Override PartName="/ppt/media/image34.gif" ContentType="image/gif"/>
  <Override PartName="/ppt/media/image13.png" ContentType="image/png"/>
  <Override PartName="/ppt/media/image12.jpeg" ContentType="image/jpeg"/>
  <Override PartName="/ppt/media/image10.gif" ContentType="image/gif"/>
  <Override PartName="/ppt/media/image11.png" ContentType="image/png"/>
  <Override PartName="/ppt/media/image30.gif" ContentType="image/gif"/>
  <Override PartName="/ppt/media/image28.gif" ContentType="image/gif"/>
  <Override PartName="/ppt/media/image8.png" ContentType="image/png"/>
  <Override PartName="/ppt/media/image39.jpeg" ContentType="image/jpeg"/>
  <Override PartName="/ppt/media/image35.gif" ContentType="image/gif"/>
  <Override PartName="/ppt/media/image6.jpeg" ContentType="image/jpeg"/>
  <Override PartName="/ppt/media/image5.png" ContentType="image/png"/>
  <Override PartName="/ppt/media/image4.wmf" ContentType="image/x-wmf"/>
  <Override PartName="/ppt/media/image38.gif" ContentType="image/gif"/>
  <Override PartName="/ppt/media/image3.wmf" ContentType="image/x-wmf"/>
  <Override PartName="/ppt/media/image37.gif" ContentType="image/gif"/>
  <Override PartName="/ppt/media/image23.jpeg" ContentType="image/jpeg"/>
  <Override PartName="/ppt/media/image1.png" ContentType="image/png"/>
  <Override PartName="/ppt/media/image24.png" ContentType="image/png"/>
  <Override PartName="/ppt/media/image31.gif" ContentType="image/gif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3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A5C1-3EC4-405B-B028-2F50E41C80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се действия на слайде – последовательно щелчком мыш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се действия на слайде – последовательно щелчком мыш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се действия на слайде – последовательно щелчком мыш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 триггер, что позволяет учащимся определить последовательность решения примеров. Нажмите на голубой прямоугольник – появится соответствующий правильный отв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 триггер, что позволяет учащимся определить последовательность решения примеров. Нажмите на голубой прямоугольник – появится соответствующий правильный отв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се действия на слайде – последовательно щелчком мыш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 триггер, что позволяет учащимся определить последовательность решения примеров. Нажмите на голубой прямоугольник – появится соответствующий правильный отв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 триггер, что позволяет учащимся определить последовательность решения примеров. Нажмите на голубой прямоугольник – появится соответствующий правильный отв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 триггер, что позволяет учащимся определить последовательность решения примеров. Нажмите на голубой прямоугольник – появится соответствующий правильный отв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уем триггер, что позволяет учащимся определить последовательность решения примеров. Нажмите на числовой луч – появится соответствующий правильный отв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уем триггер, что позволяет учащимся определить последовательность решения примеров. Нажмите на числовой луч – появится соответствующий правильный отв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се действия на слайде – последовательно щелчком мыш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1BDC-5528-4869-A9A0-B8AECF150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3A70-30DB-4D9B-8FB3-6B8502C7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11D1-6400-4A60-87C1-B81AA33AA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3B31-5718-45F2-95F4-7DFEEBCF7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4BBA-5D1D-42A8-B970-A6D4893B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9DE1-961B-4713-9EC5-56800BA2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7432-14AB-4158-8BF4-9DEBF8AB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1A61-F969-4382-8326-117B4DFF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501E-EC5C-44CF-B281-02CFC8EE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5E08-FFA0-4844-824F-B813441F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8C03-D7D1-453A-98AB-2B8E8349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3BC5-CFEB-45C4-B55D-C6B8155E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9D0D-BA1A-4AFA-8360-73D44A028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" name=""/>
            <p:cNvSpPr/>
            <p:nvPr/>
          </p:nvSpPr>
          <p:spPr>
            <a:xfrm>
              <a:off x="0" y="549360"/>
              <a:ext cx="9144000" cy="144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989000"/>
              <a:ext cx="9144000" cy="180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708280"/>
              <a:ext cx="9144000" cy="144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3429000"/>
              <a:ext cx="9144000" cy="144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1268280"/>
              <a:ext cx="9144000" cy="180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4149720"/>
              <a:ext cx="9144000" cy="144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5589720"/>
              <a:ext cx="9144000" cy="144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4869000"/>
              <a:ext cx="9144000" cy="144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308640"/>
              <a:ext cx="9144000" cy="180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71640" y="0"/>
              <a:ext cx="1440" cy="685800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451640" y="0"/>
              <a:ext cx="1800" cy="685800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172360" y="0"/>
              <a:ext cx="1800" cy="685800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93080" y="0"/>
              <a:ext cx="1800" cy="685800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50920" y="0"/>
              <a:ext cx="1440" cy="685800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292720" y="0"/>
              <a:ext cx="1440" cy="685800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012000" y="0"/>
              <a:ext cx="1440" cy="685800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6732720" y="0"/>
              <a:ext cx="1440" cy="685800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692360" y="0"/>
              <a:ext cx="1440" cy="685800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2411280" y="0"/>
              <a:ext cx="1800" cy="685800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132000" y="0"/>
              <a:ext cx="1800" cy="685800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51280" y="0"/>
              <a:ext cx="1440" cy="685800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572000" y="0"/>
              <a:ext cx="1440" cy="6858000"/>
            </a:xfrm>
            <a:prstGeom prst="line">
              <a:avLst/>
            </a:prstGeom>
            <a:ln w="9360">
              <a:solidFill>
                <a:srgbClr val="b5ee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tovary.ru/images/goods.aspx?id=26438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image" Target="../media/image30.gif"/><Relationship Id="rId6" Type="http://schemas.openxmlformats.org/officeDocument/2006/relationships/image" Target="../media/image30.gi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image" Target="../media/image35.gif"/><Relationship Id="rId5" Type="http://schemas.openxmlformats.org/officeDocument/2006/relationships/image" Target="../media/image35.gif"/><Relationship Id="rId6" Type="http://schemas.openxmlformats.org/officeDocument/2006/relationships/image" Target="../media/image35.gif"/><Relationship Id="rId7" Type="http://schemas.openxmlformats.org/officeDocument/2006/relationships/image" Target="../media/image35.gif"/><Relationship Id="rId8" Type="http://schemas.openxmlformats.org/officeDocument/2006/relationships/image" Target="../media/image35.gi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gif"/><Relationship Id="rId3" Type="http://schemas.openxmlformats.org/officeDocument/2006/relationships/image" Target="../media/image37.gif"/><Relationship Id="rId4" Type="http://schemas.openxmlformats.org/officeDocument/2006/relationships/image" Target="../media/image37.gif"/><Relationship Id="rId5" Type="http://schemas.openxmlformats.org/officeDocument/2006/relationships/image" Target="../media/image38.gi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3284640"/>
            <a:ext cx="2859120" cy="3573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476360" y="1052640"/>
            <a:ext cx="6794640" cy="260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Решение неравенств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 одной переменной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77080" y="260280"/>
            <a:ext cx="2016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8 класс.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32000" y="4292640"/>
            <a:ext cx="5761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7640" y="4149720"/>
            <a:ext cx="215640" cy="21600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08720" y="5013360"/>
            <a:ext cx="216000" cy="21600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46072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460720" y="5084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56720" y="429264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2000" y="5157720"/>
            <a:ext cx="5761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37080" y="5157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4149720"/>
            <a:ext cx="4104000" cy="0"/>
          </a:xfrm>
          <a:prstGeom prst="line">
            <a:avLst/>
          </a:prstGeom>
          <a:ln w="152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03640" y="5013360"/>
            <a:ext cx="4103640" cy="0"/>
          </a:xfrm>
          <a:prstGeom prst="line">
            <a:avLst/>
          </a:prstGeom>
          <a:ln w="152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32000" y="5734080"/>
            <a:ext cx="5761080" cy="9349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>
                  <a:alpha val="26274"/>
                </a:srgbClr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Махмутова Фануза Фаик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МБОУ Новошешминская гимназ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-181080" y="4149720"/>
            <a:ext cx="2167200" cy="27082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50920" y="189000"/>
            <a:ext cx="4968720" cy="718920"/>
          </a:xfrm>
          <a:prstGeom prst="rect">
            <a:avLst/>
          </a:prstGeom>
          <a:gradFill rotWithShape="0">
            <a:gsLst>
              <a:gs pos="0">
                <a:srgbClr val="93b7ff"/>
              </a:gs>
              <a:gs pos="50000">
                <a:srgbClr val="bbe0e3">
                  <a:alpha val="16078"/>
                </a:srgbClr>
              </a:gs>
              <a:gs pos="100000">
                <a:srgbClr val="93b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Решаем неравен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85840" y="907920"/>
            <a:ext cx="878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Решить неравенство – найти значение перемен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которое обращает его в верное числовое неравен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50920" y="1916280"/>
            <a:ext cx="4968720" cy="718920"/>
          </a:xfrm>
          <a:prstGeom prst="rect">
            <a:avLst/>
          </a:prstGeom>
          <a:gradFill rotWithShape="0">
            <a:gsLst>
              <a:gs pos="0">
                <a:srgbClr val="93b7ff"/>
              </a:gs>
              <a:gs pos="50000">
                <a:srgbClr val="bbe0e3">
                  <a:alpha val="16078"/>
                </a:srgbClr>
              </a:gs>
              <a:gs pos="100000">
                <a:srgbClr val="93b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Правил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24000" y="285264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419640" y="2781360"/>
            <a:ext cx="3457440" cy="936720"/>
            <a:chOff x="3419640" y="2781360"/>
            <a:chExt cx="3457440" cy="936720"/>
          </a:xfrm>
        </p:grpSpPr>
        <p:sp>
          <p:nvSpPr>
            <p:cNvPr id="342" name=""/>
            <p:cNvSpPr/>
            <p:nvPr/>
          </p:nvSpPr>
          <p:spPr>
            <a:xfrm>
              <a:off x="3419640" y="2781360"/>
              <a:ext cx="345744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3" name=""/>
                <p:cNvSpPr txBox="1"/>
                <p:nvPr/>
              </p:nvSpPr>
              <p:spPr>
                <a:xfrm>
                  <a:off x="4003560" y="2781360"/>
                  <a:ext cx="2143080" cy="92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x</m:t>
                      </m:r>
                      <m:r>
                        <m:t xml:space="preserve">&gt;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44" name=""/>
          <p:cNvSpPr/>
          <p:nvPr/>
        </p:nvSpPr>
        <p:spPr>
          <a:xfrm>
            <a:off x="4859280" y="2852640"/>
            <a:ext cx="720720" cy="77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2360" y="2852640"/>
            <a:ext cx="720720" cy="77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932360" y="2852640"/>
            <a:ext cx="720720" cy="77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932360" y="2852640"/>
            <a:ext cx="720720" cy="77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851280" y="2852640"/>
            <a:ext cx="863640" cy="1057320"/>
          </a:xfrm>
          <a:prstGeom prst="ellipse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14611800">
            <a:off x="3257640" y="3158280"/>
            <a:ext cx="331920" cy="1593720"/>
          </a:xfrm>
          <a:prstGeom prst="downArrow">
            <a:avLst>
              <a:gd name="adj1" fmla="val 50000"/>
              <a:gd name="adj2" fmla="val 120038"/>
            </a:avLst>
          </a:prstGeom>
          <a:gradFill rotWithShape="0">
            <a:gsLst>
              <a:gs pos="0">
                <a:srgbClr val="fefefe"/>
              </a:gs>
              <a:gs pos="50000">
                <a:srgbClr val="ff0000"/>
              </a:gs>
              <a:gs pos="100000">
                <a:srgbClr val="fefefe"/>
              </a:gs>
            </a:gsLst>
            <a:lin ang="2049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6720" y="256536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04000" y="2781360"/>
            <a:ext cx="720720" cy="77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2050920" y="4508640"/>
            <a:ext cx="3457440" cy="936360"/>
            <a:chOff x="2050920" y="4508640"/>
            <a:chExt cx="3457440" cy="936360"/>
          </a:xfrm>
        </p:grpSpPr>
        <p:sp>
          <p:nvSpPr>
            <p:cNvPr id="353" name=""/>
            <p:cNvSpPr/>
            <p:nvPr/>
          </p:nvSpPr>
          <p:spPr>
            <a:xfrm>
              <a:off x="2050920" y="4508640"/>
              <a:ext cx="345744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" name=""/>
                <p:cNvSpPr txBox="1"/>
                <p:nvPr/>
              </p:nvSpPr>
              <p:spPr>
                <a:xfrm>
                  <a:off x="2796840" y="4508640"/>
                  <a:ext cx="1817640" cy="92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5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6372360" y="3860640"/>
            <a:ext cx="2087280" cy="2087640"/>
            <a:chOff x="6372360" y="3860640"/>
            <a:chExt cx="2087280" cy="2087640"/>
          </a:xfrm>
        </p:grpSpPr>
        <p:sp>
          <p:nvSpPr>
            <p:cNvPr id="357" name=""/>
            <p:cNvSpPr/>
            <p:nvPr/>
          </p:nvSpPr>
          <p:spPr>
            <a:xfrm>
              <a:off x="6372360" y="3931920"/>
              <a:ext cx="2087280" cy="20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8" name=""/>
                <p:cNvSpPr txBox="1"/>
                <p:nvPr/>
              </p:nvSpPr>
              <p:spPr>
                <a:xfrm>
                  <a:off x="6372360" y="3860640"/>
                  <a:ext cx="2015640" cy="20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&gt;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59" name=""/>
          <p:cNvSpPr/>
          <p:nvPr/>
        </p:nvSpPr>
        <p:spPr>
          <a:xfrm>
            <a:off x="4788000" y="4724280"/>
            <a:ext cx="1584360" cy="358920"/>
          </a:xfrm>
          <a:prstGeom prst="rightArrow">
            <a:avLst>
              <a:gd name="adj1" fmla="val 50000"/>
              <a:gd name="adj2" fmla="val 110356"/>
            </a:avLst>
          </a:prstGeom>
          <a:gradFill rotWithShape="0">
            <a:gsLst>
              <a:gs pos="0">
                <a:srgbClr val="fefefe"/>
              </a:gs>
              <a:gs pos="50000">
                <a:srgbClr val="0000ff"/>
              </a:gs>
              <a:gs pos="100000">
                <a:srgbClr val="fefefe"/>
              </a:gs>
            </a:gsLst>
            <a:lin ang="5400000"/>
          </a:gra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00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4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1" dur="250" autoRev="1" fill="hold"/>
                                        <p:tgtEl>
                                          <p:spTgt spid="3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500"/>
                            </p:stCondLst>
                            <p:childTnLst>
                              <p:par>
                                <p:cTn id="4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5" dur="250" autoRev="1" fill="hold"/>
                                        <p:tgtEl>
                                          <p:spTgt spid="3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9" dur="250" autoRev="1" fill="hold"/>
                                        <p:tgtEl>
                                          <p:spTgt spid="3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500"/>
                            </p:stCondLst>
                            <p:childTnLst>
                              <p:par>
                                <p:cTn id="4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7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-181080" y="4149720"/>
            <a:ext cx="2167200" cy="27082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250920" y="189000"/>
            <a:ext cx="4968720" cy="718920"/>
          </a:xfrm>
          <a:prstGeom prst="rect">
            <a:avLst/>
          </a:prstGeom>
          <a:gradFill rotWithShape="0">
            <a:gsLst>
              <a:gs pos="0">
                <a:srgbClr val="93b7ff"/>
              </a:gs>
              <a:gs pos="50000">
                <a:srgbClr val="bbe0e3">
                  <a:alpha val="16078"/>
                </a:srgbClr>
              </a:gs>
              <a:gs pos="100000">
                <a:srgbClr val="93b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Решаем неравен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85840" y="907920"/>
            <a:ext cx="878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Решить неравенство – найти значение перемен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которое обращает его в верное числовое неравен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0920" y="1916280"/>
            <a:ext cx="4968720" cy="718920"/>
          </a:xfrm>
          <a:prstGeom prst="rect">
            <a:avLst/>
          </a:prstGeom>
          <a:gradFill rotWithShape="0">
            <a:gsLst>
              <a:gs pos="0">
                <a:srgbClr val="93b7ff"/>
              </a:gs>
              <a:gs pos="50000">
                <a:srgbClr val="bbe0e3">
                  <a:alpha val="16078"/>
                </a:srgbClr>
              </a:gs>
              <a:gs pos="100000">
                <a:srgbClr val="93b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Правил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124000" y="285264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3419640" y="2781360"/>
            <a:ext cx="3457440" cy="936720"/>
            <a:chOff x="3419640" y="2781360"/>
            <a:chExt cx="3457440" cy="936720"/>
          </a:xfrm>
        </p:grpSpPr>
        <p:sp>
          <p:nvSpPr>
            <p:cNvPr id="366" name=""/>
            <p:cNvSpPr/>
            <p:nvPr/>
          </p:nvSpPr>
          <p:spPr>
            <a:xfrm>
              <a:off x="3419640" y="2781360"/>
              <a:ext cx="345744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7" name=""/>
                <p:cNvSpPr txBox="1"/>
                <p:nvPr/>
              </p:nvSpPr>
              <p:spPr>
                <a:xfrm>
                  <a:off x="4003560" y="2781360"/>
                  <a:ext cx="2143080" cy="92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x</m:t>
                      </m:r>
                      <m:r>
                        <m:t xml:space="preserve">&gt;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8" name=""/>
          <p:cNvSpPr/>
          <p:nvPr/>
        </p:nvSpPr>
        <p:spPr>
          <a:xfrm>
            <a:off x="3851280" y="2852640"/>
            <a:ext cx="863640" cy="1057320"/>
          </a:xfrm>
          <a:prstGeom prst="ellipse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14611800">
            <a:off x="3257640" y="3158280"/>
            <a:ext cx="331920" cy="1593720"/>
          </a:xfrm>
          <a:prstGeom prst="downArrow">
            <a:avLst>
              <a:gd name="adj1" fmla="val 50000"/>
              <a:gd name="adj2" fmla="val 120038"/>
            </a:avLst>
          </a:prstGeom>
          <a:gradFill rotWithShape="0">
            <a:gsLst>
              <a:gs pos="0">
                <a:srgbClr val="fefefe"/>
              </a:gs>
              <a:gs pos="50000">
                <a:srgbClr val="ff0000"/>
              </a:gs>
              <a:gs pos="100000">
                <a:srgbClr val="fefefe"/>
              </a:gs>
            </a:gsLst>
            <a:lin ang="2049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516720" y="256536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804000" y="2781360"/>
            <a:ext cx="720720" cy="77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050920" y="4508640"/>
            <a:ext cx="3457440" cy="936360"/>
            <a:chOff x="2050920" y="4508640"/>
            <a:chExt cx="3457440" cy="936360"/>
          </a:xfrm>
        </p:grpSpPr>
        <p:sp>
          <p:nvSpPr>
            <p:cNvPr id="373" name=""/>
            <p:cNvSpPr/>
            <p:nvPr/>
          </p:nvSpPr>
          <p:spPr>
            <a:xfrm>
              <a:off x="2050920" y="4508640"/>
              <a:ext cx="345744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4" name=""/>
                <p:cNvSpPr txBox="1"/>
                <p:nvPr/>
              </p:nvSpPr>
              <p:spPr>
                <a:xfrm>
                  <a:off x="2796840" y="4508640"/>
                  <a:ext cx="1817640" cy="92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75" name=""/>
          <p:cNvGrpSpPr/>
          <p:nvPr/>
        </p:nvGrpSpPr>
        <p:grpSpPr>
          <a:xfrm>
            <a:off x="6372360" y="3860640"/>
            <a:ext cx="2087280" cy="2087640"/>
            <a:chOff x="6372360" y="3860640"/>
            <a:chExt cx="2087280" cy="2087640"/>
          </a:xfrm>
        </p:grpSpPr>
        <p:sp>
          <p:nvSpPr>
            <p:cNvPr id="376" name=""/>
            <p:cNvSpPr/>
            <p:nvPr/>
          </p:nvSpPr>
          <p:spPr>
            <a:xfrm>
              <a:off x="6372360" y="3931920"/>
              <a:ext cx="2087280" cy="20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7" name=""/>
                <p:cNvSpPr txBox="1"/>
                <p:nvPr/>
              </p:nvSpPr>
              <p:spPr>
                <a:xfrm>
                  <a:off x="6403680" y="3860640"/>
                  <a:ext cx="1950840" cy="20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&lt;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8" name=""/>
          <p:cNvSpPr/>
          <p:nvPr/>
        </p:nvSpPr>
        <p:spPr>
          <a:xfrm>
            <a:off x="4788000" y="4724280"/>
            <a:ext cx="1584360" cy="358920"/>
          </a:xfrm>
          <a:prstGeom prst="rightArrow">
            <a:avLst>
              <a:gd name="adj1" fmla="val 50000"/>
              <a:gd name="adj2" fmla="val 110356"/>
            </a:avLst>
          </a:prstGeom>
          <a:gradFill rotWithShape="0">
            <a:gsLst>
              <a:gs pos="0">
                <a:srgbClr val="fefefe"/>
              </a:gs>
              <a:gs pos="50000">
                <a:srgbClr val="0000ff"/>
              </a:gs>
              <a:gs pos="100000">
                <a:srgbClr val="fefefe"/>
              </a:gs>
            </a:gsLst>
            <a:lin ang="5400000"/>
          </a:gra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877080" y="4365720"/>
            <a:ext cx="863640" cy="10573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5" dur="250" autoRev="1" fill="hold"/>
                                        <p:tgtEl>
                                          <p:spTgt spid="3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500"/>
                            </p:stCondLst>
                            <p:childTnLst>
                              <p:par>
                                <p:cTn id="52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9" dur="250" autoRev="1" fill="hold"/>
                                        <p:tgtEl>
                                          <p:spTgt spid="3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3" dur="250" autoRev="1" fill="hold"/>
                                        <p:tgtEl>
                                          <p:spTgt spid="3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500"/>
                            </p:stCondLst>
                            <p:childTnLst>
                              <p:par>
                                <p:cTn id="5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3500"/>
                            </p:stCondLst>
                            <p:childTnLst>
                              <p:par>
                                <p:cTn id="541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5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-181080" y="4149720"/>
            <a:ext cx="2167200" cy="270828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250920" y="189000"/>
            <a:ext cx="4968720" cy="718920"/>
          </a:xfrm>
          <a:prstGeom prst="rect">
            <a:avLst/>
          </a:prstGeom>
          <a:gradFill rotWithShape="0">
            <a:gsLst>
              <a:gs pos="0">
                <a:srgbClr val="93b7ff"/>
              </a:gs>
              <a:gs pos="50000">
                <a:srgbClr val="bbe0e3">
                  <a:alpha val="16078"/>
                </a:srgbClr>
              </a:gs>
              <a:gs pos="100000">
                <a:srgbClr val="93b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Решаем неравен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85840" y="907920"/>
            <a:ext cx="878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Решить неравенство – найти значение перемен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которое обращает его в верное числовое неравен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50920" y="1916280"/>
            <a:ext cx="4968720" cy="718920"/>
          </a:xfrm>
          <a:prstGeom prst="rect">
            <a:avLst/>
          </a:prstGeom>
          <a:gradFill rotWithShape="0">
            <a:gsLst>
              <a:gs pos="0">
                <a:srgbClr val="93b7ff"/>
              </a:gs>
              <a:gs pos="50000">
                <a:srgbClr val="bbe0e3">
                  <a:alpha val="16078"/>
                </a:srgbClr>
              </a:gs>
              <a:gs pos="100000">
                <a:srgbClr val="93b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Правил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24000" y="285264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3419640" y="2781360"/>
            <a:ext cx="3457440" cy="936720"/>
            <a:chOff x="3419640" y="2781360"/>
            <a:chExt cx="3457440" cy="936720"/>
          </a:xfrm>
        </p:grpSpPr>
        <p:sp>
          <p:nvSpPr>
            <p:cNvPr id="386" name=""/>
            <p:cNvSpPr/>
            <p:nvPr/>
          </p:nvSpPr>
          <p:spPr>
            <a:xfrm>
              <a:off x="3419640" y="2781360"/>
              <a:ext cx="345744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7" name=""/>
                <p:cNvSpPr txBox="1"/>
                <p:nvPr/>
              </p:nvSpPr>
              <p:spPr>
                <a:xfrm>
                  <a:off x="4003560" y="2781360"/>
                  <a:ext cx="2143080" cy="92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x</m:t>
                      </m:r>
                      <m:r>
                        <m:t xml:space="preserve">&lt;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8" name=""/>
          <p:cNvSpPr/>
          <p:nvPr/>
        </p:nvSpPr>
        <p:spPr>
          <a:xfrm>
            <a:off x="3851280" y="2852640"/>
            <a:ext cx="863640" cy="1057320"/>
          </a:xfrm>
          <a:prstGeom prst="ellipse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4611800">
            <a:off x="3257640" y="3158280"/>
            <a:ext cx="331920" cy="1593720"/>
          </a:xfrm>
          <a:prstGeom prst="downArrow">
            <a:avLst>
              <a:gd name="adj1" fmla="val 50000"/>
              <a:gd name="adj2" fmla="val 120038"/>
            </a:avLst>
          </a:prstGeom>
          <a:gradFill rotWithShape="0">
            <a:gsLst>
              <a:gs pos="0">
                <a:srgbClr val="fefefe"/>
              </a:gs>
              <a:gs pos="50000">
                <a:srgbClr val="ff0000"/>
              </a:gs>
              <a:gs pos="100000">
                <a:srgbClr val="fefefe"/>
              </a:gs>
            </a:gsLst>
            <a:lin ang="2049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16720" y="256536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804000" y="2781360"/>
            <a:ext cx="720720" cy="77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2050920" y="4508640"/>
            <a:ext cx="3457440" cy="936360"/>
            <a:chOff x="2050920" y="4508640"/>
            <a:chExt cx="3457440" cy="936360"/>
          </a:xfrm>
        </p:grpSpPr>
        <p:sp>
          <p:nvSpPr>
            <p:cNvPr id="393" name=""/>
            <p:cNvSpPr/>
            <p:nvPr/>
          </p:nvSpPr>
          <p:spPr>
            <a:xfrm>
              <a:off x="2050920" y="4508640"/>
              <a:ext cx="345744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4" name=""/>
                <p:cNvSpPr txBox="1"/>
                <p:nvPr/>
              </p:nvSpPr>
              <p:spPr>
                <a:xfrm>
                  <a:off x="2796840" y="4508640"/>
                  <a:ext cx="1817640" cy="92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5" name=""/>
          <p:cNvGrpSpPr/>
          <p:nvPr/>
        </p:nvGrpSpPr>
        <p:grpSpPr>
          <a:xfrm>
            <a:off x="6372360" y="3860640"/>
            <a:ext cx="2087280" cy="2087640"/>
            <a:chOff x="6372360" y="3860640"/>
            <a:chExt cx="2087280" cy="2087640"/>
          </a:xfrm>
        </p:grpSpPr>
        <p:sp>
          <p:nvSpPr>
            <p:cNvPr id="396" name=""/>
            <p:cNvSpPr/>
            <p:nvPr/>
          </p:nvSpPr>
          <p:spPr>
            <a:xfrm>
              <a:off x="6372360" y="3931920"/>
              <a:ext cx="2087280" cy="20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7" name=""/>
                <p:cNvSpPr txBox="1"/>
                <p:nvPr/>
              </p:nvSpPr>
              <p:spPr>
                <a:xfrm>
                  <a:off x="6403680" y="3860640"/>
                  <a:ext cx="1950840" cy="20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&gt;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8" name=""/>
          <p:cNvSpPr/>
          <p:nvPr/>
        </p:nvSpPr>
        <p:spPr>
          <a:xfrm>
            <a:off x="4788000" y="4724280"/>
            <a:ext cx="1584360" cy="358920"/>
          </a:xfrm>
          <a:prstGeom prst="rightArrow">
            <a:avLst>
              <a:gd name="adj1" fmla="val 50000"/>
              <a:gd name="adj2" fmla="val 110356"/>
            </a:avLst>
          </a:prstGeom>
          <a:gradFill rotWithShape="0">
            <a:gsLst>
              <a:gs pos="0">
                <a:srgbClr val="fefefe"/>
              </a:gs>
              <a:gs pos="50000">
                <a:srgbClr val="0000ff"/>
              </a:gs>
              <a:gs pos="100000">
                <a:srgbClr val="fefefe"/>
              </a:gs>
            </a:gsLst>
            <a:lin ang="5400000"/>
          </a:gra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77080" y="4365720"/>
            <a:ext cx="863640" cy="10573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695240" y="5911920"/>
            <a:ext cx="744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При делении (умножении) на отрица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число знак неравенства меня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859280" y="2852640"/>
            <a:ext cx="863640" cy="10573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4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4" dur="250" autoRev="1" fill="hold"/>
                                        <p:tgtEl>
                                          <p:spTgt spid="3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500"/>
                            </p:stCondLst>
                            <p:childTnLst>
                              <p:par>
                                <p:cTn id="59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8" dur="250" autoRev="1" fill="hold"/>
                                        <p:tgtEl>
                                          <p:spTgt spid="3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2" dur="250" autoRev="1" fill="hold"/>
                                        <p:tgtEl>
                                          <p:spTgt spid="3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3500"/>
                            </p:stCondLst>
                            <p:childTnLst>
                              <p:par>
                                <p:cTn id="610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1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21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614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5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995640" y="189000"/>
            <a:ext cx="4969080" cy="718920"/>
          </a:xfrm>
          <a:prstGeom prst="rect">
            <a:avLst/>
          </a:prstGeom>
          <a:gradFill rotWithShape="0">
            <a:gsLst>
              <a:gs pos="0">
                <a:srgbClr val="93b7ff"/>
              </a:gs>
              <a:gs pos="50000">
                <a:srgbClr val="bbe0e3">
                  <a:alpha val="16078"/>
                </a:srgbClr>
              </a:gs>
              <a:gs pos="100000">
                <a:srgbClr val="93b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Решаем неравен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75040" cy="2421000"/>
          </a:xfrm>
          <a:prstGeom prst="rect">
            <a:avLst/>
          </a:prstGeom>
          <a:ln w="0">
            <a:noFill/>
          </a:ln>
        </p:spPr>
      </p:pic>
      <p:grpSp>
        <p:nvGrpSpPr>
          <p:cNvPr id="404" name=""/>
          <p:cNvGrpSpPr/>
          <p:nvPr/>
        </p:nvGrpSpPr>
        <p:grpSpPr>
          <a:xfrm>
            <a:off x="395280" y="2781360"/>
            <a:ext cx="2016000" cy="718920"/>
            <a:chOff x="395280" y="2781360"/>
            <a:chExt cx="2016000" cy="718920"/>
          </a:xfrm>
        </p:grpSpPr>
        <p:sp>
          <p:nvSpPr>
            <p:cNvPr id="405" name=""/>
            <p:cNvSpPr/>
            <p:nvPr/>
          </p:nvSpPr>
          <p:spPr>
            <a:xfrm>
              <a:off x="395280" y="2781360"/>
              <a:ext cx="2016000" cy="7189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6" name=""/>
                <p:cNvSpPr txBox="1"/>
                <p:nvPr/>
              </p:nvSpPr>
              <p:spPr>
                <a:xfrm>
                  <a:off x="539640" y="2781360"/>
                  <a:ext cx="1728720" cy="69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,5</m:t>
                      </m:r>
                      <m:r>
                        <m:t xml:space="preserve">х</m:t>
                      </m:r>
                      <m:r>
                        <m:t xml:space="preserve">&lt;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07" name=""/>
          <p:cNvGrpSpPr/>
          <p:nvPr/>
        </p:nvGrpSpPr>
        <p:grpSpPr>
          <a:xfrm>
            <a:off x="395280" y="3933720"/>
            <a:ext cx="2016000" cy="719280"/>
            <a:chOff x="395280" y="3933720"/>
            <a:chExt cx="2016000" cy="719280"/>
          </a:xfrm>
        </p:grpSpPr>
        <p:sp>
          <p:nvSpPr>
            <p:cNvPr id="408" name=""/>
            <p:cNvSpPr/>
            <p:nvPr/>
          </p:nvSpPr>
          <p:spPr>
            <a:xfrm>
              <a:off x="395280" y="3933720"/>
              <a:ext cx="2016000" cy="71928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9" name=""/>
                <p:cNvSpPr txBox="1"/>
                <p:nvPr/>
              </p:nvSpPr>
              <p:spPr>
                <a:xfrm>
                  <a:off x="395280" y="3933720"/>
                  <a:ext cx="2016000" cy="69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,6</m:t>
                      </m:r>
                      <m:r>
                        <m:t xml:space="preserve">х</m:t>
                      </m:r>
                      <m:r>
                        <m:t xml:space="preserve">≥</m:t>
                      </m:r>
                      <m:r>
                        <m:t xml:space="preserve">2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0" name=""/>
          <p:cNvGrpSpPr/>
          <p:nvPr/>
        </p:nvGrpSpPr>
        <p:grpSpPr>
          <a:xfrm>
            <a:off x="395280" y="5084640"/>
            <a:ext cx="2016000" cy="718920"/>
            <a:chOff x="395280" y="5084640"/>
            <a:chExt cx="2016000" cy="718920"/>
          </a:xfrm>
        </p:grpSpPr>
        <p:sp>
          <p:nvSpPr>
            <p:cNvPr id="411" name=""/>
            <p:cNvSpPr/>
            <p:nvPr/>
          </p:nvSpPr>
          <p:spPr>
            <a:xfrm>
              <a:off x="395280" y="5084640"/>
              <a:ext cx="2016000" cy="7189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2" name=""/>
                <p:cNvSpPr txBox="1"/>
                <p:nvPr/>
              </p:nvSpPr>
              <p:spPr>
                <a:xfrm>
                  <a:off x="395280" y="5127480"/>
                  <a:ext cx="201600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&gt;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3" name=""/>
          <p:cNvGrpSpPr/>
          <p:nvPr/>
        </p:nvGrpSpPr>
        <p:grpSpPr>
          <a:xfrm>
            <a:off x="2700360" y="2852640"/>
            <a:ext cx="3960720" cy="652680"/>
            <a:chOff x="2700360" y="2852640"/>
            <a:chExt cx="3960720" cy="652680"/>
          </a:xfrm>
        </p:grpSpPr>
        <p:sp>
          <p:nvSpPr>
            <p:cNvPr id="414" name=""/>
            <p:cNvSpPr/>
            <p:nvPr/>
          </p:nvSpPr>
          <p:spPr>
            <a:xfrm>
              <a:off x="2700360" y="2997000"/>
              <a:ext cx="3960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708360" y="29239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873600" y="2866680"/>
              <a:ext cx="2541600" cy="1800"/>
            </a:xfrm>
            <a:custGeom>
              <a:avLst/>
              <a:gdLst/>
              <a:ahLst/>
              <a:rect l="l" t="t" r="r" b="b"/>
              <a:pathLst>
                <a:path w="1601" h="1">
                  <a:moveTo>
                    <a:pt x="0" y="0"/>
                  </a:moveTo>
                  <a:lnTo>
                    <a:pt x="1601" y="0"/>
                  </a:lnTo>
                </a:path>
              </a:pathLst>
            </a:custGeom>
            <a:noFill/>
            <a:ln w="1522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228720" y="2852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493080" y="292392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6877080" y="2708280"/>
            <a:ext cx="2016000" cy="744480"/>
            <a:chOff x="6877080" y="2708280"/>
            <a:chExt cx="2016000" cy="744480"/>
          </a:xfrm>
        </p:grpSpPr>
        <p:sp>
          <p:nvSpPr>
            <p:cNvPr id="420" name=""/>
            <p:cNvSpPr/>
            <p:nvPr/>
          </p:nvSpPr>
          <p:spPr>
            <a:xfrm>
              <a:off x="6877080" y="2708280"/>
              <a:ext cx="2016000" cy="7189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c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1" name=""/>
                <p:cNvSpPr txBox="1"/>
                <p:nvPr/>
              </p:nvSpPr>
              <p:spPr>
                <a:xfrm>
                  <a:off x="6954840" y="2716200"/>
                  <a:ext cx="186372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r>
                            <m:t xml:space="preserve">;</m:t>
                          </m:r>
                          <m:r>
                            <m:t xml:space="preserve">+</m:t>
                          </m:r>
                          <m:r>
                            <m:t xml:space="preserve">∞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22" name=""/>
          <p:cNvGrpSpPr/>
          <p:nvPr/>
        </p:nvGrpSpPr>
        <p:grpSpPr>
          <a:xfrm>
            <a:off x="6877080" y="3860640"/>
            <a:ext cx="2016000" cy="744480"/>
            <a:chOff x="6877080" y="3860640"/>
            <a:chExt cx="2016000" cy="744480"/>
          </a:xfrm>
        </p:grpSpPr>
        <p:sp>
          <p:nvSpPr>
            <p:cNvPr id="423" name=""/>
            <p:cNvSpPr/>
            <p:nvPr/>
          </p:nvSpPr>
          <p:spPr>
            <a:xfrm>
              <a:off x="6877080" y="3860640"/>
              <a:ext cx="2016000" cy="7189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c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4" name=""/>
                <p:cNvSpPr txBox="1"/>
                <p:nvPr/>
              </p:nvSpPr>
              <p:spPr>
                <a:xfrm>
                  <a:off x="7059600" y="3868560"/>
                  <a:ext cx="165276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;</m:t>
                      </m:r>
                      <m:r>
                        <m:t xml:space="preserve">+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25" name=""/>
          <p:cNvGrpSpPr/>
          <p:nvPr/>
        </p:nvGrpSpPr>
        <p:grpSpPr>
          <a:xfrm>
            <a:off x="2700360" y="4005360"/>
            <a:ext cx="3960720" cy="653040"/>
            <a:chOff x="2700360" y="4005360"/>
            <a:chExt cx="3960720" cy="653040"/>
          </a:xfrm>
        </p:grpSpPr>
        <p:sp>
          <p:nvSpPr>
            <p:cNvPr id="426" name=""/>
            <p:cNvSpPr/>
            <p:nvPr/>
          </p:nvSpPr>
          <p:spPr>
            <a:xfrm>
              <a:off x="2700360" y="4149720"/>
              <a:ext cx="3960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08360" y="4077000"/>
              <a:ext cx="144360" cy="144360"/>
            </a:xfrm>
            <a:prstGeom prst="ellipse">
              <a:avLst/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873600" y="4019760"/>
              <a:ext cx="2541600" cy="1440"/>
            </a:xfrm>
            <a:custGeom>
              <a:avLst/>
              <a:gdLst/>
              <a:ahLst/>
              <a:rect l="l" t="t" r="r" b="b"/>
              <a:pathLst>
                <a:path w="1601" h="1">
                  <a:moveTo>
                    <a:pt x="0" y="0"/>
                  </a:moveTo>
                  <a:lnTo>
                    <a:pt x="1601" y="0"/>
                  </a:lnTo>
                </a:path>
              </a:pathLst>
            </a:custGeom>
            <a:noFill/>
            <a:ln w="1522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228720" y="4005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493080" y="407700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2700360" y="5229360"/>
            <a:ext cx="3959280" cy="725400"/>
            <a:chOff x="2700360" y="5229360"/>
            <a:chExt cx="3959280" cy="725400"/>
          </a:xfrm>
        </p:grpSpPr>
        <p:sp>
          <p:nvSpPr>
            <p:cNvPr id="432" name=""/>
            <p:cNvSpPr/>
            <p:nvPr/>
          </p:nvSpPr>
          <p:spPr>
            <a:xfrm>
              <a:off x="2700360" y="5373360"/>
              <a:ext cx="3959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48360" y="5302080"/>
              <a:ext cx="144360" cy="1440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933080" y="537336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00360" y="5229360"/>
              <a:ext cx="2521080" cy="0"/>
            </a:xfrm>
            <a:prstGeom prst="line">
              <a:avLst/>
            </a:prstGeom>
            <a:ln w="152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228720" y="5302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6877080" y="5084640"/>
            <a:ext cx="2016000" cy="744480"/>
            <a:chOff x="6877080" y="5084640"/>
            <a:chExt cx="2016000" cy="744480"/>
          </a:xfrm>
        </p:grpSpPr>
        <p:sp>
          <p:nvSpPr>
            <p:cNvPr id="438" name=""/>
            <p:cNvSpPr/>
            <p:nvPr/>
          </p:nvSpPr>
          <p:spPr>
            <a:xfrm>
              <a:off x="6877080" y="5084640"/>
              <a:ext cx="2016000" cy="7189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c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"/>
                <p:cNvSpPr txBox="1"/>
                <p:nvPr/>
              </p:nvSpPr>
              <p:spPr>
                <a:xfrm>
                  <a:off x="7123320" y="5092560"/>
                  <a:ext cx="152532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;</m:t>
                          </m:r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40" name=""/>
          <p:cNvSpPr/>
          <p:nvPr/>
        </p:nvSpPr>
        <p:spPr>
          <a:xfrm>
            <a:off x="2124000" y="1052640"/>
            <a:ext cx="668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окажите решение на числовой прямой и запишите ответ в виде интерв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395280" y="2781360"/>
            <a:ext cx="2016000" cy="718920"/>
            <a:chOff x="395280" y="2781360"/>
            <a:chExt cx="2016000" cy="718920"/>
          </a:xfrm>
        </p:grpSpPr>
        <p:sp>
          <p:nvSpPr>
            <p:cNvPr id="442" name=""/>
            <p:cNvSpPr/>
            <p:nvPr/>
          </p:nvSpPr>
          <p:spPr>
            <a:xfrm>
              <a:off x="395280" y="2781360"/>
              <a:ext cx="2016000" cy="7189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3" name=""/>
                <p:cNvSpPr txBox="1"/>
                <p:nvPr/>
              </p:nvSpPr>
              <p:spPr>
                <a:xfrm>
                  <a:off x="539640" y="2781360"/>
                  <a:ext cx="1728720" cy="69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,5</m:t>
                      </m:r>
                      <m:r>
                        <m:t xml:space="preserve">х</m:t>
                      </m:r>
                      <m:r>
                        <m:t xml:space="preserve">&lt;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4" name=""/>
          <p:cNvGrpSpPr/>
          <p:nvPr/>
        </p:nvGrpSpPr>
        <p:grpSpPr>
          <a:xfrm>
            <a:off x="395280" y="2781360"/>
            <a:ext cx="2016000" cy="718920"/>
            <a:chOff x="395280" y="2781360"/>
            <a:chExt cx="2016000" cy="718920"/>
          </a:xfrm>
        </p:grpSpPr>
        <p:sp>
          <p:nvSpPr>
            <p:cNvPr id="445" name=""/>
            <p:cNvSpPr/>
            <p:nvPr/>
          </p:nvSpPr>
          <p:spPr>
            <a:xfrm>
              <a:off x="395280" y="2781360"/>
              <a:ext cx="2016000" cy="7189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6" name=""/>
                <p:cNvSpPr txBox="1"/>
                <p:nvPr/>
              </p:nvSpPr>
              <p:spPr>
                <a:xfrm>
                  <a:off x="539640" y="2781360"/>
                  <a:ext cx="1728720" cy="69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,5</m:t>
                      </m:r>
                      <m:r>
                        <m:t xml:space="preserve">х</m:t>
                      </m:r>
                      <m:r>
                        <m:t xml:space="preserve">&lt;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3440"/>
                            </p:stCondLst>
                            <p:childTnLst>
                              <p:par>
                                <p:cTn id="6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4440"/>
                            </p:stCondLst>
                            <p:childTnLst>
                              <p:par>
                                <p:cTn id="67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5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676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2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9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690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6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2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3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704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0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6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2268360" y="1989000"/>
            <a:ext cx="4824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750075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лоунад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100000">
                    <a:srgbClr val="750075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144000" y="2997360"/>
            <a:ext cx="597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3920" rIns="22392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КЛОУНА'Д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-  Цирковой номер с участием клоу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4211640" y="2276640"/>
            <a:ext cx="133200" cy="1332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3492360" y="3716280"/>
            <a:ext cx="1667160" cy="120960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250920" y="6165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 rot="208200">
            <a:off x="755280" y="284040"/>
            <a:ext cx="7486560" cy="12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19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ИЗКУЛЬТМИНУТКА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19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2" dur="1" fill="hold"/>
                                        <p:tgtEl>
                                          <p:spTgt spid="4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7" presetSubtype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2018160" y="692280"/>
            <a:ext cx="4829760" cy="4625640"/>
            <a:chOff x="2018160" y="692280"/>
            <a:chExt cx="4829760" cy="4625640"/>
          </a:xfrm>
        </p:grpSpPr>
        <p:pic>
          <p:nvPicPr>
            <p:cNvPr id="454" name="" descr="Картинка 1 из 7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3492360" y="692280"/>
              <a:ext cx="1801800" cy="172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" descr=""/>
            <p:cNvPicPr/>
            <p:nvPr/>
          </p:nvPicPr>
          <p:blipFill>
            <a:blip r:embed="rId3"/>
            <a:stretch/>
          </p:blipFill>
          <p:spPr>
            <a:xfrm flipH="1" rot="2428200">
              <a:off x="4787280" y="1773000"/>
              <a:ext cx="1655640" cy="185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" descr=""/>
            <p:cNvPicPr/>
            <p:nvPr/>
          </p:nvPicPr>
          <p:blipFill>
            <a:blip r:embed="rId4"/>
            <a:stretch/>
          </p:blipFill>
          <p:spPr>
            <a:xfrm rot="18847800">
              <a:off x="2387160" y="1941120"/>
              <a:ext cx="161928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 rot="10800000">
              <a:off x="3635280" y="3284280"/>
              <a:ext cx="1511280" cy="1655640"/>
            </a:xfrm>
            <a:prstGeom prst="flowChartManualOperation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708360" y="2349360"/>
              <a:ext cx="1368360" cy="216000"/>
            </a:xfrm>
            <a:custGeom>
              <a:avLst/>
              <a:gdLst>
                <a:gd name="textAreaLeft" fmla="*/ 342000 w 1368360"/>
                <a:gd name="textAreaRight" fmla="*/ 1026360 w 1368360"/>
                <a:gd name="textAreaTop" fmla="*/ 2700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20968800">
              <a:off x="4573080" y="4887720"/>
              <a:ext cx="792360" cy="36036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820800">
              <a:off x="3347640" y="4869000"/>
              <a:ext cx="792360" cy="36036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7122600">
              <a:off x="3275640" y="4509000"/>
              <a:ext cx="360360" cy="504720"/>
            </a:xfrm>
            <a:prstGeom prst="flowChartCollate">
              <a:avLst/>
            </a:prstGeom>
            <a:solidFill>
              <a:srgbClr val="f34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4077000">
              <a:off x="5075640" y="4580280"/>
              <a:ext cx="360360" cy="505080"/>
            </a:xfrm>
            <a:prstGeom prst="flowChartCollate">
              <a:avLst/>
            </a:prstGeom>
            <a:solidFill>
              <a:srgbClr val="f342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356000" y="4005360"/>
              <a:ext cx="144720" cy="9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924360" y="2565360"/>
              <a:ext cx="934920" cy="7192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000"/>
                            </p:stCondLst>
                            <p:childTnLst>
                              <p:par>
                                <p:cTn id="736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7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5000"/>
                            </p:stCondLst>
                            <p:childTnLst>
                              <p:par>
                                <p:cTn id="739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40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9000"/>
                            </p:stCondLst>
                            <p:childTnLst>
                              <p:par>
                                <p:cTn id="742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3" dur="5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1871640" cy="164160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7380360" y="3500280"/>
            <a:ext cx="1512720" cy="258948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3"/>
          <a:stretch/>
        </p:blipFill>
        <p:spPr>
          <a:xfrm>
            <a:off x="395280" y="1052640"/>
            <a:ext cx="1512720" cy="273672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4"/>
          <a:stretch/>
        </p:blipFill>
        <p:spPr>
          <a:xfrm>
            <a:off x="5364000" y="3789360"/>
            <a:ext cx="180036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afterEffect" fill="hold" presetClass="path" presetID="42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6 0.03149 L 0.36632 0.31088 E">
                                      <p:cBhvr>
                                        <p:cTn id="751" dur="2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6000"/>
                            </p:stCondLst>
                            <p:childTnLst>
                              <p:par>
                                <p:cTn id="7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6500"/>
                            </p:stCondLst>
                            <p:childTnLst>
                              <p:par>
                                <p:cTn id="7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path" presetID="64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44444E-006 L -0.38194 -0.2625 E">
                                      <p:cBhvr>
                                        <p:cTn id="765" dur="20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 rot="15967200">
            <a:off x="927360" y="2319480"/>
            <a:ext cx="2303640" cy="207324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 flipH="1" rot="6309600">
            <a:off x="6147000" y="1924200"/>
            <a:ext cx="2533680" cy="2373480"/>
          </a:xfrm>
          <a:prstGeom prst="rect">
            <a:avLst/>
          </a:prstGeom>
          <a:ln w="0">
            <a:noFill/>
          </a:ln>
        </p:spPr>
      </p:pic>
      <p:grpSp>
        <p:nvGrpSpPr>
          <p:cNvPr id="471" name=""/>
          <p:cNvGrpSpPr/>
          <p:nvPr/>
        </p:nvGrpSpPr>
        <p:grpSpPr>
          <a:xfrm>
            <a:off x="3276720" y="1844640"/>
            <a:ext cx="2665440" cy="4061880"/>
            <a:chOff x="3276720" y="1844640"/>
            <a:chExt cx="2665440" cy="4061880"/>
          </a:xfrm>
        </p:grpSpPr>
        <p:pic>
          <p:nvPicPr>
            <p:cNvPr id="472" name="" descr=""/>
            <p:cNvPicPr/>
            <p:nvPr/>
          </p:nvPicPr>
          <p:blipFill>
            <a:blip r:embed="rId3"/>
            <a:stretch/>
          </p:blipFill>
          <p:spPr>
            <a:xfrm>
              <a:off x="3276720" y="1844640"/>
              <a:ext cx="2665440" cy="25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 rot="10800000">
              <a:off x="4140360" y="4005000"/>
              <a:ext cx="1079280" cy="1439640"/>
            </a:xfrm>
            <a:custGeom>
              <a:avLst/>
              <a:gdLst>
                <a:gd name="textAreaLeft" fmla="*/ 237240 w 1079280"/>
                <a:gd name="textAreaRight" fmla="*/ 842040 w 1079280"/>
                <a:gd name="textAreaTop" fmla="*/ 316440 h 1439640"/>
                <a:gd name="textAreaBottom" fmla="*/ 11232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069200">
              <a:off x="3919320" y="5432400"/>
              <a:ext cx="798480" cy="360360"/>
            </a:xfrm>
            <a:prstGeom prst="flowChartManualInpu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 rot="20559600">
              <a:off x="4721040" y="5405400"/>
              <a:ext cx="792000" cy="360000"/>
            </a:xfrm>
            <a:prstGeom prst="flowChartManualInpu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572000" y="4221000"/>
              <a:ext cx="144360" cy="1447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4572000" y="4507920"/>
              <a:ext cx="144360" cy="14436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500720" y="4797360"/>
              <a:ext cx="287280" cy="2160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1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73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74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6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7000"/>
                            </p:stCondLst>
                            <p:childTnLst>
                              <p:par>
                                <p:cTn id="779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0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3780000" y="3141720"/>
            <a:ext cx="1622160" cy="187308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268360" y="1844640"/>
            <a:ext cx="1081440" cy="10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258920" y="4221000"/>
            <a:ext cx="1081080" cy="1008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04000" y="4149720"/>
            <a:ext cx="1081080" cy="10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067280" y="260280"/>
            <a:ext cx="1081080" cy="10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796000" y="1844640"/>
            <a:ext cx="1081080" cy="10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000"/>
                            </p:stCondLst>
                            <p:childTnLst>
                              <p:par>
                                <p:cTn id="79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2000"/>
                            </p:stCondLst>
                            <p:childTnLst>
                              <p:par>
                                <p:cTn id="79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4000"/>
                            </p:stCondLst>
                            <p:childTnLst>
                              <p:par>
                                <p:cTn id="80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5000"/>
                            </p:stCondLst>
                            <p:childTnLst>
                              <p:par>
                                <p:cTn id="81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1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500"/>
                            </p:stCondLst>
                            <p:childTnLst>
                              <p:par>
                                <p:cTn id="81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7" dur="5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6000"/>
                            </p:stCondLst>
                            <p:childTnLst>
                              <p:par>
                                <p:cTn id="82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6500"/>
                            </p:stCondLst>
                            <p:childTnLst>
                              <p:par>
                                <p:cTn id="82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9" dur="5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7000"/>
                            </p:stCondLst>
                            <p:childTnLst>
                              <p:par>
                                <p:cTn id="83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5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1019160" cy="190512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 flipH="1">
            <a:off x="7596000" y="1628640"/>
            <a:ext cx="1150920" cy="190512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 rot="8664000">
            <a:off x="214920" y="-3775320"/>
            <a:ext cx="10365120" cy="835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86" y="24"/>
                </a:moveTo>
                <a:arcTo wR="10800" hR="10800" stAng="-5627359" swAng="5468813"/>
                <a:lnTo>
                  <a:pt x="10800" y="10800"/>
                </a:lnTo>
                <a:close/>
              </a:path>
              <a:path fill="none" w="21600" h="21600">
                <a:moveTo>
                  <a:pt x="10086" y="24"/>
                </a:moveTo>
                <a:arcTo wR="10800" hR="10800" stAng="-5627359" swAng="5468813"/>
              </a:path>
            </a:pathLst>
          </a:custGeom>
          <a:noFill/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16" descr="j0213480"/>
          <p:cNvPicPr/>
          <p:nvPr/>
        </p:nvPicPr>
        <p:blipFill>
          <a:blip r:embed="rId3"/>
          <a:stretch/>
        </p:blipFill>
        <p:spPr>
          <a:xfrm rot="12029400">
            <a:off x="394920" y="3284280"/>
            <a:ext cx="1236600" cy="12952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6" descr="j0213480"/>
          <p:cNvPicPr/>
          <p:nvPr/>
        </p:nvPicPr>
        <p:blipFill>
          <a:blip r:embed="rId4"/>
          <a:stretch/>
        </p:blipFill>
        <p:spPr>
          <a:xfrm rot="9368400">
            <a:off x="7596000" y="3284640"/>
            <a:ext cx="1236600" cy="129528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5"/>
          <a:stretch/>
        </p:blipFill>
        <p:spPr>
          <a:xfrm rot="20340600">
            <a:off x="0" y="836280"/>
            <a:ext cx="4572000" cy="24768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6"/>
          <a:stretch/>
        </p:blipFill>
        <p:spPr>
          <a:xfrm rot="1589400">
            <a:off x="4571640" y="981000"/>
            <a:ext cx="4572000" cy="24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0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51 0.01852 L 0.18976 0.16991 C 0.23125 0.20417 0.2934 0.22384 0.35868 0.22384 C 0.43264 0.22384 0.49166 0.20417 0.53351 0.16991 L 0.73246 0.01852 E">
                                      <p:cBhvr>
                                        <p:cTn id="844" dur="2000" fill="hold"/>
                                        <p:tgtEl>
                                          <p:spTgt spid="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2000"/>
                            </p:stCondLst>
                            <p:childTnLst>
                              <p:par>
                                <p:cTn id="846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7153 0.0081 L -0.57188 0.17731 C -0.52986 0.21574 -0.46719 0.2375 -0.40191 0.2375 C -0.32743 0.2375 -0.26771 0.21574 -0.2257 0.17731 L -0.0257 0.0081 E">
                                      <p:cBhvr>
                                        <p:cTn id="847" dur="200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50920" y="189000"/>
            <a:ext cx="2881080" cy="718920"/>
          </a:xfrm>
          <a:prstGeom prst="rect">
            <a:avLst/>
          </a:prstGeom>
          <a:gradFill rotWithShape="0">
            <a:gsLst>
              <a:gs pos="0">
                <a:srgbClr val="93b7ff"/>
              </a:gs>
              <a:gs pos="50000">
                <a:srgbClr val="bbe0e3">
                  <a:alpha val="16078"/>
                </a:srgbClr>
              </a:gs>
              <a:gs pos="100000">
                <a:srgbClr val="93b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Повтор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6400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404640"/>
            <a:ext cx="1310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Установите соответ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акие неравенства соответствуют промежутка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276720" y="1773360"/>
            <a:ext cx="1942560" cy="736560"/>
            <a:chOff x="3276720" y="1773360"/>
            <a:chExt cx="1942560" cy="736560"/>
          </a:xfrm>
        </p:grpSpPr>
        <p:sp>
          <p:nvSpPr>
            <p:cNvPr id="90" name=""/>
            <p:cNvSpPr/>
            <p:nvPr/>
          </p:nvSpPr>
          <p:spPr>
            <a:xfrm>
              <a:off x="3276720" y="1773360"/>
              <a:ext cx="1942560" cy="71928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3500640" y="1773360"/>
                  <a:ext cx="149436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0</m:t>
                      </m:r>
                      <m:r>
                        <m:t xml:space="preserve">;</m:t>
                      </m:r>
                      <m:r>
                        <m:t xml:space="preserve">+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2" name=""/>
          <p:cNvGrpSpPr/>
          <p:nvPr/>
        </p:nvGrpSpPr>
        <p:grpSpPr>
          <a:xfrm>
            <a:off x="3348000" y="2781360"/>
            <a:ext cx="1871640" cy="736560"/>
            <a:chOff x="3348000" y="2781360"/>
            <a:chExt cx="1871640" cy="736560"/>
          </a:xfrm>
        </p:grpSpPr>
        <p:sp>
          <p:nvSpPr>
            <p:cNvPr id="93" name=""/>
            <p:cNvSpPr/>
            <p:nvPr/>
          </p:nvSpPr>
          <p:spPr>
            <a:xfrm>
              <a:off x="3348000" y="2781360"/>
              <a:ext cx="1871640" cy="71928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3522600" y="2781360"/>
                  <a:ext cx="152388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;</m:t>
                          </m:r>
                          <m:r>
                            <m:t xml:space="preserve">5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5" name=""/>
          <p:cNvGrpSpPr/>
          <p:nvPr/>
        </p:nvGrpSpPr>
        <p:grpSpPr>
          <a:xfrm>
            <a:off x="3348000" y="3716280"/>
            <a:ext cx="1871640" cy="736560"/>
            <a:chOff x="3348000" y="3716280"/>
            <a:chExt cx="1871640" cy="736560"/>
          </a:xfrm>
        </p:grpSpPr>
        <p:sp>
          <p:nvSpPr>
            <p:cNvPr id="96" name=""/>
            <p:cNvSpPr/>
            <p:nvPr/>
          </p:nvSpPr>
          <p:spPr>
            <a:xfrm>
              <a:off x="3348000" y="3716280"/>
              <a:ext cx="1871640" cy="71928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3605040" y="3716280"/>
                  <a:ext cx="135576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;</m:t>
                      </m:r>
                      <m:r>
                        <m:t xml:space="preserve">5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8" name=""/>
          <p:cNvGrpSpPr/>
          <p:nvPr/>
        </p:nvGrpSpPr>
        <p:grpSpPr>
          <a:xfrm>
            <a:off x="3348000" y="4653000"/>
            <a:ext cx="1871640" cy="736560"/>
            <a:chOff x="3348000" y="4653000"/>
            <a:chExt cx="1871640" cy="736560"/>
          </a:xfrm>
        </p:grpSpPr>
        <p:sp>
          <p:nvSpPr>
            <p:cNvPr id="99" name=""/>
            <p:cNvSpPr/>
            <p:nvPr/>
          </p:nvSpPr>
          <p:spPr>
            <a:xfrm>
              <a:off x="3348000" y="4653000"/>
              <a:ext cx="1871640" cy="71928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3375000" y="4653000"/>
                  <a:ext cx="182088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∞</m:t>
                      </m:r>
                      <m:r>
                        <m:t xml:space="preserve">;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1" name=""/>
          <p:cNvGrpSpPr/>
          <p:nvPr/>
        </p:nvGrpSpPr>
        <p:grpSpPr>
          <a:xfrm>
            <a:off x="6516720" y="3645000"/>
            <a:ext cx="2305080" cy="718920"/>
            <a:chOff x="6516720" y="3645000"/>
            <a:chExt cx="2305080" cy="718920"/>
          </a:xfrm>
        </p:grpSpPr>
        <p:sp>
          <p:nvSpPr>
            <p:cNvPr id="102" name=""/>
            <p:cNvSpPr/>
            <p:nvPr/>
          </p:nvSpPr>
          <p:spPr>
            <a:xfrm>
              <a:off x="6516720" y="3645000"/>
              <a:ext cx="2305080" cy="7189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c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7093080" y="3718080"/>
                  <a:ext cx="118584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4" name=""/>
          <p:cNvGrpSpPr/>
          <p:nvPr/>
        </p:nvGrpSpPr>
        <p:grpSpPr>
          <a:xfrm>
            <a:off x="6516720" y="4508640"/>
            <a:ext cx="2305080" cy="718920"/>
            <a:chOff x="6516720" y="4508640"/>
            <a:chExt cx="2305080" cy="718920"/>
          </a:xfrm>
        </p:grpSpPr>
        <p:sp>
          <p:nvSpPr>
            <p:cNvPr id="105" name=""/>
            <p:cNvSpPr/>
            <p:nvPr/>
          </p:nvSpPr>
          <p:spPr>
            <a:xfrm>
              <a:off x="6516720" y="4508640"/>
              <a:ext cx="2305080" cy="7189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c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7093080" y="4579920"/>
                  <a:ext cx="114444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&lt;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7" name=""/>
          <p:cNvGrpSpPr/>
          <p:nvPr/>
        </p:nvGrpSpPr>
        <p:grpSpPr>
          <a:xfrm>
            <a:off x="6516720" y="1628640"/>
            <a:ext cx="2305080" cy="719280"/>
            <a:chOff x="6516720" y="1628640"/>
            <a:chExt cx="2305080" cy="719280"/>
          </a:xfrm>
        </p:grpSpPr>
        <p:sp>
          <p:nvSpPr>
            <p:cNvPr id="108" name=""/>
            <p:cNvSpPr/>
            <p:nvPr/>
          </p:nvSpPr>
          <p:spPr>
            <a:xfrm>
              <a:off x="6516720" y="1628640"/>
              <a:ext cx="2305080" cy="719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c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6516720" y="1700280"/>
                  <a:ext cx="224496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≤</m:t>
                      </m:r>
                      <m:r>
                        <m:t xml:space="preserve">х</m:t>
                      </m:r>
                      <m:r>
                        <m:t xml:space="preserve">&lt;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0" name=""/>
          <p:cNvGrpSpPr/>
          <p:nvPr/>
        </p:nvGrpSpPr>
        <p:grpSpPr>
          <a:xfrm>
            <a:off x="6588000" y="2708280"/>
            <a:ext cx="2305080" cy="719280"/>
            <a:chOff x="6588000" y="2708280"/>
            <a:chExt cx="2305080" cy="719280"/>
          </a:xfrm>
        </p:grpSpPr>
        <p:sp>
          <p:nvSpPr>
            <p:cNvPr id="111" name=""/>
            <p:cNvSpPr/>
            <p:nvPr/>
          </p:nvSpPr>
          <p:spPr>
            <a:xfrm>
              <a:off x="6588000" y="2708280"/>
              <a:ext cx="2305080" cy="719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c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6989760" y="2779920"/>
                  <a:ext cx="144000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≤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58160" y="1844640"/>
            <a:ext cx="6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29440" y="285264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2880" y="37162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00360" y="4653000"/>
            <a:ext cx="53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3800" y="17002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86520" y="27082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13800" y="38606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86520" y="46004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908000" y="5823000"/>
          <a:ext cx="6923160" cy="1035000"/>
        </p:xfrm>
        <a:graphic>
          <a:graphicData uri="http://schemas.openxmlformats.org/drawingml/2006/table">
            <a:tbl>
              <a:tblPr/>
              <a:tblGrid>
                <a:gridCol w="1730520"/>
                <a:gridCol w="1731960"/>
                <a:gridCol w="1730520"/>
                <a:gridCol w="1730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908000" y="5823000"/>
          <a:ext cx="6923160" cy="1035000"/>
        </p:xfrm>
        <a:graphic>
          <a:graphicData uri="http://schemas.openxmlformats.org/drawingml/2006/table">
            <a:tbl>
              <a:tblPr/>
              <a:tblGrid>
                <a:gridCol w="1730520"/>
                <a:gridCol w="1731960"/>
                <a:gridCol w="1730520"/>
                <a:gridCol w="1730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5724360" y="1125360"/>
            <a:ext cx="1368720" cy="107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124000" y="1125360"/>
            <a:ext cx="1440000" cy="115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195640" y="4724280"/>
            <a:ext cx="1439640" cy="1150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4716360" y="4292640"/>
            <a:ext cx="3889080" cy="1886040"/>
            <a:chOff x="4716360" y="4292640"/>
            <a:chExt cx="3889080" cy="1886040"/>
          </a:xfrm>
        </p:grpSpPr>
        <p:pic>
          <p:nvPicPr>
            <p:cNvPr id="496" name="" descr=""/>
            <p:cNvPicPr/>
            <p:nvPr/>
          </p:nvPicPr>
          <p:blipFill>
            <a:blip r:embed="rId1"/>
            <a:stretch/>
          </p:blipFill>
          <p:spPr>
            <a:xfrm>
              <a:off x="4716360" y="4292640"/>
              <a:ext cx="2190960" cy="18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" descr=""/>
            <p:cNvPicPr/>
            <p:nvPr/>
          </p:nvPicPr>
          <p:blipFill>
            <a:blip r:embed="rId2"/>
            <a:stretch/>
          </p:blipFill>
          <p:spPr>
            <a:xfrm flipH="1">
              <a:off x="6300360" y="4292640"/>
              <a:ext cx="2305080" cy="1886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0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67345E-006 L 0.39375 2.67345E-006 E">
                                      <p:cBhvr>
                                        <p:cTn id="853" dur="2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33333E-006 L -0.37795 0.525 E">
                                      <p:cBhvr>
                                        <p:cTn id="856" dur="2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4000"/>
                            </p:stCondLst>
                            <p:childTnLst>
                              <p:par>
                                <p:cTn id="85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6725E-006 L -0.00781 -0.52428 E">
                                      <p:cBhvr>
                                        <p:cTn id="859" dur="2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6000"/>
                            </p:stCondLst>
                            <p:childTnLst>
                              <p:par>
                                <p:cTn id="86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33333E-006 L 0.00764 0.51389 E">
                                      <p:cBhvr>
                                        <p:cTn id="862" dur="2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8000"/>
                            </p:stCondLst>
                            <p:childTnLst>
                              <p:par>
                                <p:cTn id="86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8 0.00023 L 0.38594 -0.5243 E">
                                      <p:cBhvr>
                                        <p:cTn id="865" dur="2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6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33333E-006 L -0.37796 3.33333E-006 E">
                                      <p:cBhvr>
                                        <p:cTn id="868" dur="2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 flipH="1">
            <a:off x="6011280" y="6021360"/>
            <a:ext cx="1584360" cy="64764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5400000">
            <a:off x="7488360" y="1232640"/>
            <a:ext cx="1440000" cy="64764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rot="5400000">
            <a:off x="7560000" y="5480640"/>
            <a:ext cx="1440000" cy="64764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10800000">
            <a:off x="2195280" y="5013000"/>
            <a:ext cx="1439640" cy="647640"/>
          </a:xfrm>
          <a:custGeom>
            <a:avLst/>
            <a:gdLst>
              <a:gd name="textAreaLeft" fmla="*/ 180000 w 1439640"/>
              <a:gd name="textAreaRight" fmla="*/ 1260000 w 143964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rot="5400000">
            <a:off x="7560360" y="3393360"/>
            <a:ext cx="1439640" cy="647640"/>
          </a:xfrm>
          <a:custGeom>
            <a:avLst/>
            <a:gdLst>
              <a:gd name="textAreaLeft" fmla="*/ 180000 w 1439640"/>
              <a:gd name="textAreaRight" fmla="*/ 1260000 w 143964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1115280" y="5950080"/>
            <a:ext cx="1584360" cy="64764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3634560" y="6021360"/>
            <a:ext cx="1584360" cy="64764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4787280" y="5013360"/>
            <a:ext cx="1584360" cy="64764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 rot="5400000">
            <a:off x="-145080" y="4401720"/>
            <a:ext cx="1584360" cy="64764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 rot="10800000">
            <a:off x="1402200" y="188640"/>
            <a:ext cx="1584360" cy="64764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 rot="5400000">
            <a:off x="-218160" y="2601720"/>
            <a:ext cx="1584360" cy="64764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 rot="5400000">
            <a:off x="-218160" y="801360"/>
            <a:ext cx="1584360" cy="64764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 rot="16200000">
            <a:off x="6550560" y="4402080"/>
            <a:ext cx="1584360" cy="64764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 rot="16200000">
            <a:off x="6623640" y="2097000"/>
            <a:ext cx="1584360" cy="64764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 rot="10800000">
            <a:off x="3994560" y="188640"/>
            <a:ext cx="1584360" cy="64764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 rot="10800000">
            <a:off x="6155280" y="188640"/>
            <a:ext cx="1584360" cy="64764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 rot="5400000">
            <a:off x="933840" y="1449000"/>
            <a:ext cx="1584360" cy="64764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 rot="5400000">
            <a:off x="862560" y="3536640"/>
            <a:ext cx="1584360" cy="64764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 rot="10800000">
            <a:off x="5075640" y="1125360"/>
            <a:ext cx="1584360" cy="64800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162000 h 648000"/>
              <a:gd name="textAreaBottom" fmla="*/ 486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H="1" rot="10800000">
            <a:off x="2915280" y="1052280"/>
            <a:ext cx="1584360" cy="64764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 rot="1200">
            <a:off x="4067280" y="3212640"/>
            <a:ext cx="1584360" cy="64764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 rot="16200000">
            <a:off x="5686920" y="3105000"/>
            <a:ext cx="1584000" cy="647640"/>
          </a:xfrm>
          <a:custGeom>
            <a:avLst/>
            <a:gdLst>
              <a:gd name="textAreaLeft" fmla="*/ 198000 w 1584000"/>
              <a:gd name="textAreaRight" fmla="*/ 1386000 w 158400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rot="10800000">
            <a:off x="3563640" y="4436640"/>
            <a:ext cx="1439640" cy="647640"/>
          </a:xfrm>
          <a:custGeom>
            <a:avLst/>
            <a:gdLst>
              <a:gd name="textAreaLeft" fmla="*/ 180000 w 1439640"/>
              <a:gd name="textAreaRight" fmla="*/ 1260000 w 143964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 rot="5400000">
            <a:off x="1942920" y="2672640"/>
            <a:ext cx="1584360" cy="648000"/>
          </a:xfrm>
          <a:custGeom>
            <a:avLst/>
            <a:gdLst>
              <a:gd name="textAreaLeft" fmla="*/ 198000 w 1584360"/>
              <a:gd name="textAreaRight" fmla="*/ 1386360 w 1584360"/>
              <a:gd name="textAreaTop" fmla="*/ 162000 h 648000"/>
              <a:gd name="textAreaBottom" fmla="*/ 486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 rot="10800000">
            <a:off x="3780000" y="2133360"/>
            <a:ext cx="1584000" cy="647640"/>
          </a:xfrm>
          <a:custGeom>
            <a:avLst/>
            <a:gdLst>
              <a:gd name="textAreaLeft" fmla="*/ 198000 w 1584000"/>
              <a:gd name="textAreaRight" fmla="*/ 1386000 w 158400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rcRect l="0" t="0" r="0" b="6352"/>
          <a:stretch/>
        </p:blipFill>
        <p:spPr>
          <a:xfrm>
            <a:off x="2268360" y="765000"/>
            <a:ext cx="4608720" cy="364176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2556000" y="2133720"/>
            <a:ext cx="40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2987640" y="2276640"/>
            <a:ext cx="3241800" cy="89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Молодцы!</a:t>
            </a:r>
            <a:endParaRPr b="1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0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500"/>
                            </p:stCondLst>
                            <p:childTnLst>
                              <p:par>
                                <p:cTn id="8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8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1500"/>
                            </p:stCondLst>
                            <p:childTnLst>
                              <p:par>
                                <p:cTn id="89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9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2000"/>
                            </p:stCondLst>
                            <p:childTnLst>
                              <p:par>
                                <p:cTn id="89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9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0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3000"/>
                            </p:stCondLst>
                            <p:childTnLst>
                              <p:par>
                                <p:cTn id="9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3500"/>
                            </p:stCondLst>
                            <p:childTnLst>
                              <p:par>
                                <p:cTn id="9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4500"/>
                            </p:stCondLst>
                            <p:childTnLst>
                              <p:par>
                                <p:cTn id="91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1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0"/>
                            </p:stCondLst>
                            <p:childTnLst>
                              <p:par>
                                <p:cTn id="91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500"/>
                            </p:stCondLst>
                            <p:childTnLst>
                              <p:par>
                                <p:cTn id="92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6000"/>
                            </p:stCondLst>
                            <p:childTnLst>
                              <p:par>
                                <p:cTn id="9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6500"/>
                            </p:stCondLst>
                            <p:childTnLst>
                              <p:par>
                                <p:cTn id="9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7000"/>
                            </p:stCondLst>
                            <p:childTnLst>
                              <p:par>
                                <p:cTn id="93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3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7500"/>
                            </p:stCondLst>
                            <p:childTnLst>
                              <p:par>
                                <p:cTn id="93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4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8000"/>
                            </p:stCondLst>
                            <p:childTnLst>
                              <p:par>
                                <p:cTn id="9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8500"/>
                            </p:stCondLst>
                            <p:childTnLst>
                              <p:par>
                                <p:cTn id="9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9000"/>
                            </p:stCondLst>
                            <p:childTnLst>
                              <p:par>
                                <p:cTn id="95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9500"/>
                            </p:stCondLst>
                            <p:childTnLst>
                              <p:par>
                                <p:cTn id="9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95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96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6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9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11500"/>
                            </p:stCondLst>
                            <p:childTnLst>
                              <p:par>
                                <p:cTn id="9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7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7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2500"/>
                            </p:stCondLst>
                            <p:childTnLst>
                              <p:par>
                                <p:cTn id="979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17500"/>
                            </p:stCondLst>
                            <p:childTnLst>
                              <p:par>
                                <p:cTn id="9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9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4067280" y="1484280"/>
            <a:ext cx="2104920" cy="367344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1979640" y="2781360"/>
            <a:ext cx="1224000" cy="244800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3"/>
          <a:stretch/>
        </p:blipFill>
        <p:spPr>
          <a:xfrm>
            <a:off x="179280" y="476280"/>
            <a:ext cx="2076480" cy="35244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4"/>
          <a:stretch/>
        </p:blipFill>
        <p:spPr>
          <a:xfrm>
            <a:off x="5435640" y="1052640"/>
            <a:ext cx="1428840" cy="35244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5"/>
          <a:stretch/>
        </p:blipFill>
        <p:spPr>
          <a:xfrm>
            <a:off x="2195640" y="1039680"/>
            <a:ext cx="1573200" cy="36540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6"/>
          <a:stretch/>
        </p:blipFill>
        <p:spPr>
          <a:xfrm>
            <a:off x="2411280" y="476280"/>
            <a:ext cx="2076480" cy="35244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7"/>
          <a:stretch/>
        </p:blipFill>
        <p:spPr>
          <a:xfrm>
            <a:off x="4572000" y="549360"/>
            <a:ext cx="2076480" cy="35244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8"/>
          <a:stretch/>
        </p:blipFill>
        <p:spPr>
          <a:xfrm>
            <a:off x="6804000" y="549360"/>
            <a:ext cx="2076480" cy="35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0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0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1" dur="5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1800000" cy="338292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Новогодний подарок «Чумовая собака»"/>
          <p:cNvPicPr/>
          <p:nvPr/>
        </p:nvPicPr>
        <p:blipFill>
          <a:blip r:embed="rId2"/>
          <a:stretch/>
        </p:blipFill>
        <p:spPr>
          <a:xfrm>
            <a:off x="4660920" y="2060640"/>
            <a:ext cx="1009800" cy="148572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Новогодний подарок «Чумовая собака»"/>
          <p:cNvPicPr/>
          <p:nvPr/>
        </p:nvPicPr>
        <p:blipFill>
          <a:blip r:embed="rId3"/>
          <a:stretch/>
        </p:blipFill>
        <p:spPr>
          <a:xfrm flipH="1">
            <a:off x="5651640" y="1052640"/>
            <a:ext cx="1225440" cy="216036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Новогодний подарок «Чумовая собака»"/>
          <p:cNvPicPr/>
          <p:nvPr/>
        </p:nvPicPr>
        <p:blipFill>
          <a:blip r:embed="rId4"/>
          <a:stretch/>
        </p:blipFill>
        <p:spPr>
          <a:xfrm flipH="1">
            <a:off x="6876720" y="2205000"/>
            <a:ext cx="647640" cy="981000"/>
          </a:xfrm>
          <a:prstGeom prst="rect">
            <a:avLst/>
          </a:prstGeom>
          <a:ln w="0">
            <a:noFill/>
          </a:ln>
        </p:spPr>
      </p:pic>
      <p:grpSp>
        <p:nvGrpSpPr>
          <p:cNvPr id="538" name=""/>
          <p:cNvGrpSpPr/>
          <p:nvPr/>
        </p:nvGrpSpPr>
        <p:grpSpPr>
          <a:xfrm>
            <a:off x="-4608360" y="5229360"/>
            <a:ext cx="4608360" cy="759240"/>
            <a:chOff x="-4608360" y="5229360"/>
            <a:chExt cx="4608360" cy="759240"/>
          </a:xfrm>
        </p:grpSpPr>
        <p:pic>
          <p:nvPicPr>
            <p:cNvPr id="539" name="" descr=""/>
            <p:cNvPicPr/>
            <p:nvPr/>
          </p:nvPicPr>
          <p:blipFill>
            <a:blip r:embed="rId5"/>
            <a:stretch/>
          </p:blipFill>
          <p:spPr>
            <a:xfrm>
              <a:off x="-4103640" y="5229360"/>
              <a:ext cx="38088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-4608360" y="5589720"/>
              <a:ext cx="46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Arial"/>
                </a:rPr>
                <a:t>Ребята, берегите здоровье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0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withEffect" fill="hold" presetClass="entr" presetID="7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250920" y="189000"/>
            <a:ext cx="4968720" cy="718920"/>
          </a:xfrm>
          <a:prstGeom prst="rect">
            <a:avLst/>
          </a:prstGeom>
          <a:gradFill rotWithShape="0">
            <a:gsLst>
              <a:gs pos="0">
                <a:srgbClr val="93b7ff"/>
              </a:gs>
              <a:gs pos="50000">
                <a:srgbClr val="bbe0e3">
                  <a:alpha val="16078"/>
                </a:srgbClr>
              </a:gs>
              <a:gs pos="100000">
                <a:srgbClr val="93b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Решаем неравен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83664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-181080" y="4149720"/>
            <a:ext cx="2167200" cy="2708280"/>
          </a:xfrm>
          <a:prstGeom prst="rect">
            <a:avLst/>
          </a:prstGeom>
          <a:ln w="0">
            <a:noFill/>
          </a:ln>
        </p:spPr>
      </p:pic>
      <p:grpSp>
        <p:nvGrpSpPr>
          <p:cNvPr id="544" name=""/>
          <p:cNvGrpSpPr/>
          <p:nvPr/>
        </p:nvGrpSpPr>
        <p:grpSpPr>
          <a:xfrm>
            <a:off x="2627280" y="981000"/>
            <a:ext cx="4314960" cy="719280"/>
            <a:chOff x="2627280" y="981000"/>
            <a:chExt cx="4314960" cy="719280"/>
          </a:xfrm>
        </p:grpSpPr>
        <p:sp>
          <p:nvSpPr>
            <p:cNvPr id="545" name=""/>
            <p:cNvSpPr/>
            <p:nvPr/>
          </p:nvSpPr>
          <p:spPr>
            <a:xfrm>
              <a:off x="3277440" y="981000"/>
              <a:ext cx="314676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6" name=""/>
                <p:cNvSpPr txBox="1"/>
                <p:nvPr/>
              </p:nvSpPr>
              <p:spPr>
                <a:xfrm>
                  <a:off x="2627280" y="981000"/>
                  <a:ext cx="4314960" cy="71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≤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47" name=""/>
          <p:cNvSpPr/>
          <p:nvPr/>
        </p:nvSpPr>
        <p:spPr>
          <a:xfrm>
            <a:off x="4643280" y="1628640"/>
            <a:ext cx="216000" cy="505080"/>
          </a:xfrm>
          <a:prstGeom prst="upDownArrow">
            <a:avLst>
              <a:gd name="adj1" fmla="val 50000"/>
              <a:gd name="adj2" fmla="val 46550"/>
            </a:avLst>
          </a:prstGeom>
          <a:gradFill rotWithShape="0">
            <a:gsLst>
              <a:gs pos="0">
                <a:srgbClr val="fefefe"/>
              </a:gs>
              <a:gs pos="50000">
                <a:srgbClr val="0000ff"/>
              </a:gs>
              <a:gs pos="100000">
                <a:srgbClr val="fefefe"/>
              </a:gs>
            </a:gsLst>
            <a:lin ang="108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2340000" y="2060640"/>
            <a:ext cx="4670280" cy="718920"/>
            <a:chOff x="2340000" y="2060640"/>
            <a:chExt cx="4670280" cy="718920"/>
          </a:xfrm>
        </p:grpSpPr>
        <p:sp>
          <p:nvSpPr>
            <p:cNvPr id="549" name=""/>
            <p:cNvSpPr/>
            <p:nvPr/>
          </p:nvSpPr>
          <p:spPr>
            <a:xfrm>
              <a:off x="3166560" y="2060640"/>
              <a:ext cx="31471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0" name=""/>
                <p:cNvSpPr txBox="1"/>
                <p:nvPr/>
              </p:nvSpPr>
              <p:spPr>
                <a:xfrm>
                  <a:off x="2340000" y="2060640"/>
                  <a:ext cx="4670280" cy="71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−</m:t>
                      </m:r>
                      <m:r>
                        <m:t xml:space="preserve">7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51" name=""/>
          <p:cNvSpPr/>
          <p:nvPr/>
        </p:nvSpPr>
        <p:spPr>
          <a:xfrm>
            <a:off x="4643280" y="2708280"/>
            <a:ext cx="216000" cy="504720"/>
          </a:xfrm>
          <a:prstGeom prst="upDownArrow">
            <a:avLst>
              <a:gd name="adj1" fmla="val 50000"/>
              <a:gd name="adj2" fmla="val 46517"/>
            </a:avLst>
          </a:prstGeom>
          <a:gradFill rotWithShape="0">
            <a:gsLst>
              <a:gs pos="0">
                <a:srgbClr val="fefefe"/>
              </a:gs>
              <a:gs pos="50000">
                <a:srgbClr val="0000ff"/>
              </a:gs>
              <a:gs pos="100000">
                <a:srgbClr val="fefefe"/>
              </a:gs>
            </a:gsLst>
            <a:lin ang="108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3348000" y="3141720"/>
            <a:ext cx="3146400" cy="718920"/>
            <a:chOff x="3348000" y="3141720"/>
            <a:chExt cx="3146400" cy="718920"/>
          </a:xfrm>
        </p:grpSpPr>
        <p:sp>
          <p:nvSpPr>
            <p:cNvPr id="553" name=""/>
            <p:cNvSpPr/>
            <p:nvPr/>
          </p:nvSpPr>
          <p:spPr>
            <a:xfrm>
              <a:off x="3348000" y="3141720"/>
              <a:ext cx="314640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4" name=""/>
                <p:cNvSpPr txBox="1"/>
                <p:nvPr/>
              </p:nvSpPr>
              <p:spPr>
                <a:xfrm>
                  <a:off x="3674160" y="3141720"/>
                  <a:ext cx="2363400" cy="71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−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55" name=""/>
          <p:cNvSpPr/>
          <p:nvPr/>
        </p:nvSpPr>
        <p:spPr>
          <a:xfrm>
            <a:off x="4643280" y="3789360"/>
            <a:ext cx="216000" cy="504720"/>
          </a:xfrm>
          <a:prstGeom prst="upDownArrow">
            <a:avLst>
              <a:gd name="adj1" fmla="val 50000"/>
              <a:gd name="adj2" fmla="val 46517"/>
            </a:avLst>
          </a:prstGeom>
          <a:gradFill rotWithShape="0">
            <a:gsLst>
              <a:gs pos="0">
                <a:srgbClr val="fefefe"/>
              </a:gs>
              <a:gs pos="50000">
                <a:srgbClr val="0000ff"/>
              </a:gs>
              <a:gs pos="100000">
                <a:srgbClr val="fefefe"/>
              </a:gs>
            </a:gsLst>
            <a:lin ang="108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3492360" y="4149720"/>
            <a:ext cx="3146400" cy="719280"/>
            <a:chOff x="3492360" y="4149720"/>
            <a:chExt cx="3146400" cy="719280"/>
          </a:xfrm>
        </p:grpSpPr>
        <p:sp>
          <p:nvSpPr>
            <p:cNvPr id="557" name=""/>
            <p:cNvSpPr/>
            <p:nvPr/>
          </p:nvSpPr>
          <p:spPr>
            <a:xfrm>
              <a:off x="3492360" y="4149720"/>
              <a:ext cx="31464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8" name=""/>
                <p:cNvSpPr txBox="1"/>
                <p:nvPr/>
              </p:nvSpPr>
              <p:spPr>
                <a:xfrm>
                  <a:off x="3994920" y="4149720"/>
                  <a:ext cx="2008080" cy="71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59" name=""/>
          <p:cNvSpPr/>
          <p:nvPr/>
        </p:nvSpPr>
        <p:spPr>
          <a:xfrm>
            <a:off x="3203640" y="5157720"/>
            <a:ext cx="3959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651640" y="5086440"/>
            <a:ext cx="144360" cy="14436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435640" y="5157720"/>
            <a:ext cx="52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203640" y="5013360"/>
            <a:ext cx="2520720" cy="0"/>
          </a:xfrm>
          <a:prstGeom prst="line">
            <a:avLst/>
          </a:prstGeom>
          <a:ln w="152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732000" y="5086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4643280" y="5805360"/>
            <a:ext cx="3888000" cy="806400"/>
            <a:chOff x="4643280" y="5805360"/>
            <a:chExt cx="3888000" cy="806400"/>
          </a:xfrm>
        </p:grpSpPr>
        <p:sp>
          <p:nvSpPr>
            <p:cNvPr id="565" name=""/>
            <p:cNvSpPr/>
            <p:nvPr/>
          </p:nvSpPr>
          <p:spPr>
            <a:xfrm>
              <a:off x="4643280" y="5805360"/>
              <a:ext cx="3888000" cy="7905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99"/>
                  </a:solidFill>
                  <a:latin typeface="Times New Roman"/>
                </a:rPr>
                <a:t>Ответ: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6" name=""/>
                <p:cNvSpPr txBox="1"/>
                <p:nvPr/>
              </p:nvSpPr>
              <p:spPr>
                <a:xfrm>
                  <a:off x="6443640" y="5876640"/>
                  <a:ext cx="200340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∞</m:t>
                      </m:r>
                      <m:r>
                        <m:t xml:space="preserve">;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0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1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7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42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53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6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8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5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75040" cy="242100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3995640" y="189000"/>
            <a:ext cx="4969080" cy="718920"/>
          </a:xfrm>
          <a:prstGeom prst="rect">
            <a:avLst/>
          </a:prstGeom>
          <a:gradFill rotWithShape="0">
            <a:gsLst>
              <a:gs pos="0">
                <a:srgbClr val="93b7ff"/>
              </a:gs>
              <a:gs pos="50000">
                <a:srgbClr val="bbe0e3">
                  <a:alpha val="16078"/>
                </a:srgbClr>
              </a:gs>
              <a:gs pos="100000">
                <a:srgbClr val="93b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Решаем неравен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916360" y="105264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Запишите ответ в виде интерв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1547640" y="2781360"/>
            <a:ext cx="3456000" cy="718920"/>
            <a:chOff x="1547640" y="2781360"/>
            <a:chExt cx="3456000" cy="718920"/>
          </a:xfrm>
        </p:grpSpPr>
        <p:sp>
          <p:nvSpPr>
            <p:cNvPr id="571" name=""/>
            <p:cNvSpPr/>
            <p:nvPr/>
          </p:nvSpPr>
          <p:spPr>
            <a:xfrm>
              <a:off x="1547640" y="2781360"/>
              <a:ext cx="3456000" cy="7189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2" name=""/>
                <p:cNvSpPr txBox="1"/>
                <p:nvPr/>
              </p:nvSpPr>
              <p:spPr>
                <a:xfrm>
                  <a:off x="1908000" y="2852640"/>
                  <a:ext cx="273672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5</m:t>
                      </m:r>
                      <m:r>
                        <m:t xml:space="preserve">&gt;</m:t>
                      </m:r>
                      <m:r>
                        <m:t xml:space="preserve">7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3" name=""/>
          <p:cNvGrpSpPr/>
          <p:nvPr/>
        </p:nvGrpSpPr>
        <p:grpSpPr>
          <a:xfrm>
            <a:off x="1547640" y="3933720"/>
            <a:ext cx="3456000" cy="718920"/>
            <a:chOff x="1547640" y="3933720"/>
            <a:chExt cx="3456000" cy="718920"/>
          </a:xfrm>
        </p:grpSpPr>
        <p:sp>
          <p:nvSpPr>
            <p:cNvPr id="574" name=""/>
            <p:cNvSpPr/>
            <p:nvPr/>
          </p:nvSpPr>
          <p:spPr>
            <a:xfrm>
              <a:off x="1547640" y="3933720"/>
              <a:ext cx="3456000" cy="7189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5" name=""/>
                <p:cNvSpPr txBox="1"/>
                <p:nvPr/>
              </p:nvSpPr>
              <p:spPr>
                <a:xfrm>
                  <a:off x="1806480" y="4005000"/>
                  <a:ext cx="294012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+</m:t>
                      </m:r>
                      <m:r>
                        <m:t xml:space="preserve">9</m:t>
                      </m:r>
                      <m:r>
                        <m:t xml:space="preserve">х</m:t>
                      </m:r>
                      <m:r>
                        <m:t xml:space="preserve">≤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6" name=""/>
          <p:cNvGrpSpPr/>
          <p:nvPr/>
        </p:nvGrpSpPr>
        <p:grpSpPr>
          <a:xfrm>
            <a:off x="1547640" y="5084640"/>
            <a:ext cx="3456000" cy="718920"/>
            <a:chOff x="1547640" y="5084640"/>
            <a:chExt cx="3456000" cy="718920"/>
          </a:xfrm>
        </p:grpSpPr>
        <p:sp>
          <p:nvSpPr>
            <p:cNvPr id="577" name=""/>
            <p:cNvSpPr/>
            <p:nvPr/>
          </p:nvSpPr>
          <p:spPr>
            <a:xfrm>
              <a:off x="1547640" y="5084640"/>
              <a:ext cx="3456000" cy="71892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8" name=""/>
                <p:cNvSpPr txBox="1"/>
                <p:nvPr/>
              </p:nvSpPr>
              <p:spPr>
                <a:xfrm>
                  <a:off x="1806480" y="5155920"/>
                  <a:ext cx="294012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&lt;</m:t>
                      </m:r>
                      <m:r>
                        <m:t xml:space="preserve">9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9" name=""/>
          <p:cNvGrpSpPr/>
          <p:nvPr/>
        </p:nvGrpSpPr>
        <p:grpSpPr>
          <a:xfrm>
            <a:off x="5867280" y="2781360"/>
            <a:ext cx="2016000" cy="744480"/>
            <a:chOff x="5867280" y="2781360"/>
            <a:chExt cx="2016000" cy="744480"/>
          </a:xfrm>
        </p:grpSpPr>
        <p:sp>
          <p:nvSpPr>
            <p:cNvPr id="580" name=""/>
            <p:cNvSpPr/>
            <p:nvPr/>
          </p:nvSpPr>
          <p:spPr>
            <a:xfrm>
              <a:off x="5867280" y="2781360"/>
              <a:ext cx="2016000" cy="7189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c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1" name=""/>
                <p:cNvSpPr txBox="1"/>
                <p:nvPr/>
              </p:nvSpPr>
              <p:spPr>
                <a:xfrm>
                  <a:off x="6092640" y="2789280"/>
                  <a:ext cx="156852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;</m:t>
                          </m:r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2" name=""/>
          <p:cNvGrpSpPr/>
          <p:nvPr/>
        </p:nvGrpSpPr>
        <p:grpSpPr>
          <a:xfrm>
            <a:off x="5867280" y="3933720"/>
            <a:ext cx="2016000" cy="744480"/>
            <a:chOff x="5867280" y="3933720"/>
            <a:chExt cx="2016000" cy="744480"/>
          </a:xfrm>
        </p:grpSpPr>
        <p:sp>
          <p:nvSpPr>
            <p:cNvPr id="583" name=""/>
            <p:cNvSpPr/>
            <p:nvPr/>
          </p:nvSpPr>
          <p:spPr>
            <a:xfrm>
              <a:off x="5867280" y="3933720"/>
              <a:ext cx="2016000" cy="7189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c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4" name=""/>
                <p:cNvSpPr txBox="1"/>
                <p:nvPr/>
              </p:nvSpPr>
              <p:spPr>
                <a:xfrm>
                  <a:off x="5984640" y="3941640"/>
                  <a:ext cx="178128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∞</m:t>
                      </m:r>
                      <m:r>
                        <m:t xml:space="preserve">;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5" name=""/>
          <p:cNvGrpSpPr/>
          <p:nvPr/>
        </p:nvGrpSpPr>
        <p:grpSpPr>
          <a:xfrm>
            <a:off x="5867280" y="5084640"/>
            <a:ext cx="2016000" cy="744480"/>
            <a:chOff x="5867280" y="5084640"/>
            <a:chExt cx="2016000" cy="744480"/>
          </a:xfrm>
        </p:grpSpPr>
        <p:sp>
          <p:nvSpPr>
            <p:cNvPr id="586" name=""/>
            <p:cNvSpPr/>
            <p:nvPr/>
          </p:nvSpPr>
          <p:spPr>
            <a:xfrm>
              <a:off x="5867280" y="5084640"/>
              <a:ext cx="2016000" cy="7189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c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7" name=""/>
                <p:cNvSpPr txBox="1"/>
                <p:nvPr/>
              </p:nvSpPr>
              <p:spPr>
                <a:xfrm>
                  <a:off x="6134040" y="5092560"/>
                  <a:ext cx="148284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5</m:t>
                          </m:r>
                          <m:r>
                            <m:t xml:space="preserve">;</m:t>
                          </m:r>
                          <m:r>
                            <m:t xml:space="preserve">+</m:t>
                          </m:r>
                          <m:r>
                            <m:t xml:space="preserve">∞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0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2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4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160"/>
                            </p:stCondLst>
                            <p:childTnLst>
                              <p:par>
                                <p:cTn id="11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8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1119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5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6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1127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3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4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1135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1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75040" cy="242100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3995640" y="189000"/>
            <a:ext cx="4969080" cy="718920"/>
          </a:xfrm>
          <a:prstGeom prst="rect">
            <a:avLst/>
          </a:prstGeom>
          <a:gradFill rotWithShape="0">
            <a:gsLst>
              <a:gs pos="0">
                <a:srgbClr val="93b7ff"/>
              </a:gs>
              <a:gs pos="50000">
                <a:srgbClr val="bbe0e3">
                  <a:alpha val="16078"/>
                </a:srgbClr>
              </a:gs>
              <a:gs pos="100000">
                <a:srgbClr val="93b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Решаем неравен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268360" y="1197000"/>
            <a:ext cx="604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    №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83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    №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83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835280" y="3573360"/>
            <a:ext cx="5113080" cy="1800360"/>
          </a:xfrm>
          <a:prstGeom prst="rect">
            <a:avLst/>
          </a:prstGeom>
          <a:gradFill rotWithShape="0">
            <a:gsLst>
              <a:gs pos="0">
                <a:srgbClr val="93b7ff"/>
              </a:gs>
              <a:gs pos="50000">
                <a:srgbClr val="bbe0e3">
                  <a:alpha val="16078"/>
                </a:srgbClr>
              </a:gs>
              <a:gs pos="100000">
                <a:srgbClr val="93b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Задание на д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№</a:t>
            </a: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836  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I </a:t>
            </a: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уров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№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842</a:t>
            </a: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 II </a:t>
            </a: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уров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835280" y="5661000"/>
            <a:ext cx="5184720" cy="1008000"/>
          </a:xfrm>
          <a:prstGeom prst="rect">
            <a:avLst/>
          </a:prstGeom>
          <a:gradFill rotWithShape="0">
            <a:gsLst>
              <a:gs pos="0">
                <a:srgbClr val="93b7ff"/>
              </a:gs>
              <a:gs pos="50000">
                <a:srgbClr val="bbe0e3">
                  <a:alpha val="16078"/>
                </a:srgbClr>
              </a:gs>
              <a:gs pos="100000">
                <a:srgbClr val="93b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Итог уро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fill="hold">
                      <p:stCondLst>
                        <p:cond delay="0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8" dur="8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9" dur="8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0" dur="8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6588000" y="2637000"/>
            <a:ext cx="2246400" cy="277956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16360" cy="364500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 txBox="1"/>
          <p:nvPr/>
        </p:nvSpPr>
        <p:spPr>
          <a:xfrm rot="20390400">
            <a:off x="0" y="1484280"/>
            <a:ext cx="64594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пасибо за внимание!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 rot="414600">
            <a:off x="5937120" y="4966920"/>
            <a:ext cx="2489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Успехов!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fill="hold">
                      <p:stCondLst>
                        <p:cond delay="0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50920" y="189000"/>
            <a:ext cx="2881080" cy="718920"/>
          </a:xfrm>
          <a:prstGeom prst="rect">
            <a:avLst/>
          </a:prstGeom>
          <a:gradFill rotWithShape="0">
            <a:gsLst>
              <a:gs pos="0">
                <a:srgbClr val="93b7ff"/>
              </a:gs>
              <a:gs pos="50000">
                <a:srgbClr val="bbe0e3">
                  <a:alpha val="16078"/>
                </a:srgbClr>
              </a:gs>
              <a:gs pos="100000">
                <a:srgbClr val="93b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Повтор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5928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260280"/>
            <a:ext cx="1289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Установите соответств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ежду промежутком и геометрической  модели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484360" y="4797360"/>
            <a:ext cx="1871640" cy="736560"/>
            <a:chOff x="2484360" y="4797360"/>
            <a:chExt cx="1871640" cy="736560"/>
          </a:xfrm>
        </p:grpSpPr>
        <p:sp>
          <p:nvSpPr>
            <p:cNvPr id="128" name=""/>
            <p:cNvSpPr/>
            <p:nvPr/>
          </p:nvSpPr>
          <p:spPr>
            <a:xfrm>
              <a:off x="2484360" y="4797360"/>
              <a:ext cx="1871640" cy="71928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2509560" y="4797360"/>
                  <a:ext cx="182088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;</m:t>
                      </m:r>
                      <m:r>
                        <m:t xml:space="preserve">+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0" name=""/>
          <p:cNvGrpSpPr/>
          <p:nvPr/>
        </p:nvGrpSpPr>
        <p:grpSpPr>
          <a:xfrm>
            <a:off x="2411280" y="3860640"/>
            <a:ext cx="1871640" cy="736560"/>
            <a:chOff x="2411280" y="3860640"/>
            <a:chExt cx="1871640" cy="736560"/>
          </a:xfrm>
        </p:grpSpPr>
        <p:sp>
          <p:nvSpPr>
            <p:cNvPr id="131" name=""/>
            <p:cNvSpPr/>
            <p:nvPr/>
          </p:nvSpPr>
          <p:spPr>
            <a:xfrm>
              <a:off x="2411280" y="3860640"/>
              <a:ext cx="1871640" cy="71928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" name=""/>
                <p:cNvSpPr txBox="1"/>
                <p:nvPr/>
              </p:nvSpPr>
              <p:spPr>
                <a:xfrm>
                  <a:off x="2797200" y="3860640"/>
                  <a:ext cx="110160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4</m:t>
                          </m:r>
                          <m:r>
                            <m:t xml:space="preserve">;</m:t>
                          </m:r>
                          <m:r>
                            <m:t xml:space="preserve">7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3" name=""/>
          <p:cNvGrpSpPr/>
          <p:nvPr/>
        </p:nvGrpSpPr>
        <p:grpSpPr>
          <a:xfrm>
            <a:off x="2411280" y="1989000"/>
            <a:ext cx="1871640" cy="736560"/>
            <a:chOff x="2411280" y="1989000"/>
            <a:chExt cx="1871640" cy="736560"/>
          </a:xfrm>
        </p:grpSpPr>
        <p:sp>
          <p:nvSpPr>
            <p:cNvPr id="134" name=""/>
            <p:cNvSpPr/>
            <p:nvPr/>
          </p:nvSpPr>
          <p:spPr>
            <a:xfrm>
              <a:off x="2411280" y="1989000"/>
              <a:ext cx="1871640" cy="71928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2668320" y="1989000"/>
                  <a:ext cx="135756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;</m:t>
                      </m:r>
                      <m:r>
                        <m:t xml:space="preserve">2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6" name=""/>
          <p:cNvGrpSpPr/>
          <p:nvPr/>
        </p:nvGrpSpPr>
        <p:grpSpPr>
          <a:xfrm>
            <a:off x="2484360" y="2924280"/>
            <a:ext cx="1871640" cy="736560"/>
            <a:chOff x="2484360" y="2924280"/>
            <a:chExt cx="1871640" cy="736560"/>
          </a:xfrm>
        </p:grpSpPr>
        <p:sp>
          <p:nvSpPr>
            <p:cNvPr id="137" name=""/>
            <p:cNvSpPr/>
            <p:nvPr/>
          </p:nvSpPr>
          <p:spPr>
            <a:xfrm>
              <a:off x="2484360" y="2924280"/>
              <a:ext cx="1871640" cy="719280"/>
            </a:xfrm>
            <a:prstGeom prst="rect">
              <a:avLst/>
            </a:prstGeom>
            <a:gradFill rotWithShape="0">
              <a:gsLst>
                <a:gs pos="0">
                  <a:srgbClr val="93b7ff"/>
                </a:gs>
                <a:gs pos="50000">
                  <a:srgbClr val="bbe0e3">
                    <a:alpha val="16078"/>
                  </a:srgbClr>
                </a:gs>
                <a:gs pos="100000">
                  <a:srgbClr val="93b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2511360" y="2924280"/>
                  <a:ext cx="182088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∞</m:t>
                      </m:r>
                      <m:r>
                        <m:t xml:space="preserve">;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9" name=""/>
          <p:cNvGrpSpPr/>
          <p:nvPr/>
        </p:nvGrpSpPr>
        <p:grpSpPr>
          <a:xfrm>
            <a:off x="5183280" y="2205000"/>
            <a:ext cx="3960720" cy="653040"/>
            <a:chOff x="5183280" y="2205000"/>
            <a:chExt cx="3960720" cy="653040"/>
          </a:xfrm>
        </p:grpSpPr>
        <p:sp>
          <p:nvSpPr>
            <p:cNvPr id="140" name=""/>
            <p:cNvSpPr/>
            <p:nvPr/>
          </p:nvSpPr>
          <p:spPr>
            <a:xfrm>
              <a:off x="5183280" y="2349360"/>
              <a:ext cx="3960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191280" y="2276640"/>
              <a:ext cx="144360" cy="144360"/>
            </a:xfrm>
            <a:prstGeom prst="ellipse">
              <a:avLst/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56520" y="2219400"/>
              <a:ext cx="2541600" cy="1440"/>
            </a:xfrm>
            <a:custGeom>
              <a:avLst/>
              <a:gdLst/>
              <a:ahLst/>
              <a:rect l="l" t="t" r="r" b="b"/>
              <a:pathLst>
                <a:path w="1601" h="1">
                  <a:moveTo>
                    <a:pt x="0" y="0"/>
                  </a:moveTo>
                  <a:lnTo>
                    <a:pt x="1601" y="0"/>
                  </a:lnTo>
                </a:path>
              </a:pathLst>
            </a:custGeom>
            <a:noFill/>
            <a:ln w="1522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711640" y="2205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76000" y="227664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184720" y="3141720"/>
            <a:ext cx="3959280" cy="724320"/>
            <a:chOff x="5184720" y="3141720"/>
            <a:chExt cx="3959280" cy="724320"/>
          </a:xfrm>
        </p:grpSpPr>
        <p:sp>
          <p:nvSpPr>
            <p:cNvPr id="146" name=""/>
            <p:cNvSpPr/>
            <p:nvPr/>
          </p:nvSpPr>
          <p:spPr>
            <a:xfrm>
              <a:off x="5184720" y="3284640"/>
              <a:ext cx="3959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92720" y="3213000"/>
              <a:ext cx="144360" cy="14472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53440" y="3213000"/>
              <a:ext cx="144360" cy="14472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210160" y="3284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49440" y="3284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64360" y="3141720"/>
              <a:ext cx="2160360" cy="0"/>
            </a:xfrm>
            <a:prstGeom prst="line">
              <a:avLst/>
            </a:prstGeom>
            <a:ln w="152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713080" y="3213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184720" y="4869000"/>
            <a:ext cx="3959280" cy="725760"/>
            <a:chOff x="5184720" y="4869000"/>
            <a:chExt cx="3959280" cy="725760"/>
          </a:xfrm>
        </p:grpSpPr>
        <p:sp>
          <p:nvSpPr>
            <p:cNvPr id="154" name=""/>
            <p:cNvSpPr/>
            <p:nvPr/>
          </p:nvSpPr>
          <p:spPr>
            <a:xfrm>
              <a:off x="5184720" y="5013360"/>
              <a:ext cx="3959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32720" y="4941720"/>
              <a:ext cx="144360" cy="144000"/>
            </a:xfrm>
            <a:prstGeom prst="ellipse">
              <a:avLst/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17440" y="501336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84720" y="4869000"/>
              <a:ext cx="2521080" cy="0"/>
            </a:xfrm>
            <a:prstGeom prst="line">
              <a:avLst/>
            </a:prstGeom>
            <a:ln w="152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713080" y="4941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184720" y="3933720"/>
            <a:ext cx="3959280" cy="714600"/>
            <a:chOff x="5184720" y="3933720"/>
            <a:chExt cx="3959280" cy="714600"/>
          </a:xfrm>
        </p:grpSpPr>
        <p:sp>
          <p:nvSpPr>
            <p:cNvPr id="160" name=""/>
            <p:cNvSpPr/>
            <p:nvPr/>
          </p:nvSpPr>
          <p:spPr>
            <a:xfrm>
              <a:off x="5184720" y="4066920"/>
              <a:ext cx="3959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29800" y="406692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489440" y="40669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2000" y="3995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37160" y="3933720"/>
              <a:ext cx="2165400" cy="14400"/>
            </a:xfrm>
            <a:custGeom>
              <a:avLst/>
              <a:gdLst/>
              <a:ahLst/>
              <a:rect l="l" t="t" r="r" b="b"/>
              <a:pathLst>
                <a:path w="1364" h="9">
                  <a:moveTo>
                    <a:pt x="0" y="9"/>
                  </a:moveTo>
                  <a:lnTo>
                    <a:pt x="1364" y="0"/>
                  </a:lnTo>
                </a:path>
              </a:pathLst>
            </a:custGeom>
            <a:noFill/>
            <a:ln w="1522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713080" y="3995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32720" y="3995640"/>
              <a:ext cx="144360" cy="144360"/>
            </a:xfrm>
            <a:prstGeom prst="ellipse">
              <a:avLst/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"/>
          <p:cNvGraphicFramePr/>
          <p:nvPr/>
        </p:nvGraphicFramePr>
        <p:xfrm>
          <a:off x="2268360" y="5805360"/>
          <a:ext cx="5976720" cy="1052280"/>
        </p:xfrm>
        <a:graphic>
          <a:graphicData uri="http://schemas.openxmlformats.org/drawingml/2006/table">
            <a:tbl>
              <a:tblPr/>
              <a:tblGrid>
                <a:gridCol w="1493640"/>
                <a:gridCol w="1495800"/>
                <a:gridCol w="1493640"/>
                <a:gridCol w="1493640"/>
              </a:tblGrid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1982160" y="198900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53440" y="292428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82160" y="386064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53080" y="4724280"/>
            <a:ext cx="5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45080" y="19890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3800" y="299736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3800" y="378936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3800" y="46530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79280" y="0"/>
            <a:ext cx="2881440" cy="719280"/>
          </a:xfrm>
          <a:prstGeom prst="rect">
            <a:avLst/>
          </a:prstGeom>
          <a:gradFill rotWithShape="0">
            <a:gsLst>
              <a:gs pos="0">
                <a:srgbClr val="93b7ff"/>
              </a:gs>
              <a:gs pos="50000">
                <a:srgbClr val="bbe0e3">
                  <a:alpha val="16078"/>
                </a:srgbClr>
              </a:gs>
              <a:gs pos="100000">
                <a:srgbClr val="93b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Повтор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9280" y="260280"/>
            <a:ext cx="1009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акие неравен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оответствуют геометрическим моделя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050920" y="1484280"/>
            <a:ext cx="3960720" cy="653040"/>
            <a:chOff x="2050920" y="1484280"/>
            <a:chExt cx="3960720" cy="653040"/>
          </a:xfrm>
        </p:grpSpPr>
        <p:sp>
          <p:nvSpPr>
            <p:cNvPr id="181" name=""/>
            <p:cNvSpPr/>
            <p:nvPr/>
          </p:nvSpPr>
          <p:spPr>
            <a:xfrm>
              <a:off x="2050920" y="1628640"/>
              <a:ext cx="3960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58920" y="1555920"/>
              <a:ext cx="144360" cy="144360"/>
            </a:xfrm>
            <a:prstGeom prst="ellipse">
              <a:avLst/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24160" y="1498680"/>
              <a:ext cx="2541600" cy="1440"/>
            </a:xfrm>
            <a:custGeom>
              <a:avLst/>
              <a:gdLst/>
              <a:ahLst/>
              <a:rect l="l" t="t" r="r" b="b"/>
              <a:pathLst>
                <a:path w="1601" h="1">
                  <a:moveTo>
                    <a:pt x="0" y="0"/>
                  </a:moveTo>
                  <a:lnTo>
                    <a:pt x="1601" y="0"/>
                  </a:lnTo>
                </a:path>
              </a:pathLst>
            </a:custGeom>
            <a:noFill/>
            <a:ln w="1522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79280" y="1484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43640" y="155592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050920" y="4149720"/>
            <a:ext cx="3959280" cy="724320"/>
            <a:chOff x="2050920" y="4149720"/>
            <a:chExt cx="3959280" cy="724320"/>
          </a:xfrm>
        </p:grpSpPr>
        <p:sp>
          <p:nvSpPr>
            <p:cNvPr id="187" name=""/>
            <p:cNvSpPr/>
            <p:nvPr/>
          </p:nvSpPr>
          <p:spPr>
            <a:xfrm>
              <a:off x="2050920" y="4292640"/>
              <a:ext cx="3959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58920" y="4221000"/>
              <a:ext cx="144360" cy="14472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19640" y="4221000"/>
              <a:ext cx="144360" cy="14472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75640" y="429264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15640" y="4292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30560" y="4149720"/>
              <a:ext cx="2160360" cy="0"/>
            </a:xfrm>
            <a:prstGeom prst="line">
              <a:avLst/>
            </a:prstGeom>
            <a:ln w="152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79280" y="4221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124000" y="3213000"/>
            <a:ext cx="3959280" cy="726120"/>
            <a:chOff x="2124000" y="3213000"/>
            <a:chExt cx="3959280" cy="726120"/>
          </a:xfrm>
        </p:grpSpPr>
        <p:sp>
          <p:nvSpPr>
            <p:cNvPr id="195" name=""/>
            <p:cNvSpPr/>
            <p:nvPr/>
          </p:nvSpPr>
          <p:spPr>
            <a:xfrm>
              <a:off x="2124000" y="3357720"/>
              <a:ext cx="3959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0" y="3286080"/>
              <a:ext cx="144360" cy="14472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56360" y="3357720"/>
              <a:ext cx="72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3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24000" y="3213000"/>
              <a:ext cx="2521080" cy="0"/>
            </a:xfrm>
            <a:prstGeom prst="line">
              <a:avLst/>
            </a:prstGeom>
            <a:ln w="152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652720" y="3286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2124000" y="2349360"/>
            <a:ext cx="3959280" cy="714600"/>
            <a:chOff x="2124000" y="2349360"/>
            <a:chExt cx="3959280" cy="714600"/>
          </a:xfrm>
        </p:grpSpPr>
        <p:sp>
          <p:nvSpPr>
            <p:cNvPr id="201" name=""/>
            <p:cNvSpPr/>
            <p:nvPr/>
          </p:nvSpPr>
          <p:spPr>
            <a:xfrm>
              <a:off x="2124000" y="2482560"/>
              <a:ext cx="3959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69080" y="248256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28720" y="24825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11280" y="2411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76440" y="2349360"/>
              <a:ext cx="2165400" cy="14400"/>
            </a:xfrm>
            <a:custGeom>
              <a:avLst/>
              <a:gdLst/>
              <a:ahLst/>
              <a:rect l="l" t="t" r="r" b="b"/>
              <a:pathLst>
                <a:path w="1364" h="9">
                  <a:moveTo>
                    <a:pt x="0" y="9"/>
                  </a:moveTo>
                  <a:lnTo>
                    <a:pt x="1364" y="0"/>
                  </a:lnTo>
                </a:path>
              </a:pathLst>
            </a:custGeom>
            <a:noFill/>
            <a:ln w="1522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652360" y="2411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572000" y="2411280"/>
              <a:ext cx="144360" cy="144360"/>
            </a:xfrm>
            <a:prstGeom prst="ellipse">
              <a:avLst/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6838920" y="1341360"/>
            <a:ext cx="2305080" cy="718920"/>
            <a:chOff x="6838920" y="1341360"/>
            <a:chExt cx="2305080" cy="718920"/>
          </a:xfrm>
        </p:grpSpPr>
        <p:sp>
          <p:nvSpPr>
            <p:cNvPr id="209" name=""/>
            <p:cNvSpPr/>
            <p:nvPr/>
          </p:nvSpPr>
          <p:spPr>
            <a:xfrm>
              <a:off x="6838920" y="1341360"/>
              <a:ext cx="2305080" cy="7189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c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7288200" y="1414440"/>
                  <a:ext cx="144000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≥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1" name=""/>
          <p:cNvGrpSpPr/>
          <p:nvPr/>
        </p:nvGrpSpPr>
        <p:grpSpPr>
          <a:xfrm>
            <a:off x="6838920" y="4149720"/>
            <a:ext cx="2305080" cy="718920"/>
            <a:chOff x="6838920" y="4149720"/>
            <a:chExt cx="2305080" cy="718920"/>
          </a:xfrm>
        </p:grpSpPr>
        <p:sp>
          <p:nvSpPr>
            <p:cNvPr id="212" name=""/>
            <p:cNvSpPr/>
            <p:nvPr/>
          </p:nvSpPr>
          <p:spPr>
            <a:xfrm>
              <a:off x="6838920" y="4149720"/>
              <a:ext cx="2305080" cy="7189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c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6886800" y="4221000"/>
                  <a:ext cx="220320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&lt;</m:t>
                      </m:r>
                      <m:r>
                        <m:t xml:space="preserve">х</m:t>
                      </m:r>
                      <m:r>
                        <m:t xml:space="preserve">≤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4" name=""/>
          <p:cNvGrpSpPr/>
          <p:nvPr/>
        </p:nvGrpSpPr>
        <p:grpSpPr>
          <a:xfrm>
            <a:off x="6838920" y="3213000"/>
            <a:ext cx="2305080" cy="719280"/>
            <a:chOff x="6838920" y="3213000"/>
            <a:chExt cx="2305080" cy="719280"/>
          </a:xfrm>
        </p:grpSpPr>
        <p:sp>
          <p:nvSpPr>
            <p:cNvPr id="215" name=""/>
            <p:cNvSpPr/>
            <p:nvPr/>
          </p:nvSpPr>
          <p:spPr>
            <a:xfrm>
              <a:off x="6838920" y="3213000"/>
              <a:ext cx="2305080" cy="719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c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7113600" y="3284640"/>
                  <a:ext cx="169560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&lt;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7" name=""/>
          <p:cNvGrpSpPr/>
          <p:nvPr/>
        </p:nvGrpSpPr>
        <p:grpSpPr>
          <a:xfrm>
            <a:off x="6838920" y="2205000"/>
            <a:ext cx="2305080" cy="719280"/>
            <a:chOff x="6838920" y="2205000"/>
            <a:chExt cx="2305080" cy="719280"/>
          </a:xfrm>
        </p:grpSpPr>
        <p:sp>
          <p:nvSpPr>
            <p:cNvPr id="218" name=""/>
            <p:cNvSpPr/>
            <p:nvPr/>
          </p:nvSpPr>
          <p:spPr>
            <a:xfrm>
              <a:off x="6838920" y="2205000"/>
              <a:ext cx="2305080" cy="719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c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9" name=""/>
                <p:cNvSpPr txBox="1"/>
                <p:nvPr/>
              </p:nvSpPr>
              <p:spPr>
                <a:xfrm>
                  <a:off x="6902640" y="2276640"/>
                  <a:ext cx="211752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&lt;</m:t>
                      </m:r>
                      <m:r>
                        <m:t xml:space="preserve">x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17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1835280" y="5661000"/>
          <a:ext cx="5986440" cy="1035000"/>
        </p:xfrm>
        <a:graphic>
          <a:graphicData uri="http://schemas.openxmlformats.org/drawingml/2006/table">
            <a:tbl>
              <a:tblPr/>
              <a:tblGrid>
                <a:gridCol w="1496880"/>
                <a:gridCol w="1497240"/>
                <a:gridCol w="1495440"/>
                <a:gridCol w="1496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1405800" y="306864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78160" y="4005360"/>
            <a:ext cx="5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05440" y="220500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34160" y="134136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29440" y="14130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227640" y="227664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29440" y="32846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29440" y="42210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0"/>
            <a:ext cx="2881440" cy="719280"/>
          </a:xfrm>
          <a:prstGeom prst="rect">
            <a:avLst/>
          </a:prstGeom>
          <a:gradFill rotWithShape="0">
            <a:gsLst>
              <a:gs pos="0">
                <a:srgbClr val="93b7ff"/>
              </a:gs>
              <a:gs pos="50000">
                <a:srgbClr val="bbe0e3">
                  <a:alpha val="16078"/>
                </a:srgbClr>
              </a:gs>
              <a:gs pos="100000">
                <a:srgbClr val="93b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Повтор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03640" y="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4000" y="26028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акие промежутки соответствуют геометрическим моделя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7272360" y="2349360"/>
            <a:ext cx="1871640" cy="736560"/>
            <a:chOff x="7272360" y="2349360"/>
            <a:chExt cx="1871640" cy="736560"/>
          </a:xfrm>
        </p:grpSpPr>
        <p:sp>
          <p:nvSpPr>
            <p:cNvPr id="234" name=""/>
            <p:cNvSpPr/>
            <p:nvPr/>
          </p:nvSpPr>
          <p:spPr>
            <a:xfrm>
              <a:off x="7272360" y="2349360"/>
              <a:ext cx="1871640" cy="719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7615080" y="2349360"/>
                  <a:ext cx="118620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3</m:t>
                      </m:r>
                      <m:r>
                        <m:t xml:space="preserve">:</m:t>
                      </m:r>
                      <m:r>
                        <m:t xml:space="preserve">8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6" name=""/>
          <p:cNvGrpSpPr/>
          <p:nvPr/>
        </p:nvGrpSpPr>
        <p:grpSpPr>
          <a:xfrm>
            <a:off x="7067520" y="1413000"/>
            <a:ext cx="2076480" cy="736560"/>
            <a:chOff x="7067520" y="1413000"/>
            <a:chExt cx="2076480" cy="736560"/>
          </a:xfrm>
        </p:grpSpPr>
        <p:sp>
          <p:nvSpPr>
            <p:cNvPr id="237" name=""/>
            <p:cNvSpPr/>
            <p:nvPr/>
          </p:nvSpPr>
          <p:spPr>
            <a:xfrm>
              <a:off x="7169040" y="1413000"/>
              <a:ext cx="1871640" cy="719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8" name=""/>
                <p:cNvSpPr txBox="1"/>
                <p:nvPr/>
              </p:nvSpPr>
              <p:spPr>
                <a:xfrm>
                  <a:off x="7067520" y="1413000"/>
                  <a:ext cx="207648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1,5</m:t>
                          </m:r>
                          <m:r>
                            <m:t xml:space="preserve">;</m:t>
                          </m:r>
                          <m:r>
                            <m:t xml:space="preserve">2,5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9" name=""/>
          <p:cNvGrpSpPr/>
          <p:nvPr/>
        </p:nvGrpSpPr>
        <p:grpSpPr>
          <a:xfrm>
            <a:off x="7272360" y="4221000"/>
            <a:ext cx="1871640" cy="736560"/>
            <a:chOff x="7272360" y="4221000"/>
            <a:chExt cx="1871640" cy="736560"/>
          </a:xfrm>
        </p:grpSpPr>
        <p:sp>
          <p:nvSpPr>
            <p:cNvPr id="240" name=""/>
            <p:cNvSpPr/>
            <p:nvPr/>
          </p:nvSpPr>
          <p:spPr>
            <a:xfrm>
              <a:off x="7272360" y="4221000"/>
              <a:ext cx="1871640" cy="719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1" name=""/>
                <p:cNvSpPr txBox="1"/>
                <p:nvPr/>
              </p:nvSpPr>
              <p:spPr>
                <a:xfrm>
                  <a:off x="7445520" y="4221000"/>
                  <a:ext cx="152712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;</m:t>
                          </m:r>
                          <m:r>
                            <m:t xml:space="preserve">5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2" name=""/>
          <p:cNvGrpSpPr/>
          <p:nvPr/>
        </p:nvGrpSpPr>
        <p:grpSpPr>
          <a:xfrm>
            <a:off x="7272360" y="3213000"/>
            <a:ext cx="1871640" cy="736560"/>
            <a:chOff x="7272360" y="3213000"/>
            <a:chExt cx="1871640" cy="736560"/>
          </a:xfrm>
        </p:grpSpPr>
        <p:sp>
          <p:nvSpPr>
            <p:cNvPr id="243" name=""/>
            <p:cNvSpPr/>
            <p:nvPr/>
          </p:nvSpPr>
          <p:spPr>
            <a:xfrm>
              <a:off x="7272360" y="3213000"/>
              <a:ext cx="1871640" cy="719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7300800" y="3213000"/>
                  <a:ext cx="181764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;</m:t>
                      </m:r>
                      <m:r>
                        <m:t xml:space="preserve">+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5" name=""/>
          <p:cNvGrpSpPr/>
          <p:nvPr/>
        </p:nvGrpSpPr>
        <p:grpSpPr>
          <a:xfrm>
            <a:off x="2124000" y="4292640"/>
            <a:ext cx="3960720" cy="653040"/>
            <a:chOff x="2124000" y="4292640"/>
            <a:chExt cx="3960720" cy="653040"/>
          </a:xfrm>
        </p:grpSpPr>
        <p:sp>
          <p:nvSpPr>
            <p:cNvPr id="246" name=""/>
            <p:cNvSpPr/>
            <p:nvPr/>
          </p:nvSpPr>
          <p:spPr>
            <a:xfrm>
              <a:off x="2124000" y="4437000"/>
              <a:ext cx="3960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32000" y="4364280"/>
              <a:ext cx="144360" cy="144360"/>
            </a:xfrm>
            <a:prstGeom prst="ellipse">
              <a:avLst/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97240" y="4307040"/>
              <a:ext cx="2541600" cy="1440"/>
            </a:xfrm>
            <a:custGeom>
              <a:avLst/>
              <a:gdLst/>
              <a:ahLst/>
              <a:rect l="l" t="t" r="r" b="b"/>
              <a:pathLst>
                <a:path w="1601" h="1">
                  <a:moveTo>
                    <a:pt x="0" y="0"/>
                  </a:moveTo>
                  <a:lnTo>
                    <a:pt x="1601" y="0"/>
                  </a:lnTo>
                </a:path>
              </a:pathLst>
            </a:custGeom>
            <a:noFill/>
            <a:ln w="1522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652360" y="4292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16720" y="436428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2124000" y="2421000"/>
            <a:ext cx="3959280" cy="724320"/>
            <a:chOff x="2124000" y="2421000"/>
            <a:chExt cx="3959280" cy="724320"/>
          </a:xfrm>
        </p:grpSpPr>
        <p:sp>
          <p:nvSpPr>
            <p:cNvPr id="252" name=""/>
            <p:cNvSpPr/>
            <p:nvPr/>
          </p:nvSpPr>
          <p:spPr>
            <a:xfrm>
              <a:off x="2124000" y="2563920"/>
              <a:ext cx="3959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2000" y="2492280"/>
              <a:ext cx="144360" cy="14472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292720" y="2492280"/>
              <a:ext cx="144360" cy="14472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48720" y="2563920"/>
              <a:ext cx="69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,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987640" y="2563920"/>
              <a:ext cx="82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-1,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203640" y="2421000"/>
              <a:ext cx="2160360" cy="0"/>
            </a:xfrm>
            <a:prstGeom prst="line">
              <a:avLst/>
            </a:prstGeom>
            <a:ln w="152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652360" y="2492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124000" y="3357720"/>
            <a:ext cx="3959280" cy="725760"/>
            <a:chOff x="2124000" y="3357720"/>
            <a:chExt cx="3959280" cy="725760"/>
          </a:xfrm>
        </p:grpSpPr>
        <p:sp>
          <p:nvSpPr>
            <p:cNvPr id="260" name=""/>
            <p:cNvSpPr/>
            <p:nvPr/>
          </p:nvSpPr>
          <p:spPr>
            <a:xfrm>
              <a:off x="2124000" y="3502080"/>
              <a:ext cx="3959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72000" y="34304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57080" y="350208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24000" y="3357720"/>
              <a:ext cx="2521080" cy="0"/>
            </a:xfrm>
            <a:prstGeom prst="line">
              <a:avLst/>
            </a:prstGeom>
            <a:ln w="152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52720" y="3430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2124000" y="1557360"/>
            <a:ext cx="3959280" cy="714600"/>
            <a:chOff x="2124000" y="1557360"/>
            <a:chExt cx="3959280" cy="714600"/>
          </a:xfrm>
        </p:grpSpPr>
        <p:sp>
          <p:nvSpPr>
            <p:cNvPr id="266" name=""/>
            <p:cNvSpPr/>
            <p:nvPr/>
          </p:nvSpPr>
          <p:spPr>
            <a:xfrm>
              <a:off x="2124000" y="1690560"/>
              <a:ext cx="3959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69440" y="16905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28720" y="16905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411280" y="1619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476440" y="1557360"/>
              <a:ext cx="2165400" cy="14400"/>
            </a:xfrm>
            <a:custGeom>
              <a:avLst/>
              <a:gdLst/>
              <a:ahLst/>
              <a:rect l="l" t="t" r="r" b="b"/>
              <a:pathLst>
                <a:path w="1364" h="9">
                  <a:moveTo>
                    <a:pt x="0" y="9"/>
                  </a:moveTo>
                  <a:lnTo>
                    <a:pt x="1364" y="0"/>
                  </a:lnTo>
                </a:path>
              </a:pathLst>
            </a:custGeom>
            <a:noFill/>
            <a:ln w="1522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652360" y="1619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72000" y="1619280"/>
              <a:ext cx="144360" cy="144360"/>
            </a:xfrm>
            <a:prstGeom prst="ellipse">
              <a:avLst/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2075040" cy="242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4" name=""/>
          <p:cNvGraphicFramePr/>
          <p:nvPr/>
        </p:nvGraphicFramePr>
        <p:xfrm>
          <a:off x="1908000" y="5516640"/>
          <a:ext cx="5904000" cy="1341000"/>
        </p:xfrm>
        <a:graphic>
          <a:graphicData uri="http://schemas.openxmlformats.org/drawingml/2006/table">
            <a:tbl>
              <a:tblPr/>
              <a:tblGrid>
                <a:gridCol w="1475640"/>
                <a:gridCol w="1477080"/>
                <a:gridCol w="1475640"/>
                <a:gridCol w="1475640"/>
              </a:tblGrid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3433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"/>
          <p:cNvSpPr/>
          <p:nvPr/>
        </p:nvSpPr>
        <p:spPr>
          <a:xfrm>
            <a:off x="6589800" y="42926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589800" y="328464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516720" y="2421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518520" y="14842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405800" y="134136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05440" y="220500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05800" y="306864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78160" y="4005360"/>
            <a:ext cx="5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0"/>
                            </p:stCondLst>
                            <p:childTnLst>
                              <p:par>
                                <p:cTn id="2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з истории матема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Архимед (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в до н.э.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6"/>
              <p:cNvSpPr txBox="1"/>
              <p:nvPr/>
            </p:nvSpPr>
            <p:spPr>
              <a:xfrm>
                <a:off x="971640" y="2924280"/>
                <a:ext cx="2987640" cy="13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π</m:t>
                    </m:r>
                    <m:r>
                      <m:t xml:space="preserve">&lt;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7" name="Rectangle 8"/>
          <p:cNvSpPr/>
          <p:nvPr/>
        </p:nvSpPr>
        <p:spPr>
          <a:xfrm>
            <a:off x="4788000" y="1989000"/>
            <a:ext cx="3887640" cy="388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9" descr="сова"/>
          <p:cNvPicPr/>
          <p:nvPr/>
        </p:nvPicPr>
        <p:blipFill>
          <a:blip r:embed="rId1"/>
          <a:stretch/>
        </p:blipFill>
        <p:spPr>
          <a:xfrm>
            <a:off x="357120" y="428760"/>
            <a:ext cx="906480" cy="13078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" descr="C:\Users\User\Desktop\Рисунок1алгебра.wmf"/>
          <p:cNvPicPr/>
          <p:nvPr/>
        </p:nvPicPr>
        <p:blipFill>
          <a:blip r:embed="rId2"/>
          <a:stretch/>
        </p:blipFill>
        <p:spPr>
          <a:xfrm>
            <a:off x="7308720" y="5661000"/>
            <a:ext cx="1492560" cy="9478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9" descr="pa_806"/>
          <p:cNvPicPr/>
          <p:nvPr/>
        </p:nvPicPr>
        <p:blipFill>
          <a:blip r:embed="rId3"/>
          <a:stretch/>
        </p:blipFill>
        <p:spPr>
          <a:xfrm>
            <a:off x="4724280" y="1865160"/>
            <a:ext cx="406584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з истории матема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Современные знаки неравенств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(17 – 18 в.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611280" y="2781360"/>
            <a:ext cx="3816360" cy="29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 Гарриот (1560 – 16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716360" y="2781360"/>
            <a:ext cx="3888000" cy="29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. Буге (1698 – 175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6" descr="сова"/>
          <p:cNvPicPr/>
          <p:nvPr/>
        </p:nvPicPr>
        <p:blipFill>
          <a:blip r:embed="rId1"/>
          <a:stretch/>
        </p:blipFill>
        <p:spPr>
          <a:xfrm>
            <a:off x="357120" y="500040"/>
            <a:ext cx="906480" cy="13082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" descr="C:\Users\User\Desktop\Рисунок1алгебра.wmf"/>
          <p:cNvPicPr/>
          <p:nvPr/>
        </p:nvPicPr>
        <p:blipFill>
          <a:blip r:embed="rId2"/>
          <a:stretch/>
        </p:blipFill>
        <p:spPr>
          <a:xfrm>
            <a:off x="7215120" y="5572080"/>
            <a:ext cx="1717920" cy="1090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7" name="Object 7"/>
              <p:cNvSpPr txBox="1"/>
              <p:nvPr/>
            </p:nvSpPr>
            <p:spPr>
              <a:xfrm>
                <a:off x="5643720" y="3429000"/>
                <a:ext cx="78552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8"/>
              <p:cNvSpPr txBox="1"/>
              <p:nvPr/>
            </p:nvSpPr>
            <p:spPr>
              <a:xfrm>
                <a:off x="6929280" y="3429000"/>
                <a:ext cx="7858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99" name="TextBox 11"/>
          <p:cNvSpPr/>
          <p:nvPr/>
        </p:nvSpPr>
        <p:spPr>
          <a:xfrm>
            <a:off x="1571760" y="3357720"/>
            <a:ext cx="26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&lt;       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7574040" y="4941720"/>
            <a:ext cx="1569960" cy="19162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>
            <a:off x="0" y="4952880"/>
            <a:ext cx="1143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3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3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468360" y="-171360"/>
            <a:ext cx="8496360" cy="1655640"/>
          </a:xfrm>
          <a:prstGeom prst="rect">
            <a:avLst/>
          </a:prstGeom>
          <a:gradFill rotWithShape="0">
            <a:gsLst>
              <a:gs pos="0">
                <a:srgbClr val="93b7ff"/>
              </a:gs>
              <a:gs pos="50000">
                <a:srgbClr val="bbe0e3">
                  <a:alpha val="16078"/>
                </a:srgbClr>
              </a:gs>
              <a:gs pos="100000">
                <a:srgbClr val="93b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Тема урока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Решение неравенств с одной переменн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83960" y="3933720"/>
            <a:ext cx="878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Решить неравенство – найти значение перемен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которое обращает его в верное числовое неравен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611280" y="5300640"/>
            <a:ext cx="2305080" cy="718920"/>
            <a:chOff x="611280" y="5300640"/>
            <a:chExt cx="2305080" cy="718920"/>
          </a:xfrm>
        </p:grpSpPr>
        <p:sp>
          <p:nvSpPr>
            <p:cNvPr id="305" name=""/>
            <p:cNvSpPr/>
            <p:nvPr/>
          </p:nvSpPr>
          <p:spPr>
            <a:xfrm>
              <a:off x="611280" y="5300640"/>
              <a:ext cx="2305080" cy="7189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cf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6" name=""/>
                <p:cNvSpPr txBox="1"/>
                <p:nvPr/>
              </p:nvSpPr>
              <p:spPr>
                <a:xfrm>
                  <a:off x="1081440" y="5373720"/>
                  <a:ext cx="139860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х</m:t>
                      </m:r>
                      <m:r>
                        <m:t xml:space="preserve">≥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7" name=""/>
          <p:cNvGrpSpPr/>
          <p:nvPr/>
        </p:nvGrpSpPr>
        <p:grpSpPr>
          <a:xfrm>
            <a:off x="4896000" y="4869000"/>
            <a:ext cx="4247640" cy="1096200"/>
            <a:chOff x="4896000" y="4869000"/>
            <a:chExt cx="4247640" cy="1096200"/>
          </a:xfrm>
        </p:grpSpPr>
        <p:sp>
          <p:nvSpPr>
            <p:cNvPr id="308" name=""/>
            <p:cNvSpPr/>
            <p:nvPr/>
          </p:nvSpPr>
          <p:spPr>
            <a:xfrm>
              <a:off x="4896000" y="4869000"/>
              <a:ext cx="4247640" cy="10749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99"/>
                  </a:solidFill>
                  <a:latin typeface="Times New Roman"/>
                </a:rPr>
                <a:t>Ответ: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9" name=""/>
                <p:cNvSpPr txBox="1"/>
                <p:nvPr/>
              </p:nvSpPr>
              <p:spPr>
                <a:xfrm>
                  <a:off x="7667640" y="4966200"/>
                  <a:ext cx="372600" cy="99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310" name=""/>
          <p:cNvGrpSpPr/>
          <p:nvPr/>
        </p:nvGrpSpPr>
        <p:grpSpPr>
          <a:xfrm>
            <a:off x="6659640" y="5157720"/>
            <a:ext cx="1871640" cy="736560"/>
            <a:chOff x="6659640" y="5157720"/>
            <a:chExt cx="1871640" cy="736560"/>
          </a:xfrm>
        </p:grpSpPr>
        <p:sp>
          <p:nvSpPr>
            <p:cNvPr id="311" name=""/>
            <p:cNvSpPr/>
            <p:nvPr/>
          </p:nvSpPr>
          <p:spPr>
            <a:xfrm>
              <a:off x="6659640" y="5157720"/>
              <a:ext cx="1871640" cy="7192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6751800" y="5157720"/>
                  <a:ext cx="169056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;</m:t>
                      </m:r>
                      <m:r>
                        <m:t xml:space="preserve">+</m:t>
                      </m:r>
                      <m:r>
                        <m:t xml:space="preserve">∞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3" name=""/>
          <p:cNvSpPr/>
          <p:nvPr/>
        </p:nvSpPr>
        <p:spPr>
          <a:xfrm>
            <a:off x="2195640" y="5950080"/>
            <a:ext cx="3384360" cy="718920"/>
          </a:xfrm>
          <a:prstGeom prst="rect">
            <a:avLst/>
          </a:prstGeom>
          <a:gradFill rotWithShape="0">
            <a:gsLst>
              <a:gs pos="0">
                <a:srgbClr val="93b7ff"/>
              </a:gs>
              <a:gs pos="50000">
                <a:srgbClr val="bbe0e3">
                  <a:alpha val="16078"/>
                </a:srgbClr>
              </a:gs>
              <a:gs pos="100000">
                <a:srgbClr val="93b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№   </a:t>
            </a: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833   (устн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-3600" y="1274400"/>
            <a:ext cx="932472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tt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:В Новошешминском  районе насчитыв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270 частных подворий, сколько  частных домов ну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ить ,чтобы их количество было не меньше 5300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71640" cy="12225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470880" y="2784960"/>
            <a:ext cx="5290560" cy="581400"/>
          </a:xfrm>
          <a:prstGeom prst="rect">
            <a:avLst/>
          </a:prstGeom>
          <a:solidFill>
            <a:srgbClr val="fefea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Решение:5270+х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≥ 53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-181080" y="4149720"/>
            <a:ext cx="2167200" cy="27082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250920" y="189000"/>
            <a:ext cx="4968720" cy="718920"/>
          </a:xfrm>
          <a:prstGeom prst="rect">
            <a:avLst/>
          </a:prstGeom>
          <a:gradFill rotWithShape="0">
            <a:gsLst>
              <a:gs pos="0">
                <a:srgbClr val="93b7ff"/>
              </a:gs>
              <a:gs pos="50000">
                <a:srgbClr val="bbe0e3">
                  <a:alpha val="16078"/>
                </a:srgbClr>
              </a:gs>
              <a:gs pos="100000">
                <a:srgbClr val="93b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Решаем неравен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85840" y="907920"/>
            <a:ext cx="878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Решить неравенство – найти значение перемен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которое обращает его в верное числовое неравен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0920" y="1916280"/>
            <a:ext cx="4968720" cy="718920"/>
          </a:xfrm>
          <a:prstGeom prst="rect">
            <a:avLst/>
          </a:prstGeom>
          <a:gradFill rotWithShape="0">
            <a:gsLst>
              <a:gs pos="0">
                <a:srgbClr val="93b7ff"/>
              </a:gs>
              <a:gs pos="50000">
                <a:srgbClr val="bbe0e3">
                  <a:alpha val="16078"/>
                </a:srgbClr>
              </a:gs>
              <a:gs pos="100000">
                <a:srgbClr val="93b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Правил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124000" y="285264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419640" y="2781360"/>
            <a:ext cx="3457440" cy="936720"/>
            <a:chOff x="3419640" y="2781360"/>
            <a:chExt cx="3457440" cy="936720"/>
          </a:xfrm>
        </p:grpSpPr>
        <p:sp>
          <p:nvSpPr>
            <p:cNvPr id="323" name=""/>
            <p:cNvSpPr/>
            <p:nvPr/>
          </p:nvSpPr>
          <p:spPr>
            <a:xfrm>
              <a:off x="3419640" y="2781360"/>
              <a:ext cx="345744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4" name=""/>
                <p:cNvSpPr txBox="1"/>
                <p:nvPr/>
              </p:nvSpPr>
              <p:spPr>
                <a:xfrm>
                  <a:off x="3419640" y="2781360"/>
                  <a:ext cx="3311280" cy="92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x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&gt;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5" name=""/>
          <p:cNvSpPr/>
          <p:nvPr/>
        </p:nvSpPr>
        <p:spPr>
          <a:xfrm>
            <a:off x="5364000" y="2924280"/>
            <a:ext cx="720720" cy="769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435640" y="2852640"/>
            <a:ext cx="720720" cy="77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435640" y="2852640"/>
            <a:ext cx="720720" cy="77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435640" y="2852640"/>
            <a:ext cx="720720" cy="770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32360" y="3573360"/>
            <a:ext cx="3097080" cy="432000"/>
          </a:xfrm>
          <a:custGeom>
            <a:avLst/>
            <a:gdLst>
              <a:gd name="textAreaLeft" fmla="*/ 541800 w 3097080"/>
              <a:gd name="textAreaRight" fmla="*/ 2245320 w 309708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284720" y="2781360"/>
            <a:ext cx="1295280" cy="1057320"/>
          </a:xfrm>
          <a:prstGeom prst="ellipse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2761200">
            <a:off x="5235120" y="1765800"/>
            <a:ext cx="331560" cy="1594080"/>
          </a:xfrm>
          <a:prstGeom prst="downArrow">
            <a:avLst>
              <a:gd name="adj1" fmla="val 50000"/>
              <a:gd name="adj2" fmla="val 120195"/>
            </a:avLst>
          </a:prstGeom>
          <a:gradFill rotWithShape="0">
            <a:gsLst>
              <a:gs pos="0">
                <a:srgbClr val="fefefe"/>
              </a:gs>
              <a:gs pos="50000">
                <a:srgbClr val="ff0000"/>
              </a:gs>
              <a:gs pos="100000">
                <a:srgbClr val="fefefe"/>
              </a:gs>
            </a:gsLst>
            <a:lin ang="1074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3419640" y="4076640"/>
            <a:ext cx="3457440" cy="936720"/>
            <a:chOff x="3419640" y="4076640"/>
            <a:chExt cx="3457440" cy="936720"/>
          </a:xfrm>
        </p:grpSpPr>
        <p:sp>
          <p:nvSpPr>
            <p:cNvPr id="333" name=""/>
            <p:cNvSpPr/>
            <p:nvPr/>
          </p:nvSpPr>
          <p:spPr>
            <a:xfrm>
              <a:off x="3419640" y="4076640"/>
              <a:ext cx="345744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4" name=""/>
                <p:cNvSpPr txBox="1"/>
                <p:nvPr/>
              </p:nvSpPr>
              <p:spPr>
                <a:xfrm>
                  <a:off x="3484440" y="4076640"/>
                  <a:ext cx="3181320" cy="92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x</m:t>
                      </m:r>
                      <m:r>
                        <m:t xml:space="preserve">&gt;</m:t>
                      </m:r>
                      <m:r>
                        <m:t xml:space="preserve">c</m:t>
                      </m:r>
                      <m:r>
                        <m:t xml:space="preserve">−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5" name=""/>
          <p:cNvSpPr/>
          <p:nvPr/>
        </p:nvSpPr>
        <p:spPr>
          <a:xfrm rot="2761200">
            <a:off x="6210720" y="3085200"/>
            <a:ext cx="331920" cy="1594080"/>
          </a:xfrm>
          <a:prstGeom prst="downArrow">
            <a:avLst>
              <a:gd name="adj1" fmla="val 50000"/>
              <a:gd name="adj2" fmla="val 120065"/>
            </a:avLst>
          </a:prstGeom>
          <a:gradFill rotWithShape="0">
            <a:gsLst>
              <a:gs pos="0">
                <a:srgbClr val="fefefe"/>
              </a:gs>
              <a:gs pos="50000">
                <a:srgbClr val="ff0000"/>
              </a:gs>
              <a:gs pos="100000">
                <a:srgbClr val="fefefe"/>
              </a:gs>
            </a:gsLst>
            <a:lin ang="1074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6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2" dur="250" autoRev="1" fill="hold"/>
                                        <p:tgtEl>
                                          <p:spTgt spid="3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6" dur="250" autoRev="1" fill="hold"/>
                                        <p:tgtEl>
                                          <p:spTgt spid="3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0" dur="250" autoRev="1" fill="hold"/>
                                        <p:tgtEl>
                                          <p:spTgt spid="3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500"/>
                            </p:stCondLst>
                            <p:childTnLst>
                              <p:par>
                                <p:cTn id="372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2" dur="250" autoRev="1" fill="hold"/>
                                        <p:tgtEl>
                                          <p:spTgt spid="3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250" autoRev="1" fill="hold"/>
                                        <p:tgtEl>
                                          <p:spTgt spid="3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0" dur="250" autoRev="1" fill="hold"/>
                                        <p:tgtEl>
                                          <p:spTgt spid="3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500"/>
                            </p:stCondLst>
                            <p:childTnLst>
                              <p:par>
                                <p:cTn id="402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7T08:25:38Z</dcterms:created>
  <dc:creator>Admin</dc:creator>
  <dc:description/>
  <dc:language>en-US</dc:language>
  <cp:lastModifiedBy>ICL</cp:lastModifiedBy>
  <dcterms:modified xsi:type="dcterms:W3CDTF">2012-03-15T03:49:10Z</dcterms:modified>
  <cp:revision>33</cp:revision>
  <dc:subject/>
  <dc:title>Слайд 1</dc:title>
</cp:coreProperties>
</file>