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AE7-19F8-40EA-B549-FC60467C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11C-94FC-43DE-AC58-9ED6BDFE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45FB-00D8-4B96-9AD2-4B76C8EC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BC6-A79E-4EF8-BEC7-AAF3588F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555F-3DC4-4D83-82A8-7A4198F1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4E1-A4F9-43E9-ACB4-0DCD1ED6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BAC3-3131-4E21-9724-2EB456A3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B82-B606-422D-9E9F-2E574E0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63D-01D5-4523-82C4-9A28C78C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05E-3ABE-4017-87B4-0E1F9A14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4622-2216-4EA8-8C4F-673CCA5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92A-D600-4DFA-93A8-3C203920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2F34-B36F-45D7-8681-15452FE6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E349-03FB-495B-8795-230BD4F4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5B6-FFC8-4685-89C4-130A51EF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5A35-350C-4E4D-8E08-BEFAE824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BB8-0AF1-4DA6-A859-720B122D8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8DA1-AE52-4388-8C5B-C566DF65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FEA5-EF57-4513-8751-7D855EA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6135-F808-4632-95CD-15F9891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D648-6149-4EF1-A130-DA26EC51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64E3-C336-4141-99F9-F587EC80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37B-1725-4A68-90E7-764A8351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0728-E903-4DAB-B233-C462893B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AD7F-C1FF-418F-91CB-BF1350A2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B2A1-8DBC-4B74-8162-2F70D8E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1F55-5A2C-4EAC-A207-9968820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44DF-71FE-4ED5-94E3-E32F6850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6DEFA-39AB-4FE4-B2A7-5BCDA2C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F0634-0117-41B9-8CA6-DCD3BF73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2A573-434D-45C7-9BD3-99797CB4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6843-BC76-479D-9470-82FB6BD7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3A85C-97FC-4A58-8624-9FE76E88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7243-9272-4108-9E18-E42ED738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7E23-AEA0-46B6-900F-8C4143C1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C4327-14D2-4F1E-90B5-1EAFDE5D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CB0E-3C54-408B-869B-37D4639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59E1-5AB0-415A-BB13-EE579BB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7D46A-FC4D-4E2F-B4DE-005E117D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E2CE-AC7B-41EE-8369-7E2BCFE2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C796-99FA-4D74-841D-563CA6B7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8B3B-F18A-4220-BBBF-D29F9A33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CCF71-136A-4F78-A14F-A2B3F692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ED04-1F19-4EA3-A0CB-CDEB86DC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9E2-702C-466F-B044-472FED3E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85511-6B41-45CB-94CE-CE6BE15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673E-3587-4E54-807E-08B8E913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717E-DC65-4AEF-A726-453F9B29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357F-220D-495A-A322-EF3F495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9ACF2-047E-44AE-BEC2-6048578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487DF-DFC5-4D6B-AFC6-EBAB7E0E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CF74-23CD-4737-9019-39526180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E694B-80CE-42AB-B76A-B4C62031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DC3D-93B6-4320-B109-A2135DE4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783A-4273-47FE-A844-2DBD177B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B7D-C1D4-47E9-B629-E40E318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76FE-9DB2-4229-8520-A0496CFB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78A84-58FF-40F0-AC08-0D795420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1B98D-8DB5-4EC7-B2EC-E6CCC11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2C064-45E0-464A-A7A1-EDD68E32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E5CC0-775A-480E-92CF-B203D3B1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CCEF-2E2C-432B-81F1-23499E9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1BFBD-739C-4FFC-AC7C-0F6E3422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789EA-62FA-40AC-9479-5A33E526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65D2-B3B4-401F-B46A-F3F42C3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EB04-8F0B-4CD8-876F-33BC85D1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407-C9DE-4424-9C86-8090BB35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22556-110E-474E-BEF8-82B16673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6A8E1-BC62-41AC-B967-802ECC6D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796F-0E1E-4544-BE1B-40E6942B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2B381-22AC-4787-9AB7-041E884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C3A3-F11B-4DA2-B6DA-E54A3016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B92D-A559-4728-BAF9-7F6BBF2D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BFA0C-83C4-4DD8-BF0D-813EA50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48C2E-8457-4635-857E-4BE9675E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7752-7022-48DF-986A-26C877E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8D59-6398-481F-9847-B0FD1DD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B48-1C22-4D18-9774-A7EC211D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A17C-75A8-461F-A5AF-B34E0618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75A99-FD7E-455C-A3E4-6714B777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D1808-D0EF-4B9F-96D2-4501502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EDEE-391C-43B6-B27A-BCFF6A78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4D18F-3F7F-4BB7-AB37-72D1597F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96E-9726-4627-A7C2-3BA8D81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B925-49CC-4F6B-831F-770559F547F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B7D-314B-4B33-8B93-F58F3C41E70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77AB-088C-4A88-951B-DF9FF1E769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0DD7-D06B-46A5-9FA2-6CFB600438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E81-2F18-4722-9D86-BE40CB01134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3B9B-0CA8-4C84-8A7D-76FE337B04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E48F-7825-4F38-BA31-6BBEFA71E37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«Роль родителей в создании благоприятного психологического климата, в формировании жизнеутверждающей позиции, 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приобретении позитивного жизненного опыта детьми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124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орковенко Виктория Александровна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едагог-психолог МАДОУ д/С № 5 «Моряочк» муниципального образования город-курорт Геленджик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17440"/>
            <a:ext cx="447516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СЧАСТЛИВ ТОТ, КТО СЧАСТЛИВ У СЕБЯ ДОМА (Л.Н.ТОЛСТОЙ)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Picture 2" descr="E:\Флэшка\Документы\Мои рисунки\Коллекция картинок (Microsoft)\j0399955.jpg"/>
          <p:cNvPicPr/>
          <p:nvPr/>
        </p:nvPicPr>
        <p:blipFill>
          <a:blip r:embed="rId1"/>
          <a:stretch/>
        </p:blipFill>
        <p:spPr>
          <a:xfrm>
            <a:off x="1692360" y="2133720"/>
            <a:ext cx="61578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сихологическая поддержка – это процесс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отором взрослый сосредоточивается на позитивных сторонах и преимуществах ребенка с целью укрепления его самооценк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могает ребенку поверить в себя и свои способ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могает ребенку избежать ошибок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й поддерживает ребенка при неудач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щение с детьм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нят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има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ние (уважение)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обр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плые чувст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38098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ПОДДЕРЖИВАТЬ РЕБЕНКА – ЗНАЧИТЬ ВЕРИТЬ В НЕГО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E:\Флэшка\Документы\Мои рисунки\Коллекция картинок (Microsoft)\j0399498.jpg"/>
          <p:cNvPicPr/>
          <p:nvPr/>
        </p:nvPicPr>
        <p:blipFill>
          <a:blip r:embed="rId1"/>
          <a:stretch/>
        </p:blipFill>
        <p:spPr>
          <a:xfrm>
            <a:off x="3780000" y="333360"/>
            <a:ext cx="499572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держивать можно посредством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дельных сл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сказыва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косновен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вместных действий, физического соучасти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ражения лиц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C:\Users\пк\Desktop\Волшебный мир бабочки\бабочки\44614122_6b501f01bfe84242ee.jpg"/>
          <p:cNvPicPr/>
          <p:nvPr/>
        </p:nvPicPr>
        <p:blipFill>
          <a:blip r:embed="rId1"/>
          <a:stretch/>
        </p:blipFill>
        <p:spPr>
          <a:xfrm>
            <a:off x="2114640" y="542880"/>
            <a:ext cx="5329080" cy="59911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17080"/>
            <a:ext cx="380988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«РЕЦЕПТ СЧАСТЬЯ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0:04:37Z</dcterms:created>
  <dc:creator>лоцман</dc:creator>
  <dc:description/>
  <dc:language>en-US</dc:language>
  <cp:lastModifiedBy>лоцман</cp:lastModifiedBy>
  <dcterms:modified xsi:type="dcterms:W3CDTF">2013-04-25T10:22:34Z</dcterms:modified>
  <cp:revision>2</cp:revision>
  <dc:subject/>
  <dc:title>«Роль родителей в создании благоприятного психологического климата, в формировании жизнеутверждающей позиции,  в приобретении позитивного жизненного опыта детьми»</dc:title>
</cp:coreProperties>
</file>