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B25-E6D4-43C8-BA30-BC9BB1F0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569-C131-442E-AB19-2A76966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689-1250-4B5C-8D98-A76877B6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5F2-2151-42FE-9476-64F7E061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D699-4D12-4E0A-BBCC-9F42FB0C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7C0C-67AD-4032-AEFB-8D07425D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1F22-6DB9-42AF-B34C-3AE796F4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703-EDBE-43A5-BCF7-51E44EF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491-C7E8-41F7-97B2-80EC4819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8E62-AE71-43DE-865F-25D03633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B514-17D3-466A-BE71-132FC23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692-6533-4395-AB1B-2E4BBD97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098-196A-4696-AA35-7E440E8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1EFC-C85B-4DAB-A31C-00FA509D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66F3-A7AF-46FE-A16D-06FEE889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7062-A446-4EE1-9593-BAA4C2AA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5D77-2ACF-4848-A158-2253CE26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AB8B-4F67-49BC-8949-279D9E7D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F1D7-655D-4443-BDD8-18BA2BC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12FB-9863-4CD4-957C-7C278CC1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4BE1-0CDE-48E1-8AF2-DBC79E7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0945-6511-4324-92A8-5466EDFD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676-48D5-49FB-A026-4A0452C1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DFAC-8629-4C24-B66F-B07A7E5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41C0-BC7D-4C76-9BBC-4F770B5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DB7E-4E19-4E00-8510-5BDC330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BDC8-37F0-4C9B-B112-B8522F0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0E09-6BC7-4C70-928F-CA4984FD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DD8F-2974-4884-A205-A0B5B596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3710-2E89-4E08-82D4-EA7F83A2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BCDD-92AD-4A4C-8A18-6BE26A55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7A1F-7725-42B3-955B-D4895316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2CA1-9EED-45A2-BD30-45E29A3D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DC1-5C6E-4EE0-96DB-0F021040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0291-C407-4108-8D33-7185846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E4AE-E3F4-457F-8B3D-659CA18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2560-6961-4579-BDD9-0D10067D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1476-17F2-44CC-8D3F-BAD90C0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9FB9-6565-4004-8E74-05954F81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920A-779E-4EBB-B6E1-371EEA4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E0A4-FC24-456E-B842-BB820587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8322-27DE-46A9-AD8F-92C0F192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F20F-041F-4DEE-BD0A-7AF56856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399E-9EE0-4CC8-8C99-545B0801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AD8-3731-42BD-8FB0-79E3B1B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C47C6-1C3B-4152-9A17-7A56A99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EB1B-B0F4-4337-A569-8277E2DB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6C0F6-71A0-488F-937F-7845D48A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6C87-630B-400F-A367-725FADC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311C-306B-489F-8B50-0AEF77DB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7C04-4632-45DD-9AC4-501E924F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6976A-B506-46C5-9C43-2B8701CB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0EE0-6950-4DFF-91E4-7DD525B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21E4-13F5-41D1-9E6B-DC7D298E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2F6A-FE41-4C6D-95BA-1D79D13D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B09-AD1B-4F3B-977E-8AA9875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9CFD-B81E-4CF3-AD16-FB5B3856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295C5-9049-4116-9654-62E3C6BB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453CB-155C-42BD-AD7E-85DD9BA2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480F-A6E4-4BCB-B24E-A6155D9C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971C-261E-4C75-83B1-A3EBA1D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5438-2834-4A2F-A3D9-77B4285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A066-E0E0-4037-AB84-C0727D89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B27A6-544A-436B-A63B-D318746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8C38-65FC-46EA-B2FE-F47F29E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8573C-ED7D-4EA8-9238-67769FE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628-373E-4FDE-A4C5-0A9A700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DE21-2AB8-4BF5-8CAF-0F55344F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6007-7683-493D-9188-715943FB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62A2-004A-450F-A1CB-075F1DA1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32C9E-266E-4079-A312-BB1C93B8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3B87-72D0-4FFF-A903-5DBE6C4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6F921-E65A-4B97-AF40-C2D2052F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CFCFA-CED4-4913-9C62-5C45272C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5396E-0B96-4ADF-88E3-442B113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BBF52-4094-4144-9E61-D971246B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A960-9E5D-4893-AC45-0D7AF1C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CC4-0103-4D4C-AD84-808453E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8EE0-EE69-4B65-8548-CBEF6DC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B2DB-A0EC-4A72-A63C-C6998C1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03C1E-8707-449E-B45C-40BCBF62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3B40E-3FF7-4F2F-BE8E-7E7B1062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B4C9F-FEB9-421A-AE2A-B782FD66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DC0-E5C9-477F-8A59-FA0AD39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8F8-26EC-4CC6-B224-A54025BD61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B35-C3B6-4B57-A00B-84507910B3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F436-5A78-4BB4-BD3C-9B80B54226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CEE-E668-4606-8650-3EBC62066D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2CF4-5FF9-4FF0-9730-BA25CC9D7D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E109-7C6F-4758-ACE7-E0FB0722BA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B661-3C1E-4A72-8286-DBB8F39715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«Роль родителей в создании благоприятного психологического климата, в формировании жизнеутверждающей позиции,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 приобретении позитивного жизненного опыта детьми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124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орковенко Виктория Александровна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едагог-психолог МАДОУ д/С № 5 «Моряочк» муниципального образования город-курорт Геленджик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447516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СЧАСТЛИВ ТОТ, КТО СЧАСТЛИВ У СЕБЯ ДОМА (Л.Н.ТОЛСТОЙ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E:\Флэшка\Документы\Мои рисунки\Коллекция картинок (Microsoft)\j0399955.jpg"/>
          <p:cNvPicPr/>
          <p:nvPr/>
        </p:nvPicPr>
        <p:blipFill>
          <a:blip r:embed="rId1"/>
          <a:stretch/>
        </p:blipFill>
        <p:spPr>
          <a:xfrm>
            <a:off x="1692360" y="2133720"/>
            <a:ext cx="61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ая поддержка – это процесс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отором взрослый сосредоточивается на позитивных сторонах и преимуществах ребенка с целью укрепления его самооценк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й помогает ребенку поверить в себя и свои способ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й помогает ребенку избежать ошибо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й поддерживает ребенка при неудач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щение с детьм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нят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има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ние (уважение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обр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плые чув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38098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ПОДДЕРЖИВАТЬ РЕБЕНКА – ЗНАЧИТЬ ВЕРИТЬ В НЕГО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E:\Флэшка\Документы\Мои рисунки\Коллекция картинок (Microsoft)\j0399498.jpg"/>
          <p:cNvPicPr/>
          <p:nvPr/>
        </p:nvPicPr>
        <p:blipFill>
          <a:blip r:embed="rId1"/>
          <a:stretch/>
        </p:blipFill>
        <p:spPr>
          <a:xfrm>
            <a:off x="3780000" y="333360"/>
            <a:ext cx="49957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держивать можно посредством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дельных сл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казыва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коснове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местных действий, физического соучаст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ражения л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Users\пк\Desktop\Волшебный мир бабочки\бабочки\44614122_6b501f01bfe84242ee.jpg"/>
          <p:cNvPicPr/>
          <p:nvPr/>
        </p:nvPicPr>
        <p:blipFill>
          <a:blip r:embed="rId1"/>
          <a:stretch/>
        </p:blipFill>
        <p:spPr>
          <a:xfrm>
            <a:off x="2114640" y="542880"/>
            <a:ext cx="5329080" cy="5991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380988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«РЕЦЕПТ СЧАСТЬЯ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0:04:37Z</dcterms:created>
  <dc:creator>лоцман</dc:creator>
  <dc:description/>
  <dc:language>en-US</dc:language>
  <cp:lastModifiedBy>лоцман</cp:lastModifiedBy>
  <dcterms:modified xsi:type="dcterms:W3CDTF">2013-04-25T10:22:34Z</dcterms:modified>
  <cp:revision>2</cp:revision>
  <dc:subject/>
  <dc:title>«Роль родителей в создании благоприятного психологического климата, в формировании жизнеутверждающей позиции,  в приобретении позитивного жизненного опыта детьми»</dc:title>
</cp:coreProperties>
</file>