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0D0-9057-4BB2-96D6-86F97C05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993-EDD9-44B3-9A20-8C03658E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6F8-B6CC-4527-8929-4C328262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6AC-32BD-4149-9722-C29261F0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72F-37F5-451E-9476-13495FE4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222-1E3B-48CD-B9C6-0B8138AB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D26-3CE1-41F0-86C6-7CCDFE1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3DB-BF3D-4B99-A87A-A755B814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C87-0795-44F0-9FAF-F58FD142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FB4-B730-42AC-A8C1-CF5DEDD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CD8-1DE4-4A0E-8E23-7059A32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2E9-F660-42AE-92E9-CC60DB2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DFF-EF26-4617-911A-B2BCFD9112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A1D-D6BF-4BC4-9552-0B33C344B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0;&#1083;&#1083;&#1102;&#1089;&#1090;&#1088;&#1072;fccb1d22f2592f08aad729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-игра  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В мире басен Крылов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3786120"/>
            <a:ext cx="8072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ю подготовил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ЙОРОВА Т.В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учитель русского языка и 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Средняя общеобразовательная школа №65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здравляем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ителе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2859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.Я.Коровина, В.П.Журавлев, В.И.Коровин Литература. </a:t>
            </a:r>
            <a:r>
              <a:rPr b="0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класс . В  двух частях Москва, «Просвещение» ,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.Б.Беломестных, И.В.Золотарева Поурочные разработки по литературе.5 класс. Москва, «ВАКО». 200</a:t>
            </a:r>
            <a:r>
              <a:rPr b="0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Е.Болдырева, Т.Кучина «Игры, конкурсы, олимпиады по литературе для 5-11 классов».-Ярославль: Академия развития,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.Д.Ильина Предметная неделя литературы в школе., Ростов- на- Дону, «Феникс»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ages.yandex.ru/yandsearch?source=wiz&amp;text=%D0%B8%D0%BB%D0%BB%D1%8E%D1%81%D1%82%D1%80%D0%B0fccb1d22f2592f08aad7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358E-C617-4ADF-BC1E-C2BFF2305D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C249-3E8C-4C81-AD22-B6617CF40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0-tub-ru.yandex.net/i?id=199727522-16-72&amp;n=21"/>
          <p:cNvPicPr/>
          <p:nvPr/>
        </p:nvPicPr>
        <p:blipFill>
          <a:blip r:embed="rId2"/>
          <a:stretch/>
        </p:blipFill>
        <p:spPr>
          <a:xfrm>
            <a:off x="3929040" y="5643720"/>
            <a:ext cx="8287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10480"/>
            <a:ext cx="7143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114264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яснить уровень усвоения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торение и закрепление материала по т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витие интереса к творчеству И.А.Кры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витие интереса к изучению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9DF-CF49-43A2-9D3F-9FED9D68D1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50A7-3519-4DC1-A694-A2E2FE46A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im4-tub-ru.yandex.net/i?id=24907241-57-72&amp;n=21"/>
          <p:cNvPicPr/>
          <p:nvPr/>
        </p:nvPicPr>
        <p:blipFill>
          <a:blip r:embed="rId1"/>
          <a:stretch/>
        </p:blipFill>
        <p:spPr>
          <a:xfrm>
            <a:off x="6715080" y="857160"/>
            <a:ext cx="2143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77580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 «Викторина»</a:t>
            </a:r>
            <a:br>
              <a:rPr sz="44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из персонажей говорит? Из какой басни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928520"/>
            <a:ext cx="4500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Как смеешь ты, наглец, нечистым ры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десь чистое мутить питье мо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 песком и ил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Спой, светик, не стыдись! Что, ежели, сестри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 красоте такой и петь ты мастериц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Все про очки лишь мне налга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проку нá волос нет в них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85840" y="192888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олк, «Волк и ягнёнок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Лисица, «Ворона и лисиц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ртыш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артышка и очк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0D12-F767-4552-8634-4CE3ACE564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D866-128B-4147-B391-A04F38E4A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8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560" y="78552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т то-то мне и духу прида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то я, совсем без дра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гу попасть в большие забияки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стойте ж, я сыскал секр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ы, верно, уж полад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ль рядом сяд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усть сохнет. Ничуть меня то не трево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умушка, мне странно э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 работала ль ты в ле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Я ваш старинный сват и ку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Послушай-ка, дружище! Ты сказывают, петь великий мастер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7480" y="78552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оська, «Слон и Моськ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сел, «Квартет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винья, «Свинья под дубом»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уравей, «Стрекоза и муравей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олк, «Волк на псарн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сёл, «Осел и соловей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4"/>
          <p:cNvSpPr/>
          <p:nvPr/>
        </p:nvSpPr>
        <p:spPr>
          <a:xfrm>
            <a:off x="457200" y="6675480"/>
            <a:ext cx="2133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0925-981A-4F93-A989-4B988C34E8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527-EFD2-4A13-AC8E-12CBDBA8F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 «Блиц-опро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071360"/>
            <a:ext cx="7358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каком городе родился и вырос Крыл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Моск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ое образование получил и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анимался самообразованием, т.к. семья бедствова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то был первым наставником Крылова в детств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любимый жанр творчества Крыл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сн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ьи басни стали для Крылова образц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сни Эзоп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 в народе прозвали Крыл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«дедушк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ата 3"/>
          <p:cNvSpPr/>
          <p:nvPr/>
        </p:nvSpPr>
        <p:spPr>
          <a:xfrm>
            <a:off x="457200" y="6500880"/>
            <a:ext cx="1828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395-7BAD-4CF0-B3F7-F2BB2EB2A5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7547-6902-4FA0-869B-763AF8E772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im2-tub-ru.yandex.net/i?id=101857086-43-72&amp;n=21"/>
          <p:cNvPicPr/>
          <p:nvPr/>
        </p:nvPicPr>
        <p:blipFill>
          <a:blip r:embed="rId1"/>
          <a:stretch/>
        </p:blipFill>
        <p:spPr>
          <a:xfrm>
            <a:off x="7143840" y="1071720"/>
            <a:ext cx="1643040" cy="211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im5-tub-ru.yandex.net/i?id=172105264-63-72&amp;n=21"/>
          <p:cNvPicPr/>
          <p:nvPr/>
        </p:nvPicPr>
        <p:blipFill>
          <a:blip r:embed="rId2"/>
          <a:stretch/>
        </p:blipFill>
        <p:spPr>
          <a:xfrm>
            <a:off x="6786720" y="3882960"/>
            <a:ext cx="1857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7200" y="1119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714240"/>
            <a:ext cx="53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 такое басн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раткий поучительный рассказ в стихах с нравоучени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зовите основные черты бас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легория – иносказание, мораль - нравоуч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установлен памятник Крылов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Петербурге, в Летнем сад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зовите парные заглавия басен Крыл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за каждый ответ по 0,5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5218-2329-477D-A04B-5A9B9E6FF5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1BEF-5AA7-475E-A8AD-5BB0B2E35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im5-tub-ru.yandex.net/i?id=34249855-26-72&amp;n=21"/>
          <p:cNvPicPr/>
          <p:nvPr/>
        </p:nvPicPr>
        <p:blipFill>
          <a:blip r:embed="rId1"/>
          <a:stretch/>
        </p:blipFill>
        <p:spPr>
          <a:xfrm>
            <a:off x="5572080" y="928800"/>
            <a:ext cx="2214720" cy="25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5-tub-ru.yandex.net/i?id=172105264-63-72&amp;n=21"/>
          <p:cNvPicPr/>
          <p:nvPr/>
        </p:nvPicPr>
        <p:blipFill>
          <a:blip r:embed="rId2"/>
          <a:stretch/>
        </p:blipFill>
        <p:spPr>
          <a:xfrm>
            <a:off x="5357880" y="4429080"/>
            <a:ext cx="1719360" cy="234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im6-tub-ru.yandex.net/i?id=466862343-14-72&amp;n=21"/>
          <p:cNvPicPr/>
          <p:nvPr/>
        </p:nvPicPr>
        <p:blipFill>
          <a:blip r:embed="rId3"/>
          <a:stretch/>
        </p:blipFill>
        <p:spPr>
          <a:xfrm>
            <a:off x="7215120" y="3357720"/>
            <a:ext cx="17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ные заглавия басен Кры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21392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лк и ягненок»,                    «Ворона и Лисица»,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лк и Журавль»                   «Лев и Кома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Кошка и Соловей»)                «Мышь и Крыс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Мартышка и Очки»              «Кукушка и Пету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Зеркало и Обезьяна»            «Слон и Мось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Кот и Повар»                        «Стрекоза и Мурав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сел и Соловей»                  «Ворона и Кури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Дуб и Трость»                        «Лягушка и Во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иж и Голубь»                      «Щука и Ко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етух и Жемчужное зерно»     «Лисица и Сур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DAB-C9CC-435C-B85D-63E34EA5EE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6651-7CF3-4F91-9BFE-30854CC97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0-tub-ru.yandex.net/i?id=199727522-16-72&amp;n=21"/>
          <p:cNvPicPr/>
          <p:nvPr/>
        </p:nvPicPr>
        <p:blipFill>
          <a:blip r:embed="rId1"/>
          <a:stretch/>
        </p:blipFill>
        <p:spPr>
          <a:xfrm>
            <a:off x="7572240" y="1143000"/>
            <a:ext cx="1343160" cy="167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8-tub-ru.yandex.net/i?id=87016178-69-72&amp;n=21"/>
          <p:cNvPicPr/>
          <p:nvPr/>
        </p:nvPicPr>
        <p:blipFill>
          <a:blip r:embed="rId2"/>
          <a:stretch/>
        </p:blipFill>
        <p:spPr>
          <a:xfrm>
            <a:off x="7000920" y="2714760"/>
            <a:ext cx="1428840" cy="191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im6-tub-ru.yandex.net/i?id=433966499-29-72&amp;n=21"/>
          <p:cNvPicPr/>
          <p:nvPr/>
        </p:nvPicPr>
        <p:blipFill>
          <a:blip r:embed="rId3"/>
          <a:stretch/>
        </p:blipFill>
        <p:spPr>
          <a:xfrm>
            <a:off x="7572240" y="4714920"/>
            <a:ext cx="1357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  «Инсценировка бас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714840"/>
            <a:ext cx="118584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4C2-3971-4C4F-A14E-F2A34F2AFC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25CF-A2DA-4935-9898-084493649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im0-tub-ru.yandex.net/i?id=218563156-18-72&amp;n=21"/>
          <p:cNvPicPr/>
          <p:nvPr/>
        </p:nvPicPr>
        <p:blipFill>
          <a:blip r:embed="rId1"/>
          <a:stretch/>
        </p:blipFill>
        <p:spPr>
          <a:xfrm>
            <a:off x="6066000" y="1420920"/>
            <a:ext cx="292572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im0-tub-ru.yandex.net/i?id=226535369-41-72&amp;n=21"/>
          <p:cNvPicPr/>
          <p:nvPr/>
        </p:nvPicPr>
        <p:blipFill>
          <a:blip r:embed="rId2"/>
          <a:stretch/>
        </p:blipFill>
        <p:spPr>
          <a:xfrm>
            <a:off x="281160" y="1420920"/>
            <a:ext cx="2651040" cy="22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im3-tub-ru.yandex.net/i?id=419253797-21-72&amp;n=21"/>
          <p:cNvPicPr/>
          <p:nvPr/>
        </p:nvPicPr>
        <p:blipFill>
          <a:blip r:embed="rId3"/>
          <a:stretch/>
        </p:blipFill>
        <p:spPr>
          <a:xfrm>
            <a:off x="2706840" y="21207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im5-tub-ru.yandex.net/i?id=146091194-25-72&amp;n=21"/>
          <p:cNvPicPr/>
          <p:nvPr/>
        </p:nvPicPr>
        <p:blipFill>
          <a:blip r:embed="rId4"/>
          <a:stretch/>
        </p:blipFill>
        <p:spPr>
          <a:xfrm>
            <a:off x="420840" y="4065480"/>
            <a:ext cx="306072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://im6-tub-ru.yandex.net/i?id=466862343-14-72&amp;n=21"/>
          <p:cNvPicPr/>
          <p:nvPr/>
        </p:nvPicPr>
        <p:blipFill>
          <a:blip r:embed="rId5"/>
          <a:stretch/>
        </p:blipFill>
        <p:spPr>
          <a:xfrm>
            <a:off x="5924520" y="4041720"/>
            <a:ext cx="229860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асибо за урок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541512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6:56:10Z</dcterms:created>
  <dc:creator>Admin</dc:creator>
  <dc:description>http://aida.ucoz.ru</dc:description>
  <dc:language>en-US</dc:language>
  <cp:lastModifiedBy>Admin</cp:lastModifiedBy>
  <dcterms:modified xsi:type="dcterms:W3CDTF">2013-04-25T07:59:15Z</dcterms:modified>
  <cp:revision>17</cp:revision>
  <dc:subject/>
  <dc:title>Урок-игра   «В мире басен Крылова»  </dc:title>
</cp:coreProperties>
</file>