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1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FDE5-BE7C-4864-9903-CBFBF5F2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E45-6ABB-41DB-8043-BC0AEE5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128-2A3D-43A4-B1E6-E2B07C1A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05C-D509-49D7-9CF3-72BFC8C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4D9-3850-4935-97D3-8B775D95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89E-051A-4FC1-BBAB-49F25DB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D51-0D45-4E9B-B020-B8F1365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B7D-FCBC-4212-A4E3-8B6326DD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938-E6BC-4FF4-8784-4531915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0E84-CFAB-4D73-9AAC-28FFECCD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5DA-1415-4FD4-98FD-6BA2B3F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457-7763-4CE9-A5A5-E0DFD46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BEC1-FEF5-4FEC-BD89-5A7ECD77F9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A7BB-8EF1-4B6C-B9B1-ECB822DCC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0;&#1083;&#1083;&#1102;&#1089;&#1090;&#1088;&#1072;fccb1d22f2592f08aad729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7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рок-игра  </a:t>
            </a:r>
            <a:br>
              <a:rPr sz="4400"/>
            </a:b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В мире басен Крылов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3786120"/>
            <a:ext cx="8072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ю подготовил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ЙОРОВА Т.В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учитель русского языка и 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Средняя общеобразовательная школа №65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8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здравляе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бедителе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4200" y="12859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.Я.Коровина, В.П.Журавлев, В.И.Коровин Литература. </a:t>
            </a:r>
            <a:r>
              <a:rPr b="0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5</a:t>
            </a: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класс . В  двух частях Москва, «Просвещение» ,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.Б.Беломестных, И.В.Золотарева Поурочные разработки по литературе.5 класс. Москва, «ВАКО». 200</a:t>
            </a:r>
            <a:r>
              <a:rPr b="0" lang="en-US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Е.Болдырева, Т.Кучина «Игры, конкурсы, олимпиады по литературе для 5-11 классов».-Ярославль: Академия развития,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.Д.Ильина Предметная неделя литературы в школе., Ростов- на- Дону, «Феникс», 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mages.yandex.ru/yandsearch?source=wiz&amp;text=%D0%B8%D0%BB%D0%BB%D1%8E%D1%81%D1%82%D1%80%D0%B0fccb1d22f2592f08aad7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1D98-2C48-4C5B-9825-45FAAA1287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F79-ED79-43FF-B6C8-6623455DD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im0-tub-ru.yandex.net/i?id=199727522-16-72&amp;n=21"/>
          <p:cNvPicPr/>
          <p:nvPr/>
        </p:nvPicPr>
        <p:blipFill>
          <a:blip r:embed="rId2"/>
          <a:stretch/>
        </p:blipFill>
        <p:spPr>
          <a:xfrm>
            <a:off x="3929040" y="5643720"/>
            <a:ext cx="8287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510480"/>
            <a:ext cx="7143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3840" y="1142640"/>
            <a:ext cx="6000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ыяснить уровень усвоения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вторение и закрепление материала по т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витие интереса к творчеству И.А.Крыл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звитие интереса к изучению литера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6A05-9709-4F73-81B9-ECEA3E4D88D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9BF-B218-4A6C-ACE8-5F211B5205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http://im4-tub-ru.yandex.net/i?id=24907241-57-72&amp;n=21"/>
          <p:cNvPicPr/>
          <p:nvPr/>
        </p:nvPicPr>
        <p:blipFill>
          <a:blip r:embed="rId1"/>
          <a:stretch/>
        </p:blipFill>
        <p:spPr>
          <a:xfrm>
            <a:off x="6715080" y="857160"/>
            <a:ext cx="21430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77580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«Викторина»</a:t>
            </a:r>
            <a:br>
              <a:rPr sz="44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то из персонажей говорит? Из какой басни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1928520"/>
            <a:ext cx="45003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Как смеешь ты, наглец, нечистым ры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десь чистое мутить питье мо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 песком и ил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Спой, светик, не стыдись! Что, ежели, сестриц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 красоте такой и петь ты мастериц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Все про очки лишь мне налга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А проку нá волос нет в них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5840" y="1928880"/>
            <a:ext cx="4071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олк, «Волк и ягнёнок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Лисица, «Ворона и лисиц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ртыш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артышка и очк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EE6B-1533-4F7D-BFB1-9A37A52B09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2AB-B806-4A3B-859B-FCA710A88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8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2560" y="785520"/>
            <a:ext cx="47862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от то-то мне и духу придае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Что я, совсем без дра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огу попасть в большие забияки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остойте ж, я сыскал секре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ы, верно, уж полади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ль рядом сяд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усть сохнет. Ничуть меня то не тревож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умушка, мне странно э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Да работала ль ты в лет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Я ваш старинный сват и ку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-Послушай-ка, дружище! Ты сказывают, петь великий мастерищ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7480" y="78552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оська, «Слон и Мось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сел, «Квартет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винья, «Свинья под дубом»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уравей, «Стрекоза и муравей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олк, «Волк на псарне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сёл, «Осел и соловей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4"/>
          <p:cNvSpPr/>
          <p:nvPr/>
        </p:nvSpPr>
        <p:spPr>
          <a:xfrm>
            <a:off x="457200" y="6675480"/>
            <a:ext cx="21337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DB4-0C9D-4C6A-BF74-2409159E1B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F51D-48DA-49F0-A922-9442A432D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«Блиц-опр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071360"/>
            <a:ext cx="73580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каком городе родился и вырос Крыл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Моск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ое образование получил и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занимался самообразованием, т.к. семья бедствова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то был первым наставником Крылова в детств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ма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любимый жанр творчества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сн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ьи басни стали для Крылова образц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басни Эзоп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к в народе прозвали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«дедушк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Дата 3"/>
          <p:cNvSpPr/>
          <p:nvPr/>
        </p:nvSpPr>
        <p:spPr>
          <a:xfrm>
            <a:off x="457200" y="6500880"/>
            <a:ext cx="1828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A949-B1CD-4E4E-B8AA-783015855E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2268-1C5B-437C-AEF6-A2F1562BB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http://im2-tub-ru.yandex.net/i?id=101857086-43-72&amp;n=21"/>
          <p:cNvPicPr/>
          <p:nvPr/>
        </p:nvPicPr>
        <p:blipFill>
          <a:blip r:embed="rId1"/>
          <a:stretch/>
        </p:blipFill>
        <p:spPr>
          <a:xfrm>
            <a:off x="7143840" y="1071720"/>
            <a:ext cx="1643040" cy="2119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im5-tub-ru.yandex.net/i?id=172105264-63-72&amp;n=21"/>
          <p:cNvPicPr/>
          <p:nvPr/>
        </p:nvPicPr>
        <p:blipFill>
          <a:blip r:embed="rId2"/>
          <a:stretch/>
        </p:blipFill>
        <p:spPr>
          <a:xfrm>
            <a:off x="6786720" y="3882960"/>
            <a:ext cx="1857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7200" y="1119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714240"/>
            <a:ext cx="53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то такое басн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краткий поучительный рассказ в стихах с нравоучение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зовите основные черты бас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легория – иносказание, мораль - нравоуч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Где установлен памятник Крылов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в Петербурге, в Летнем сад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зовите парные заглавия басен Крылов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(за каждый ответ по 0,5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34A7-407D-48D1-A798-94ADDB1E4C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D318-D051-4217-902B-BEBD8332C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im5-tub-ru.yandex.net/i?id=34249855-26-72&amp;n=21"/>
          <p:cNvPicPr/>
          <p:nvPr/>
        </p:nvPicPr>
        <p:blipFill>
          <a:blip r:embed="rId1"/>
          <a:stretch/>
        </p:blipFill>
        <p:spPr>
          <a:xfrm>
            <a:off x="5572080" y="928800"/>
            <a:ext cx="2214720" cy="250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5-tub-ru.yandex.net/i?id=172105264-63-72&amp;n=21"/>
          <p:cNvPicPr/>
          <p:nvPr/>
        </p:nvPicPr>
        <p:blipFill>
          <a:blip r:embed="rId2"/>
          <a:stretch/>
        </p:blipFill>
        <p:spPr>
          <a:xfrm>
            <a:off x="5357880" y="4429080"/>
            <a:ext cx="1719360" cy="234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im6-tub-ru.yandex.net/i?id=466862343-14-72&amp;n=21"/>
          <p:cNvPicPr/>
          <p:nvPr/>
        </p:nvPicPr>
        <p:blipFill>
          <a:blip r:embed="rId3"/>
          <a:stretch/>
        </p:blipFill>
        <p:spPr>
          <a:xfrm>
            <a:off x="7215120" y="3357720"/>
            <a:ext cx="1743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рные заглавия басен Кры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213920"/>
            <a:ext cx="70722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лк и ягненок»,                    «Ворона и Лисица»,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Волк и Журавль»                   «Лев и Кома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Кошка и Соловей»)                «Мышь и Крыс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Мартышка и Очки»              «Кукушка и Пету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Зеркало и Обезьяна»            «Слон и Мось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Кот и Повар»                        «Стрекоза и Мурав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Осел и Соловей»                  «Ворона и Кури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Дуб и Трость»                        «Лягушка и Вол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Чиж и Голубь»                      «Щука и Ко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етух и Жемчужное зерно»     «Лисица и Сур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CF61-C7DD-468B-8747-E186040E14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84DA-9D99-4687-B498-779FA23BAD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im0-tub-ru.yandex.net/i?id=199727522-16-72&amp;n=21"/>
          <p:cNvPicPr/>
          <p:nvPr/>
        </p:nvPicPr>
        <p:blipFill>
          <a:blip r:embed="rId1"/>
          <a:stretch/>
        </p:blipFill>
        <p:spPr>
          <a:xfrm>
            <a:off x="7572240" y="1143000"/>
            <a:ext cx="1343160" cy="1677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im8-tub-ru.yandex.net/i?id=87016178-69-72&amp;n=21"/>
          <p:cNvPicPr/>
          <p:nvPr/>
        </p:nvPicPr>
        <p:blipFill>
          <a:blip r:embed="rId2"/>
          <a:stretch/>
        </p:blipFill>
        <p:spPr>
          <a:xfrm>
            <a:off x="7000920" y="2714760"/>
            <a:ext cx="1428840" cy="1912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im6-tub-ru.yandex.net/i?id=433966499-29-72&amp;n=21"/>
          <p:cNvPicPr/>
          <p:nvPr/>
        </p:nvPicPr>
        <p:blipFill>
          <a:blip r:embed="rId3"/>
          <a:stretch/>
        </p:blipFill>
        <p:spPr>
          <a:xfrm>
            <a:off x="7572240" y="4714920"/>
            <a:ext cx="1357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онкурс  «Инсценировка бас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714840"/>
            <a:ext cx="118584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A263-5359-4455-9362-FDC778D3E0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2212-79DF-463F-86B9-0813A5A2C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im0-tub-ru.yandex.net/i?id=218563156-18-72&amp;n=21"/>
          <p:cNvPicPr/>
          <p:nvPr/>
        </p:nvPicPr>
        <p:blipFill>
          <a:blip r:embed="rId1"/>
          <a:stretch/>
        </p:blipFill>
        <p:spPr>
          <a:xfrm>
            <a:off x="6066000" y="1420920"/>
            <a:ext cx="2925720" cy="258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im0-tub-ru.yandex.net/i?id=226535369-41-72&amp;n=21"/>
          <p:cNvPicPr/>
          <p:nvPr/>
        </p:nvPicPr>
        <p:blipFill>
          <a:blip r:embed="rId2"/>
          <a:stretch/>
        </p:blipFill>
        <p:spPr>
          <a:xfrm>
            <a:off x="281160" y="1420920"/>
            <a:ext cx="2651040" cy="2255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im3-tub-ru.yandex.net/i?id=419253797-21-72&amp;n=21"/>
          <p:cNvPicPr/>
          <p:nvPr/>
        </p:nvPicPr>
        <p:blipFill>
          <a:blip r:embed="rId3"/>
          <a:stretch/>
        </p:blipFill>
        <p:spPr>
          <a:xfrm>
            <a:off x="2706840" y="21207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im5-tub-ru.yandex.net/i?id=146091194-25-72&amp;n=21"/>
          <p:cNvPicPr/>
          <p:nvPr/>
        </p:nvPicPr>
        <p:blipFill>
          <a:blip r:embed="rId4"/>
          <a:stretch/>
        </p:blipFill>
        <p:spPr>
          <a:xfrm>
            <a:off x="420840" y="4065480"/>
            <a:ext cx="306072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im6-tub-ru.yandex.net/i?id=466862343-14-72&amp;n=21"/>
          <p:cNvPicPr/>
          <p:nvPr/>
        </p:nvPicPr>
        <p:blipFill>
          <a:blip r:embed="rId5"/>
          <a:stretch/>
        </p:blipFill>
        <p:spPr>
          <a:xfrm>
            <a:off x="5924520" y="4041720"/>
            <a:ext cx="229860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Спасибо за урок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541512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6:56:10Z</dcterms:created>
  <dc:creator>Admin</dc:creator>
  <dc:description>http://aida.ucoz.ru</dc:description>
  <dc:language>en-US</dc:language>
  <cp:lastModifiedBy>Admin</cp:lastModifiedBy>
  <dcterms:modified xsi:type="dcterms:W3CDTF">2013-04-25T07:59:15Z</dcterms:modified>
  <cp:revision>17</cp:revision>
  <dc:subject/>
  <dc:title>Урок-игра   «В мире басен Крылова»  </dc:title>
</cp:coreProperties>
</file>