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D52-E200-497E-BFF7-2D73DEC6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B4C-E801-449E-8FBD-D12E0A53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0B6-7B16-4369-ACA7-5FAEE71F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98B-606A-4320-933A-1721918D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04A1-9407-437B-BF07-F674CA96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18AB-10FB-4978-A214-49E8309A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AD0D-2353-49CC-9011-E274B053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BCAA-1EE6-4D62-990E-0502D88B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BD47-9537-4AF9-8D62-C15DE973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C18C-CE5E-447B-A0DF-DC81BA58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45D0-BB31-42E4-BC25-6B0918F4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F2E-305D-4232-B77A-6833D722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7484-38B8-48A6-9093-37DC0AFC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14CC-E22E-4F8F-865A-CE13904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DB4F-3BE9-48A4-A301-701FF95C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A4AF-1D93-4EAE-AAAF-FCC70EEC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7606-F25A-482C-A0DB-AE5196A7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5D7D0-AA05-472F-A232-D4441249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A075-E5F6-4B55-88F1-F42C37D9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1CE4-184A-4602-BF02-C3313D64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83DD-6C20-420A-B1A4-7E639FA7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AE33-6F76-461C-8A32-8E1D97F0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41E-7C49-4901-A3A4-200ECC0A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EAC3-684F-484E-9D23-505376A7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F7044-FD4A-469E-A55F-A0127DA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0122-4D9E-4515-851E-42D4B92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6E1D-CB9D-49C7-96EA-B0C41BEE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FD92-66EE-439E-B9C0-C64A3F45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8F39F-BE73-4F2C-9AEA-3A5E8963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DCAC2-0910-4E3B-9DCD-E54AEFBE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46090-A275-4F0E-BE60-8B58E96A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658F3-9D03-4A95-BCAC-DB3808D2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A8ACD-0882-4BA7-B151-1D77178D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6D9-CE99-4CD9-BB4A-63827660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D1B37-4ACF-438B-BB9F-A2DB13BC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78C0-B32E-4913-A2E1-9127D141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31E17-9795-47B6-BF08-92E7186C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1A9D-453B-4BAF-B66A-E03FE561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A14C6-A369-4495-B449-DF5C8410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35BCE-1433-4FE6-986B-5970FCD0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9621B-E00C-4467-AEE6-4D3717AF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427A-EC09-4CB0-BD9A-D2DC9F7F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963C0-547F-43AE-8F6E-29BFBDB5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29F68-44EE-4FD6-8EF0-B422D42E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A20-6EF4-4711-BDA8-0B64740F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5BB89-4581-4377-B721-A35933EA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CC37B-355A-48C9-AE6A-801DB864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35876-002A-42AE-BD6A-5AF2584E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801BA-8ED0-43EC-AEF6-3BE75449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06EBB-6C92-477A-8C97-32E3119E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2C50D-9465-4CD8-906E-9AD28265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7E317-8170-4516-A8A4-D91962F6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AC3B8-BD16-4F30-996A-DEAB0BF3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A67C9-04A8-4D0D-9F01-024142B0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12248-A43C-4D9D-844D-E18EA9A5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F50-4562-4120-BEBC-DD5A10AD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9B014-9B73-4ACA-9E03-30229C21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22F-18DF-4D7F-A356-C4A0902D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DBF-4824-46CD-A7BF-76CD0A04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998-12C4-45DB-A04B-E01E5343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B2A2-43FE-4921-8CD1-1A4580091D70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576-998D-4EBA-9B66-09AACF03DE18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C76F-16E8-4E4A-A49E-6D5AAA7FE0B2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E621-4561-4105-B493-A5EF3E561926}" type="slidenum">
              <a:rPr b="0" lang="ru-RU" sz="1600" spc="-1" strike="noStrike">
                <a:solidFill>
                  <a:srgbClr val="434342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3C8C-3688-4313-A396-0CA45B1961D1}" type="slidenum">
              <a:rPr b="0" lang="ru-RU" sz="1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52280" y="152280"/>
            <a:ext cx="2438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Когда мы сегодня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На улицу выйдем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Мы песни услышим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Улыбки увидим!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Со всею страною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Ликует столица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Повсюду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Народ трудовой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Веселится!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Не только у нас -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И в Софии и в Праге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Шумят на ветру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Первомайские флаги!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В Болгарии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В Польше,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6a1b"/>
                </a:solidFill>
                <a:latin typeface="Franklin Gothic Book"/>
              </a:rPr>
              <a:t>В далеком Вьетнаме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705720" y="304560"/>
            <a:ext cx="2209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День Первого Ма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Все празднуют с нами.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Не только у нас -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И в Париже,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В Нью-Йорке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Рабочие люди,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Покинув задворки,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Идут.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И поток их все шире и шире,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Да здравствует дружба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96a1b"/>
                </a:solidFill>
                <a:latin typeface="Franklin Gothic Book"/>
              </a:rPr>
              <a:t>И мир во всем мире!...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-6984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3581280" cy="2219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2747880" y="2714760"/>
            <a:ext cx="3576600" cy="2238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6629400" y="52578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4"/>
          <a:stretch/>
        </p:blipFill>
        <p:spPr>
          <a:xfrm>
            <a:off x="4148280" y="52578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2057400" y="5257800"/>
            <a:ext cx="1847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867280" y="380520"/>
            <a:ext cx="320040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праздник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праздник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праздник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Первомайский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лёгкий-лёгкий шарик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новая рубашка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флаги, флаги, флаги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красные балконы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праздник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Первомайский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лёгкий-лёгкий шарик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мама, это папа,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Franklin Gothic Book"/>
              </a:rPr>
              <a:t>Это песенка такая!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-146160"/>
            <a:ext cx="7521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71880" cy="2057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152280" y="23623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3"/>
          <a:stretch/>
        </p:blipFill>
        <p:spPr>
          <a:xfrm>
            <a:off x="3352680" y="163440"/>
            <a:ext cx="2438640" cy="2427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4"/>
          <a:stretch/>
        </p:blipFill>
        <p:spPr>
          <a:xfrm>
            <a:off x="3352680" y="2714760"/>
            <a:ext cx="2438640" cy="1933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5"/>
          <a:stretch/>
        </p:blipFill>
        <p:spPr>
          <a:xfrm>
            <a:off x="1824120" y="4800600"/>
            <a:ext cx="1562040" cy="1981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6"/>
          <a:stretch/>
        </p:blipFill>
        <p:spPr>
          <a:xfrm>
            <a:off x="3505320" y="4791240"/>
            <a:ext cx="2286000" cy="1990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7"/>
          <a:stretch/>
        </p:blipFill>
        <p:spPr>
          <a:xfrm>
            <a:off x="6172200" y="4952880"/>
            <a:ext cx="26668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600200" y="5409720"/>
            <a:ext cx="6300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00"/>
                </a:solidFill>
                <a:latin typeface="Franklin Gothic Book"/>
              </a:rPr>
              <a:t>1 мая!</a:t>
            </a:r>
            <a:endParaRPr b="1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 ПРАЗДНИКОМ ВЕСНЫ И ТРУДА!!!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2700360" y="789120"/>
            <a:ext cx="2971800" cy="2361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2700360" y="310212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3"/>
          <a:stretch/>
        </p:blipFill>
        <p:spPr>
          <a:xfrm>
            <a:off x="119160" y="762120"/>
            <a:ext cx="2590560" cy="2361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4"/>
          <a:stretch/>
        </p:blipFill>
        <p:spPr>
          <a:xfrm>
            <a:off x="130320" y="3102120"/>
            <a:ext cx="2590560" cy="2438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5"/>
          <a:stretch/>
        </p:blipFill>
        <p:spPr>
          <a:xfrm>
            <a:off x="5672160" y="789120"/>
            <a:ext cx="3200400" cy="2361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"/>
          <p:cNvPicPr/>
          <p:nvPr/>
        </p:nvPicPr>
        <p:blipFill>
          <a:blip r:embed="rId6"/>
          <a:stretch/>
        </p:blipFill>
        <p:spPr>
          <a:xfrm>
            <a:off x="5672160" y="3102120"/>
            <a:ext cx="32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Саша</cp:lastModifiedBy>
  <dcterms:modified xsi:type="dcterms:W3CDTF">2013-04-27T19:45:0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