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769-5F23-4878-A412-2185F642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8A5-6076-4E89-B6D7-E275865F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D80-AB39-4953-938B-31A1AED7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D55-B6AE-4408-8F27-CBADADCC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9EE-29F8-45E7-856C-0EAB9A54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91AC-F9A9-41C6-BF9A-8AD4C1DC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4D2F-004C-42C2-855E-E5B1BFE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8DC3-25C7-496A-AC70-7465BEFC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F7CF-8371-42D5-B22F-A8E0BB5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DDB6-3BB5-47AB-A6A4-0D2220D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908D-F81A-4FD5-9B12-E6F5772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615-57E4-44BB-9631-5DAC5FA7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115B-E38D-4CB6-AEA1-3C5E4CE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822-C6CC-4F31-9831-73FAE3E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0CF-84C5-4CB4-AF9D-DC2AD3F0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F040-3EDD-4243-AD6F-63A430E1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2EF-9D35-4CD1-8ABE-D54673B8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B8F1-5EAD-48F8-A594-70BD99BE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9052-6D5F-45DA-B06C-956BB2C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96D0-F1E4-4B64-95AB-69717A1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733A-9D48-4AF7-9459-A189D60E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32C3-685F-4142-B55E-C0AFFEE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208-7001-4B41-86BE-E040CBF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F975-AFDB-43DC-A455-84A31FF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AC40-C8F1-472A-95E4-608AF4A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11D4-36DE-418B-9F39-DD79BB5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9A28-9EC5-41FB-B97A-7400458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2097-F95E-4EB2-B149-C73AFB98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9F81-37C2-49D8-A18D-DF376892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31B2-420D-44D7-9041-DC614E7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0A73-7DE5-4E04-BD38-E0714F4D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34D7-0A7E-40D4-88B8-804E03D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10C4-1437-412F-9029-C576D3B8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500-8138-42E5-B7D0-8602D94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1E61-06CC-4E2F-8D09-042B7B3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34F5-B0A8-4A9C-A451-BF6986B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0809-59F0-42EE-A649-6BA8C19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9EC3-6977-4E80-BBBA-3191A36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E088-CD34-4207-B28B-B1B124C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3E28-0559-411A-8A18-BDE4052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2A9E-EB5A-4D94-A5E2-56C5051B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291B-7A31-43EB-956E-7971DA95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17D8-A005-4985-9324-07FBAEDF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2711-876C-4B8A-BE4C-F64A28EA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303-B726-4318-8C71-E76ED29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A9F0-8751-458D-BED0-FFAD39E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2E2F-12D4-4A67-B1AA-05DB223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5FF0-0024-46A7-B986-241D563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169E-0F0E-4CC6-997A-F1A799C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DBAF-0CC3-4745-BEAC-C119D03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9248-2AFE-4F77-B46F-A47588A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DF1D-FF28-4065-8848-5B7E68F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D102-AEF2-4D69-8942-0CDC8022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5F6F-74F3-4902-8309-54DBE1F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61503-4B1A-4947-A2CC-67DA101C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401-C008-4DF5-8D77-72FE00A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5341-6EB5-419A-9C35-0C7C5032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F57-3C2C-4F8C-AF2E-FB93D234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3EC-3A31-4943-8ED6-E88FA0CE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061-5833-4521-B6F3-BC80FFB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7C3A-BFC3-4241-B252-8AFEA963F35C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FC84-CDEF-4BDD-9B11-4309CA26EFF8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1BB6-C62C-484F-990A-EF4303087965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D71-2889-4519-AA46-77A20DE0928F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7152-F7D0-4CA6-AF57-E8F690062B63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152280"/>
            <a:ext cx="2438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Когда мы сегодн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а улицу выйдем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Мы песни услышим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Улыбки увидим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Со всею страною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Ликует столица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Повсюд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арод трудовой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еселится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е только у нас -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И в Софии и в Праг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Шумят на ветр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Первомайские флаги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Болгарии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Польше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далеком Вьетнам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05720" y="304560"/>
            <a:ext cx="2209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День Первого Ма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Все празднуют с нами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Не только у нас -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в Париже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В Нью-Йорке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Рабочие люди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Покинув задворки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дут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поток их все шире и шире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Да здравствует дружба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мир во всем мире!..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-6984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81280" cy="2219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747880" y="2714760"/>
            <a:ext cx="3576600" cy="223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4148280" y="5257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057400" y="525780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867280" y="380520"/>
            <a:ext cx="320040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йский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лёгкий-лёгкий шар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новая рубашк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флаги, флаги, флаги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красные балконы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йский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лёгкий-лёгкий шар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мама, это пап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есенка такая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71880" cy="205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3352680" y="163440"/>
            <a:ext cx="2438640" cy="2427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4"/>
          <a:stretch/>
        </p:blipFill>
        <p:spPr>
          <a:xfrm>
            <a:off x="3352680" y="271476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5"/>
          <a:stretch/>
        </p:blipFill>
        <p:spPr>
          <a:xfrm>
            <a:off x="1824120" y="48006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6"/>
          <a:stretch/>
        </p:blipFill>
        <p:spPr>
          <a:xfrm>
            <a:off x="3505320" y="4791240"/>
            <a:ext cx="2286000" cy="1990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7"/>
          <a:stretch/>
        </p:blipFill>
        <p:spPr>
          <a:xfrm>
            <a:off x="6172200" y="4952880"/>
            <a:ext cx="26668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0200" y="5409720"/>
            <a:ext cx="6300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Franklin Gothic Book"/>
              </a:rPr>
              <a:t>1 мая!</a:t>
            </a:r>
            <a:endParaRPr b="1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 ПРАЗДНИКОМ ВЕСНЫ И ТРУДА!!!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700360" y="789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2700360" y="31021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119160" y="762120"/>
            <a:ext cx="2590560" cy="2361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130320" y="3102120"/>
            <a:ext cx="2590560" cy="2438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5672160" y="7891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6"/>
          <a:stretch/>
        </p:blipFill>
        <p:spPr>
          <a:xfrm>
            <a:off x="5672160" y="310212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5:0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