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DE847-B8D5-461C-B923-787C3FE86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BDD08-7BBF-4E6C-BAA2-F7FFF19F2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A1B42-FF8B-4D5C-9109-86F908DAE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1F412-C2A4-4F4F-81D6-2D422A89E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BDC4D-89E6-4500-97E4-409352705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92B04-4784-40D2-AA95-89C1187A0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420E9-81E4-4E6E-AFE6-5D757EF2B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B31C7-96B1-4B71-A1E6-122D62948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82607-E6C5-4656-A879-27A7D5078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734E3-1F30-4617-A86F-9A6A5F1B7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C6710-9E1F-4B64-80C2-6F9831925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53A49-BA9F-4314-B284-76C7B7544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9BD0A-E727-4CE5-B9CF-ADD3B375C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141E3-25BF-44A7-B587-8C3E78417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6F1A5-E7E7-471A-A882-72E86ADF9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8C9FD-A8FE-4EF6-87A4-F2D2218B0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C4E46-C27C-4626-A800-44A3A4FAC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0B0793-E81F-4CAD-86A2-6E645C7AE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F32369-98C2-4773-929E-F8B760B73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AD4A4A-284C-4F9F-9E18-45F03890A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6E8575-D079-4555-81A2-3FC7025DA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350B4E-4598-400C-8419-46320222E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413CC-DB53-4E12-A0F0-FF1ECD330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CEA6B4-6B46-4FA1-9ED8-36D4C58EC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B94FC1-A555-4CDF-B85A-7D70A5140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62716C-77CF-450F-9272-3A3434BC1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E709AA-CE6C-42C0-952E-474026EB5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04F2EF-D433-45B1-B371-279AB6078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E717F9-CD17-464E-9725-609C27816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9B9A2E-3D7E-49E9-A1AA-B1461D517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BEC22F-61A8-487D-B0CC-B103328C9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04F13E-1680-44DB-B2ED-D5DF80509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179A38-633D-499E-BFB8-90988D379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1E2BB-4A46-44A9-A2B4-BAD1EEA29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991C8C-A509-471B-9BE8-25F22240F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DFBF8C-92AA-463E-A3F9-781D250B9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AA6DF1-F639-4C95-98CC-02AA64040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7EE256-DE92-4C6C-BA0C-BD53AB594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DD054D-2B69-43FE-A597-14DD2BBC0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16C9EB-CCD9-44ED-BF59-A7CF08E84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305C29-BC86-4262-89F6-9969E8B79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EC7141-6362-461E-9894-4C1ED9D1D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A193D6-8883-435E-B107-6AD4949A0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85EBA2-6D23-4F89-A508-6AC0FF089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87837-174F-449F-B45A-2AF0EEAC8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36BAA0-8091-42A8-890D-59BDE5E20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678FEC-E88B-4AB4-B94C-EAADA0A3E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6D0649-01F6-4ECD-A4D1-7310A9F57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AD77D7-65ED-4082-869F-D90446D49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72EB17-C695-4E3C-93E7-122A62929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EDF2F5-1E1B-40C2-A2ED-FDD86308A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2BD6FC-8ABB-4C0F-BC26-D3D88F721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8DB1C7-BD9A-4F1A-973C-3A733BCAE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47B9B6-82A8-4D6F-B091-185E5456C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8F48EB-5229-4554-BD2C-B0768CECC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64E1D-87F7-4A9B-9695-49766B879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AED7F8-3DA4-43B9-9587-EF35D0B0B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1CA2C-469F-4B27-AFB9-ECF839ABD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B40BA-0368-4190-88BF-A18C9BC39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2C716-2947-442C-AB59-CBC34D7FC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3240" y="5051520"/>
            <a:ext cx="3575160" cy="180648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-1440" y="5051520"/>
            <a:ext cx="9145440" cy="180648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CC813-1A0E-45AB-B963-41EFD99FB9BC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ight Triangle 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Freeform 7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6F2E8-CF69-443E-B1AB-5903477FCF83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7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Right Triangle 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0F603-F4D5-436E-B307-A549FFC726D3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ight Triangle 1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Right Triangle 17"/>
          <p:cNvSpPr/>
          <p:nvPr/>
        </p:nvSpPr>
        <p:spPr>
          <a:xfrm rot="5400000">
            <a:off x="433440" y="-433440"/>
            <a:ext cx="6858000" cy="7724880"/>
          </a:xfrm>
          <a:prstGeom prst="rtTriangle">
            <a:avLst/>
          </a:pr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434342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43434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FA377-36F6-4ABC-9B94-1E53DF961F8D}" type="slidenum">
              <a:rPr b="0" lang="ru-RU" sz="1600" spc="-1" strike="noStrike">
                <a:solidFill>
                  <a:srgbClr val="434342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ight Triangle 8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Freeform 9"/>
          <p:cNvSpPr/>
          <p:nvPr/>
        </p:nvSpPr>
        <p:spPr>
          <a:xfrm>
            <a:off x="0" y="5048280"/>
            <a:ext cx="3571920" cy="1809720"/>
          </a:xfrm>
          <a:custGeom>
            <a:avLst/>
            <a:gdLst/>
            <a:ahLst/>
            <a:rect l="l" t="t" r="r" b="b"/>
            <a:pathLst>
              <a:path w="3571875" h="1809750">
                <a:moveTo>
                  <a:pt x="0" y="1809750"/>
                </a:moveTo>
                <a:lnTo>
                  <a:pt x="2038350" y="0"/>
                </a:lnTo>
                <a:lnTo>
                  <a:pt x="3571875" y="1809750"/>
                </a:lnTo>
                <a:lnTo>
                  <a:pt x="0" y="1809750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4FB94-9254-43E1-AD3C-B0521F533FE3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 rot="19140000">
            <a:off x="817200" y="1729800"/>
            <a:ext cx="5648400" cy="120492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Franklin Gothic Medium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 rot="19140000">
            <a:off x="210240" y="-208080"/>
            <a:ext cx="6510600" cy="3382920"/>
          </a:xfrm>
          <a:prstGeom prst="rect">
            <a:avLst/>
          </a:prstGeom>
          <a:noFill/>
          <a:ln w="0">
            <a:noFill/>
          </a:ln>
        </p:spPr>
        <p:txBody>
          <a:bodyPr tIns="90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Franklin Gothic Book"/>
                <a:ea typeface="Tunga"/>
              </a:rPr>
              <a:t>ИСТОРИЯ ПРАЗДНИКА </a:t>
            </a:r>
            <a:endParaRPr b="1" lang="en-US" sz="66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Franklin Gothic Book"/>
                <a:ea typeface="Tunga"/>
              </a:rPr>
              <a:t>1 МАЯ</a:t>
            </a:r>
            <a:endParaRPr b="1" lang="en-US" sz="66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17" name="Picture 7" descr=""/>
          <p:cNvPicPr/>
          <p:nvPr/>
        </p:nvPicPr>
        <p:blipFill>
          <a:blip r:embed="rId1"/>
          <a:stretch/>
        </p:blipFill>
        <p:spPr>
          <a:xfrm>
            <a:off x="4800600" y="685800"/>
            <a:ext cx="4038480" cy="60310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6" descr=""/>
          <p:cNvPicPr/>
          <p:nvPr/>
        </p:nvPicPr>
        <p:blipFill>
          <a:blip r:embed="rId2"/>
          <a:stretch/>
        </p:blipFill>
        <p:spPr>
          <a:xfrm>
            <a:off x="220680" y="5288040"/>
            <a:ext cx="2019240" cy="142884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8" descr=""/>
          <p:cNvPicPr/>
          <p:nvPr/>
        </p:nvPicPr>
        <p:blipFill>
          <a:blip r:embed="rId3"/>
          <a:stretch/>
        </p:blipFill>
        <p:spPr>
          <a:xfrm>
            <a:off x="2438280" y="5288040"/>
            <a:ext cx="200052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22240" y="74520"/>
            <a:ext cx="7521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152280" y="304560"/>
            <a:ext cx="8686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Franklin Gothic Book"/>
              </a:rPr>
              <a:t>Первома́й</a:t>
            </a:r>
            <a:r>
              <a:rPr b="1" lang="ru-RU" sz="2400" spc="-1" strike="noStrike">
                <a:solidFill>
                  <a:srgbClr val="0070c0"/>
                </a:solidFill>
                <a:latin typeface="Franklin Gothic Book"/>
              </a:rPr>
              <a:t> — другие названия: </a:t>
            </a:r>
            <a:r>
              <a:rPr b="1" lang="ru-RU" sz="2400" spc="-1" strike="noStrike">
                <a:solidFill>
                  <a:srgbClr val="ff0000"/>
                </a:solidFill>
                <a:latin typeface="Franklin Gothic Book"/>
              </a:rPr>
              <a:t>День труда, День весны, Праздник весны и труда (в Российской Федерации), День международной солидарности трудящихся </a:t>
            </a:r>
            <a:r>
              <a:rPr b="1" lang="ru-RU" sz="2400" spc="-1" strike="noStrike">
                <a:solidFill>
                  <a:srgbClr val="0070c0"/>
                </a:solidFill>
                <a:latin typeface="Franklin Gothic Book"/>
              </a:rPr>
              <a:t>— отмечается в 142 странах и территориях мира 1 мая или в первый понедельник мая. 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22" name="Picture 2" descr=""/>
          <p:cNvPicPr/>
          <p:nvPr/>
        </p:nvPicPr>
        <p:blipFill>
          <a:blip r:embed="rId1"/>
          <a:stretch/>
        </p:blipFill>
        <p:spPr>
          <a:xfrm>
            <a:off x="5181480" y="2133720"/>
            <a:ext cx="3714840" cy="281916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3" descr=""/>
          <p:cNvPicPr/>
          <p:nvPr/>
        </p:nvPicPr>
        <p:blipFill>
          <a:blip r:embed="rId2"/>
          <a:stretch/>
        </p:blipFill>
        <p:spPr>
          <a:xfrm>
            <a:off x="762120" y="2514600"/>
            <a:ext cx="3809880" cy="230508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4" descr=""/>
          <p:cNvPicPr/>
          <p:nvPr/>
        </p:nvPicPr>
        <p:blipFill>
          <a:blip r:embed="rId3"/>
          <a:stretch/>
        </p:blipFill>
        <p:spPr>
          <a:xfrm>
            <a:off x="4114800" y="5100480"/>
            <a:ext cx="1276200" cy="167652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5" descr=""/>
          <p:cNvPicPr/>
          <p:nvPr/>
        </p:nvPicPr>
        <p:blipFill>
          <a:blip r:embed="rId4"/>
          <a:stretch/>
        </p:blipFill>
        <p:spPr>
          <a:xfrm>
            <a:off x="1600200" y="5100480"/>
            <a:ext cx="2438280" cy="167652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6" descr=""/>
          <p:cNvPicPr/>
          <p:nvPr/>
        </p:nvPicPr>
        <p:blipFill>
          <a:blip r:embed="rId5"/>
          <a:stretch/>
        </p:blipFill>
        <p:spPr>
          <a:xfrm>
            <a:off x="7620120" y="5091120"/>
            <a:ext cx="1276200" cy="164304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7" descr=""/>
          <p:cNvPicPr/>
          <p:nvPr/>
        </p:nvPicPr>
        <p:blipFill>
          <a:blip r:embed="rId6"/>
          <a:stretch/>
        </p:blipFill>
        <p:spPr>
          <a:xfrm>
            <a:off x="5470560" y="5100480"/>
            <a:ext cx="209556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22240" y="-31680"/>
            <a:ext cx="7521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228600" y="380880"/>
            <a:ext cx="41911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Franklin Gothic Book"/>
              </a:rPr>
              <a:t>1 мая 1886 года </a:t>
            </a:r>
            <a:r>
              <a:rPr b="1" lang="ru-RU" sz="1800" spc="-1" strike="noStrike">
                <a:solidFill>
                  <a:srgbClr val="00b050"/>
                </a:solidFill>
                <a:latin typeface="Franklin Gothic Book"/>
              </a:rPr>
              <a:t>американские рабочие организовали забастовку, выдвинув требование 8-часового рабочего дня. Забастовка и сопутствующая демонстрация закончились кровопролитным столкновением с полицией.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Franklin Gothic Book"/>
              </a:rPr>
              <a:t>Впервые</a:t>
            </a:r>
            <a:r>
              <a:rPr b="1" lang="ru-RU" sz="1800" spc="-1" strike="noStrike">
                <a:solidFill>
                  <a:srgbClr val="00b050"/>
                </a:solidFill>
                <a:latin typeface="Franklin Gothic Book"/>
              </a:rPr>
              <a:t> день международной солидарности трудящихся был отмечен </a:t>
            </a:r>
            <a:r>
              <a:rPr b="1" lang="ru-RU" sz="1800" spc="-1" strike="noStrike">
                <a:solidFill>
                  <a:srgbClr val="ff0000"/>
                </a:solidFill>
                <a:latin typeface="Franklin Gothic Book"/>
              </a:rPr>
              <a:t>в 1890 году </a:t>
            </a:r>
            <a:r>
              <a:rPr b="1" lang="ru-RU" sz="1800" spc="-1" strike="noStrike">
                <a:solidFill>
                  <a:srgbClr val="00b050"/>
                </a:solidFill>
                <a:latin typeface="Franklin Gothic Book"/>
              </a:rPr>
              <a:t>в Австро-Венгрии, Бельгии, Германии, Дании, Испании, Италии, США, Норвегии, Франции, Швеции и некоторых других странах.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Franklin Gothic Book"/>
              </a:rPr>
              <a:t>Долгое время </a:t>
            </a:r>
            <a:r>
              <a:rPr b="1" lang="ru-RU" sz="1800" spc="-1" strike="noStrike">
                <a:solidFill>
                  <a:srgbClr val="00b0f0"/>
                </a:solidFill>
                <a:latin typeface="Franklin Gothic Book"/>
              </a:rPr>
              <a:t>Первомай</a:t>
            </a:r>
            <a:r>
              <a:rPr b="1" lang="ru-RU" sz="1800" spc="-1" strike="noStrike">
                <a:solidFill>
                  <a:srgbClr val="00b050"/>
                </a:solidFill>
                <a:latin typeface="Franklin Gothic Book"/>
              </a:rPr>
              <a:t> был </a:t>
            </a:r>
            <a:r>
              <a:rPr b="1" lang="ru-RU" sz="1800" spc="-1" strike="noStrike">
                <a:solidFill>
                  <a:srgbClr val="ff0000"/>
                </a:solidFill>
                <a:latin typeface="Franklin Gothic Book"/>
              </a:rPr>
              <a:t>символом революции.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30" name="Picture 2" descr=""/>
          <p:cNvPicPr/>
          <p:nvPr/>
        </p:nvPicPr>
        <p:blipFill>
          <a:blip r:embed="rId1"/>
          <a:stretch/>
        </p:blipFill>
        <p:spPr>
          <a:xfrm>
            <a:off x="2438280" y="4849920"/>
            <a:ext cx="2662200" cy="193500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5" descr=""/>
          <p:cNvPicPr/>
          <p:nvPr/>
        </p:nvPicPr>
        <p:blipFill>
          <a:blip r:embed="rId2"/>
          <a:stretch/>
        </p:blipFill>
        <p:spPr>
          <a:xfrm>
            <a:off x="4572000" y="152280"/>
            <a:ext cx="3503520" cy="243864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6" descr=""/>
          <p:cNvPicPr/>
          <p:nvPr/>
        </p:nvPicPr>
        <p:blipFill>
          <a:blip r:embed="rId3"/>
          <a:stretch/>
        </p:blipFill>
        <p:spPr>
          <a:xfrm>
            <a:off x="5257800" y="2602080"/>
            <a:ext cx="3581280" cy="224784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7" descr=""/>
          <p:cNvPicPr/>
          <p:nvPr/>
        </p:nvPicPr>
        <p:blipFill>
          <a:blip r:embed="rId4"/>
          <a:stretch/>
        </p:blipFill>
        <p:spPr>
          <a:xfrm>
            <a:off x="5638680" y="5257800"/>
            <a:ext cx="300672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22240" y="-146160"/>
            <a:ext cx="7521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75960" y="152280"/>
            <a:ext cx="472428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Franklin Gothic Book"/>
              </a:rPr>
              <a:t>В Российской империи Первомай </a:t>
            </a:r>
            <a:r>
              <a:rPr b="1" lang="ru-RU" sz="2400" spc="-1" strike="noStrike">
                <a:solidFill>
                  <a:srgbClr val="0679a3"/>
                </a:solidFill>
                <a:latin typeface="Franklin Gothic Book"/>
              </a:rPr>
              <a:t>как день </a:t>
            </a:r>
            <a:r>
              <a:rPr b="1" lang="ru-RU" sz="2400" spc="-1" strike="noStrike">
                <a:solidFill>
                  <a:srgbClr val="00b050"/>
                </a:solidFill>
                <a:latin typeface="Franklin Gothic Book"/>
              </a:rPr>
              <a:t>международной солидарности</a:t>
            </a:r>
            <a:r>
              <a:rPr b="1" lang="ru-RU" sz="2400" spc="-1" strike="noStrike">
                <a:solidFill>
                  <a:srgbClr val="0679a3"/>
                </a:solidFill>
                <a:latin typeface="Franklin Gothic Book"/>
              </a:rPr>
              <a:t> впервые отметили в 1890 году в Варшаве. С 1897 года маёвки сопровождались массовыми демонстрациями и лозунгами «Долой самодержавие!», «Да здравствует республика!», «Долой министров-капиталистов!», «Вся власть Советам!», «Долой империалистическую войну!».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91600" indent="-291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291600" indent="-291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36" name="Picture 2" descr=""/>
          <p:cNvPicPr/>
          <p:nvPr/>
        </p:nvPicPr>
        <p:blipFill>
          <a:blip r:embed="rId1"/>
          <a:stretch/>
        </p:blipFill>
        <p:spPr>
          <a:xfrm>
            <a:off x="5977080" y="152280"/>
            <a:ext cx="2962080" cy="205740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3" descr=""/>
          <p:cNvPicPr/>
          <p:nvPr/>
        </p:nvPicPr>
        <p:blipFill>
          <a:blip r:embed="rId2"/>
          <a:stretch/>
        </p:blipFill>
        <p:spPr>
          <a:xfrm>
            <a:off x="4800600" y="152280"/>
            <a:ext cx="1176480" cy="205740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4" descr=""/>
          <p:cNvPicPr/>
          <p:nvPr/>
        </p:nvPicPr>
        <p:blipFill>
          <a:blip r:embed="rId3"/>
          <a:stretch/>
        </p:blipFill>
        <p:spPr>
          <a:xfrm>
            <a:off x="4800600" y="2362320"/>
            <a:ext cx="4138560" cy="214632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5" descr=""/>
          <p:cNvPicPr/>
          <p:nvPr/>
        </p:nvPicPr>
        <p:blipFill>
          <a:blip r:embed="rId4"/>
          <a:stretch/>
        </p:blipFill>
        <p:spPr>
          <a:xfrm>
            <a:off x="4834080" y="4648320"/>
            <a:ext cx="4105080" cy="205740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7" descr=""/>
          <p:cNvPicPr/>
          <p:nvPr/>
        </p:nvPicPr>
        <p:blipFill>
          <a:blip r:embed="rId5"/>
          <a:stretch/>
        </p:blipFill>
        <p:spPr>
          <a:xfrm>
            <a:off x="3200400" y="5105520"/>
            <a:ext cx="1447920" cy="16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Саша</dc:creator>
  <dc:description/>
  <dc:language>en-US</dc:language>
  <cp:lastModifiedBy>Саша</cp:lastModifiedBy>
  <dcterms:modified xsi:type="dcterms:W3CDTF">2013-04-27T19:41:25Z</dcterms:modified>
  <cp:revision>8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