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F28-1A9F-44EB-AD29-8002E414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DF7-0A9F-4C60-8F09-784F602B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3DE-7ABB-4CD8-B543-BD856382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FFE-372D-4EC7-9C25-9E819E05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4C1F-A38A-4C60-855F-8110CD52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2A9C-C826-4013-9AF8-C178F07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F199-9184-4C29-A604-AFC3A0F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0D9-F4E6-4D1D-888B-A46D0104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75AB-7145-43DC-8AFD-FF83D9C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502-5C67-496D-844D-3C1A282D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8D47-F46E-4F80-88C3-FAA5EA7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57D-DEFE-445B-88C4-002F18F1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6995-D8C8-486A-9452-F40E1B12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21DE-EE0F-4A6B-81E8-37736D3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C6F1-48B6-4E77-8B09-181060A7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1C2-AF57-4DBD-BFF5-D8A759A9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4CB5-95DC-4978-8820-3E236366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D7F2-EF9B-4E5D-AE4F-2F9836A6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87F6-B613-4C12-9324-2F86F9D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5995-CABC-44C7-BCA7-AEBEEBD0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9AA2-369A-4647-90E1-89DA5B0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3205-316B-40C6-A793-257D05C5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3D4-1EFE-4CF7-8D6C-7FFB6FB6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6879-2011-4F3F-861F-314FC119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E2C4D-2C5B-4C7A-8FC6-249B39B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1782E-98FC-45AA-AD38-6B3D3ADD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69F1-97F1-4080-AE64-399A4B85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CF5EE-4C5A-47D6-B9BC-00A073C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2F70-42DE-4201-B5CB-D009B9E6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8C3D-BA2E-492F-8F8C-637CCD7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C7E51-7677-4F53-91E0-ADB0BBB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E7B0B-7E38-4CD2-AC1B-E06620CB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4D299-7064-4D2D-AFCE-8FE6D9F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E53-8C67-4729-92B5-9B998E5C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427C-9F47-4A74-AC51-6E436A77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240E1-D269-4ADB-AEC3-6DF842A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AA8E-8AD6-4871-AB54-B8F753A9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67B6E-0D4A-4BD0-A594-637FEABE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78DE-CBDD-4CA5-89EA-F33A1FF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F821-CAA7-4D30-89C1-9898FA41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2092A-A6C6-4A4C-9C56-3C17A743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6B1C-D437-4B5C-A819-46E814E8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D2032-FF30-4DF5-9247-E9915708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7CE19-0D5A-4F8B-A31B-63BDE8DF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E57-1C61-4765-8630-80465455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CDD39-10F3-4698-B6F2-3319019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BD62A-25D0-4ED1-A404-9203A3A6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78EF-29DC-4117-8489-5FD40DF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C474-BA34-4C4A-BC29-BD4B71BF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205B-F29E-4E7D-A225-CFA6BC0D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54A9D-8D32-4866-94E8-4EE1E7D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0368-7081-455F-99CF-7A6DF863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F5F7-2ECC-40A1-930D-D043DFD7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B8EEA-B553-4886-A736-CBE9082E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D1CC-F6BD-42B7-BB88-E3301956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271-47D2-43C4-A30A-5B32CC93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4FC0-9C86-4F32-8902-FA9E01A7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910-77CA-4D73-95BF-4D3580D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C98-63CC-49F8-A4B8-E5DD12C3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D5D-6347-455B-978C-CE82336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FA08-FCCA-4FEB-AEAF-5015AF82C2C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AB20-2022-42EF-8B87-8CCACCEFDE8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6EA-8949-405C-B363-884F56616E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EFFB-C09D-4537-8FBF-808ABC10854B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04E6-25D8-4738-85D6-B7E8244AD81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210240" y="-208080"/>
            <a:ext cx="6510600" cy="33829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Book"/>
                <a:ea typeface="Tunga"/>
              </a:rPr>
              <a:t>ИСТОРИЯ ПРАЗДНИКА 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Book"/>
                <a:ea typeface="Tunga"/>
              </a:rPr>
              <a:t>1 МАЯ</a:t>
            </a:r>
            <a:endParaRPr b="1" lang="en-US" sz="6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4038480" cy="603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220680" y="5288040"/>
            <a:ext cx="2019240" cy="1428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2438280" y="5288040"/>
            <a:ext cx="2000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7452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280" y="304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Первома́й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 — другие названия: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День труда, День весны, Праздник весны и труда (в Российской Федерации), День международной солидарности трудящихся </a:t>
            </a: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— отмечается в 142 странах и территориях мира 1 мая или в первый понедельник мая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714840" cy="28191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762120" y="2514600"/>
            <a:ext cx="3809880" cy="2305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114800" y="5100480"/>
            <a:ext cx="1276200" cy="167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1600200" y="5100480"/>
            <a:ext cx="243828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7620120" y="5091120"/>
            <a:ext cx="127620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6"/>
          <a:stretch/>
        </p:blipFill>
        <p:spPr>
          <a:xfrm>
            <a:off x="5470560" y="5100480"/>
            <a:ext cx="2095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2240" y="-3168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3808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1 мая 1886 года 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американские рабочие организовали забастовку, выдвинув требование 8-часового рабочего дня. Забастовка и сопутствующая демонстрация закончились кровопролитным столкновением с полицией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Впервые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 день международной солидарности трудящихся был отмечен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в 1890 году 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в Австро-Венгрии, Бельгии, Германии, Дании, Испании, Италии, США, Норвегии, Франции, Швеции и некоторых других странах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Долгое время </a:t>
            </a:r>
            <a:r>
              <a:rPr b="1" lang="ru-RU" sz="1800" spc="-1" strike="noStrike">
                <a:solidFill>
                  <a:srgbClr val="00b0f0"/>
                </a:solidFill>
                <a:latin typeface="Franklin Gothic Book"/>
              </a:rPr>
              <a:t>Первомай</a:t>
            </a:r>
            <a:r>
              <a:rPr b="1" lang="ru-RU" sz="1800" spc="-1" strike="noStrike">
                <a:solidFill>
                  <a:srgbClr val="00b050"/>
                </a:solidFill>
                <a:latin typeface="Franklin Gothic Book"/>
              </a:rPr>
              <a:t> был </a:t>
            </a: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символом революции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438280" y="4849920"/>
            <a:ext cx="2662200" cy="193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3503520" cy="243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5257800" y="2602080"/>
            <a:ext cx="3581280" cy="2247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4"/>
          <a:stretch/>
        </p:blipFill>
        <p:spPr>
          <a:xfrm>
            <a:off x="5638680" y="5257800"/>
            <a:ext cx="3006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5960" y="1522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В Российской империи Первомай </a:t>
            </a:r>
            <a:r>
              <a:rPr b="1" lang="ru-RU" sz="2400" spc="-1" strike="noStrike">
                <a:solidFill>
                  <a:srgbClr val="0679a3"/>
                </a:solidFill>
                <a:latin typeface="Franklin Gothic Book"/>
              </a:rPr>
              <a:t>как день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еждународной солидарности</a:t>
            </a:r>
            <a:r>
              <a:rPr b="1" lang="ru-RU" sz="2400" spc="-1" strike="noStrike">
                <a:solidFill>
                  <a:srgbClr val="0679a3"/>
                </a:solidFill>
                <a:latin typeface="Franklin Gothic Book"/>
              </a:rPr>
              <a:t> впервые отметили в 1890 году в Варшаве. С 1897 года маёвки сопровождались массовыми демонстрациями и лозунгами «Долой самодержавие!», «Да здравствует республика!», «Долой министров-капиталистов!», «Вся власть Советам!», «Долой империалистическую войну!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977080" y="152280"/>
            <a:ext cx="2962080" cy="20574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117648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4800600" y="2362320"/>
            <a:ext cx="4138560" cy="2146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4834080" y="4648320"/>
            <a:ext cx="4105080" cy="2057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5"/>
          <a:stretch/>
        </p:blipFill>
        <p:spPr>
          <a:xfrm>
            <a:off x="3200400" y="5105520"/>
            <a:ext cx="14479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1:25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