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00D3-9040-407B-A7BB-391021FEC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2059-B3A3-4DC9-BAE7-C4B8F4B7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D9ED-81EA-41FD-91D7-DFD3AD7C7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D3AE-A76D-40EA-A67C-396A28F17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AEDAA-739F-402C-92ED-4EA1C921D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2339-0B25-427B-B3A1-F49C8484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4949-64CC-4752-AE14-A017A860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22F4-00EE-4CFB-817C-DBFC766A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AEEC3-5D43-4AB1-88A3-D54226B8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4C36-AAD3-4370-A475-4BEE02DE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CBF8-FB75-45BC-B828-61952164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2996-8EA9-490C-B4F1-F17B4EAF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35A0-A92A-49C2-872E-73A4AA50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A5DE-8BF0-421E-82E6-718549B1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FD92-4674-4A8F-9A8E-EA656289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190F-4E04-49BB-83F4-38327FBDE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93B26-0544-408D-B676-C8EFB3779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3EE22-AB99-48E6-A801-588936BC5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69DF7-8B1B-4156-A9A3-F6A1CBBB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FFA2D-C13E-4B4E-BC38-1B47125A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070CF-DE15-4F34-8E9D-A015BBCF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5AFF0-04C3-4BDF-A8D5-AE8E3170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0F6C-19E0-4B3D-9D0F-0ACCB496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3C323-D1C6-4309-A9BA-B0A4B9AD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CCC42-D6E0-4E55-B508-81F5E239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C73B1-F09A-4073-91E1-60C601DA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70338-220A-4506-A5ED-82B110E9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C643B-F581-4B10-9CB5-4AE08114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4DEC2-39AB-4839-BB4C-F047BB3A9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D2B0E-A8C0-4638-807E-A1FDCA88B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4A175-A990-4C17-8B85-BBF7B123A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76E5C-397A-4FB4-93BD-67967434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01527-E695-4EF0-B917-7C3F40F6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08CD-9BEA-4A1B-A9A3-058D3C2A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D4EA2-F1DF-4A1D-9DCB-A0D4DC36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EE57D-BCD3-4916-AB08-8FFB6608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82FD0-9028-4360-A2AA-C66AE694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A65C4-EE50-4C6E-96D4-A98FC2D0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2A540-2F2A-446B-9967-8D9D96F2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DD110-3B69-4C27-85DD-07FF7303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EEBBA-7953-4DE3-BDD3-0C241FCC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EE9A0-6A4F-4017-A760-280F3A1B4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B993A-6643-4CD5-AD96-139EB5BAF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B2651-896A-4521-B8A8-B6A28CD7D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D385-AA5B-4256-8F8C-CAC49A4D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AFCBC-51F8-4832-84A7-9826B685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939A4-1185-41AB-BC9B-7B96800A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518D0-7DC4-4D60-9117-E8C466F4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5B3D4-417F-4CB0-882E-63B5E107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573C4-7964-473A-ABC4-F1DBF54D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50A31-C3F5-4A06-9B8C-C0D99B23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10136-7D73-4EC0-BC85-F01682B1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853A4-04C6-4923-B26A-A1372002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2DF2F-D87A-463A-BA42-A5127B66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ABD3B-1A97-429E-9480-BC7B11B54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E63D-004D-43E3-8A19-A1960219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2A4BE-3E00-49BC-A551-30BBC6233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A640-FE2F-4FE0-A105-39CB0E96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93E1-84FC-4E6A-B472-1EE1CEF5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B777-A3CA-48E1-9895-23FA12EA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C8DD-2818-4A64-A1D7-1B3727923C2E}" type="slidenum">
              <a:rPr b="0" lang="ru-RU" sz="16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D147-F7E4-44A7-8034-B5881FFDC37C}" type="slidenum">
              <a:rPr b="0" lang="ru-RU" sz="16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B8D9-1FE0-4938-BCB1-316E2622AA16}" type="slidenum">
              <a:rPr b="0" lang="ru-RU" sz="16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0E29-09D9-4424-9B1A-58CD2AE7E4FA}" type="slidenum">
              <a:rPr b="0" lang="ru-RU" sz="1600" spc="-1" strike="noStrike">
                <a:solidFill>
                  <a:srgbClr val="434342"/>
                </a:solidFill>
                <a:latin typeface="Comic Sans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1E4E-C5AA-4375-A56A-48738EF7EE8F}" type="slidenum">
              <a:rPr b="0" lang="ru-RU" sz="16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152280" y="456840"/>
            <a:ext cx="4267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После Октябрьской революции 1917 года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раздник стал официальным: в этот день проводились демонстрации трудящихся и военные парады (первый </a:t>
            </a:r>
            <a:r>
              <a:rPr b="1" lang="ru-RU" sz="2400" spc="-1" strike="noStrike">
                <a:solidFill>
                  <a:srgbClr val="7030a0"/>
                </a:solidFill>
                <a:latin typeface="Franklin Gothic Book"/>
              </a:rPr>
              <a:t>первомайский парад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состоялся в 1918 году на Ходынском поле). На второй день праздника,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ак правило, во всей стране проходили «маёвки» — </a:t>
            </a:r>
            <a:r>
              <a:rPr b="1" lang="ru-RU" sz="2400" spc="-1" strike="noStrike">
                <a:solidFill>
                  <a:srgbClr val="00b050"/>
                </a:solidFill>
                <a:latin typeface="Franklin Gothic Book"/>
              </a:rPr>
              <a:t>массовые празднования на природе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700520" y="1096920"/>
            <a:ext cx="320040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-146160"/>
            <a:ext cx="7521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4419720" y="152280"/>
            <a:ext cx="3124080" cy="2286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"/>
          <p:cNvPicPr/>
          <p:nvPr/>
        </p:nvPicPr>
        <p:blipFill>
          <a:blip r:embed="rId2"/>
          <a:stretch/>
        </p:blipFill>
        <p:spPr>
          <a:xfrm>
            <a:off x="5521320" y="2438280"/>
            <a:ext cx="3174840" cy="21560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"/>
          <p:cNvPicPr/>
          <p:nvPr/>
        </p:nvPicPr>
        <p:blipFill>
          <a:blip r:embed="rId3"/>
          <a:stretch/>
        </p:blipFill>
        <p:spPr>
          <a:xfrm>
            <a:off x="7543800" y="3808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"/>
          <p:cNvPicPr/>
          <p:nvPr/>
        </p:nvPicPr>
        <p:blipFill>
          <a:blip r:embed="rId4"/>
          <a:stretch/>
        </p:blipFill>
        <p:spPr>
          <a:xfrm>
            <a:off x="4518000" y="4594320"/>
            <a:ext cx="3048120" cy="2187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"/>
          <p:cNvPicPr/>
          <p:nvPr/>
        </p:nvPicPr>
        <p:blipFill>
          <a:blip r:embed="rId5"/>
          <a:stretch/>
        </p:blipFill>
        <p:spPr>
          <a:xfrm>
            <a:off x="1981080" y="5181480"/>
            <a:ext cx="2324160" cy="16002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"/>
          <p:cNvPicPr/>
          <p:nvPr/>
        </p:nvPicPr>
        <p:blipFill>
          <a:blip r:embed="rId6"/>
          <a:stretch/>
        </p:blipFill>
        <p:spPr>
          <a:xfrm>
            <a:off x="4062240" y="2714760"/>
            <a:ext cx="1427400" cy="14270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"/>
          <p:cNvPicPr/>
          <p:nvPr/>
        </p:nvPicPr>
        <p:blipFill>
          <a:blip r:embed="rId7"/>
          <a:stretch/>
        </p:blipFill>
        <p:spPr>
          <a:xfrm>
            <a:off x="7650000" y="4975200"/>
            <a:ext cx="142740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151920" y="228240"/>
            <a:ext cx="3581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Franklin Gothic Book"/>
              </a:rPr>
              <a:t>Первомая</a:t>
            </a:r>
            <a:r>
              <a:rPr b="1" lang="ru-RU" sz="2000" spc="-1" strike="noStrike">
                <a:solidFill>
                  <a:srgbClr val="00b050"/>
                </a:solidFill>
                <a:latin typeface="Franklin Gothic Book"/>
              </a:rPr>
              <a:t> ждет народ,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Franklin Gothic Book"/>
              </a:rPr>
              <a:t>Чтоб вскопать свой огород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Franklin Gothic Book"/>
              </a:rPr>
              <a:t>И рассаду с февраля,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Franklin Gothic Book"/>
              </a:rPr>
              <a:t>Что уж поднялася вся,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Franklin Gothic Book"/>
              </a:rPr>
              <a:t>В землю надобно сажать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Franklin Gothic Book"/>
              </a:rPr>
              <a:t>Где уж праздники справлять?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Franklin Gothic Book"/>
              </a:rPr>
              <a:t>Приезжайте к нам на дачу,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Franklin Gothic Book"/>
              </a:rPr>
              <a:t>Вас работой озадачим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Franklin Gothic Book"/>
              </a:rPr>
              <a:t>Но зато на зорьке алой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Franklin Gothic Book"/>
              </a:rPr>
              <a:t>Соберемся у мангала,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Franklin Gothic Book"/>
              </a:rPr>
              <a:t>А потом попьем и чай -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Franklin Gothic Book"/>
              </a:rPr>
              <a:t>Вот и встретим Первомай!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52720" y="228240"/>
            <a:ext cx="2514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Первого мая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Кто отмечает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Franklin Gothic Book"/>
              </a:rPr>
              <a:t>День солидарности,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Franklin Gothic Book"/>
              </a:rPr>
              <a:t>Мира, труда?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Здравый народ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Этот праздник считает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Встречей весны -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И стремится в леса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Franklin Gothic Book"/>
              </a:rPr>
              <a:t>День Первомая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Собой открывает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Летних прогулок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Сезон, пикников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Именно с этим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Тебя поздравляем!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К летним походам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Всегда будь готов!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240" y="-69840"/>
            <a:ext cx="7521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4371840" y="4876920"/>
            <a:ext cx="2114640" cy="1752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"/>
          <p:cNvPicPr/>
          <p:nvPr/>
        </p:nvPicPr>
        <p:blipFill>
          <a:blip r:embed="rId2"/>
          <a:stretch/>
        </p:blipFill>
        <p:spPr>
          <a:xfrm>
            <a:off x="3657600" y="152280"/>
            <a:ext cx="2828880" cy="2438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"/>
          <p:cNvPicPr/>
          <p:nvPr/>
        </p:nvPicPr>
        <p:blipFill>
          <a:blip r:embed="rId3"/>
          <a:stretch/>
        </p:blipFill>
        <p:spPr>
          <a:xfrm>
            <a:off x="3657600" y="2624040"/>
            <a:ext cx="2828880" cy="2121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"/>
          <p:cNvPicPr/>
          <p:nvPr/>
        </p:nvPicPr>
        <p:blipFill>
          <a:blip r:embed="rId4"/>
          <a:stretch/>
        </p:blipFill>
        <p:spPr>
          <a:xfrm>
            <a:off x="2286000" y="520056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52280" y="151920"/>
            <a:ext cx="4191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Franklin Gothic Book"/>
              </a:rPr>
              <a:t>1 мая 1990 года </a:t>
            </a: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последний раз состоялась официальная первомайская демонстрация. 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Franklin Gothic Book"/>
              </a:rPr>
              <a:t>1 мая 1991 года на Красной площади </a:t>
            </a: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состоялся митинг против повышения цен.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600" spc="-1" strike="noStrike">
                <a:solidFill>
                  <a:srgbClr val="ff0000"/>
                </a:solidFill>
                <a:latin typeface="Franklin Gothic Book"/>
              </a:rPr>
              <a:t>В 1992 году праздник был переименован в Праздник весны и труда.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700520" y="1096920"/>
            <a:ext cx="320040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2240" y="-146160"/>
            <a:ext cx="7521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4495680" y="152280"/>
            <a:ext cx="4530960" cy="3048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"/>
          <p:cNvPicPr/>
          <p:nvPr/>
        </p:nvPicPr>
        <p:blipFill>
          <a:blip r:embed="rId2"/>
          <a:stretch/>
        </p:blipFill>
        <p:spPr>
          <a:xfrm>
            <a:off x="1981080" y="4834080"/>
            <a:ext cx="2084400" cy="1719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"/>
          <p:cNvPicPr/>
          <p:nvPr/>
        </p:nvPicPr>
        <p:blipFill>
          <a:blip r:embed="rId3"/>
          <a:stretch/>
        </p:blipFill>
        <p:spPr>
          <a:xfrm>
            <a:off x="4495680" y="3538440"/>
            <a:ext cx="2266920" cy="2590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"/>
          <p:cNvPicPr/>
          <p:nvPr/>
        </p:nvPicPr>
        <p:blipFill>
          <a:blip r:embed="rId4"/>
          <a:stretch/>
        </p:blipFill>
        <p:spPr>
          <a:xfrm>
            <a:off x="6977160" y="3570120"/>
            <a:ext cx="1859040" cy="25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76320" y="22824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Franklin Gothic Book"/>
              </a:rPr>
              <a:t>1 мая </a:t>
            </a:r>
            <a:r>
              <a:rPr b="1" lang="ru-RU" sz="1600" spc="-1" strike="noStrike">
                <a:solidFill>
                  <a:srgbClr val="00b0f0"/>
                </a:solidFill>
                <a:latin typeface="Franklin Gothic Book"/>
              </a:rPr>
              <a:t>официально отмечают как национальный праздник Австрия, Албания, Аргентина, Армения, Аруба, Бангладеш, Беларусь, Бельгия, Болгария, Боливия, Босния и Герцеговина, Бразилия, Венгрия, Венесуэла, Вьетнам, Гватемала, Германия, Греция, , Гондурас, Гонконг, Доминиканская республика, Египет, Замбия, Зимбабве, Индия, Иордания, Ирак, Исландия, Испания, Италия, Камерун, Кения, Китай, Колумбия, Коста-Рика, Кот-д’Ивуар, Куба, Латвия, Ливан, Литва, Люксембург, Маврикий, Малайзия, Мальта, Марокко, Мексика, Молдова, Мьянма, Непал, Нигерия, Норвегия, Пакистан, Панама, Парагвай, Перу, Польша, Португалия, Республика Гаити, Республика Кипр, Республика Македония, Российская Федерация, Румыния, Сальвадор, Северная Корея, Сербия, Сингапур, Сирия, Словакия, Словения, Таджикистан, Таиланд, Турция, Украина, Уругвай, Филиппины, Финляндия, Франция, Хорватия, Чили, Чехия, Швеция, Шри-Ланка, Эквадор, Эстония, ЮАР, Южная Корея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700520" y="1096920"/>
            <a:ext cx="320040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2240" y="-160920"/>
            <a:ext cx="7521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4648320" y="152280"/>
            <a:ext cx="2514600" cy="21337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2536560" cy="2133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"/>
          <p:cNvPicPr/>
          <p:nvPr/>
        </p:nvPicPr>
        <p:blipFill>
          <a:blip r:embed="rId3"/>
          <a:stretch/>
        </p:blipFill>
        <p:spPr>
          <a:xfrm>
            <a:off x="7227720" y="3200400"/>
            <a:ext cx="1828800" cy="14652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"/>
          <p:cNvPicPr/>
          <p:nvPr/>
        </p:nvPicPr>
        <p:blipFill>
          <a:blip r:embed="rId4"/>
          <a:stretch/>
        </p:blipFill>
        <p:spPr>
          <a:xfrm>
            <a:off x="7184880" y="1522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"/>
          <p:cNvPicPr/>
          <p:nvPr/>
        </p:nvPicPr>
        <p:blipFill>
          <a:blip r:embed="rId5"/>
          <a:stretch/>
        </p:blipFill>
        <p:spPr>
          <a:xfrm>
            <a:off x="6738840" y="4665600"/>
            <a:ext cx="2351160" cy="20289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"/>
          <p:cNvPicPr/>
          <p:nvPr/>
        </p:nvPicPr>
        <p:blipFill>
          <a:blip r:embed="rId6"/>
          <a:stretch/>
        </p:blipFill>
        <p:spPr>
          <a:xfrm>
            <a:off x="4267080" y="4800600"/>
            <a:ext cx="2295720" cy="19051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"/>
          <p:cNvPicPr/>
          <p:nvPr/>
        </p:nvPicPr>
        <p:blipFill>
          <a:blip r:embed="rId7"/>
          <a:stretch/>
        </p:blipFill>
        <p:spPr>
          <a:xfrm>
            <a:off x="7184880" y="17240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"/>
          <p:cNvPicPr/>
          <p:nvPr/>
        </p:nvPicPr>
        <p:blipFill>
          <a:blip r:embed="rId8"/>
          <a:stretch/>
        </p:blipFill>
        <p:spPr>
          <a:xfrm>
            <a:off x="1676520" y="5181480"/>
            <a:ext cx="244764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ша</dc:creator>
  <dc:description/>
  <dc:language>en-US</dc:language>
  <cp:lastModifiedBy>Саша</cp:lastModifiedBy>
  <dcterms:modified xsi:type="dcterms:W3CDTF">2013-04-27T19:45:03Z</dcterms:modified>
  <cp:revision>8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