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362-0691-4851-8AA9-DB440B59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3F4-88C6-41CB-B62E-6C803B86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07B-0E67-46F2-A2A7-C2B17C80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5CC-594B-4EEC-B7BB-AD8F6E99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6DB6-3D7B-4FBD-A4CA-E896535F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4F0A-34D9-446B-BD77-26E6192A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3F3D-7267-4E47-8B4E-A7AF5B42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6E7D-C201-4027-97A0-05BC9BF4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A6CD-9F07-4E38-B518-A9E1022B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6A73-702B-49F1-BA3D-AB09D091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7E52-D907-433E-9F57-08D6727D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3353-4B3C-4511-A470-7E0E5AD8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EBF8-6210-47AA-88D4-AECE50DC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E08A-8545-44ED-B2F2-259A65A6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CE3B-A9B5-4026-9D70-5A974507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E033-EDAF-4BAE-AA37-B63CF2A4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7E58-CA3A-4CD8-8CF5-F844C98C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837D-ADB0-4ECE-BDCE-4917D51D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95426-4917-45E7-853A-D5A31903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CDBE-839E-4C42-B359-67CA9FE5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38EE-85FD-45A2-9B0E-95C13794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CB830-A12E-43BF-A5EF-B7BA278F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756-7B30-441C-8236-4739A3B5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49E61-6186-4834-B8D0-200E689F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3737-7985-4DAA-A25C-A75BD97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1FE2-2652-4F2F-8CCA-F3C2CE83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786E-697B-4F0F-9216-F8229E9E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ED27E-9829-4EE6-AB9A-245F3577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05E8-DCBA-4013-9E52-C582E109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625D-75E1-4062-83B6-5BC86E1D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D7323-1449-4CCC-AAE0-A4EF9AE8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C830-717C-4723-AEAA-6A5D29D4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2A96-2164-406A-84AA-50E58C80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F40-4CC5-4F0C-AFBF-73973E31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C8F68-45BC-4E81-8583-6E3CA11D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AD1F6-197A-40A1-9026-A32588C4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FC6B2-C826-4794-B46B-55D89F03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B760-263F-4514-B5C3-513E25F9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9C0A-CDD7-4938-A9D4-26135985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07C8F-079F-4D9C-A51A-4579C364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940DC-72CD-422D-AA1A-EEE4DC88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B0DE1-62DF-4027-9162-996E3DEB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5494-1195-4677-9F48-D77C0C9F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25D9E-6FA6-469C-B077-69E47DFE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10C-A66C-4BAA-BDEA-F63502B7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6AF68-E36A-444E-A33F-0D185654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E69F4-7369-4426-9345-3D21F3DC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DC583-8DA0-4772-8874-B0EE5C64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D21DC-6BF7-481F-B7AE-6B72DA61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F2DA9-3821-417B-A78A-A5BCFD9A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CF2C2-59BD-4179-A977-163C95D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F5D04-4525-4A61-82A1-47ED0E55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327A7-2D6C-4BC9-ACDB-D6F5F54C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79397-2F87-4B86-9872-FB9B525C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587A9-71E1-4415-BFE6-A8226BC9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21B-55F5-44AB-BC2D-6A24A048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CA73D-D073-452E-BD09-337E99B8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DC4-4EB8-4CD9-B639-333F3343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764-6445-43B4-9F3B-CB39F4E2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1EC-BC17-4900-8997-F161173C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6A16-E9B5-4B07-A67B-C80EF8F7BA12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28C4-8812-4F73-B9E8-0EFE85D6DB95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2BB1-521D-4288-9844-4A5EFA3E06EB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8D35-5FA0-4EB1-B1D2-482A002A211E}" type="slidenum">
              <a:rPr b="0" lang="ru-RU" sz="1600" spc="-1" strike="noStrike">
                <a:solidFill>
                  <a:srgbClr val="434342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EA42-5BF5-4D5B-BE0E-20D7B02215CC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52280" y="456840"/>
            <a:ext cx="426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После Октябрьской революции 1917 года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аздник стал официальным: в этот день проводились демонстрации трудящихся и военные парады (первый </a:t>
            </a:r>
            <a:r>
              <a:rPr b="1" lang="ru-RU" sz="2400" spc="-1" strike="noStrike">
                <a:solidFill>
                  <a:srgbClr val="7030a0"/>
                </a:solidFill>
                <a:latin typeface="Franklin Gothic Book"/>
              </a:rPr>
              <a:t>первомайский парад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остоялся в 1918 году на Ходынском поле). На второй день праздника,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к правило, во всей стране проходили «маёвки» — </a:t>
            </a:r>
            <a:r>
              <a:rPr b="1" lang="ru-RU" sz="2400" spc="-1" strike="noStrike">
                <a:solidFill>
                  <a:srgbClr val="00b050"/>
                </a:solidFill>
                <a:latin typeface="Franklin Gothic Book"/>
              </a:rPr>
              <a:t>массовые празднования на природ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-14616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521320" y="2438280"/>
            <a:ext cx="3174840" cy="2156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4"/>
          <a:stretch/>
        </p:blipFill>
        <p:spPr>
          <a:xfrm>
            <a:off x="4518000" y="4594320"/>
            <a:ext cx="3048120" cy="218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5"/>
          <a:stretch/>
        </p:blipFill>
        <p:spPr>
          <a:xfrm>
            <a:off x="1981080" y="5181480"/>
            <a:ext cx="232416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6"/>
          <a:stretch/>
        </p:blipFill>
        <p:spPr>
          <a:xfrm>
            <a:off x="4062240" y="2714760"/>
            <a:ext cx="1427400" cy="1427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7"/>
          <a:stretch/>
        </p:blipFill>
        <p:spPr>
          <a:xfrm>
            <a:off x="7650000" y="4975200"/>
            <a:ext cx="142740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51920" y="228240"/>
            <a:ext cx="3581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Первомая</a:t>
            </a: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 ждет народ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Чтоб вскопать свой огород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И рассаду с февраля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Что уж поднялася вся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В землю надобно сажать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Где уж праздники справлять?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Приезжайте к нам на дачу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Вас работой озадачим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Но зато на зорьке алой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Соберемся у мангала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А потом попьем и чай -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Вот и встретим Первомай!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52720" y="228240"/>
            <a:ext cx="251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ервого мая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Кто отмечает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День солидарности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Мира, труда?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Здравый народ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Этот праздник считает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стречей весны -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 стремится в леса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День Первомая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обой открывает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Летних прогулок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езон, пикников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менно с этим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Тебя поздравляем!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К летним походам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Всегда будь готов!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-6984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371840" y="4876920"/>
            <a:ext cx="2114640" cy="1752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3657600" y="152280"/>
            <a:ext cx="2828880" cy="2438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3657600" y="2624040"/>
            <a:ext cx="2828880" cy="2121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4"/>
          <a:stretch/>
        </p:blipFill>
        <p:spPr>
          <a:xfrm>
            <a:off x="2286000" y="52005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280" y="15192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Franklin Gothic Book"/>
              </a:rPr>
              <a:t>1 мая 1990 года 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последний раз состоялась официальная первомайская демонстрация.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Franklin Gothic Book"/>
              </a:rPr>
              <a:t>1 мая 1991 года на Красной площади 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состоялся митинг против повышения цен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Franklin Gothic Book"/>
              </a:rPr>
              <a:t>В 1992 году праздник был переименован в Праздник весны и труда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-14616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495680" y="152280"/>
            <a:ext cx="4530960" cy="3048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1981080" y="4834080"/>
            <a:ext cx="2084400" cy="171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3"/>
          <a:stretch/>
        </p:blipFill>
        <p:spPr>
          <a:xfrm>
            <a:off x="4495680" y="3538440"/>
            <a:ext cx="2266920" cy="2590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4"/>
          <a:stretch/>
        </p:blipFill>
        <p:spPr>
          <a:xfrm>
            <a:off x="6977160" y="3570120"/>
            <a:ext cx="18590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6320" y="2282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1 мая </a:t>
            </a:r>
            <a:r>
              <a:rPr b="1" lang="ru-RU" sz="1600" spc="-1" strike="noStrike">
                <a:solidFill>
                  <a:srgbClr val="00b0f0"/>
                </a:solidFill>
                <a:latin typeface="Franklin Gothic Book"/>
              </a:rPr>
              <a:t>официально отмечают как национальный праздник Австрия, Албания, Аргентина, Армения, Аруба, Бангладеш, Беларусь, Бельгия, Болгария, Боливия, Босния и Герцеговина, Бразилия, Венгрия, Венесуэла, Вьетнам, Гватемала, Германия, Греция, , Гондурас, Гонконг, Доминиканская республика, Египет, Замбия, Зимбабве, Индия, Иордания, Ирак, Исландия, Испания, Италия, Камерун, Кения, Китай, Колумбия, Коста-Рика, Кот-д’Ивуар, Куба, Латвия, Ливан, Литва, Люксембург, Маврикий, Малайзия, Мальта, Марокко, Мексика, Молдова, Мьянма, Непал, Нигерия, Норвегия, Пакистан, Панама, Парагвай, Перу, Польша, Португалия, Республика Гаити, Республика Кипр, Республика Македония, Российская Федерация, Румыния, Сальвадор, Северная Корея, Сербия, Сингапур, Сирия, Словакия, Словения, Таджикистан, Таиланд, Турция, Украина, Уругвай, Филиппины, Финляндия, Франция, Хорватия, Чили, Чехия, Швеция, Шри-Ланка, Эквадор, Эстония, ЮАР, Южная Корея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-16092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2514600" cy="2133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2536560" cy="2133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3"/>
          <a:stretch/>
        </p:blipFill>
        <p:spPr>
          <a:xfrm>
            <a:off x="7227720" y="3200400"/>
            <a:ext cx="1828800" cy="1465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4"/>
          <a:stretch/>
        </p:blipFill>
        <p:spPr>
          <a:xfrm>
            <a:off x="7184880" y="1522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5"/>
          <a:stretch/>
        </p:blipFill>
        <p:spPr>
          <a:xfrm>
            <a:off x="6738840" y="4665600"/>
            <a:ext cx="235116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6"/>
          <a:stretch/>
        </p:blipFill>
        <p:spPr>
          <a:xfrm>
            <a:off x="4267080" y="4800600"/>
            <a:ext cx="2295720" cy="1905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"/>
          <p:cNvPicPr/>
          <p:nvPr/>
        </p:nvPicPr>
        <p:blipFill>
          <a:blip r:embed="rId7"/>
          <a:stretch/>
        </p:blipFill>
        <p:spPr>
          <a:xfrm>
            <a:off x="7184880" y="17240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8"/>
          <a:stretch/>
        </p:blipFill>
        <p:spPr>
          <a:xfrm>
            <a:off x="1676520" y="5181480"/>
            <a:ext cx="2447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Саша</cp:lastModifiedBy>
  <dcterms:modified xsi:type="dcterms:W3CDTF">2013-04-27T19:45:03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