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  <p:custShowLst>
    <p:custShow name="Произвольный показ 1" id="0">
      <p:sldLst>
        <p:sld r:id="rId9"/>
        <p:sld r:id="rId10"/>
        <p:sld r:id="rId11"/>
        <p:sld r:id="rId12"/>
        <p:sld r:id="rId13"/>
        <p:sld r:id="rId14"/>
        <p:sld r:id="rId15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62A-86A0-43FD-8837-7DA490C5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0FA-10D7-4DE9-B7A2-B56362B4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472-3486-4B77-8717-D6AA4C1E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131-F875-452D-836D-076250DC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F961-EE50-4D3F-A6F9-A28B3354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2827-7BDB-4B1E-B9AB-80306720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255D-8F8D-4981-8CB0-5A6D2C98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0314-FF62-4E27-97E0-49E7151B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5940-277A-4CB6-9095-590AB964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3B4C-143A-4559-B01B-650A78EE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EC9E-3A61-40A6-90EC-3AF48269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0CA-452E-435B-810E-2CD11F37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BEC3-9517-4FB4-8EC6-8E5E7C6D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DE54-FED2-4262-8045-91615410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DA55-BA05-4319-8BDA-45121A38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2BC8-A6EF-45AA-BD55-4FAFE9D7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2B53-0F9C-4D9E-90F2-A01B3CA9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33DC-1A09-44D0-A345-5DEE6E75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79F8-E1CE-47BF-9F5B-AE260DC3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7CE8-F757-4AA6-81A6-3F1FCE46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1431-194B-45AF-B6B1-27415AA9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513E9-CC1C-4BE8-AC51-B2E91E4A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91A-FE85-4C70-816C-96BA0363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443C-82A9-421A-9DDA-81779B27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2C1A8-17B2-49F9-BE66-0F91725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8703-FCDB-45BE-9F8E-E31A632C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622D4-D97C-49F2-B9CC-942BB1F2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991A-A8BC-4F86-BD20-C55C290A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AF3AC-70C4-41D2-8AB4-D160429A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F7D7-5756-4808-A5A2-612E21A6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A2B51-807F-41BC-86F2-35AF8FD0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1F002-5D1D-40FB-A8C9-72CE6DE2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86CB5-413C-43D9-9D13-681867F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EF4-B67B-4BD4-BEAD-160A6A51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F4A81-AE86-4276-8CD5-09309D8F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44A6-5348-464A-AD17-C38924AF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A1E7-9842-4BC4-A429-33C47101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E418-BDCD-4C5A-9B26-93309B4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D6D1C-2F2B-487E-9706-FA7EB183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4849E-EE96-4A64-889F-49EC06CF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10AA-1ADC-472E-8869-FE811871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299A-54CF-41FA-BC1F-CD47FB09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B08F-A02E-4450-A887-CF9B0785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906D5-7F33-4FD7-8D5B-7726A41C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68F-124D-45CF-B822-83FE96A4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5C191-F347-46CB-8B07-127A5C7D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2311-163F-4469-9B58-1F521887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8BB1-4352-4069-87B3-0A674E9D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CD87-FB10-49B9-9C86-23ECBD97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DDA9-628C-4726-8540-8CE19024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0EEF9-EE54-4B8F-ABC0-7846D74B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538E6-8EE7-4F93-9105-0309C19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D857-2D46-4717-8B8B-792E6325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93767-6B60-44CB-BBA1-78A8016B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C2497-9D77-4F6E-88FF-489A049A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680-87A9-476D-B8D6-16DB4C32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0F29-B71F-4F35-B411-743995F1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A4AB7-3CEA-463E-8387-C2E382B2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9AC29-AFEF-4592-A6D5-C681258D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5DCC-372A-42AF-AD6B-5A10D2AD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E7FB9-968A-46F5-90A5-CD3AFA2A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68FC3-5AA8-4CCE-BAAD-330139E6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6DFD9-6F9E-4277-8516-2F63DCA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858F-180E-4E73-A50F-731F0CF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3EA07-7600-4435-A743-F660B286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C6C9E-AB98-46AB-A61C-5AC58BC5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2AD-B519-461C-92B3-A3E965CB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95C63-95C4-4B42-AD79-0B7FFF39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3817D-424C-48E9-B061-26D5A94C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01312-F764-4FB6-B9D1-DB335667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C99F8-3D5F-43D4-A9A6-9D550FCF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5061D-D004-45C0-8EE0-FC52E6E6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C54B-74E2-4B02-9EB1-566A300C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D87FA-D697-423A-830F-7D6965C4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5F8BA-1996-4CC3-89E6-3EEB4F45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79A40-129B-4C4F-B0D2-1EDD5278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0FACF-77B6-481F-AECB-407798CA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A3D-7F1F-47F8-9050-A011DEB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B1F2A-0C22-45BE-B154-426646CB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87083-7E03-482E-985C-CAC54F41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1F969-BFF1-4884-870C-0D418401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5156F-F9E3-48AA-B635-54FDB67F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3023-2A40-40AA-B1F1-1D0DB841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6A5-EAD6-41A6-AD62-9ADD4954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C881-83AA-4B80-AE50-987DD687DAB4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CB55-D16A-41CF-B7B5-3AF22AE88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86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BB5B-CC09-429A-A46A-7E85B8C3BEE8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31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99C7-45F1-43AD-84EE-E9D1303AAE38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5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7" name="minusovki.mptri.net detskie_-_mir_pohozh_na_cvetnoy_lug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9564-441A-4417-AC6A-43DF418F5A1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E55C-8E89-4BC9-BEEC-5875775F336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3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427F-3478-4C13-9DE8-852B3797C9F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Documents and Settings\Pragma\Рабочий стол\День воспитателя\a6b58d75fbf2.jpg"/>
          <p:cNvPicPr/>
          <p:nvPr/>
        </p:nvPicPr>
        <p:blipFill>
          <a:blip r:embed="rId1"/>
          <a:stretch/>
        </p:blipFill>
        <p:spPr>
          <a:xfrm>
            <a:off x="71280" y="185760"/>
            <a:ext cx="8961480" cy="63864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6"/>
          <p:cNvSpPr/>
          <p:nvPr/>
        </p:nvSpPr>
        <p:spPr>
          <a:xfrm>
            <a:off x="642960" y="2071800"/>
            <a:ext cx="320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8d3d"/>
                </a:solidFill>
                <a:latin typeface="Trebuchet MS"/>
              </a:rPr>
              <a:t>Воспитателей мы любим, С воспитателями дру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7"/>
          <p:cNvSpPr/>
          <p:nvPr/>
        </p:nvSpPr>
        <p:spPr>
          <a:xfrm>
            <a:off x="5385960" y="2071800"/>
            <a:ext cx="35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8d3d"/>
                </a:solidFill>
                <a:latin typeface="Trebuchet MS"/>
              </a:rPr>
              <a:t>Их поздравить мы спеш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a8d3d"/>
                </a:solidFill>
                <a:latin typeface="Trebuchet MS"/>
              </a:rPr>
              <a:t>Спасибо скажем от душ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3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0" name="Picture 2" descr="C:\Documents and Settings\Pragma\Рабочий стол\День воспитателя\27 сентября\день дошкольного работникаА3.jpg"/>
          <p:cNvPicPr/>
          <p:nvPr/>
        </p:nvPicPr>
        <p:blipFill>
          <a:blip r:embed="rId1"/>
          <a:stretch/>
        </p:blipFill>
        <p:spPr>
          <a:xfrm>
            <a:off x="247680" y="214200"/>
            <a:ext cx="8753400" cy="6456600"/>
          </a:xfrm>
          <a:prstGeom prst="rect">
            <a:avLst/>
          </a:prstGeom>
          <a:ln w="0">
            <a:noFill/>
          </a:ln>
        </p:spPr>
      </p:pic>
    </p:spTree>
  </p:cSld>
  <p:transition spd="slow" advTm="65000">
    <p:wheel spokes="2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:\Documents and Settings\Pragma\Рабочий стол\День воспитателя\1262548922_den-vospitatelya1.jpg"/>
          <p:cNvPicPr/>
          <p:nvPr/>
        </p:nvPicPr>
        <p:blipFill>
          <a:blip r:embed="rId1"/>
          <a:stretch/>
        </p:blipFill>
        <p:spPr>
          <a:xfrm>
            <a:off x="214200" y="142920"/>
            <a:ext cx="5504040" cy="66438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4"/>
          <p:cNvSpPr/>
          <p:nvPr/>
        </p:nvSpPr>
        <p:spPr>
          <a:xfrm>
            <a:off x="5857920" y="785880"/>
            <a:ext cx="328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Терпенья Вам, творческих успехов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исполнения все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Желаний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4" name="Picture 2" descr="C:\Documents and Settings\Pragma\Рабочий стол\День воспитателя\Поздравление №3 copy.jpg"/>
          <p:cNvPicPr/>
          <p:nvPr/>
        </p:nvPicPr>
        <p:blipFill>
          <a:blip r:embed="rId1"/>
          <a:stretch/>
        </p:blipFill>
        <p:spPr>
          <a:xfrm>
            <a:off x="142920" y="285840"/>
            <a:ext cx="8808840" cy="61704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 rot="21205200">
            <a:off x="1145160" y="1440720"/>
            <a:ext cx="287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Стал детский са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для нас с тобой судьбо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Не совсем безоблачной, просто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Только человек чего-то стои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Коль ребенка вскормит доброт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Шум детей кого-то раздражает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Вызывая часто дискомфор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Только педагог лишь поним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Гомон малышей – земли комфор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 rot="403800">
            <a:off x="5272920" y="1436040"/>
            <a:ext cx="2786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Каждый день мы видим их глазе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Милые, лучистые пор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Пусть растут мальчишки и девч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Годы прибавляя нам с тоб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Мысли о делах всегда со мно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Спать ли я ложусь или встаю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Только ни за что не променя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52f74"/>
                </a:solidFill>
                <a:latin typeface="Trebuchet MS"/>
              </a:rPr>
              <a:t>Трудную профессию сво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7000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2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3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8" name="Picture 2" descr="C:\Documents and Settings\Pragma\Рабочий стол\День воспитателя\nyanya.jpg"/>
          <p:cNvPicPr/>
          <p:nvPr/>
        </p:nvPicPr>
        <p:blipFill>
          <a:blip r:embed="rId1"/>
          <a:stretch/>
        </p:blipFill>
        <p:spPr>
          <a:xfrm>
            <a:off x="138240" y="71280"/>
            <a:ext cx="4719600" cy="6675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C:\Documents and Settings\Pragma\Рабочий стол\День воспитателя\vospitatel.jpg"/>
          <p:cNvPicPr/>
          <p:nvPr/>
        </p:nvPicPr>
        <p:blipFill>
          <a:blip r:embed="rId2"/>
          <a:stretch/>
        </p:blipFill>
        <p:spPr>
          <a:xfrm>
            <a:off x="4890960" y="142920"/>
            <a:ext cx="4110120" cy="6572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Documents and Settings\Pragma\Рабочий стол\оформление группы\Буклеты\1282764315_detyam-posv.jpg"/>
          <p:cNvPicPr/>
          <p:nvPr/>
        </p:nvPicPr>
        <p:blipFill>
          <a:blip r:embed="rId1"/>
          <a:stretch/>
        </p:blipFill>
        <p:spPr>
          <a:xfrm>
            <a:off x="4357800" y="203040"/>
            <a:ext cx="4500360" cy="6369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Documents and Settings\Pragma\Рабочий стол\оформление группы\анимации\11.gif"/>
          <p:cNvPicPr/>
          <p:nvPr/>
        </p:nvPicPr>
        <p:blipFill>
          <a:blip r:embed="rId2"/>
          <a:stretch/>
        </p:blipFill>
        <p:spPr>
          <a:xfrm>
            <a:off x="195120" y="428760"/>
            <a:ext cx="4019760" cy="6000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3" name="Picture 2" descr="C:\Documents and Settings\Pragma\Рабочий стол\День воспитателя\MOLITVA\2-1молитва.jpg"/>
          <p:cNvPicPr/>
          <p:nvPr/>
        </p:nvPicPr>
        <p:blipFill>
          <a:blip r:embed="rId1"/>
          <a:stretch/>
        </p:blipFill>
        <p:spPr>
          <a:xfrm>
            <a:off x="158760" y="142920"/>
            <a:ext cx="4429080" cy="6643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3" descr="C:\Documents and Settings\Pragma\Рабочий стол\День воспитателя\MOLITVA\3молитва.jpg"/>
          <p:cNvPicPr/>
          <p:nvPr/>
        </p:nvPicPr>
        <p:blipFill>
          <a:blip r:embed="rId2"/>
          <a:stretch/>
        </p:blipFill>
        <p:spPr>
          <a:xfrm>
            <a:off x="4714920" y="214200"/>
            <a:ext cx="4362480" cy="6545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26" name="Picture 2" descr="C:\Documents and Settings\Pragma\Рабочий стол\День воспитателя\MOLITVA\4молитва.jpg"/>
          <p:cNvPicPr/>
          <p:nvPr/>
        </p:nvPicPr>
        <p:blipFill>
          <a:blip r:embed="rId1"/>
          <a:stretch/>
        </p:blipFill>
        <p:spPr>
          <a:xfrm>
            <a:off x="285840" y="212760"/>
            <a:ext cx="4286160" cy="64310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C:\Documents and Settings\Pragma\Рабочий стол\День воспитателя\MOLITVA\5молитва.jpg"/>
          <p:cNvPicPr/>
          <p:nvPr/>
        </p:nvPicPr>
        <p:blipFill>
          <a:blip r:embed="rId2"/>
          <a:stretch/>
        </p:blipFill>
        <p:spPr>
          <a:xfrm>
            <a:off x="4640400" y="214200"/>
            <a:ext cx="4217760" cy="6329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3:54:03Z</dcterms:created>
  <dc:creator>User</dc:creator>
  <dc:description/>
  <dc:language>en-US</dc:language>
  <cp:lastModifiedBy>Надежда</cp:lastModifiedBy>
  <dcterms:modified xsi:type="dcterms:W3CDTF">2013-04-27T05:01:58Z</dcterms:modified>
  <cp:revision>50</cp:revision>
  <dc:subject/>
  <dc:title>Слайд 1</dc:title>
</cp:coreProperties>
</file>