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  <p:custShowLst>
    <p:custShow name="Произвольный показ 1" id="0">
      <p:sldLst>
        <p:sld r:id="rId9"/>
        <p:sld r:id="rId10"/>
        <p:sld r:id="rId11"/>
        <p:sld r:id="rId12"/>
        <p:sld r:id="rId13"/>
        <p:sld r:id="rId14"/>
        <p:sld r:id="rId15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E3E-3FBC-4D0F-B936-A83207F5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687-89EC-4CDD-9117-65E0B337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4AC-40B1-4595-9756-F81F60B5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600-C9BA-4FC1-A8CD-52FDEEDC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B4AC-E648-494C-BA6A-D2BD7983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B527-5B4D-43EA-8681-F33A94FD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105B-AEB2-4C7F-8B64-F80FA40B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BADD-8645-4488-819B-4A2EA7EE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8F1A-1697-43E3-ACEB-1C15F378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0F4A-CCE2-4988-A298-2357101F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762F-E2FD-44B9-BB5B-8586C5F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B4F-1DF3-4746-B3E0-75BA05FD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8BE-00C5-4E47-8583-F127419D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9ACF-0337-4E43-808C-DEBBB6CA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796C-9F06-4B4C-8246-4E5EFDF2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568-04EF-49EE-B4B6-604E6965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913-387B-45E8-A92C-54C7599C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1BEC-D401-4E92-8595-5B9B4A2A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92ED-D1F9-41ED-9057-6FB32AFF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D4A0-1CB4-4195-8EB5-3A2CC10B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E792-E7ED-49A9-8F27-45691A60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F2C0-F0FE-4591-AEE7-688A0459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DEA-BE9E-4CBE-995D-964EF176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38A3-6B9C-477F-9E9C-F54A0537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646C-9F09-4613-A7E9-53B41596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E6E5-1EEC-4E62-8B63-0B31647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2DDE-C3DC-4162-B1F2-C7F29AA4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B1FD-1944-4788-B60E-AF14620E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5576-9A8B-49A7-BE9E-DFAB2202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29E9C-2707-4A51-96B4-691D5947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69DE3-9603-4FA2-A827-E41CCF30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40301-B60A-4AB2-8DAC-7478A8F7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95ED-450C-43E7-B916-1181C35F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11C-DC41-4C73-9A2D-1583E6A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BE86-DA0C-433A-8B43-8954ADE4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0027-6EB4-4407-98D9-E3535F88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7FE4-C313-42F6-BAA6-97B9C7A3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D152-535A-48EB-B1E5-336D0B3D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A1F5-1704-4F28-B97B-16F8BB4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AC6D-AB21-4D9F-99E5-EEBC7B2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33184-2842-4971-8A46-6C5A3D1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A5A1-703C-45BB-8450-85A75B9D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75F1-C84A-4A80-83C7-B620ACE2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05BE7-0273-4614-96DF-1600940E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23E-09F6-466A-98BB-DA725E40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40102-DA94-4633-B5AB-3B89537C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65E48-2BB4-4F0F-BB31-01B8A3C1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390E9-8EEF-4630-9A09-B3D78A01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40B2C-6DE3-4208-B5FF-FA32DBBA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BB8A-964A-499D-93CE-A5B74013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D3A9F-5C3B-412A-9B7F-EE0723FF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87382-F02F-4488-A913-E0A4A73D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2819A-5EE7-4B15-B2E5-A282971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C2AC-3C02-4D4E-A60C-A6B2B806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7D849-D703-47D9-82A0-28C6FBCC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A1E-6AC0-4464-8409-615E70D1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B5576-55DF-4BD8-B63B-8091C310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2B5A-F05A-408E-A660-23C91F3D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E8BAD-2221-4721-9D3A-5B57DF02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5B285-D6A6-4B7D-ACAC-2A015907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ED5B-5CDC-48CE-B054-9D0C3E26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D5DAB-6A0E-430F-AE87-607FEB26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F51CE-5CCE-4C61-9BAC-8DC59F3B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F9214-855C-4A4D-872F-B8F0EDE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C9CD0-C457-4060-815F-9151013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14D2-E106-47DB-AC1A-C24A575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A67-D052-4EEB-9A15-6BFD5996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CB00A-C2EA-45E3-AB5F-0BC522FC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63B98-69CB-471D-B9DD-093F2A88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6C62B-304D-46DD-BA7F-C11D2A60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BA877-8D31-4CF4-BA2F-DA389ADE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FAA13-C164-40D9-BC19-0434DD6D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C50E-4A71-4708-A146-4E9D0FF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478D-100C-40A2-B50F-B99F4CB1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FE2D7-F2DF-456F-B51C-91C7B702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9F9A6-425C-466E-B7B4-DD090953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0DAB1-B748-455C-82BB-297E3B68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FAD-E108-485B-838E-4FD6FC97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D8F5-B85D-4750-9D05-0E806490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C9F7A-DAE8-41B5-BBC9-F66FBE64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3D661-82A2-4225-ABA2-92B6AC93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92AB1-B125-480C-95A3-67FFBDFE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06DBC-EDA4-4192-A698-155628F8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589-4EF8-4ABB-B4B6-B8BDA6D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12F5-C2F2-4022-AB3C-87D2AC198A7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181F-3C1A-48AC-9D86-F4A839820E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45EE-C3F5-4B1F-849F-1C5A933754F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64B3-A07F-4658-A170-ADCFD6F58D4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" name="minusovki.mptri.net detskie_-_mir_pohozh_na_cvetnoy_lug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EFF8-EDD3-47C0-8704-45D8BB60F1A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44C2-A470-42DF-9B4D-35BAEA9413EA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E0B8-AECB-47BC-ADB7-F050700CC6D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Documents and Settings\Pragma\Рабочий стол\День воспитателя\a6b58d75fbf2.jpg"/>
          <p:cNvPicPr/>
          <p:nvPr/>
        </p:nvPicPr>
        <p:blipFill>
          <a:blip r:embed="rId1"/>
          <a:stretch/>
        </p:blipFill>
        <p:spPr>
          <a:xfrm>
            <a:off x="71280" y="185760"/>
            <a:ext cx="8961480" cy="63864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6"/>
          <p:cNvSpPr/>
          <p:nvPr/>
        </p:nvSpPr>
        <p:spPr>
          <a:xfrm>
            <a:off x="642960" y="2071800"/>
            <a:ext cx="320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8d3d"/>
                </a:solidFill>
                <a:latin typeface="Trebuchet MS"/>
              </a:rPr>
              <a:t>Воспитателей мы любим, С воспитателями дру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5385960" y="207180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8d3d"/>
                </a:solidFill>
                <a:latin typeface="Trebuchet MS"/>
              </a:rPr>
              <a:t>Их поздравить мы спеш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8d3d"/>
                </a:solidFill>
                <a:latin typeface="Trebuchet MS"/>
              </a:rPr>
              <a:t>Спасибо скажем от душ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0" name="Picture 2" descr="C:\Documents and Settings\Pragma\Рабочий стол\День воспитателя\27 сентября\день дошкольного работникаА3.jpg"/>
          <p:cNvPicPr/>
          <p:nvPr/>
        </p:nvPicPr>
        <p:blipFill>
          <a:blip r:embed="rId1"/>
          <a:stretch/>
        </p:blipFill>
        <p:spPr>
          <a:xfrm>
            <a:off x="247680" y="214200"/>
            <a:ext cx="8753400" cy="6456600"/>
          </a:xfrm>
          <a:prstGeom prst="rect">
            <a:avLst/>
          </a:prstGeom>
          <a:ln w="0">
            <a:noFill/>
          </a:ln>
        </p:spPr>
      </p:pic>
    </p:spTree>
  </p:cSld>
  <p:transition spd="slow" advTm="65000">
    <p:wheel spokes="2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:\Documents and Settings\Pragma\Рабочий стол\День воспитателя\1262548922_den-vospitatelya1.jpg"/>
          <p:cNvPicPr/>
          <p:nvPr/>
        </p:nvPicPr>
        <p:blipFill>
          <a:blip r:embed="rId1"/>
          <a:stretch/>
        </p:blipFill>
        <p:spPr>
          <a:xfrm>
            <a:off x="214200" y="142920"/>
            <a:ext cx="5504040" cy="66438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5857920" y="785880"/>
            <a:ext cx="328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Терпенья Вам, творческих успехов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исполнения все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Желаний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4" name="Picture 2" descr="C:\Documents and Settings\Pragma\Рабочий стол\День воспитателя\Поздравление №3 copy.jpg"/>
          <p:cNvPicPr/>
          <p:nvPr/>
        </p:nvPicPr>
        <p:blipFill>
          <a:blip r:embed="rId1"/>
          <a:stretch/>
        </p:blipFill>
        <p:spPr>
          <a:xfrm>
            <a:off x="142920" y="285840"/>
            <a:ext cx="8808840" cy="61704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 rot="21205200">
            <a:off x="1145160" y="1440720"/>
            <a:ext cx="287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Стал детский са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для нас с тобой судьбо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Не совсем безоблачной, просто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Только человек чего-то стои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Коль ребенка вскормит доброт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Шум детей кого-то раздражает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Вызывая часто дискомфор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Только педагог лишь поним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Гомон малышей – земли комфор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 rot="403800">
            <a:off x="5272920" y="1436040"/>
            <a:ext cx="278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Каждый день мы видим их глазе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Милые, лучистые пор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Пусть растут мальчишки и девч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Годы прибавляя нам с тоб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Мысли о делах всегда со мно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Спать ли я ложусь или вста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Только ни за что не променя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Трудную профессию сво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8" name="Picture 2" descr="C:\Documents and Settings\Pragma\Рабочий стол\День воспитателя\nyanya.jpg"/>
          <p:cNvPicPr/>
          <p:nvPr/>
        </p:nvPicPr>
        <p:blipFill>
          <a:blip r:embed="rId1"/>
          <a:stretch/>
        </p:blipFill>
        <p:spPr>
          <a:xfrm>
            <a:off x="138240" y="71280"/>
            <a:ext cx="4719600" cy="6675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C:\Documents and Settings\Pragma\Рабочий стол\День воспитателя\vospitatel.jpg"/>
          <p:cNvPicPr/>
          <p:nvPr/>
        </p:nvPicPr>
        <p:blipFill>
          <a:blip r:embed="rId2"/>
          <a:stretch/>
        </p:blipFill>
        <p:spPr>
          <a:xfrm>
            <a:off x="4890960" y="142920"/>
            <a:ext cx="4110120" cy="6572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Documents and Settings\Pragma\Рабочий стол\оформление группы\Буклеты\1282764315_detyam-posv.jpg"/>
          <p:cNvPicPr/>
          <p:nvPr/>
        </p:nvPicPr>
        <p:blipFill>
          <a:blip r:embed="rId1"/>
          <a:stretch/>
        </p:blipFill>
        <p:spPr>
          <a:xfrm>
            <a:off x="4357800" y="203040"/>
            <a:ext cx="4500360" cy="6369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Documents and Settings\Pragma\Рабочий стол\оформление группы\анимации\11.gif"/>
          <p:cNvPicPr/>
          <p:nvPr/>
        </p:nvPicPr>
        <p:blipFill>
          <a:blip r:embed="rId2"/>
          <a:stretch/>
        </p:blipFill>
        <p:spPr>
          <a:xfrm>
            <a:off x="195120" y="428760"/>
            <a:ext cx="4019760" cy="6000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3" name="Picture 2" descr="C:\Documents and Settings\Pragma\Рабочий стол\День воспитателя\MOLITVA\2-1молитва.jpg"/>
          <p:cNvPicPr/>
          <p:nvPr/>
        </p:nvPicPr>
        <p:blipFill>
          <a:blip r:embed="rId1"/>
          <a:stretch/>
        </p:blipFill>
        <p:spPr>
          <a:xfrm>
            <a:off x="158760" y="142920"/>
            <a:ext cx="4429080" cy="6643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Documents and Settings\Pragma\Рабочий стол\День воспитателя\MOLITVA\3молитва.jpg"/>
          <p:cNvPicPr/>
          <p:nvPr/>
        </p:nvPicPr>
        <p:blipFill>
          <a:blip r:embed="rId2"/>
          <a:stretch/>
        </p:blipFill>
        <p:spPr>
          <a:xfrm>
            <a:off x="4714920" y="214200"/>
            <a:ext cx="4362480" cy="6545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6" name="Picture 2" descr="C:\Documents and Settings\Pragma\Рабочий стол\День воспитателя\MOLITVA\4молитва.jpg"/>
          <p:cNvPicPr/>
          <p:nvPr/>
        </p:nvPicPr>
        <p:blipFill>
          <a:blip r:embed="rId1"/>
          <a:stretch/>
        </p:blipFill>
        <p:spPr>
          <a:xfrm>
            <a:off x="285840" y="212760"/>
            <a:ext cx="4286160" cy="64310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C:\Documents and Settings\Pragma\Рабочий стол\День воспитателя\MOLITVA\5молитва.jpg"/>
          <p:cNvPicPr/>
          <p:nvPr/>
        </p:nvPicPr>
        <p:blipFill>
          <a:blip r:embed="rId2"/>
          <a:stretch/>
        </p:blipFill>
        <p:spPr>
          <a:xfrm>
            <a:off x="4640400" y="214200"/>
            <a:ext cx="4217760" cy="632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3:54:03Z</dcterms:created>
  <dc:creator>User</dc:creator>
  <dc:description/>
  <dc:language>en-US</dc:language>
  <cp:lastModifiedBy>Надежда</cp:lastModifiedBy>
  <dcterms:modified xsi:type="dcterms:W3CDTF">2013-04-27T05:01:58Z</dcterms:modified>
  <cp:revision>50</cp:revision>
  <dc:subject/>
  <dc:title>Слайд 1</dc:title>
</cp:coreProperties>
</file>