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  <p:sldId id="285" r:id="rId71"/>
    <p:sldId id="286" r:id="rId72"/>
    <p:sldId id="287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slide" Target="slides/slide30.xml"/><Relationship Id="rId72" Type="http://schemas.openxmlformats.org/officeDocument/2006/relationships/slide" Target="slides/slide31.xml"/><Relationship Id="rId73" Type="http://schemas.openxmlformats.org/officeDocument/2006/relationships/slide" Target="slides/slide32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244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dt" idx="40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ftr" idx="41"/>
          </p:nvPr>
        </p:nvSpPr>
        <p:spPr>
          <a:xfrm>
            <a:off x="-360" y="8685000"/>
            <a:ext cx="296244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 type="sldNum" idx="4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78B2E-54BA-4F20-A770-A949E921C9F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79157-5133-4C31-9B2D-71EDC86362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30091-CE1D-4666-A388-D7E538A110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080B9-4474-4E83-8B6D-7B0948F5D56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DFCCF-7C1E-462C-AC8F-4EEF2ED1A64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14CD-E9C9-4A4B-B324-DC33730B469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0FF21-6AA5-4B50-85B7-4A5A7211BF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21523-8D71-41DE-B0F4-75158E0FD4E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480E7-C068-443A-9CB5-99B38DCC5C6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23CFD-EAAD-4D5F-918F-0BE6B0175B5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66EC-AA43-45B9-B5D0-9DE9A4460A9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37129-1931-44D3-AF8A-4EE1D47F8F5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B2EBE-62FE-44C6-8B2F-F0AA43DA0AD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91A96-4BD1-4A0A-A94A-95BFCDF280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C1B4-B509-4E7D-A4E6-1AEEA54181F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262F7-62D0-4F95-9931-AB5DD34F7DB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D4E71-7D5E-4445-8F07-B88A4962781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ED7ED-1B9A-4C33-9316-21E81C6A539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DABBC-E70C-4415-ADFC-9D5ADAC841C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43347-5EE9-4161-9BD4-EB565C30650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30985-D2BA-46E6-B9FC-805B2E5F3C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FC5DD-0539-4C72-8624-A95DE8CC4E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65001-DD2E-4A8E-A551-BA63572F65F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37837-FA69-436F-B292-2DB2F17125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7F2F0-EB1D-4A86-B9A9-48E83C8D913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C62E2-9847-4A70-B488-6E9E2023A8F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6CEFF-ADBD-4663-B4D0-32ED1D08972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953C6-D61C-4B2C-9357-DD8D889073B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4C0C7-D82A-4977-B92F-9DA2D3CDDF8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53291-D3CF-463F-8A37-42B54D3C905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C064D-170E-4112-814F-06E9197B45C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76E75-4B24-40C0-9C20-0BC74E1AF9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1F69E-0074-47F4-9B5E-352A67EF8CF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472-5A78-4A48-88AD-78073E29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2FE-4449-4CAB-86A1-2AD3247B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6CB-0BB4-4CCC-B03D-727FB7B6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DAB-256E-47EB-9F6C-CD8B0B70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F6B-E3D9-40AF-A3A2-F654835E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EC3-3E87-4CFF-BDBC-80BC8129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4D6-3F20-4A90-AFFE-B8357F5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5A02-8D3F-4EE0-A1B4-C1B3834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F50A-ADD4-4996-A95F-8E199A0F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A27A-45FF-42DA-9215-974F362C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5A5D-AFFB-417A-84D9-398A8259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4B21-A22C-4E02-AA81-A4ED2FF8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38A7-7836-4E3E-991E-987E056B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A0A-BA89-483D-B727-16C6061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0599-C828-416C-A3F4-B2B5DCA7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5351-3FD8-4870-9917-7CD87BEF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5434-4E3C-40ED-8E97-79E3A5E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7C2C-6799-432A-A8EA-D36647B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651-9D86-4BFE-A478-7A8A4492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1A4-862A-4FDA-8C87-E758DBA6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6D2-E7FF-49FB-B8ED-FCBBD08C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C012-72AA-4A1B-8F14-43C321C4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39712-D454-4CF0-9DEF-B7EA6D50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7A7A-2E48-43AA-84C3-E6C7BA53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DCF-18D9-47C7-90E7-C765B711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D5A00-4B4B-44FB-875B-E0E8007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B31C-4B90-42E8-B62C-B12E9AAC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8063-2B3B-43EC-84CE-7EC1E883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282E-735E-42F9-A591-A6AC6DFA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4DB4A-8D06-46E1-A155-0DA6F582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F096E-5CF8-4E41-8B6E-141F788D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29418-F6FD-4356-97B7-CCF14286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B22E-E6F5-423A-AC48-37D2D4A1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6523-B572-4AC4-A966-68FCFB4B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F4853-2D1A-45FC-A34C-16BD525E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947-3895-4041-9101-0E1294EE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31286-D1B6-4749-B38D-CC40DF9A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1F7AE-2EDD-48B3-9156-038BCC03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916F-7CA6-46CD-84BA-766BBF7B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1731-EC1E-42DE-A909-BBAF5A99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B929-D514-4361-9EA1-34EB876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71B6B-6F97-4588-A106-BA2942A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A5AC4-3747-46EE-8F4E-C0F7909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2C98-0A92-4A2A-ABB7-495B609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0919-B385-441F-B924-C9B60070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B670-1012-4F3A-B454-88047C04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981-11E9-48BA-BCB2-7DEBE051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66F1-5D04-4C7F-AA99-C0A424CD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2DF8-AB95-4BA4-A3BC-B31E4041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7663-1E24-465B-B9AC-5FAB8A9E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3524C-647E-498E-A227-818615F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61872-1C10-42F2-9E89-725933F0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FE8FA-535C-419D-BD00-7B854532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49168-5F8F-482E-8CA5-01DB4465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665C3-2AD4-4386-91B3-7EDD4CE4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21F7-7F00-4761-8AAE-FCC66A22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7323-64FA-42BE-B842-4B2F957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57BD4-D4BE-4C6E-BD9F-104691E5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A3594-2313-49E6-A93B-CBD442B5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1F3B1-E15A-4D33-A6CD-46A55A51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3A23C-AD41-478D-B52C-0359E85B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C90DE-6667-41FA-B2BE-964DE056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73F28-FF1D-4C34-AAB4-A1415AC8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49EB-380D-4941-A7AF-4F6647A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3CAD9-4A61-4BBD-B04D-902A1318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86E9E-7E72-4308-B2E3-2421D409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D10D9-4056-448D-A940-53D34E30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DDF37-139A-4537-9FB0-88A12BD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64695-C966-4F9D-A72C-E28D4518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D8FC5-87CD-4A76-912C-81CFEEF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0C31B-CA18-4076-A094-180D3853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BF87-906C-4A0A-B362-A19AD6CE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C4FA2-C9DB-4506-857D-D7969FC7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D999-A88C-4D6B-B3AA-473A169C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3B444-FEC5-4E26-847A-E0C43881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5F37C-67BF-43E2-8E14-1084465C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D4FDF-E5C5-415F-8077-35E70A1F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F17B2-0286-430A-B7FE-2D70B14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98687-6E3E-4684-ADE1-19F6DA5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BB93-32C1-4216-9962-BB80081F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5E140-7898-48F8-A00D-84AC4E2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CC969-1B73-42FD-AADD-04A53A5B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D65E8-6167-42DA-883F-119DACBF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533A0-74D0-4383-9D66-1E925420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71EF-C285-426D-9A82-E39FAA54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B2977-5607-4F6B-9881-61D53806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8D2F0-0782-4B2B-80FC-EDFA623E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BF508-9717-4CD9-9E19-729A7E57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9BAC8-D24A-400B-B48B-72507B9E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A603A-749E-4AA5-A618-2FE8CB26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BA0D3-AC58-4EF5-B63C-401D03F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0C8FE-84FF-49DA-B99F-AFB023AE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2B795-0D36-4F9C-96CD-4C08AE14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919F6-88AF-4736-B4E3-C56CD37C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C721-B12A-4C4E-B4FA-4FB2339CE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753A7-BD8D-447F-87DE-34556D2B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84406-0393-4058-BE00-EDD452D7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AE9D7-0E8D-4BF2-9EFE-2E93A062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879F2-A598-4C4E-96F9-837EA1CC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833F0-BE54-4758-808F-7A9EBFA0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41081-A7B4-4134-982C-9242FED3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BD33D-019E-4C63-856C-D811A90F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28634-5F8F-4B53-8C3B-A273C2D2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550A3-D546-4957-9BA7-FAF2B837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D3522-A2F0-49B0-9048-22BD8423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23391-963E-45BF-B2BF-B679C454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ED3FC-6CFD-440E-8F87-A692D0CE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96C58-0832-4911-A6FD-700C6261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7702D-14B9-45E0-A665-62C57E7F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665B8-5345-4E6A-B587-F184B179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92CAF-32AC-4485-AB6D-77EBD205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D5E61-FB1A-49F9-9C41-411EA55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284CF-51F8-4930-8D85-F8495942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A1806-188E-42A5-938A-D6D202C7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48C48-D9FC-4892-B065-0C14C6FE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00F3C-C795-4CBD-957F-03492B4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545DE-4272-45FA-ACC7-A74DD88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80C12-C35C-41C2-B4D5-BC17055F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35000-1049-4878-819F-E5E4253B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D53D0-1037-41FD-B11A-59203662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E0E55-5A31-4DF1-9E3D-38AD3613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AF38F-48AF-4A6E-BE95-0CBECEF9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7136E-D5E0-408A-8563-146D9E88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4911-0B15-4EC0-8E21-876B3967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3904F-848A-4CC4-BEA8-EBB180AD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2991A-5721-4BD8-82AE-C2932CE7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59EBF-F350-400E-9E9C-E711B90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6A22-8BF1-4845-99E6-E9682393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855C1-5CF6-465E-9ECD-762D438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B6B77-C0A7-4AE7-A262-BCE5BC08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CA86D-3C2C-4069-B608-9FB309C1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688F8-4FB8-40C4-AF40-5D43A5CA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A4A5B-E503-4B5D-890B-0BBACDD6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38329-EE45-4C10-9410-85BF09EE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434AC-CDA0-447B-B785-50A64ECA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2D1C5-6A47-4A55-B2C2-5CFE5716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EEB2AF-5FE6-42AD-B4BD-E735AFD6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3815F-B1E3-485B-A8E5-631B6B3D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F9630-FFEA-4336-BBB2-8F31518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AE131-E665-4401-86C8-873B0ADE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84D24-4A93-4C8E-AC2E-DD4A9C59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DAB15-0679-420E-A7B2-E0BEF760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81922-5B56-453A-BC32-947E48E3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EFB49-668A-4BFB-A57E-A26EB877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2093F2-D2B6-4B9D-9A61-E09B7790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0BFE4-498E-4BA0-A84A-FB6C75F9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111EE-9A76-43A4-AAFF-3F00CBEF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058B4-68B8-4030-A3CF-BA59974E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FDF4B-951E-4616-AF86-9A1A2971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C3371-A260-4A92-96E8-C37958D9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758E2A-3120-4B17-8A84-FF08B447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7B7ED-ED81-466D-8149-C43CDF3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E4F7A-8AF8-4AB0-9171-62CDE2BF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EA108-460E-48DF-94C9-B8E861B0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27F1-50D6-440B-B361-C697EF26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BCB68-0198-4ABC-96C6-37DD14FF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68360" y="650520"/>
            <a:ext cx="740736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9640" y="4750200"/>
            <a:ext cx="7407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35480" y="184464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964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335480" y="4750200"/>
            <a:ext cx="36147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416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549040" y="184464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96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04416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549040" y="4750200"/>
            <a:ext cx="2385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771640" y="2827440"/>
            <a:ext cx="589464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AADE1C-C1C1-426E-B2E1-F6C49E21B0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F0B088-472D-4FB5-9412-DB6A839C1C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098282-083F-40A0-9102-FA853BEF11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11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ADBDDD-8571-4C04-82A8-8B8D5251A8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14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9C3829-7A39-4D41-B3BC-4BF958CCD4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17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6D463D-6FA1-426D-A0B4-F3C2FF14EF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20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522F97-F0E5-4D5B-867E-491282D478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23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CB0D3F-BD3E-4CAA-A9B3-EB1279BED0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26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9E0B30-BF12-4B46-B8DF-2E46F83ACC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29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C99F9B-C744-4FC1-A84B-AA0D7A40FD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31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32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47707B-F2E4-417B-9064-F5B380F15D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34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35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E69473-EE02-44BB-8E85-F9F78A2B07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69780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1908000" y="1599840"/>
            <a:ext cx="676944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6C6F7E-E650-4226-A983-BF9C3303A8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650520"/>
            <a:ext cx="74073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39640" y="1844640"/>
            <a:ext cx="74073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1" descr=""/>
          <p:cNvPicPr/>
          <p:nvPr/>
        </p:nvPicPr>
        <p:blipFill>
          <a:blip r:embed="rId2"/>
          <a:stretch/>
        </p:blipFill>
        <p:spPr>
          <a:xfrm>
            <a:off x="1008000" y="0"/>
            <a:ext cx="7601040" cy="68580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2143080" y="0"/>
            <a:ext cx="65008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351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6633"/>
                </a:solidFill>
                <a:latin typeface="Times New Roman"/>
              </a:rPr>
              <a:t>МБОУ «Пролетарская СОШ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6633"/>
                </a:solidFill>
                <a:latin typeface="Times New Roman"/>
              </a:rPr>
              <a:t>Гамова Татьяна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3516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6633"/>
                </a:solidFill>
                <a:latin typeface="Times New Roman"/>
              </a:rPr>
              <a:t>11 класс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6" name="TextBox 4" descr=""/>
          <p:cNvPicPr/>
          <p:nvPr/>
        </p:nvPicPr>
        <p:blipFill>
          <a:blip r:embed="rId3"/>
          <a:stretch/>
        </p:blipFill>
        <p:spPr>
          <a:xfrm>
            <a:off x="493560" y="4389480"/>
            <a:ext cx="815688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933200" y="-432000"/>
            <a:ext cx="670716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сновные особенности ЕГЭ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800000" y="1064880"/>
            <a:ext cx="73436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ое распис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диные правила провед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е заданий стандартизированной формы (КИМ) и бланков для оформления ответов на зада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дение письменно на русском языке (за исключением ЕГЭ по иностранным языкам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ктивная  оценка результ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Text Box 2"/>
          <p:cNvSpPr/>
          <p:nvPr/>
        </p:nvSpPr>
        <p:spPr>
          <a:xfrm>
            <a:off x="1979640" y="-252360"/>
            <a:ext cx="670716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учение свидетельства о результатах 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 Box 3"/>
          <p:cNvSpPr/>
          <p:nvPr/>
        </p:nvSpPr>
        <p:spPr>
          <a:xfrm>
            <a:off x="2071800" y="1285920"/>
            <a:ext cx="6707160" cy="51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идетельство о результатах ЕГЭ – документ, который выдается лицам, участвовавшим в ЕГЭ. Порядок и форма выдачи свидетельства  устанавливается Министерством образования и науки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видетельство выставляются результаты ЕГЭ по тем предметам, по котор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ник набрал не ниж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мального количества баллов, установленного Рособрнадзором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нформация обо всех сданных предметах заносится в федеральную базу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Text Box 2"/>
          <p:cNvSpPr/>
          <p:nvPr/>
        </p:nvSpPr>
        <p:spPr>
          <a:xfrm>
            <a:off x="1933560" y="-576360"/>
            <a:ext cx="67071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ЕГЭ и Вуз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3"/>
          <p:cNvSpPr/>
          <p:nvPr/>
        </p:nvSpPr>
        <p:spPr>
          <a:xfrm>
            <a:off x="1800360" y="1008000"/>
            <a:ext cx="7127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ногие вузы используют результаты ЕГЭ в качестве результатов вступительных экзаме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одаче документов абитуриент в заявлении имеет право лишь указать сведения о результатах ЕГЭ или о месте сдачи ЕГЭ. При наличии нескольких результатов ЕГЭ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ок действия у которых не истек, поступающ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казывает в заявлении, какие результаты единого государственного экзамена и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м общеобразовательны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метам он использу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835280" y="-27000"/>
            <a:ext cx="658800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714680" y="1142640"/>
            <a:ext cx="7215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после изучения системы сдачи ЕГЭ мной были сделаны следующие вывод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ЕГЭ — централизованная система, которая объективно проверяет знания учащихся и хранит всю информацию об их результатах в базе данны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истема соответствует стандартам Европы, что позволяет сравнивать уровень образования РФ с уровнем, к примеру, Англ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Примерная структура, форма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заданий заранее определены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могут быть изменены произвольным образ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ногие вузы используют 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в качестве результатов вступи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заменов, что помогает многим выпускник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упать в лучшие вузы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Picture 1" descr=""/>
          <p:cNvPicPr/>
          <p:nvPr/>
        </p:nvPicPr>
        <p:blipFill>
          <a:blip r:embed="rId2"/>
          <a:stretch/>
        </p:blipFill>
        <p:spPr>
          <a:xfrm>
            <a:off x="3143160" y="2857680"/>
            <a:ext cx="4587840" cy="3512880"/>
          </a:xfrm>
          <a:prstGeom prst="rect">
            <a:avLst/>
          </a:prstGeom>
          <a:ln w="0">
            <a:noFill/>
          </a:ln>
        </p:spPr>
      </p:pic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99800" y="857160"/>
            <a:ext cx="67057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c5000b"/>
                </a:solidFill>
                <a:latin typeface="Times New Roman"/>
              </a:rPr>
              <a:t>«Против»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Text Box 3"/>
          <p:cNvSpPr/>
          <p:nvPr/>
        </p:nvSpPr>
        <p:spPr>
          <a:xfrm>
            <a:off x="1979640" y="576360"/>
            <a:ext cx="670572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Результат ЕГЭ - отупение выпускников»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Text Box 4"/>
          <p:cNvSpPr/>
          <p:nvPr/>
        </p:nvSpPr>
        <p:spPr>
          <a:xfrm>
            <a:off x="2071800" y="-428760"/>
            <a:ext cx="6705360" cy="78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Еще никогда на филологический факультет МГУ не приходили такие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тупые студенты, не умеющие связать двух сл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, - заявила участница Всероссийского съезда учителей русского языка и литературы декан МГУ Мария Ремнева, относя этот факт к введению ЕГЭ. Нужно вернуть сочинение как обязательный предмет, считает Ремнева. В резолюции съезда, однако, ратуют за совсем новую форму экзамена по литературе, которая должны быть разработана с учетом «общегуманитарных и психологических задач проведения такого испытания». Про "отупение" в резолюции тоже было сказано, но в более мягких формулировк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936800" y="-378000"/>
            <a:ext cx="670392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 причины тому..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856880" y="1213920"/>
            <a:ext cx="692964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Во-первых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ГЭ заставляет учеников старших классов вместо получения знаний тренироваться решать ЕГЭ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Во-вторых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ГЭ учит отвечать кратко и конкретно, но иногда нужны развернутые ответы, иногда требуется придумать как можно больше способов, найти разные мнени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TextBox 4"/>
          <p:cNvSpPr/>
          <p:nvPr/>
        </p:nvSpPr>
        <p:spPr>
          <a:xfrm>
            <a:off x="1928880" y="4000680"/>
            <a:ext cx="678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В-третьих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ГЭ не учитывает речевые навыки. Между тем, речевые навыки для многих сфер жизни необходимо развивать и оттачива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Text Box 2"/>
          <p:cNvSpPr/>
          <p:nvPr/>
        </p:nvSpPr>
        <p:spPr>
          <a:xfrm>
            <a:off x="1979640" y="-206280"/>
            <a:ext cx="670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Text Box 3"/>
          <p:cNvSpPr/>
          <p:nvPr/>
        </p:nvSpPr>
        <p:spPr>
          <a:xfrm>
            <a:off x="1785960" y="571680"/>
            <a:ext cx="70009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а прием они пришли всей семьей: папа, мама и дочка. Пришли из-за дочки. Отличница, надежда семьи была снята со сдачи 2-х ЕГЭ по медицинским показаниям. На первом экзамене девочка долго сидела, глядя в одну точку, а потом сама отказалась от тестирования. На втором, через несколько минут после начала экзамена, она просто упала в обморок» — рассказал психотерапевт Стрельченко Андрей Борисови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Text Box 4"/>
          <p:cNvSpPr/>
          <p:nvPr/>
        </p:nvSpPr>
        <p:spPr>
          <a:xfrm>
            <a:off x="1071720" y="285840"/>
            <a:ext cx="85089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тресс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482560" y="71280"/>
            <a:ext cx="514836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оррупци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2000160" y="1214280"/>
            <a:ext cx="7143840" cy="40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ее достоверные факты о коррупции в сфере системы ЕГЭ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ление взяточничества в сфере приёма экзамен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ись ресурсы, выкладывающие за деньги ответы к вариантам экзамена (причём не всегда достоверные). Пример - antiege.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яточничество в вузах не уменьшилось, наоборот — конкурс знаний заставил многих абитуриентов использовать финансы семьи для поступ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тификаты подделываются самым активным образ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076120" y="50760"/>
            <a:ext cx="670716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 том, как вместо школьников ЕГЭ сдают педагог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643040" y="1854360"/>
            <a:ext cx="750096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Есть у нас несколько родительниц очень инициативных, вот они-то и объявили, что нашим детям на экзаменах могут помочь хорошие педагоги... Там даже вузовские преподаватели были. Озвучили и сумму, которую каждому из родителей надо было заплатить: 10 тысяч рублей. Конечно, это меньше, чем расценки в вузе при поступлении. Многие родители согласились прямо на собрании... Мы одолжили у знакомых мобильный телефон с фотокамерой и выходом в Интернет. Сын пошел на экзамен с двумя сотовыми: свой собственный сдал, как положено, при входе в экзаменационный класс, а со второго фотографировал задания и отправлял их по нужному номеру. А там их уже решали специалисты и присылали готовые ответы и решения обратно...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10920" y="306360"/>
            <a:ext cx="5616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5000b"/>
                </a:solidFill>
                <a:latin typeface="Times New Roman"/>
              </a:rPr>
              <a:t>ВВЕДЕНИЕ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358920" y="1457280"/>
            <a:ext cx="820872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1.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Актуальность работы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основана на явных противоречиях в общей оценке Единого Государственного Экзам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2.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Гипотеза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— как и любой другой вид экзаменационной системы, ЕГЭ имеет ряд достоинств и недостатков, которые необходимо выяснить и обобщить с целью более объективной оцен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3.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Проблема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— постоянная полемика вокруг вопроса состояния российской системы аттестации, вследствие чего непонятно её функционирование, фундамент и основные плюс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</a:rPr>
              <a:t>Цель работы</a:t>
            </a:r>
            <a:r>
              <a:rPr b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: оценка системы сдачи Единого Государственного Экзамена и последующее выявление соответствия экзамена стандартам образова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 </a:t>
            </a:r>
            <a:r>
              <a:rPr b="1" i="1" lang="ru-RU" sz="2000" spc="-1" strike="noStrike">
                <a:solidFill>
                  <a:srgbClr val="ffcc99"/>
                </a:solidFill>
                <a:latin typeface="Times New Roman"/>
                <a:ea typeface="굴림"/>
              </a:rPr>
              <a:t>Задачи: объяснить суть функционирования ЕГЭ, собрать теоретические и статистические данные для анализа системы экзаменации ,  собственно отношения к ней и её практической пользы/бесполез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/>
          </p:nvPr>
        </p:nvSpPr>
        <p:spPr>
          <a:xfrm>
            <a:off x="1856880" y="1142640"/>
            <a:ext cx="700092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так, проанализировав реальные инциденты в сфере образования, я выделила несколько минусов ЕГЭ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ГЭ отучает подростка свободно и креативно мыслить — он ставит себе рамки, в то время как от него требуют мыслить широк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ГЭ оказывает сильное психологическое давление на подростковую психи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Коррупция лишь усугубила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Сертификаты можно подделать, экзаменатора — подкупить, но вот останутся ли у ребенка знания? Ведь сейчас УЧАТ СДАВАТЬ ЕГЭ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TextBox 2"/>
          <p:cNvSpPr/>
          <p:nvPr/>
        </p:nvSpPr>
        <p:spPr>
          <a:xfrm>
            <a:off x="3929040" y="14292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979280" y="-208080"/>
            <a:ext cx="670572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 теперь сопоставим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935000" y="1798560"/>
            <a:ext cx="6777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четыре плюса, четыре минуса. Казалось бы, на весах установилось равновесие. Как бы не та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ся идеальность выделенных мной плюсов просто рухнет, если заметить, что выпускники и ученики попросту тупеют, ориентируясь лишь на 60+ бал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ама по себе система образования прогнила, так как коррупция не может быть искоренена. «Еще одна пилюля» - необъективность и безграмотность вопросов в экзаменах по обществу и биологии. Причем в принципе такие «перлы» есть в каждом варианте экзаме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Идет нестыковка — казалось бы, и ребенок умный, и баллы есть, но... не то. ЕГЭ не учит нас думать, нас учат держать шаблон и не выделя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999800" y="2214360"/>
            <a:ext cx="6704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Практическая часть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70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Опрос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857240" y="20718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мках исследований мной было опрошено 32 человека. Все испытуемые давали интервью в письменной форме. Многие пожелали остаться анонимными. С ознакомительной целью я использовала мнение пяти респондентов (в том числе анонимных) в качестве одного из аргументов в рабо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Text Box 2"/>
          <p:cNvSpPr/>
          <p:nvPr/>
        </p:nvSpPr>
        <p:spPr>
          <a:xfrm>
            <a:off x="2071800" y="-500040"/>
            <a:ext cx="670716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уверена в том, что можно сдать ЕГЭ хорошо, даже имея за спиной огромный багаж знаний. Некоторые задания действительно требуют иметь хорошее мышление, но некоторые не могут быть верно истолкованы. К тому же какие-то ответы можно угадать, а многие - выбрать методом логического исключения, так что перевалить планку минимума при желании можно. Этот факт явно не в пользу ЕГЭ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на, 17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Text Box 3"/>
          <p:cNvSpPr/>
          <p:nvPr/>
        </p:nvSpPr>
        <p:spPr>
          <a:xfrm>
            <a:off x="1979640" y="-206280"/>
            <a:ext cx="6702480" cy="78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Text Box 2"/>
          <p:cNvSpPr/>
          <p:nvPr/>
        </p:nvSpPr>
        <p:spPr>
          <a:xfrm>
            <a:off x="1871640" y="1224000"/>
            <a:ext cx="6915240" cy="55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довлетворительной систему сдачи экзаменов я не считаю. Что-то можно угадать, что-то могут подсказать, а на некоторые вопросы НЕЛЬЗЯ ответить однозначно. Раньше, если ты чего-то не знал на экзамене, то это было заметно сразу. Сейчас при среднем, даже слабом уровне знаний можно набрать баллов 70. То есть теперь даже троечник может сдать экзамен на 4-5 по школьной шкале оценок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аша, 17 л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Text Box 1"/>
          <p:cNvSpPr/>
          <p:nvPr/>
        </p:nvSpPr>
        <p:spPr>
          <a:xfrm>
            <a:off x="1871640" y="1201680"/>
            <a:ext cx="6915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На вкус и цвет товарищей нет, но мне нравится ЕГЭ. Раньше зубрили билеты и не спали ночами. Сейчас несколько часов в день репетитор — и всё! 70-80 баллов у тебя в кармане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дрей, 18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Text Box 1"/>
          <p:cNvSpPr/>
          <p:nvPr/>
        </p:nvSpPr>
        <p:spPr>
          <a:xfrm>
            <a:off x="1979640" y="-206280"/>
            <a:ext cx="670716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В предвкушении «казни египетской» начал ходить к репетиторам по химии и биологии. Большая часть денег из семейного бюджета испарилась, будто и не и было. Стал замечать сильную усталость и ухудшение здоровья из-за напряжённого графика — 7 уроков, факультатив, затем ещё и репетитор. Времени на всю подготовку к урокам в обрез, сил нет, и знания долго не задерживаются в голове..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о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Text Box 1"/>
          <p:cNvSpPr/>
          <p:nvPr/>
        </p:nvSpPr>
        <p:spPr>
          <a:xfrm>
            <a:off x="1979640" y="-206280"/>
            <a:ext cx="670716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ностью поддерживаю ЕГЭ. Я сдаю общество и поэтому рада этой системе, а также относительно простым вопросам. Вопрос только в том, а все ли довольны такой «халявой»?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он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Text Box 1"/>
          <p:cNvSpPr/>
          <p:nvPr/>
        </p:nvSpPr>
        <p:spPr>
          <a:xfrm>
            <a:off x="1979640" y="-206280"/>
            <a:ext cx="680724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голоса распределились в отношении 10:4:2 — 20 респондентов выступили «против», 8 выступили за «изменения касаемо экзамена», 4 выступили «з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рафу предлагаемых  изменений вписали 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 реформа объективности» заданий, «увеличение времени», «обязательная психологическая подготовка» и подготовка к экзамену путём «более подробного изучения курс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004840" y="-27360"/>
            <a:ext cx="670752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ратко о введении ЕГЭ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1800000" y="1295280"/>
            <a:ext cx="7343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ервые эксперимент по введению ЕГЭ был проведён в 2001 в республиках Чувашия, Марий Эл, Якутия, а также в Самарской и Ростовской областях по восьми учебным дисциплинам. В 2002 году эксперимент по введению единого государственного экзамена прошёл в 16 регионах страны. В 2003 году эксперимент охватил 47 субъектов РФ, а в 2004 — 65 регионов страны. В 2006 ЕГЭ уже сдавали около 950 тысяч школьников в 79 регионах России. В 2008 его сдавали свыше миллиона учащихся во всех регионах. Конкретный перечень предметов, по которым ЕГЭ проводился в 2001—2008 годах, устанавливался каждым регионом самостоятель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-360" y="60120"/>
            <a:ext cx="7000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5000b"/>
                </a:solidFill>
                <a:latin typeface="Times New Roman"/>
              </a:rPr>
              <a:t>Статистика опроса</a:t>
            </a:r>
            <a:endParaRPr b="1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9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979280" y="-208080"/>
            <a:ext cx="670572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Заключение: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87888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всего, что было мной сказано выше, можно сделать простой вывод: ЕГЭ НЕ ИМЕЕТ ПРАКТИЧЕСКОЙ ЦЕННОСТИ В НАШЕЙ СТРАН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то если человек устроен так, что хочет успеха, но не хочет трудиться, то ему уже ничто не поможет. К тому же  коррупция и взяточничество неискоренимы в обществе в принцип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Text Box 1"/>
          <p:cNvSpPr/>
          <p:nvPr/>
        </p:nvSpPr>
        <p:spPr>
          <a:xfrm>
            <a:off x="-576360" y="-155520"/>
            <a:ext cx="741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5000b"/>
                </a:solidFill>
                <a:latin typeface="Times New Roman"/>
              </a:rPr>
              <a:t>Список ресурс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Text Box 2"/>
          <p:cNvSpPr/>
          <p:nvPr/>
        </p:nvSpPr>
        <p:spPr>
          <a:xfrm>
            <a:off x="396720" y="1643040"/>
            <a:ext cx="8747280" cy="61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ozdr.ru/examen.htmlhttp://www.ctege.info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km.ru/v-rossii/2012/08/27/korruptsiya-v-sisteme-obrazovaniya-v-rossii/vse-sdayushchie-ege-ravny-tolko-odnihttp://www.eduhelp.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topcrime.ru/nbr1/2838/284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stapravda.ru/20120512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edu.glavsprav.ru/spb/ege/histor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49.mvd.ru/citizens/corr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udmurtia.spravedlivo.ru/57644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www.dni.ru/society/2010/6/3/192949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http://top.oprf.ru/main/3304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70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Что такое ЕГЭ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-  форма объективной оценки качества подготовки лиц, освоивших образовательные программы среднего (полного) общего образования, с использованием контрольных измерительных материалов, представляющих собой комплексы заданий стандартизированной формы, выполнение которых позволяет установить уровень освоения федерального государственного образовательного стандар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Text Box 1"/>
          <p:cNvSpPr/>
          <p:nvPr/>
        </p:nvSpPr>
        <p:spPr>
          <a:xfrm>
            <a:off x="1979640" y="-206280"/>
            <a:ext cx="670716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проводится во всех субъектах Российской Федерации, а также в иностранных государствах для выпускников образовательных учреждений при посольствах, военных частях Российской Федерации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Э организуется и проводится Федеральной службой по надзору в сфере образования и науки (Рособрнадзор) совместно с органами исполнительной власти субъектов Российской Федерации, осуществляющими управление в сфере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979280" y="-206640"/>
            <a:ext cx="67071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Участники ЕГЭ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1800000" y="1224000"/>
            <a:ext cx="7343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ники школ РФ, школ при посольствах, военных частях РФ и др. за рубежом, имеющие удовлетворительные итоговые школьные отметки по всем общеобразовательным предметам за 10-11 классы и допущенные к ЕГЭ педагогическим советом своего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TextBox 4"/>
          <p:cNvSpPr/>
          <p:nvPr/>
        </p:nvSpPr>
        <p:spPr>
          <a:xfrm>
            <a:off x="2000160" y="3714840"/>
            <a:ext cx="7143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учающиеся образовательных учреждений началь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го 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buClr>
                <a:srgbClr val="000000"/>
              </a:buClr>
              <a:buFont typeface="Verdana"/>
              <a:buChar char="•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ускники прошлых л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Picture 1" descr=""/>
          <p:cNvPicPr/>
          <p:nvPr/>
        </p:nvPicPr>
        <p:blipFill>
          <a:blip r:embed="rId2"/>
          <a:stretch/>
        </p:blipFill>
        <p:spPr>
          <a:xfrm>
            <a:off x="3929040" y="2500200"/>
            <a:ext cx="3156120" cy="3156120"/>
          </a:xfrm>
          <a:prstGeom prst="rect">
            <a:avLst/>
          </a:prstGeom>
          <a:ln w="0">
            <a:noFill/>
          </a:ln>
        </p:spPr>
      </p:pic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142720" y="428400"/>
            <a:ext cx="6705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50e"/>
                </a:solidFill>
                <a:latin typeface="Times New Roman"/>
              </a:rPr>
              <a:t>«За»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 Box 2"/>
          <p:cNvSpPr/>
          <p:nvPr/>
        </p:nvSpPr>
        <p:spPr>
          <a:xfrm>
            <a:off x="1979640" y="-206280"/>
            <a:ext cx="6705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труктура и содержание заданий ЕГ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 Box 3"/>
          <p:cNvSpPr/>
          <p:nvPr/>
        </p:nvSpPr>
        <p:spPr>
          <a:xfrm>
            <a:off x="2714760" y="2071800"/>
            <a:ext cx="57150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51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ния ЕГЭ именуются КИМами, которые разрабатываются Федеральным институтом педагогических измер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Picture 1" descr=""/>
          <p:cNvPicPr/>
          <p:nvPr/>
        </p:nvPicPr>
        <p:blipFill>
          <a:blip r:embed="rId2"/>
          <a:stretch/>
        </p:blipFill>
        <p:spPr>
          <a:xfrm>
            <a:off x="1514520" y="0"/>
            <a:ext cx="7629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2:21:27Z</dcterms:created>
  <dc:creator/>
  <dc:description/>
  <dc:language>en-US</dc:language>
  <cp:lastModifiedBy>USN</cp:lastModifiedBy>
  <dcterms:modified xsi:type="dcterms:W3CDTF">2013-04-27T16:02:21Z</dcterms:modified>
  <cp:revision>127</cp:revision>
  <dc:subject/>
  <dc:title>PowerPoint Template</dc:title>
</cp:coreProperties>
</file>