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  <p:sldId id="285" r:id="rId71"/>
    <p:sldId id="286" r:id="rId72"/>
    <p:sldId id="287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slide" Target="slides/slide30.xml"/><Relationship Id="rId72" Type="http://schemas.openxmlformats.org/officeDocument/2006/relationships/slide" Target="slides/slide31.xml"/><Relationship Id="rId73" Type="http://schemas.openxmlformats.org/officeDocument/2006/relationships/slide" Target="slides/slide32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dt" idx="40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ftr" idx="41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 type="sldNum" idx="4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C0E5-8232-4B7C-B948-290B0FE650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67F15-F517-43A4-9994-7236A05FDD4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2CA1C-7093-48E1-A7E8-380AFCA940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4CA93-3045-43FE-925F-727864642F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19D5F-23F5-453D-9CDF-51EB7B5349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888AF-4FA0-4616-BA08-DDFD18FED0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A9D2-972E-4323-A2F5-6A68A244F0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626B5-5867-4ADD-910E-94241393264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B9A10-7BE2-45A6-8CB2-C461FAE046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ABF4A-11FE-4144-82DB-B1551F2424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6949-0B83-43BB-9B7A-27FD1992E96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D3C7-E393-4B7C-B91C-4905906A6D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5BB55-E80F-4A8E-B38A-A9B74ECE60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AD46C-C8C1-4DA3-B267-7AB54F43E84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05050-4E43-4278-AD78-6CE135D2347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CB64D-02FD-4639-9996-5BA55A0F7A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B14D7-54C4-4128-A32A-486DA7A030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4C8BA-3D7C-4445-BD5C-EAC27747EE6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AE0B8-BFA3-4FD3-841E-9D9D86FDAD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7753A-8F61-43C3-8D23-BAE94B7FF9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7F8AB-E5ED-4DD2-9093-29E6621046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9EA48-46CF-4E18-BE24-FAAEF0761B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07648-B4E9-408B-8D15-E5476FA758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D7BBB-ECDC-46BD-950C-3BE52F72D3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30125-9F17-494C-A81D-610BB8BCCA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C67D9-1CAF-4E4A-B34A-E9B5BECEF2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60A8-328C-49C4-A647-38D31D743C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CEB1-E7BB-47A8-A1C9-E2BB717407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07CB8-7DE5-416D-83AE-372B70A6D5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8D1A-8EA4-45F1-B9BA-47DA7D70327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CDD19-D59E-402B-8007-B8E9314746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2681C-8EB4-456F-B6CC-F889407E51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E5246-6B99-46D6-A7AE-71003BB4CF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CFC-A13C-4A7C-9B58-FE4CE0F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010-C203-4C98-A878-E61457F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34A-0F93-4113-B424-92E19403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094-8A4E-4B4E-891E-A673B85F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FDB-B9A8-45B0-B699-2D01CA2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440-8D53-4DCB-969D-2FA15F5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C62-4702-4C9F-9F6F-05BB0E4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1FB-14F1-4F83-8C9E-1659A67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670-81E6-4F8C-942E-5F948471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895E-3B9A-4E55-93A2-F1EA80A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ADE-A79D-411E-979A-E0E59AE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8BB0-2A07-437A-872C-0964571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7D8F-5933-45F1-9E55-9CB2B95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2A9-960F-40B7-A0F8-4D66765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C211-3321-4866-8B18-DFB1F5C8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BD6-ED4B-4128-9D88-83CEE50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FBF-ED5A-4791-90A1-82DD32A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98A-3557-453D-9961-FF62CD5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45F9-8077-45E6-9ACB-311F69F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38A-AFEE-4FCE-8676-BC632AD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A33A-4D02-4390-9649-4AE455AD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8ABB-AC26-4299-A987-A1E0CA14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1A04-9270-4868-A33D-FDC8BF40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C56E-35F4-4D9F-BE66-DF849713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2D7-D037-41C9-BD3F-7DC68ED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84DB-3AC7-4AE6-8AFD-9E14250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69DD-222A-4DC4-8CED-3B8B153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7A01-251D-4D84-A009-F844D40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76FC-16A4-4CED-9133-4DB76F4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DB5C-8C38-4657-A5B4-DE0F219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98F5-795D-4637-A21C-1BC6410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13F5-582F-46FA-9F3A-34AB363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DE68-1495-45BD-A9D8-2190EED5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BEDD-6580-49E3-A9A1-910C1FD9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E508-F352-4CF9-9D42-D8D8967C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0A2-CA56-4305-9135-72AC032C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4B1C-CE03-4906-9DDD-CEE01CB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8B97-0763-41FA-8870-E0DA923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C9FD-6AE2-4885-91B7-99D979D2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6583-8DCA-409F-ADD4-51975DC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7F8F-50BD-41C2-AB13-F53F844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7539-1FC5-4A2D-8B43-C7E20AE0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1F9D-852A-491A-8FCB-99FD9D8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7DE6-B32F-4DC4-B482-BAD1F77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FFF0-1CCE-4E50-9007-8B213FF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424E-8512-410D-8414-57CF0FC7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AB7-1352-4E99-970A-23B771C4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8FC2-4DAD-4BE8-9A8E-91D329C3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C75A-B316-4F85-AADE-DCF7CAAF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F18C-8ADD-47D1-85B5-F14ED0C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6C42D-3C14-408A-8766-81569A03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5BD2-E615-41AD-BD7B-EA3D5B05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EA83-180D-42A5-BA55-7FCBA0B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8BCD-54D1-4A55-8093-E967D37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5D8B-AE04-47ED-970E-8714874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DBD5-C120-433F-BC29-2DE5DEC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5996-D424-4C03-9F53-B65F39B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45A3-8B8A-41F1-9EA3-69D96D15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D6F7-3779-4007-BF42-8F8975A1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0802-193B-45B3-A549-87A8389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98B2-3FED-45A8-A5D6-917EBBA1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D375-A695-4CC2-B7B4-EEC4BC8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4B8F-4E4D-4756-88A7-C672D94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AD9D-AEEF-4346-8AD9-957D3C5A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7C13-0CCF-4739-A15A-9BDD4CA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7FFB5-1C45-4256-B566-D381B91B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B59F-935C-48A0-B66C-39D18AF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A19A-30C5-43D1-9D8B-0FA7BA8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AD24-570E-47E6-9021-0D4D04F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6EDC-0F2E-4D08-B6B1-3C4FB006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CE66-A034-4D73-9B0E-2C15E8A4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EB00-3F04-4A7D-8244-03DC40C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FAD6-8071-4DED-AD95-EA261D98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91C3-DFFD-499B-BE6F-65164FC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4AEBA-AC0A-4F7E-BFE6-56ADD8FC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B9B34-73FE-4067-8E5A-E0CD033F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B24A2-5B6E-45B3-B7B7-5275AD1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FD06-0BA9-45D7-9690-F6BD0A6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3D008-4B20-4231-A2EC-E450CA4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2069-EC8A-49EA-81A1-595CD65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F5A2-145F-48D9-B0D8-24B1945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D656-88F4-4DF3-91E1-7AE7D95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A74A-DD54-44A1-B46A-FF898D00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8BAB-3E0E-4D12-85C6-97271FDB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2FD2-0A60-46B7-A128-6594067A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5509-2F84-4505-91ED-5E794B6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2EEF0-EA2D-48F6-BDBB-8A280C54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31DC-F2C5-4E5D-9233-8FDB9C1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AB71C-C88B-498A-ADE2-BE1C691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DD6F5-D65E-4F65-8C3A-A11F5889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23A0F-9200-4DED-A99E-91F8937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87BF-85A9-434E-973F-6D9810D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BB0B3-6ED4-46FB-8695-0C803887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7FB57-CCC6-4E20-8558-809C2A41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8F32-39B4-4DFF-9424-82D6A84D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B1726-454C-4F88-A2F7-82DAD18F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91DAC-62B2-485E-BDA3-7D38B673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B990B-89B6-4C97-A146-0F5B874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00A2-C6DA-4DF6-BFF6-A4180B0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E6976-F1C6-4086-8B20-2798AED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B83C1-8B21-4EAD-99CD-F6C645A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DFE1-E7F7-4C7E-8FE2-897B931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7AD0A-D61A-49A6-8D81-03E4534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D07C8-FE5E-4A3B-9FF7-E544C94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27EB5-6BE5-44E8-9301-5E2B5F0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793C7-7BED-42C2-87E4-E9C7EC6E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E354B-1FF9-40E4-B260-186317B2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9711C-D98E-4F15-817C-AD3EA443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65EE0-A643-4A41-B02E-41FAAF8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538F6-200C-4873-A819-4E4F7A4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E9BF6-5DC0-4EC3-B018-DA75993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9921-6C57-48BA-9593-B7FA50E0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6C3BE-F74B-4473-8472-663C110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53284-C781-4078-AD90-20034467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F3F3-CA6C-4754-8944-98DCC26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5EC82-0056-4ED9-B050-9711F8E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ECC27-7D38-44AA-BEBE-C6D36D8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80FF4-94DE-4922-A0F2-9480B7E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13737-8058-44FA-A941-7E647F2D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FE78A-6DD5-4557-BB32-53D553A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75E5-2D31-461B-8A30-2E8C1484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FD135-6FA5-4C68-BB8F-1C75D1E2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7CB1E-1B1E-4357-B89C-66F38253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DEA40-8096-4FBA-A42D-70BFE247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EA23E-521E-4556-BE16-EE593B0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88DD-E5A4-49CF-B518-8996FD2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969FE-3DE9-4F8C-B501-1C66BC9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C510E-5971-487C-92ED-639C8649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1D79-959C-4B7B-B504-F51232F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96A3E-4D87-4261-9A67-19E5DAA3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04F1B-5FDB-4E0B-B17B-D0D067E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BAB17-B48C-489F-8605-0162A8F0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DFE31-DC1E-464F-86B3-A9DC5F72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9CF2F-D64F-494E-9862-A99323EA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63E26-9ACF-40DF-99D8-3B1E5D6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24184-3827-4283-BD20-B408CDE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16361-2BA6-45CE-9E32-15F2BB1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3B00D-3112-4933-9CDC-280A2A7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A4B9A-7E0C-4994-8FB9-20EA7911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0051D-54D3-4B2E-8613-8DE2940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45D92-DA4C-471C-8FD7-4F53E28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D4E3B-2B1D-4106-BCAD-12B92DD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5566C-0AB8-4CED-9470-7819E120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CAE67-F550-4E40-AE18-FD43B28C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7C350-0FB9-424B-911F-37D3B766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2ACED-38F0-4982-B051-0F0D7715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02B06-5436-48A5-8AE4-A80BEDE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3EBB0-C5EC-4887-A244-0BCE152B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D0FEB-AB9D-4E65-A9D0-3ED1044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62825-5E8E-455D-8877-90F6797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D8422-8AD2-4854-AC8E-B83C22A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F0814-0157-46F1-BF73-760C5EA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CEFE8-FF13-4325-AA72-7CDB9B5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45959-3459-4AE7-9723-A8C9C2B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11693-21DF-4F4C-B1D3-20C30BEA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9303E-FC70-428D-B3FE-948928D7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C7B96-251C-44EB-A898-392FC1F91A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8EE60-AD9D-4993-81B0-EEDBEE460E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9B82DC-8B5A-414F-864B-D497C2B92F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61D7BD-E631-4E04-BB60-B4E67D1BC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F7B6A0-0ACD-4882-9D47-6465299C8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7CA752-F122-48CB-A590-019B550C3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E13FE1-401C-4CFF-AA1B-B4D24F99F5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BC1CBA-9EE8-46DE-B05F-3D9AD00637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9B3C92-B47B-4E27-9714-41C970B051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2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879E5A-871E-4370-BB76-1CED3BDB6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3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FF7C62-4CAC-419E-8C5A-7ED19EF2A3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B6B863-D0D9-4A92-8CEA-8EBE685618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C71BDC-B688-42F3-831D-6C0A1D334C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1" descr=""/>
          <p:cNvPicPr/>
          <p:nvPr/>
        </p:nvPicPr>
        <p:blipFill>
          <a:blip r:embed="rId2"/>
          <a:stretch/>
        </p:blipFill>
        <p:spPr>
          <a:xfrm>
            <a:off x="1008000" y="0"/>
            <a:ext cx="7601040" cy="68580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2143080" y="0"/>
            <a:ext cx="6500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МБОУ «Пролетарская СОШ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Гамова Татьян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11 клас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6" name="TextBox 4" descr=""/>
          <p:cNvPicPr/>
          <p:nvPr/>
        </p:nvPicPr>
        <p:blipFill>
          <a:blip r:embed="rId3"/>
          <a:stretch/>
        </p:blipFill>
        <p:spPr>
          <a:xfrm>
            <a:off x="493560" y="4389480"/>
            <a:ext cx="81568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33200" y="-432000"/>
            <a:ext cx="67071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ные особенности ЕГЭ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800000" y="1064880"/>
            <a:ext cx="73436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ое распис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ые правила прове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заданий стандартизированной формы (КИМ) и бланков для оформления ответов на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письменно на русском языке (за исключением ЕГЭ по иностранным языка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ктивная  оценка результ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1979640" y="-252360"/>
            <a:ext cx="67071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учение свидетельства о результатах 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 Box 3"/>
          <p:cNvSpPr/>
          <p:nvPr/>
        </p:nvSpPr>
        <p:spPr>
          <a:xfrm>
            <a:off x="2071800" y="1285920"/>
            <a:ext cx="670716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идетельство о результатах ЕГЭ – документ, который выдается лицам, участвовавшим в ЕГЭ. Порядок и форма выдачи свидетельства  устанавливается Министерством образования и наук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идетельство выставляются результаты ЕГЭ по тем предметам, по котор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ник набрал не ни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ального количества баллов, установленного Рособрнадзором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формация обо всех сданных предметах заносится в федеральную базу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Text Box 2"/>
          <p:cNvSpPr/>
          <p:nvPr/>
        </p:nvSpPr>
        <p:spPr>
          <a:xfrm>
            <a:off x="1933560" y="-576360"/>
            <a:ext cx="6707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ЕГЭ и Вуз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3"/>
          <p:cNvSpPr/>
          <p:nvPr/>
        </p:nvSpPr>
        <p:spPr>
          <a:xfrm>
            <a:off x="1800360" y="1008000"/>
            <a:ext cx="7127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ногие вузы используют результаты ЕГЭ в качестве результатов вступительных экзам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одаче документов абитуриент в заявлении имеет право лишь указать сведения о результатах ЕГЭ или о месте сдачи ЕГЭ. При наличии нескольких результатов ЕГЭ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к действия у которых не истек, поступающ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ывает в заявлении, какие результаты единого государственного экзамена 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м общеобразователь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ам он использу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835280" y="-27000"/>
            <a:ext cx="65880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714680" y="1142640"/>
            <a:ext cx="72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после изучения системы сдачи ЕГЭ мной были сделаны следующие вывод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ЕГЭ — централизованная система, которая объективно проверяет знания учащихся и хранит всю информацию об их результатах в базе данны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истема соответствует стандартам Европы, что позволяет сравнивать уровень образования РФ с уровнем, к примеру, Англ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Примерная структура, форма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заданий заранее определены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огут быть изменены произвольным образ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ногие вузы используют 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в качестве результатов вступи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заменов, что помогает многим выпускник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упать в лучшие вузы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1" descr=""/>
          <p:cNvPicPr/>
          <p:nvPr/>
        </p:nvPicPr>
        <p:blipFill>
          <a:blip r:embed="rId2"/>
          <a:stretch/>
        </p:blipFill>
        <p:spPr>
          <a:xfrm>
            <a:off x="3143160" y="2857680"/>
            <a:ext cx="4587840" cy="3512880"/>
          </a:xfrm>
          <a:prstGeom prst="rect">
            <a:avLst/>
          </a:prstGeom>
          <a:ln w="0">
            <a:noFill/>
          </a:ln>
        </p:spPr>
      </p:pic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99800" y="857160"/>
            <a:ext cx="67057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5000b"/>
                </a:solidFill>
                <a:latin typeface="Times New Roman"/>
              </a:rPr>
              <a:t>«Против»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3"/>
          <p:cNvSpPr/>
          <p:nvPr/>
        </p:nvSpPr>
        <p:spPr>
          <a:xfrm>
            <a:off x="1979640" y="576360"/>
            <a:ext cx="670572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Результат ЕГЭ - отупение выпускников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 Box 4"/>
          <p:cNvSpPr/>
          <p:nvPr/>
        </p:nvSpPr>
        <p:spPr>
          <a:xfrm>
            <a:off x="2071800" y="-428760"/>
            <a:ext cx="6705360" cy="78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Еще никогда на филологический факультет МГУ не приходили таки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упые студенты, не умеющие связать двух с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, - заявила участница Всероссийского съезда учителей русского языка и литературы декан МГУ Мария Ремнева, относя этот факт к введению ЕГЭ. Нужно вернуть сочинение как обязательный предмет, считает Ремнева. В резолюции съезда, однако, ратуют за совсем новую форму экзамена по литературе, которая должны быть разработана с учетом «общегуманитарных и психологических задач проведения такого испытания». Про "отупение" в резолюции тоже было сказано, но в более мягких формулиров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936800" y="-378000"/>
            <a:ext cx="67039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 причины тому..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856880" y="1213920"/>
            <a:ext cx="692964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о-первых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ГЭ заставляет учеников старших классов вместо получения знаний тренироваться решать ЕГЭ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о-вторых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ГЭ учит отвечать кратко и конкретно, но иногда нужны развернутые ответы, иногда требуется придумать как можно больше способов, найти разные мне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TextBox 4"/>
          <p:cNvSpPr/>
          <p:nvPr/>
        </p:nvSpPr>
        <p:spPr>
          <a:xfrm>
            <a:off x="1928880" y="4000680"/>
            <a:ext cx="678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-третьих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ГЭ не учитывает речевые навыки. Между тем, речевые навыки для многих сфер жизни необходимо развивать и оттачив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1979640" y="-206280"/>
            <a:ext cx="670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 Box 3"/>
          <p:cNvSpPr/>
          <p:nvPr/>
        </p:nvSpPr>
        <p:spPr>
          <a:xfrm>
            <a:off x="1785960" y="571680"/>
            <a:ext cx="70009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а прием они пришли всей семьей: папа, мама и дочка. Пришли из-за дочки. Отличница, надежда семьи была снята со сдачи 2-х ЕГЭ по медицинским показаниям. На первом экзамене девочка долго сидела, глядя в одну точку, а потом сама отказалась от тестирования. На втором, через несколько минут после начала экзамена, она просто упала в обморок» — рассказал психотерапевт Стрельченко Андрей Борисови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Text Box 4"/>
          <p:cNvSpPr/>
          <p:nvPr/>
        </p:nvSpPr>
        <p:spPr>
          <a:xfrm>
            <a:off x="1071720" y="285840"/>
            <a:ext cx="85089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есс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2560" y="71280"/>
            <a:ext cx="514836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оррупци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2000160" y="1214280"/>
            <a:ext cx="714384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достоверные факты о коррупции в сфере системы ЕГЭ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взяточничества в сфере приёма экзамен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ресурсы, выкладывающие за деньги ответы к вариантам экзамена (причём не всегда достоверные). Пример - antiege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яточничество в вузах не уменьшилось, наоборот — конкурс знаний заставил многих абитуриентов использовать финансы семьи для поступ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тификаты подделываются самым активным образ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076120" y="50760"/>
            <a:ext cx="670716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 том, как вместо школьников ЕГЭ сдают педагог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643040" y="1854360"/>
            <a:ext cx="750096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Есть у нас несколько родительниц очень инициативных, вот они-то и объявили, что нашим детям на экзаменах могут помочь хорошие педагоги... Там даже вузовские преподаватели были. Озвучили и сумму, которую каждому из родителей надо было заплатить: 10 тысяч рублей. Конечно, это меньше, чем расценки в вузе при поступлении. Многие родители согласились прямо на собрании... Мы одолжили у знакомых мобильный телефон с фотокамерой и выходом в Интернет. Сын пошел на экзамен с двумя сотовыми: свой собственный сдал, как положено, при входе в экзаменационный класс, а со второго фотографировал задания и отправлял их по нужному номеру. А там их уже решали специалисты и присылали готовые ответы и решения обратно..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10920" y="306360"/>
            <a:ext cx="561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5000b"/>
                </a:solidFill>
                <a:latin typeface="Times New Roman"/>
              </a:rPr>
              <a:t>ВВЕДЕНИЕ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358920" y="1457280"/>
            <a:ext cx="820872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1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Актуальность работы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основана на явных противоречиях в общей оценке Единого Государственного Экза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2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Гипотеза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— как и любой другой вид экзаменационной системы, ЕГЭ имеет ряд достоинств и недостатков, которые необходимо выяснить и обобщить с целью более объективной оце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3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Проблема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— постоянная полемика вокруг вопроса состояния российской системы аттестации, вследствие чего непонятно её функционирование, фундамент и основные плю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Цель работы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: оценка системы сдачи Единого Государственного Экзамена и последующее выявление соответствия экзамена стандартам образов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Задачи: объяснить суть функционирования ЕГЭ, собрать теоретические и статистические данные для анализа системы экзаменации ,  собственно отношения к ней и её практической пользы/бесполез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/>
          </p:nvPr>
        </p:nvSpPr>
        <p:spPr>
          <a:xfrm>
            <a:off x="1856880" y="1142640"/>
            <a:ext cx="700092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ак, проанализировав реальные инциденты в сфере образования, я выделила несколько минусов ЕГЭ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ГЭ отучает подростка свободно и креативно мыслить — он ставит себе рамки, в то время как от него требуют мыслить широк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ГЭ оказывает сильное психологическое давление на подростковую психи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оррупция лишь усугуби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ертификаты можно подделать, экзаменатора — подкупить, но вот останутся ли у ребенка знания? Ведь сейчас УЧАТ СДАВАТЬ ЕГЭ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TextBox 2"/>
          <p:cNvSpPr/>
          <p:nvPr/>
        </p:nvSpPr>
        <p:spPr>
          <a:xfrm>
            <a:off x="3929040" y="14292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79280" y="-208080"/>
            <a:ext cx="670572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 теперь сопоставим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935000" y="1798560"/>
            <a:ext cx="6777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четыре плюса, четыре минуса. Казалось бы, на весах установилось равновесие. Как бы не та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ся идеальность выделенных мной плюсов просто рухнет, если заметить, что выпускники и ученики попросту тупеют, ориентируясь лишь на 60+ бал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ама по себе система образования прогнила, так как коррупция не может быть искоренена. «Еще одна пилюля» - необъективность и безграмотность вопросов в экзаменах по обществу и биологии. Причем в принципе такие «перлы» есть в каждом варианте экза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Идет нестыковка — казалось бы, и ребенок умный, и баллы есть, но... не то. ЕГЭ не учит нас думать, нас учат держать шаблон и не выделя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999800" y="2214360"/>
            <a:ext cx="6704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857240" y="20718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мках исследований мной было опрошено 32 человека. Все испытуемые давали интервью в письменной форме. Многие пожелали остаться анонимными. С ознакомительной целью я использовала мнение пяти респондентов (в том числе анонимных) в качестве одного из аргументов в рабо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 Box 2"/>
          <p:cNvSpPr/>
          <p:nvPr/>
        </p:nvSpPr>
        <p:spPr>
          <a:xfrm>
            <a:off x="2071800" y="-500040"/>
            <a:ext cx="670716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уверена в том, что можно сдать ЕГЭ хорошо, даже имея за спиной огромный багаж знаний. Некоторые задания действительно требуют иметь хорошее мышление, но некоторые не могут быть верно истолкованы. К тому же какие-то ответы можно угадать, а многие - выбрать методом логического исключения, так что перевалить планку минимума при желании можно. Этот факт явно не в пользу ЕГЭ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на, 1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Text Box 3"/>
          <p:cNvSpPr/>
          <p:nvPr/>
        </p:nvSpPr>
        <p:spPr>
          <a:xfrm>
            <a:off x="1979640" y="-206280"/>
            <a:ext cx="6702480" cy="78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Text Box 2"/>
          <p:cNvSpPr/>
          <p:nvPr/>
        </p:nvSpPr>
        <p:spPr>
          <a:xfrm>
            <a:off x="1871640" y="1224000"/>
            <a:ext cx="691524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довлетворительной систему сдачи экзаменов я не считаю. Что-то можно угадать, что-то могут подсказать, а на некоторые вопросы НЕЛЬЗЯ ответить однозначно. Раньше, если ты чего-то не знал на экзамене, то это было заметно сразу. Сейчас при среднем, даже слабом уровне знаний можно набрать баллов 70. То есть теперь даже троечник может сдать экзамен на 4-5 по школьной шкале оценок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ша, 17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Text Box 1"/>
          <p:cNvSpPr/>
          <p:nvPr/>
        </p:nvSpPr>
        <p:spPr>
          <a:xfrm>
            <a:off x="1871640" y="1201680"/>
            <a:ext cx="6915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а вкус и цвет товарищей нет, но мне нравится ЕГЭ. Раньше зубрили билеты и не спали ночами. Сейчас несколько часов в день репетитор — и всё! 70-80 баллов у тебя в кармане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дрей, 18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 предвкушении «казни египетской» начал ходить к репетиторам по химии и биологии. Большая часть денег из семейного бюджета испарилась, будто и не и было. Стал замечать сильную усталость и ухудшение здоровья из-за напряжённого графика — 7 уроков, факультатив, затем ещё и репетитор. Времени на всю подготовку к урокам в обрез, сил нет, и знания долго не задерживаются в голове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о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ностью поддерживаю ЕГЭ. Я сдаю общество и поэтому рада этой системе, а также относительно простым вопросам. Вопрос только в том, а все ли довольны такой «халявой»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о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1"/>
          <p:cNvSpPr/>
          <p:nvPr/>
        </p:nvSpPr>
        <p:spPr>
          <a:xfrm>
            <a:off x="1979640" y="-206280"/>
            <a:ext cx="680724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голоса распределились в отношении 10:4:2 — 20 респондентов выступили «против», 8 выступили за «изменения касаемо экзамена», 4 выступили «з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рафу предлагаемых  изменений вписали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реформа объективности» заданий, «увеличение времени», «обязательная психологическая подготовка» и подготовка к экзамену путём «более подробного изучения курс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004840" y="-27360"/>
            <a:ext cx="67075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ратко о введении ЕГЭ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800000" y="129528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ервые эксперимент по введению ЕГЭ был проведён в 2001 в республиках Чувашия, Марий Эл, Якутия, а также в Самарской и Ростовской областях по восьми учебным дисциплинам. В 2002 году эксперимент по введению единого государственного экзамена прошёл в 16 регионах страны. В 2003 году эксперимент охватил 47 субъектов РФ, а в 2004 — 65 регионов страны. В 2006 ЕГЭ уже сдавали около 950 тысяч школьников в 79 регионах России. В 2008 его сдавали свыше миллиона учащихся во всех регионах. Конкретный перечень предметов, по которым ЕГЭ проводился в 2001—2008 годах, устанавливался каждым регионом самостоятель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-360" y="60120"/>
            <a:ext cx="7000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5000b"/>
                </a:solidFill>
                <a:latin typeface="Times New Roman"/>
              </a:rPr>
              <a:t>Статистика опроса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9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979280" y="-208080"/>
            <a:ext cx="670572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аключение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878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всего, что было мной сказано выше, можно сделать простой вывод: ЕГЭ НЕ ИМЕЕТ ПРАКТИЧЕСКОЙ ЦЕННОСТИ В НАШЕЙ СТРА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если человек устроен так, что хочет успеха, но не хочет трудиться, то ему уже ничто не поможет. К тому же  коррупция и взяточничество неискоренимы в обществе в принци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Text Box 1"/>
          <p:cNvSpPr/>
          <p:nvPr/>
        </p:nvSpPr>
        <p:spPr>
          <a:xfrm>
            <a:off x="-576360" y="-155520"/>
            <a:ext cx="74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5000b"/>
                </a:solidFill>
                <a:latin typeface="Times New Roman"/>
              </a:rPr>
              <a:t>Список ресур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396720" y="1643040"/>
            <a:ext cx="874728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ozdr.ru/examen.htmlhttp://www.ctege.info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km.ru/v-rossii/2012/08/27/korruptsiya-v-sisteme-obrazovaniya-v-rossii/vse-sdayushchie-ege-ravny-tolko-odnihttp://www.eduhelp.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topcrime.ru/nbr1/2838/284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tapravda.ru/20120512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edu.glavsprav.ru/spb/ege/histor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49.mvd.ru/citizens/corr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udmurtia.spravedlivo.ru/5764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dni.ru/society/2010/6/3/192949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top.oprf.ru/main/330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такое ЕГЭ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-  форма объективной оценки качества подготовки лиц, освоивших образовательные программы среднего (полного) общего образования, с использованием контрольных измерительных материалов, представляющих собой комплексы заданий стандартизированной формы, выполнение которых позволяет установить уровень освоения федерального государственного образовательного стандар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проводится во всех субъектах Российской Федерации, а также в иностранных государствах для выпускников образовательных учреждений при посольствах, военных частях Российской Федерации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организуется и проводится Федеральной службой по надзору в сфере образования и науки (Рособрнадзор) совместно с органами исполнительной власти субъектов Российской Федерации, осуществляющими управление в сфере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Участники ЕГЭ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800000" y="1224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ники школ РФ, школ при посольствах, военных частях РФ и др. за рубежом, имеющие удовлетворительные итоговые школьные отметки по всем общеобразовательным предметам за 10-11 классы и допущенные к ЕГЭ педагогическим советом своего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TextBox 4"/>
          <p:cNvSpPr/>
          <p:nvPr/>
        </p:nvSpPr>
        <p:spPr>
          <a:xfrm>
            <a:off x="2000160" y="3714840"/>
            <a:ext cx="7143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ающиеся образовательных учреждений нач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го 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ники прошлых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1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3156120" cy="3156120"/>
          </a:xfrm>
          <a:prstGeom prst="rect">
            <a:avLst/>
          </a:prstGeom>
          <a:ln w="0">
            <a:noFill/>
          </a:ln>
        </p:spPr>
      </p:pic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142720" y="428400"/>
            <a:ext cx="6705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50e"/>
                </a:solidFill>
                <a:latin typeface="Times New Roman"/>
              </a:rPr>
              <a:t>«За»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2"/>
          <p:cNvSpPr/>
          <p:nvPr/>
        </p:nvSpPr>
        <p:spPr>
          <a:xfrm>
            <a:off x="1979640" y="-206280"/>
            <a:ext cx="67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уктура и содержание заданий ЕГ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 Box 3"/>
          <p:cNvSpPr/>
          <p:nvPr/>
        </p:nvSpPr>
        <p:spPr>
          <a:xfrm>
            <a:off x="2714760" y="2071800"/>
            <a:ext cx="57150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я ЕГЭ именуются КИМами, которые разрабатываются Федеральным институтом педагогических изме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1" descr=""/>
          <p:cNvPicPr/>
          <p:nvPr/>
        </p:nvPicPr>
        <p:blipFill>
          <a:blip r:embed="rId2"/>
          <a:stretch/>
        </p:blipFill>
        <p:spPr>
          <a:xfrm>
            <a:off x="1514520" y="0"/>
            <a:ext cx="7629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2:21:27Z</dcterms:created>
  <dc:creator/>
  <dc:description/>
  <dc:language>en-US</dc:language>
  <cp:lastModifiedBy>USN</cp:lastModifiedBy>
  <dcterms:modified xsi:type="dcterms:W3CDTF">2013-04-27T16:02:21Z</dcterms:modified>
  <cp:revision>127</cp:revision>
  <dc:subject/>
  <dc:title>PowerPoint Template</dc:title>
</cp:coreProperties>
</file>