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-360" y="-12636360"/>
            <a:ext cx="360" cy="266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ADFE-8C2E-44E2-982F-989D70D19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EAE1-FEB0-44E9-8427-E7FCA152C6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FD1ED-9401-4CF9-91FA-0C6017F18F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4DD15-DEED-44D8-A3E8-EFAED461903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776A7-8AEC-4AC2-8882-512849D4D9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63778-080F-4DBE-9C4A-EA105312B1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901BF-0C50-4924-9328-35A988B3EF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FF36B-0115-41F8-A6FA-0806DD2832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6E307-F438-4D7F-9AF7-DB1239F6C6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59975-6F54-4E2B-85AF-064D5A50CF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79068-1E41-4BAF-848C-16D63E321A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3E67-86FD-461C-A6C6-3E68EEF7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33C5-170E-467B-8767-36FAA985D6A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1C97-04CB-49B2-B819-04F6222E2A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87D4-AB09-4865-844A-B280A21B0C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09DD-6059-4311-8526-9FEEEDE6AF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7191-8E65-4535-A5FD-E165B86D5B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62434-8CE4-4354-8C89-2EDF91030C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F59E-32BE-4E36-8B25-9CB840E7A0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360D-C812-4CF0-8AEB-A772A5E91F5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A55F-18AC-49BE-8FE7-CD1A97BCD1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2F65A-D521-4642-934F-CB185FAA511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A258-308C-4E8D-9C31-D5CACA025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042E-A0C5-410B-9DEA-8F7AB31B9A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EDBC-3C3F-41F8-832C-6071BCDCD9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2FD1B-0D2E-42F6-B306-28B240B965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79FC2F-6D8E-47B4-AFD1-3C3AB44228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9B9E2-5093-4A85-9AF5-2265CF3F32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4AEF8-3006-46C5-AB8A-A5FB9C8C9E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3F47BC-0C56-482C-9899-5BCD3C73DA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6150E-12B9-40B9-8D3F-645DC26BF8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A0DCA-37C6-4D7D-AEFB-487241B0D6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EDF67-EFDE-4E2B-A5D2-1679DA76D3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B5220-B0E5-4442-95BE-003C1B19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A9226-255B-4E0B-8B5D-A12D746D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504C1-F763-4E47-90BD-64E2E885E5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087B2B-AFF3-4CA7-B479-243F1A28EA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27D282-A112-4D59-AF45-5E26DC2375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21F59-98B1-4C05-B98A-EF4C632E96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F618A-78F2-4FCE-887A-F67C31B8A6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866ED-0EC7-414A-AD77-B6E72B18BDD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087B8-AAB9-470C-9190-13ABD6236C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73842-8654-464D-8FDC-D7AB7AD63DF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584FB-5940-4E36-86A6-F174DBFF84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7316A-C187-47AF-B290-22F2B13D35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D272F-BB90-476C-AA1E-931F40CC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1745B-97D0-461E-A3AD-B89569C285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5F877-32FB-4EDE-978E-7A63D2147D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501C5-03D4-4220-89E6-E0D7DDE7EA6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01AFD-33EA-426E-9B70-6894D51BBF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A9DDE-5A72-4327-AA93-D42FAF0E40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A1A1-51A0-4803-872F-6019449E07E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E4875-C440-4E56-9E19-383F356D9C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BB64-20C1-4F85-831B-60B136C7C3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2C21-50C8-4D28-BAF9-D14423F47B1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31E7F-7D42-40B0-89AF-7156B772D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0815D-4E36-4A23-9712-63A9F8A0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FF5A-E1B4-4C6E-B72A-CB6D05380F2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72B9-5878-480A-8FF6-74A9A4A93B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E249-896E-4AA6-95AB-3C449C99846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FE3E-39EA-4B33-B6AE-84AD9686D1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8B5AA-E4C7-441A-82B4-A3515F7AA1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3900-D21B-470B-9D3C-2D6047D637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9495-B0C3-43B7-BB8B-048DD250C11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8E2F8E-BDD7-4885-8176-3C61CBA9ACC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2278E5-ED51-4727-ADF7-E93839F918C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9D993-84DD-47C4-B424-AD576369B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5BDD8-C81C-47DE-B1E8-5A4CC24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C8EEFC-5F63-48D6-A2A0-0A8EE2BC79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0220A-B2CE-4A4C-849F-51F68BE83CB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0F36EE-961F-4F19-B515-DC6F7ABE2DD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587BA-22C8-4987-ACFE-EBF779507B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1652A-9D22-43A4-8C9A-62770BB2DF7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BB625-30FA-46D8-BA92-305084BCEA2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B9F486-1116-4036-AC1E-5EED9E6D15C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3560D-5700-4CE7-9277-E6056E0C67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6B265-D5C7-4961-8ABB-86AB8BB19DB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53A81-6090-4E7D-B99E-D954DD0DC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DE9E6-0D99-44DD-9A66-7181EF4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57E8E-5654-409E-9B3C-F209D65E0E3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1B640-0358-400D-BA51-975E8E19A47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C2760-9D41-482D-B3EE-DCA0347F4E9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EBD91-AEA4-4C98-AEC8-3F61CDC2693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2DB62-7932-4429-9281-761DD226CFB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90A9A-6D6B-4DF2-864D-058B3717FB0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095BA-B699-4B83-B883-ECF40237436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42387-094C-4334-8A9B-32B90D70E10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829F2-FC09-43B6-BB37-541B360AA4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27968-20BC-44FF-9F89-1B26DF42F2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C2E11-E689-42BE-98AE-ECF1D918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1310F-1BA1-43A0-8B9C-09ED4252480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011F3-DD71-4067-9367-673DD12D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30A83-E9A0-46EB-86C8-46D7897B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0F3FD-90BF-402F-B9CE-C73C9EE8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748F8-FDF9-4B35-8BD7-34FE9C6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CBFC3-0684-44F5-B47F-62E1B31A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23A2F-0879-488E-92B6-50F9552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5D4F3-4F07-4DAE-8D78-93D2A10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C8E11-565A-437F-863B-F5FCA29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FDFAC-1174-4FA5-A19D-280D20C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D5456-865E-46EF-BF79-9E5C075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48E16-14F7-4D26-8079-E6DF49B1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771CF-CD7D-4CE8-B806-89D5B991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D37F9-9BBE-4E62-A51A-403C7413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DDC29-0424-438B-A978-0482E0F9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3AA0D-8D4B-4961-B216-5345B8C0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4F729-C497-44D8-B833-22E37D83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DB53E-7AD2-47B7-9A03-0BA10384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49D19C-F7CD-4129-8D93-FD7648F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16DA2-7807-4B6C-A378-5D7B7735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C50B7-2FAE-4CAC-875D-4420B1B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EBB7-D774-4238-9F13-579B092CB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B9A72-7525-4B44-9B3A-38C91CA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966FD-2124-4FC5-BB19-3144D79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82511-C7C9-47F6-BB7B-10AFE18D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95E67-684E-4483-AEEA-E06E82F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1752C-F745-4D8E-8937-CEC533D7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42BB7-21E2-4114-9478-4BCE5607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3EBF4-9729-4D4B-A2FF-375510E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1CC3C6-EF78-420E-BA08-75C3870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EA25E-6555-4073-93A1-0BE13A4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120AF-E164-4D14-B1D0-8FA97859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B0A06-E759-446F-AD3D-661F2C27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EA062-FA17-440C-842B-535C416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99506-F34B-4C95-8461-20B4FF2F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E8AE4-E48E-440F-BB0A-662AA43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B3D93-4F9C-46E7-8CE2-4CBB859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167C87-4231-4ED9-8CAF-434BFD5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5A708-FEE1-45C1-8306-76D5343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3F0D3-8A7D-4245-8E74-CE002800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B0099-21A6-424C-8EFC-86A9C898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6B93AA-BE7C-4654-B4A3-714A3E3A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B2CA5-4D02-42A1-8A98-7AF511B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408902-1E0E-4C8A-90C7-325C9D5F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0FAEE-1219-412C-AAC1-5E6AC16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6BC4D6-DB47-49A7-A83C-692B379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43BEF-5B46-4DEC-AF73-A55A115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DEF1B4-989F-497A-9822-C96B5C81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A1E149-6045-45A0-9645-C5801536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535A5B-07B5-41ED-8EE3-DCCCB17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262B3B-D4D7-4C1E-8303-C5FEBA28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565793-E854-439A-ADC4-A270525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60912E-DFC8-4E02-8A97-99464E76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0BCDD6-A2B5-4056-B0C5-567C3971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848CD0-8CBC-4544-90C4-B9A96667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D671F-7BF1-47A9-906B-D5591B65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AE178E-71A9-4C60-A724-BC99009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457424-7667-4779-B6E0-A47919AC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816BD6-5904-4990-86C0-34FF041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9E3F3-D42A-4A4B-9B35-CBC45D2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D332D1-3D8D-42A9-812E-C5B52C8B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65EB04-937D-4709-8E0E-FDA72DA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3EC7F0-FBF2-469C-AB4A-1DD7A48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33C51F-AB37-4482-9403-4744045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CF7939-E456-474D-B55F-2895B39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22CEA4-5D95-4A69-9B4B-434C9272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03FE0-8672-4BAD-9B40-7D94195F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B8FC8D-C9EE-4238-B862-44145EB2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253D1E-D0D6-4A9D-8C3C-C3E56F08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0E490E-7035-4756-A6EE-CB0FB780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EEFC5A-AEF4-4176-A5CE-561D3C0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F59F93-7394-4022-BF6D-D9F0911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DD961B-5948-400B-B1D6-BECE8C4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1760C3-0069-460A-8147-13E64E47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E3D31A-9AB3-493E-8444-5A6226E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86DE7B-0E52-4118-A0AF-A4E49359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BA90A0-3327-40E4-A1B3-A5AADA4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235C-DB72-4D7F-8170-5ED180CC2A3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27F041-1178-4E08-A073-8FE49CA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9A70D9-6403-4E92-B58E-A5C72E3B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5BBEF-3D2E-4D3D-8333-8B342A6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32B003-23BD-43B4-B0DD-C1B12480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25D4A-BB5E-4735-9C7E-57B89D7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1CBEE-A44C-499D-A12B-02857BA5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12A09-F273-4500-A709-C72729E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AA321-63D8-4D38-A902-251CF59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321C5-FA5C-4A9D-A9AD-25F982E5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6D294-1678-4A24-B5B9-B653629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FFCE-EA08-4434-A554-2CA6CE59367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F7AA7C-3AA4-408C-A1E2-29918E7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69CED4-134E-43BB-9F88-E8A4B53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98A2C-F2A4-43C2-A1EC-C098C6FB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F4AC75-48AC-4C54-94E0-44684B41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9CF4B-E225-44C8-90A9-1CF60982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A6966D-33D1-4DD9-9316-C7312956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AD6264-7399-42CF-86F0-C7077AD0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517FE2-8CDB-4BCD-8B1E-35977B5E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3B06B7-76A7-4D27-AAE8-14D684E2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A573CD-631D-47A8-AC29-F680115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E6BD5-56B7-4E52-BBF0-2D7814FC0F6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84363A-4365-45E9-A7AA-C9AB9DD2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A674E3-B52F-45B8-9862-364C2BF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53DD9B-BC44-446A-9597-03FACE0E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EFEF9C-1EDF-4AD5-9A45-1FD2001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8B51F4-F6F6-4DBC-B905-87D8E71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0017E5-DFA2-48D2-9604-F878D6A9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C32FD3-4C41-4EB3-B9F8-A4456B89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B64383-728F-4149-87FF-59377A75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B50762-ED80-4A8F-9D01-39B4165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6B6167-E09A-408E-A207-F47795CF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DEE85-FC68-44AA-8F60-7BA5163DC74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2E08BA-B5DE-480D-A2A4-3DC926A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46E6E4-67FD-46E5-B244-88A6CC6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126D88-D853-4CE3-B626-AD91B6E6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C90C4F-0BD4-4E10-A3A8-7546534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CFCCA1-1BE5-4786-9B58-51159D7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580A3B-F5D6-49A5-9C22-E9903B9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2CB9A1-9D43-4846-8FB6-B45FAB2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E13042-4D10-4798-A830-FD565990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795D90-EA39-42C5-8646-60109AE4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DA3841-822C-44E7-8A75-F8AB1B25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B6C18-27DE-4569-8729-A520BE63230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91AD90-C999-4F5A-9DEF-43DAC21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A36681-6061-4B3A-AB95-4CCA627C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6D6F68-943B-4B46-A8DA-690457D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1BB1E8-F0F8-45EE-A8CA-915A3B8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152646-A571-4ED0-A77F-BC7E22F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12FF1A-37C2-4881-99FC-289B86B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5C6F2A-CBC5-48DC-9176-5BB6C2A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ADE4E33-55A4-43D2-AF17-CDE240A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1BD376-CF20-415B-B88D-05BCA8D5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4E40FF-4B7E-44CD-B036-E8A36016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0951-B5AC-4AA3-B458-85C6F13DAE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500D8-CD39-48BA-A530-8230095784A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60080B-7816-49F1-A66F-0BFCFB14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129EEA-4287-4ECC-ABE5-CC4CD1F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0551CF-61BE-4071-8B39-A6C9142B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7F957DE-D2A7-4FBA-A12C-BD4189D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1EF309-BFD8-4B2C-A3C5-C46E4C0E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849A76-A3BD-4F62-AC05-B98FB75D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5A0F59-294C-4BCB-966E-54978F3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B054DF-D0E4-4FBD-A2FD-262CC62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B3E289-8004-45B5-9B98-0B4EE1A1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3B5B70-79B2-4E59-A92F-BB251490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741C-05F6-46C4-82B8-3BC3DF9B633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0D7A86-7DCF-4BA5-A3F6-110D0B9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49E34B-EE3D-45DD-9630-FF389133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465152-910C-4D76-A290-1D75B6BE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7385-1BF8-4956-8EB6-61F12D102B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2619-B07A-405C-A47F-F3FEAB9CAA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CE794-543F-4AFD-BA22-32B294C8E1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AA976-0860-4AD9-A253-743603643C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561C2-3C53-4C08-A8A8-E292F62D2B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AABA-4C40-4DCD-8360-D05F974F02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5F9-1FA1-4CE6-B4AB-39F58D64B8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E6B-C572-452E-9E31-1B6A56130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3421-BC2B-48E8-AA62-CD6F4B8051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D94-22F4-49C7-AF62-A68D18B277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2F81-3660-4A72-B7B2-6154710DBA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695-2EEE-4B7D-B025-C0BDB8230A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D5C-D086-4D1F-B18C-56FDBD36B7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1220-B4E0-4740-9D97-0D2B7C09D6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94BC-7F59-4A63-BEC4-94AE9C09DB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A859-7600-4F2C-95EF-F6959B92FB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196-5AFE-4DB1-9269-5C5BC4F9C6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FDB-3066-4024-8864-8AD85B755A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F6D46-A9C3-4664-BD25-04BC86CB4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BCBB-8789-4DDB-8843-003FFECEA4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2946D-8C07-4250-9145-3B4DA28AFF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E718A-B21B-47F2-A406-4C90A1947E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1AB4C6-0F5D-4A3F-B5A8-9057DCB0B7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BC6CB-A928-430C-8E93-BB7DEB6675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F3E86-8250-4F9C-B6AB-0861A02646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807AD-EA8D-4FC9-A6E7-6F62F899CC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BF6C2-876E-4430-AA05-D172876BD2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4718E-502A-4436-A527-47C2264937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AD5B2-F8DC-477A-B008-550766E0A8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0314C-9319-486A-9B1C-2C7D9B7C4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D680-BB79-4526-B510-C3ABB86268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01A92-9E22-413E-B048-76147A791C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CC87B-D554-4F4A-BEDC-D63CC4C42F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F7EEB-90A1-4DA4-A89D-F471F2A410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7C941-5C8A-4C5A-A835-E566419357D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FFDB9-25F9-4365-A05B-74835F0FEE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4A550-DEEB-48F5-A905-8E447D1846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C3F9E-41EF-48C2-ACF1-551BED62B9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ECB5A-530C-4F98-A180-25DEF6C463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31FCC-CFD8-473E-9E47-1F5CA9A0CA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AA428-FA3C-4BCD-8EF9-AA4E704CF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313B-D15B-425F-80C2-CB0B853BAD7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1C43F-191C-4BCF-ACD0-8B7315FB31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1F21E-20D6-4D98-902B-ED9E5E77C0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FCE22-DA54-417B-8117-15F74A6507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D7FB-F1F1-4C99-BB3F-7C585A95F7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9C37-9EF1-4648-8E44-A662730F38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21B4-FB90-444D-801E-432D3E21AC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3FBF-35D5-4869-8926-3ACF14593E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E451-EF6C-465A-8827-9C72D3B1DB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E0DA-529E-4626-8F8F-75119E0F07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E665-E6BD-4D81-A90D-6AD7F70AF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8AA1-B003-4BA8-A23C-F6D8D87CD2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99C1-1A37-4CFB-A00A-059F06AC73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5764-04EB-4BEA-949E-36F50B9D47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52BC-37D9-4B6C-B715-0CC78B55DA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5A06-CDBE-4602-8D91-80F5D81806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9189-ECBF-41B2-9D29-BFFCA8675A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ABE7D-DA34-42D0-A5D5-9BD26376B7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95161-2866-4498-B072-B425659B89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57758-0B2D-4137-A149-F813103F33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049BC-96E2-49F4-9F8C-648AA016DE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46E00-832A-47EF-BE65-8D3937E86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3C0C-7626-4279-A668-4C5EC68E56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B33FE-E55F-4A2F-8F80-E4AEF85426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78EB4-0486-4EF1-A0DB-BCD8A79B1E8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F31C6-0073-4925-9C43-BFB92ECCE9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B6207-9703-49AA-8737-0E050DB780D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D735E1-0678-42CC-BDC0-66EB7F3C18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B4CBF2-8EBB-418B-BD59-3C8E89A24AC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2292E-BB13-400A-97D9-F5742BE3C3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10DBA9-73F7-43F5-BD69-2B057D4073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00124-BD74-42BE-BAC4-1B0D6B864F4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A95F1-4733-476A-ADC0-22D11A8E5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CD0C8B-4B48-4235-98A1-8B227A7F1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2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65F31E-2252-4C8F-BD08-E59D33CB8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3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34A287-CE9D-4B34-A5F4-B4247378F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14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C4FA41-1B0B-4593-BA0A-BB0ADA34B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5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F9FB1B-4805-4111-9D0E-58E9C3B06D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C02F50-B005-489C-BBB7-9E7B9A652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7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2AB781-1022-4049-A2E1-9069064DA5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6ECC89-81C3-420A-B25B-1E76501D4FC7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512542-4833-49F0-8518-118160961A9A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2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577ED-3922-4B0E-AAC7-EA58318361F6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E626D-9871-48CA-A7BF-9F3AAF86C3E1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C1FD30-19EF-4E54-9267-12F3E8F9AEAF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DE0D7-FB39-4326-AA42-38F0E9A99F4E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3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09294-6A63-480A-97A9-976C2C246833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2484E7-FE8D-4B30-B9CF-4679101AC860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12DDB1-F1F0-4761-AE83-527FD922789D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DC6DD-55A6-44DF-92CE-01A8AD0B4386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A03BEA-66B9-4071-81F6-63395099BAD4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0AE4D6-0A89-4F29-ADAA-271856051240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5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0C1C20-C548-4A72-BB0B-40DBCC92C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6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546167-6127-4926-A121-EF8BFD391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7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F38DA3-AEFE-4F72-9F74-1A9F3FB12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8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5D6C63-3016-465A-80BE-783B02901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B09BC5-E4F2-4FEE-9F08-70E78920E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0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74208C-1710-406E-A0D3-A680E8FB5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1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7602D5-8727-4055-B560-15AB081BB5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1"/>
          <p:cNvSpPr/>
          <p:nvPr/>
        </p:nvSpPr>
        <p:spPr>
          <a:xfrm>
            <a:off x="684360" y="115920"/>
            <a:ext cx="807876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2"/>
          <p:cNvSpPr/>
          <p:nvPr/>
        </p:nvSpPr>
        <p:spPr>
          <a:xfrm>
            <a:off x="3348000" y="4941720"/>
            <a:ext cx="5545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рок химии в 9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сиева А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3"/>
          <p:cNvSpPr/>
          <p:nvPr/>
        </p:nvSpPr>
        <p:spPr>
          <a:xfrm>
            <a:off x="442764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8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98680" cy="3386160"/>
          </a:xfrm>
          <a:prstGeom prst="rect">
            <a:avLst/>
          </a:prstGeom>
          <a:ln w="0">
            <a:noFill/>
          </a:ln>
        </p:spPr>
      </p:pic>
      <p:sp>
        <p:nvSpPr>
          <p:cNvPr id="1069" name="Прямоугольник 5"/>
          <p:cNvSpPr/>
          <p:nvPr/>
        </p:nvSpPr>
        <p:spPr>
          <a:xfrm>
            <a:off x="539640" y="76500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КИСЛОРОД.</a:t>
            </a:r>
            <a:br>
              <a:rPr sz="5400"/>
            </a:b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ef5fa"/>
              </a:solidFill>
              <a:latin typeface="Calibri"/>
            </a:endParaRPr>
          </a:p>
        </p:txBody>
      </p:sp>
      <p:pic>
        <p:nvPicPr>
          <p:cNvPr id="1071" name="Содержимое 11" descr="07.JPG"/>
          <p:cNvPicPr/>
          <p:nvPr/>
        </p:nvPicPr>
        <p:blipFill>
          <a:blip r:embed="rId2"/>
          <a:stretch/>
        </p:blipFill>
        <p:spPr>
          <a:xfrm>
            <a:off x="3429000" y="2637000"/>
            <a:ext cx="4815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1150920" y="30240"/>
            <a:ext cx="7792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Применение кислор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Жидкий кислород — мощный окислитель, его используют как компонент ракетного топл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Используют как взрывчатые ве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Основные количества получаемого из воздуха кислорода используются в металлур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используют при резке и сварке метал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 медицине кислород служит для облегчения затрудненного дыхания. Кислородные маски необходимы в высотных полетах, в космосе и при работе под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9" name="Picture 3" descr=""/>
          <p:cNvPicPr/>
          <p:nvPr/>
        </p:nvPicPr>
        <p:blipFill>
          <a:blip r:embed="rId1"/>
          <a:stretch/>
        </p:blipFill>
        <p:spPr>
          <a:xfrm>
            <a:off x="3851280" y="5157720"/>
            <a:ext cx="396072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Решите проблем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Осуществимы ли     жизненные процессы на Земле без  кислорода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2" name="Picture 6" descr="Зелёно-голубая планета в руке"/>
          <p:cNvPicPr/>
          <p:nvPr/>
        </p:nvPicPr>
        <p:blipFill>
          <a:blip r:embed="rId1"/>
          <a:stretch/>
        </p:blipFill>
        <p:spPr>
          <a:xfrm>
            <a:off x="4716360" y="2924280"/>
            <a:ext cx="442764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Text Box 2"/>
          <p:cNvSpPr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Tahoma"/>
              </a:rPr>
              <a:t>Кислород — основной биогенный элемент, входящий в состав молекул всех важнейших веществ, обеспечивающих структуру и функции клеток — белков, нуклеиновых кислот, углеводов, липидов, а также множества низкомолекулярных соединен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В результате процесса фотосинтеза масса кислорода в воздухе пополня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Кислород является окислителем многих химических веществ как в живой, так и в неживой  природ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ИСЛОРОД- ЭТО ЖИЗНЬ НА ПЛАНЕТЕ ЗЕМЛ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АВ ВОЗДУ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 состав воздуха входят азот (78%), кислород (21%), инертные газы     (0, 94%); углекислый газ, водяные пары, примес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Получают кислород при разложении кислородсодержащих вещ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– окислите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Озон – обеззараживающее веще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– жизненоважный элемен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8" name="Picture 7" descr="http://viki.rdf.ru/media/upload/preview/O_vozduhe.jpg"/>
          <p:cNvPicPr/>
          <p:nvPr/>
        </p:nvPicPr>
        <p:blipFill>
          <a:blip r:embed="rId1"/>
          <a:stretch/>
        </p:blipFill>
        <p:spPr>
          <a:xfrm>
            <a:off x="108000" y="1844640"/>
            <a:ext cx="504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1042920" y="333360"/>
            <a:ext cx="7793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СТ ПО ТЕМЕ «КИСЛОРО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2"/>
          <p:cNvSpPr/>
          <p:nvPr/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.Аллотропными видоизменениями являются:                          а) фосфор и азот; б) азот и кислород;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озон и кислород); г) азот и оз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.Значение озонового слоя для жизни на Земле заключается в том, что он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задерживает ультрафиолетовое  излуч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б) обладает бактерицидным действи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предохраняет поверхность Земли от перегре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г) задерживает поток мелких метеори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.Объем каждого  газа: азота и кислорода  -  в 100 л воздуха составляет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10 л и 60 л,  б)78 л и 21 л , в) 56 л и 25 л, г)90 л и 10 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№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2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.  Первым состав воздуха установ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 М.В.Ломоносов;    б) К.Шееле;                                                      в) А.Лавуазье;           г) Д.И.Менделеев.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.  К  переменным составным частям воздуха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инертные газы;     б) азот и кислор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примеси;               г) углекислый газ и водяные па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. При сгорании натрия в кислороде образуе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пероксид  натрия;  б) оксид натр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карбонат натрия;   в) гидроксид натрия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929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ровер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ь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. Аллотропными видоизменениями являютс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в) озон и кислород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. Значение озонового слоя для жизни на Земле заключается в том, что он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а) задерживает ультрафиолетовое  излучени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3. Объем каждого  газа: азота и кислорода  -  в 100 л воздуха составляет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б)78 л и 21 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720720" y="3780000"/>
            <a:ext cx="76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Первым состав воздуха установи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в) А.Лавуазье;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К  переменным составным частям воздуха относятся: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г) углекислый газ и водяные па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При сгорании натрия в кислороде образуетс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а) пероксид  натрия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347760"/>
            <a:ext cx="779292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ровер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ь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 Первым состав воздуха установи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в) А.Лавуазье;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.  К  переменным составным частям воздуха относятся: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г) углекислый газ и водяные пар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6. При сгорании натрия в кислороде образуетс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а) пероксид  натрия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адан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 на самоподготовку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ть презентацию на тему «СПАСЕМ НАШУ ПЛАНЕТУ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.Выучить параграф 15,                                        вопрос 2,3 письм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1"/>
          <p:cNvSpPr/>
          <p:nvPr/>
        </p:nvSpPr>
        <p:spPr>
          <a:xfrm>
            <a:off x="1222200" y="0"/>
            <a:ext cx="79218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2"/>
          <p:cNvSpPr/>
          <p:nvPr/>
        </p:nvSpPr>
        <p:spPr>
          <a:xfrm>
            <a:off x="971640" y="1844640"/>
            <a:ext cx="81723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Изучить состав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Ознакомиться с понятиями «аллотроп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аллотропные видоизмен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Исследовать  способы получения и свойства кислорода и оз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Показать роль аллотропных модификаций  кислорода в живой и неживой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 Box 1"/>
          <p:cNvSpPr/>
          <p:nvPr/>
        </p:nvSpPr>
        <p:spPr>
          <a:xfrm>
            <a:off x="1187280" y="260280"/>
            <a:ext cx="757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Аллотропия.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Аллотропные видоизме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755640" y="1989000"/>
            <a:ext cx="77724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Аллотропия – явление существования химического элемента  в виде нескольких простых веществ.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Молекулярный кислород -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и  озон –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Аллотропные видоизменения (модификации) – простые вещества, образованные атомами одного и того химического элемен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3"/>
              <p:cNvSpPr txBox="1"/>
              <p:nvPr/>
            </p:nvSpPr>
            <p:spPr>
              <a:xfrm>
                <a:off x="4527720" y="3301920"/>
                <a:ext cx="885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1"/>
          <p:cNvGrpSpPr/>
          <p:nvPr/>
        </p:nvGrpSpPr>
        <p:grpSpPr>
          <a:xfrm>
            <a:off x="179280" y="2421000"/>
            <a:ext cx="7666200" cy="4083120"/>
            <a:chOff x="179280" y="2421000"/>
            <a:chExt cx="7666200" cy="4083120"/>
          </a:xfrm>
        </p:grpSpPr>
        <p:sp>
          <p:nvSpPr>
            <p:cNvPr id="1079" name="AutoShape 2"/>
            <p:cNvSpPr/>
            <p:nvPr/>
          </p:nvSpPr>
          <p:spPr>
            <a:xfrm>
              <a:off x="179280" y="2421000"/>
              <a:ext cx="7666200" cy="40831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Oval 3"/>
            <p:cNvSpPr/>
            <p:nvPr/>
          </p:nvSpPr>
          <p:spPr>
            <a:xfrm>
              <a:off x="2583720" y="2947680"/>
              <a:ext cx="3609360" cy="11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Составные части воздух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Oval 4"/>
            <p:cNvSpPr/>
            <p:nvPr/>
          </p:nvSpPr>
          <p:spPr>
            <a:xfrm>
              <a:off x="179280" y="4528080"/>
              <a:ext cx="270612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Постоян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Oval 5"/>
            <p:cNvSpPr/>
            <p:nvPr/>
          </p:nvSpPr>
          <p:spPr>
            <a:xfrm>
              <a:off x="2883600" y="5186880"/>
              <a:ext cx="255528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6"/>
            <p:cNvSpPr/>
            <p:nvPr/>
          </p:nvSpPr>
          <p:spPr>
            <a:xfrm>
              <a:off x="5290200" y="4528080"/>
              <a:ext cx="255492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Примес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Line 7"/>
            <p:cNvSpPr/>
            <p:nvPr/>
          </p:nvSpPr>
          <p:spPr>
            <a:xfrm flipH="1">
              <a:off x="1977840" y="4001400"/>
              <a:ext cx="1212480" cy="52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Line 8"/>
            <p:cNvSpPr/>
            <p:nvPr/>
          </p:nvSpPr>
          <p:spPr>
            <a:xfrm>
              <a:off x="5441040" y="4001400"/>
              <a:ext cx="1202760" cy="52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Line 9"/>
            <p:cNvSpPr/>
            <p:nvPr/>
          </p:nvSpPr>
          <p:spPr>
            <a:xfrm>
              <a:off x="4237560" y="4133160"/>
              <a:ext cx="1080" cy="105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остав возду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11"/>
              <p:cNvSpPr txBox="1"/>
              <p:nvPr/>
            </p:nvSpPr>
            <p:spPr>
              <a:xfrm>
                <a:off x="3851280" y="573408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9" name="Picture 13" descr=""/>
          <p:cNvPicPr/>
          <p:nvPr/>
        </p:nvPicPr>
        <p:blipFill>
          <a:blip r:embed="rId1"/>
          <a:stretch/>
        </p:blipFill>
        <p:spPr>
          <a:xfrm>
            <a:off x="1042920" y="4941720"/>
            <a:ext cx="1206720" cy="482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4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1549440" cy="5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олучение кисл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Английский ученый Джозеф Пристли</a:t>
            </a: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1733 – 1804)</a:t>
            </a: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в 1774 г. разложени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оксида ртути(II) получил кислоро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и изучил его свойства.</a:t>
            </a:r>
            <a:r>
              <a:rPr b="0" lang="en-GB" sz="36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2 HgO      </a:t>
            </a:r>
            <a:r>
              <a:rPr b="0" lang="en-GB" sz="1000" spc="-1" strike="noStrike">
                <a:solidFill>
                  <a:srgbClr val="cc00cc"/>
                </a:solidFill>
                <a:latin typeface="Tahoma"/>
              </a:rPr>
              <a:t>t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2Hg + O</a:t>
            </a:r>
            <a:r>
              <a:rPr b="0" lang="en-GB" sz="1000" spc="-1" strike="noStrike">
                <a:solidFill>
                  <a:srgbClr val="cc00cc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ff66ff"/>
                </a:solidFill>
                <a:latin typeface="Tahoma"/>
              </a:rPr>
              <a:t>оксид ртути(II)                           ртуть        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3" name="Picture 3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911240" cy="2219400"/>
          </a:xfrm>
          <a:prstGeom prst="rect">
            <a:avLst/>
          </a:prstGeom>
          <a:ln w="0">
            <a:noFill/>
          </a:ln>
        </p:spPr>
      </p:pic>
      <p:sp>
        <p:nvSpPr>
          <p:cNvPr id="1094" name="Line 4"/>
          <p:cNvSpPr/>
          <p:nvPr/>
        </p:nvSpPr>
        <p:spPr>
          <a:xfrm>
            <a:off x="3419640" y="4797360"/>
            <a:ext cx="1008000" cy="180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6804000" y="4431960"/>
            <a:ext cx="1440" cy="51444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1"/>
          <p:cNvSpPr/>
          <p:nvPr/>
        </p:nvSpPr>
        <p:spPr>
          <a:xfrm>
            <a:off x="1187280" y="266760"/>
            <a:ext cx="79567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Лабораторный опыт.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Получение кислорода     разложением           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пероксида водорода.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Цель: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1.     получить  кислород разложением пероксида водорода ;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2.     доказать наличие кислорода 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ext Box 2"/>
          <p:cNvSpPr/>
          <p:nvPr/>
        </p:nvSpPr>
        <p:spPr>
          <a:xfrm>
            <a:off x="539640" y="2997360"/>
            <a:ext cx="802800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Ход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.     Получение  кислорода  разложением пероксида водорода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.                                                                         В пробирку с пероксидом водорода добавьте катализатор – оксид марганца (IV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2.     Доказательство наличия кислорода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В пробирку с выделавшимся в результате реакции кислородом поместите тлеющую лучину ( для этого лучину подожгите в пламени спиртовки, а затем погасите ее). 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Что наблюдается в результате реакции? Какие выводы можно сделать?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Text Box 2"/>
          <p:cNvSpPr/>
          <p:nvPr/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В результате лабораторной работы при разложении пероксида водорода наблюдали выделение кисло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Н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=2 Н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О +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Доказали наличие кислорода по возгоранию тлеющей луч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0" name="Picture 3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457280" cy="11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войства кислород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Г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Медленное окис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4873680" cy="3200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7" descr="http://i.sakh.name/m/7/4/7451d51c51aec0d147e625ddf272fd1f.jpg"/>
          <p:cNvPicPr/>
          <p:nvPr/>
        </p:nvPicPr>
        <p:blipFill>
          <a:blip r:embed="rId2"/>
          <a:stretch/>
        </p:blipFill>
        <p:spPr>
          <a:xfrm>
            <a:off x="6084720" y="1268280"/>
            <a:ext cx="30592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войства кислор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Выполните зад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ставьте уравнения реакц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и которых из простых веществ образуются сложные вещества,формулы которых С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имия</dc:creator>
  <dc:description/>
  <dc:language>en-US</dc:language>
  <cp:lastModifiedBy>ЖАННА</cp:lastModifiedBy>
  <dcterms:modified xsi:type="dcterms:W3CDTF">2013-04-27T10:05:23Z</dcterms:modified>
  <cp:revision>19</cp:revision>
  <dc:subject/>
  <dc:title>КИСЛОРОД.ОЗОН.ВОЗДУХ.</dc:title>
</cp:coreProperties>
</file>