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10.gif" ContentType="image/gif"/>
  <Override PartName="/ppt/media/image8.wmf" ContentType="image/x-wmf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-360" y="-12636360"/>
            <a:ext cx="360" cy="266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F1A3F-0CEA-4A14-8EDA-876F68966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86E8-7824-4374-B63D-FCB08219C47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EBE9D-BCBB-44AC-A497-0A7199C9981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D5D5D-2FFD-4415-B297-E02C24FBECA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DDA23-FC8C-4D10-8E1D-CB0AAE79758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D74DD3-9C34-44CF-9322-91892032261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3E026-9796-48D0-8BF7-2D04EA88204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6CD97-5753-4426-B16C-F73230D2356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12759A-1642-47DB-8A7D-0A294B8942A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F5345-5789-4A43-814B-64B449431B0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922EF0-5315-40F1-B3F7-8CFF1DC0D13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6C019-CECC-4DCB-B17D-65D6FBB60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D59B-F144-442D-9942-3E7A8B2E734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F041C-9DAE-4CAC-84EC-FC20545AD29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80F58-B3BB-406F-8224-9ADBB669B6C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105FE-CFEB-4B89-BE4F-FA773531E6E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8EF17-DE7A-46BC-9A09-26C9177824D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04C67-2757-4FC2-A168-CBA72957A5B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E272F-E4BA-4475-A67C-8E7A8F52966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3A804-0D7F-4F30-A6D0-A2BA6AB7D17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ACE29-8473-4DE9-8C81-13CB19B97AA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B4BC9-B1C0-49A4-9A52-4D4E1A51B12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7CC3B-D436-4F84-A298-D25B2B944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3BA4-56E0-4662-8595-6670DD2DF86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F2C1F-B187-46EE-AA58-90812573751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0B65AD-99C1-4FF3-AE21-E6558FCB0D9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5820E5-2C50-437D-8187-ED30A6C6C00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95112E-5575-4D86-96EF-E3C1E4965EE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85F1E5-C882-42B4-A29A-77A3132A893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933516-D8C3-4C1A-9AE9-FB6DC95E031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A208B4-EA8E-40CC-B680-5A9899E99BC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F549FC-2A89-494F-BE0C-81AC9B99697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D8C0E9-D862-4B6C-8D91-CE806434D90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63617C-C65E-4E9B-B5EA-FCD7D447C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EC088-07BE-4DE4-A97D-C7062019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198D82-198B-49A6-B4F5-BEEE4431EAD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D788A6-B6F7-47E4-9BCC-C98061D2428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8AD72E-A1C9-47D2-839F-2092F112B99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C78224-3A81-4E9C-A5E8-35D27D54BE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DD1CB-C1AC-4C6A-BA90-B155145064A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17672-1BA3-4868-AAB1-C263F431BA5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426CE-AC21-423D-87AD-B494AA58F7F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1FE74-26D5-4233-A2D3-ED3CF11E2C6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AC531-BC07-468B-A93B-D3F30F2776F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F2274-4976-45E6-8BFF-1261EEA924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86B2B-E48F-406A-888B-3242FF40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EAADD-0677-450F-936E-7FE95771398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79BD8-2AC7-4FE4-B330-0906E30A87A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48A93-00A6-4BDB-AC42-928D64EBC36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6056A-8300-417E-9C6F-6A011D9BC87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44EBF-4E89-4DE4-B4E7-A5EDDB47FF3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87CF4-033D-44CB-B910-1D7E5EFB403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DCC32-EB08-4FE8-8330-A13F1F1D852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FCED6-051F-49B2-86C0-F98694501B1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C9F14-46B4-48B7-B4CE-B806B72BF65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62F29-4961-4543-96CC-694C631675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39A8A-E569-4D7F-B4A2-77D2C0D9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BEB25-0880-47AC-87C5-870A6BC3DEC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51AB5-AEF2-4C3D-91DB-7BEEC056730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6F305-71B6-493A-A5F3-745F8F621F8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6059E-4179-433B-BAA8-31D3C1B4987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BB860-0375-4ED6-9752-6F52428BFC8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C0B9D-A2A7-412B-AD73-E7DBBAB3B84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14281-F123-4513-ADA1-73F8E765B20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A1EB97-619A-4D1B-ACDC-C0690DD984F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9C234F-5523-4486-9035-EE7D10BFBC6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DED859-40DF-4148-8B61-36E8DD1C7E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FF51C-3489-4625-9230-E1B14811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F4ACAC-48E8-4CAB-9597-AEC3172029B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D42A8F-9C4D-43D0-9E88-48025E020F2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0D39DF-CC35-4B21-B6C3-15BBD63AB8F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FE775E-BB06-4AAE-BBE2-663BC37BB64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E22CCC-2331-46CE-946C-5F3D7261974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C0E009-A41F-408E-8389-CA1A9DDCC32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AEA53B-9482-4315-8BA2-F4AC42178B9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DD91D4-3EDA-47BC-A299-6D5AF5ACBC6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C1BD9F-8E67-46B3-A287-40171980178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1F8C8-C085-45B0-A2DC-4B62453467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22DD6-FA51-4BAC-A18E-AC4DBCA4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E5690-8CC6-4EC5-B9BD-5B0E033C6A5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DE93A-D203-46EF-9ACD-E16434A4C9D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F463D-19E9-4656-8B25-6420C776AE3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F37C2-8DE3-404D-B074-F87C75E3A05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4D87E-CEB2-4AD9-890D-051C37DC6FA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4456B-D928-49C5-98DD-A38FFC88AEE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A7CB16-98F7-447B-B110-FF63D6422F3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8BE44-4C8E-4CF5-AEC4-0069CCD0543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F9EE9-5A16-4360-8ADF-F57D04CB2A7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179D1-DCE3-4C73-BCD8-7534C1A1FE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14A08-65B7-412D-813D-060CA252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941E9-599C-449E-9061-A23751C583F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DDA71-22A2-42A9-880C-BADBCBA5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CE6B2-226E-4F6E-AAC5-34CA4D60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DDC34-255A-4971-B08B-903A8B3B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4FCF70-AB35-485C-87B0-BE5C11FA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6F366-05B9-44DB-9C3E-4B102A96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96559-34A3-4091-8743-EC5188D5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134827-DB69-4C1D-9D31-F88D916A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68959-6963-48AF-92FE-1FD9386D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3412DC-1D70-4888-BA0A-5F04AA85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7FAFD-3E0E-4B92-99DF-A483E234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9DE11-C559-405C-82CE-490166AB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C7F998-8117-4A46-969A-9BDD5B12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9375BE-156E-460E-AE15-A0BC9397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D05BCB-2908-428B-9E88-C8E28F7D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59B204-905F-4100-97B0-AFE860B9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B81ACB-53FF-4C4D-8C80-3C7B4E6F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5F1E46-3558-4E64-B697-E01BA3C6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5C8747-343E-4060-AF49-116CD54D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743E91-6B3A-4161-85E2-72CA0333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88FF31-5DA4-45AB-B85C-B73912DC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5F60-E0A1-4CB6-A955-20863DD00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382D0-39DD-4FDF-BE31-73D6AB92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59CB67-2D77-47FE-AAD6-25E456E0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8E7F0D-261A-4877-999E-CDA05580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2CA05B-3B72-4117-814B-5C21245B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199D63-FA3C-4646-8BE2-E608D512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146D85-FFCB-4C84-8C75-262F4247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0FD13D-B143-4DEC-AC1B-45729E45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33046F-0CC4-49CF-AC81-1FCB76CD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4B28AC-BF3C-48E2-9383-E4D73777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3E1821-D7BC-4F53-8F73-958A19B2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1AEB87-F27B-48F5-B61A-5B133194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923FD-0D4D-45EB-97E6-F0250232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4558B2-38A6-445B-86AC-E9C6B4CE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84E382-222E-4E9B-AE66-6980E4BC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6ADFDC-144E-4CA2-9260-4C065DD4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DEC134-45EE-4884-B2C6-C7FBBB8C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E9283F-394E-4B82-9C6A-A89ABBCD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C2D35A-F627-4073-96F6-5E6D9B7A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7E0FE4-2F2A-43E7-816B-BD441885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593815-5651-4A67-A552-E1DD865F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0CFA68-CB01-4988-8249-BE42220F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8E7F3F-962C-4CDB-948F-DE68B9D4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A10CF-79EB-4C72-A513-3BF0F34D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A4C60D-458F-4929-B5D4-110DE422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1CA27E-C33C-4CD3-A433-3FEB3B83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06E26C-A854-4181-994C-2F388DFA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40C745-C866-4146-8DBE-40332B83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5CFC54-BD35-464A-BCD4-AC8C63AF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12515E-D1A6-4270-9D31-F3F0C112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6C3B83-8A63-424E-BCB4-EFF94950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E5B038-4B94-4C08-AA3F-39553A88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3D2F8B-FE20-4C20-A136-735722FA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C14329-5563-41D4-9F71-57DA0F2C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61115-A753-4D73-829B-7602A0D7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A5F136-32AB-429F-9B43-348CC7DE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81C28F-D5E0-41D2-A558-86DAA490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BAEA40-544F-4921-BE05-5D670405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0A5DC1-2495-4816-99AE-0F6F119D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B739C2-168C-4402-944D-81545FA2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F1F6C9-3E8A-4035-BC43-0190BF2B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3488DB-757D-49F3-90EA-F5A17B91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8F50AC-A52E-47E0-8D17-7686C4F8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0BA986-1EA7-4C20-A2FF-51F9F646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BB10FA-1874-475B-9AFB-98E9FB35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6B436-814C-451D-B539-163B8747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8DBE00-C9EB-4824-9E98-C1B42F4C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E8AF9D-5A9C-4197-BB18-2BD35E85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315DB6-C39C-4B50-98CE-367B3D86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E456BC-2490-4D15-9098-F552664A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F9E5E7-8D25-4B92-9F07-6673E778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7BE317-AA5C-456B-8743-6EB2CF64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ECF8E6-CCBF-491B-B17C-B6C04CDA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22FD94-80FA-4DFB-9DAF-FDD4B808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194C07-7E76-45E9-A9EF-8A2553B1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4D2770-22BF-4B1C-A9EA-675B9169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6B5F0-A3B9-4D73-949F-0917FAE7849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486903-AECE-49AA-8774-FBC32B4A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2147B3-D2DD-44E4-BCD9-0DA591F1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B7E49B-F41B-41EA-8556-BD64FD9F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56F112-A4EE-49D8-A299-E30AF19F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0CD470-0637-49C2-BD27-75494364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848C9B-E8C2-47E6-A914-1E9FEEA8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6B8891-B27A-4C52-B6B6-BBB8ED5D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CA212C-8D40-4591-9520-F0EF9C39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A47D3A-E0EF-4BA8-8B9E-44707090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8F3F26-F70E-4B81-AC51-FA21F7EE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CEB6E-013E-4ABF-AA40-5692A6DA47E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8A4F4D-B6A5-4AE8-B668-44C5E700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25BC39-DD5F-4BC1-8B2A-3C577045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86DCD8-EFEC-4DE0-9569-187DE5EC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FEA3ED-0A94-4E84-8F6A-6B62C601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42DEBB-9EE1-47EB-8808-7A134C3C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0F586A-B35C-4808-9648-9607DC7D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737C18-5EC1-4CB8-A547-DC38DD61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7B49C8-0262-496C-8B8B-005EBB53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A515FB-56BB-4662-92F1-AA39262D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5115D7-B712-43DC-BD68-D4BF886F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E5F24-930B-44DA-A16F-B44E64804D8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97DE48-8D4A-4A1D-A3BA-F54017E0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8EC787-D8AE-4EDE-85B5-B47E539E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CA1C16-AFC2-4E7F-8541-A6CB19F8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A8D95F-0A90-4C42-9C4A-EE9C8F09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99CE04-6DD7-4C31-823E-B8C5F42D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80DE5F-484A-4F39-8663-B0B6384F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92DBE8-CCF7-4BC7-B572-C512A5AC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09E887-0DF8-481E-A2D9-A265D876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341DFB-8D73-4C38-9F11-63FF7648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C904F4-E12A-49A4-A2AC-B03B9F9B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25056-3310-4785-9281-F6BE275B810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024DD5F-61AA-4E8D-9145-E05D2842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A209B1-402F-488B-B611-04663282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DEB6D7-99B3-4F24-A50B-ADEEF7C3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E23C81-BFAB-47B7-BE1E-B846AA87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D2DB67-AB85-4432-9BD6-5CBAF3BD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F0B81B-7DEA-48D9-8242-57CDE37D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E900E6-59CA-4F70-9149-431F4387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3C0022-4975-4073-840B-E242602B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24A70C-747A-4BF9-A97E-AB2DB978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62D8D2-F92C-4911-BF30-10F4A60F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562AE-CA5B-4FAA-9762-4A52B8A9B0D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C39BFA-FD7A-4A4A-9B68-E0FE91DA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3FA49E-ADE2-4679-9CAD-0A556911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965C6E0-6C40-4DCF-B6DE-F0B057DF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D9BDF2-899C-4844-8D1E-A338A1C3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2833640-EA79-4F7D-AA8A-4B193B09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5A54B3-FFE7-45CB-9787-975639C1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076D82-DAD5-4BF2-8AAA-B9FDF5F6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B2A18C-628E-41A6-AF9D-CF36D6C3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EC29264-EDAF-4786-9E63-80A20F31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914480-DF41-40B6-955E-D1FAD146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14C9-EEDF-46D2-9AA3-EBE922D000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3DDE8-B096-439C-B48D-427303E8071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BB0718-6DE7-45BE-AABE-CC3DEC11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01F289-7056-413A-B33D-E79D3012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39B0AB-00A1-4455-8C09-F0D4DD56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3ACFD8-3AC5-4F62-9AF6-7B55C46B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FCE67F-6D92-4A37-944D-507F4464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A78D7E-2FBB-492B-9D2A-95B55282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AB5D8A2-87DF-45CC-BA2C-60987BA4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67A38D-A0FA-471F-93D6-797CA971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0E4506-A3C8-40EF-84B0-D15E0625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2E824F-ED09-4DD4-9459-813B0BBC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68C07-70F0-4AA9-BBD3-4CC0F38F6AD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A1CC78-5C26-40AF-85AB-7EC7640D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342C2B-EEF8-4284-B589-F738EB07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3AD3FA-9914-442C-A083-C31AAE03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86BD8-1414-4FCF-BCAA-008D6F5525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33608-A7EB-485E-A3DF-4B717B8BBA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DE346-E8DA-4095-9732-DEBC4A6C36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C38EA-BE94-4878-82F4-242A477D05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4B61B-03CA-49FC-8F03-6DF1E8B9A3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4E62-DFAF-43D9-9B7E-091D823812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3AF1-F1CB-45CD-A0DF-B8E15559C0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B3AA-E251-4D6C-B54B-AF86D15C5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4152-C21D-41CD-8524-7475A67895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C0AD-5D57-43DF-B448-4095D2C687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FF28-BE03-4D92-BC80-AAF55F9644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6F07-048E-4957-95E3-B21992C211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214C-804F-4EFA-87CE-1A2C2D37C2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D3C3-DB66-4F49-A8BE-5B0CE5D581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307F-6101-4B81-93C3-58DB537065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B304-1DD6-4C41-915A-9FECC6B26A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A458-0A09-4818-8206-2815D6A814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9455-F667-4D42-9E19-EFDDAEF795D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C4DDDE-0EB8-4086-84F8-9D8A77942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4D5F-5F84-492E-A7C4-743AF22B5C1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2D5B5-7D18-4FC5-BD71-147626217DF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609EC3-B80C-4CB7-AD46-2A6868A419C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B432D-E064-4417-9702-9BFB63FE4EF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5EE59B-D0AE-4AB0-93D8-2910EC643A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0F9FD2-5414-415A-8C1D-42D06378E34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E27B00-3168-4033-AB99-CEE48F4C1B6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ECAEDB-A0BA-4220-9447-00A5047403A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DAE1ED-64E6-43BE-92BD-B147BE353CC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7B4EE-69D8-4492-984D-6CFE399D36B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377E5F-2F62-4687-B148-24667C523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DFC6-6E73-4A85-8420-C4566B1A5A6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D7E208-D54E-49AD-B464-E2A3A323D13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B59A9-9B9C-496E-B0A3-3199E7B97FA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F622A-5907-49C5-A609-FB265D72686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9FFB4-B05C-48BB-B3CF-6FE6A114C84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17C2A-69B3-445F-8D45-AF37297D6C0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CD63B-FCDA-4BCD-8B8A-93488C92E6E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CB797-0BD6-44A3-AD4E-F146DE5965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F0C6A-DFDB-4E53-BADF-270051B4BE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736CA-6AEB-41B0-945D-47FA942CBA7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F8731-7230-4D75-A2C8-48B76C148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93E4-C402-426F-B2B7-0F6AA2B0ECF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C61A0-1548-49C3-8054-8C4BAB70419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739B1-E2E9-4D8E-81F4-43FC8B41A4D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8741A-80DC-404D-B17B-944CCAC6F95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6819-D048-40D2-9CE5-E34D98DCDCE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8E258-2C88-4F37-8F49-119080F44E9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75382-E66E-42E5-AB97-B851319B8CD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ABAE5-01E8-4A53-B3C3-6E6C33E377F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370F3-86FF-4B75-A0ED-537663D889A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726F2-DB69-4499-A9FC-2E8E844ED86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82E3-05A2-40CB-BE79-BFB97E324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AA69-E854-4AE1-BC9B-6D359FD6F65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BF68B-9EEE-4955-8028-BFB5F2FC7A6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9461-3E73-4D59-9BC9-13F3A16F3E7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9B06-BD33-4915-84A1-00995908082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BDF97-E420-472B-BCDD-A59201B22E5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9BBE9-0A89-45E2-806D-0AF3197E215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905BE3-4137-48F7-95A8-70B7D8998EE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268CB6-CF45-4EDE-B465-9FEAB5B0E62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BBF0F-5CFF-428C-B618-6169D37621E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E8E0E0-219B-48C8-9D3C-9AECA86677C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BAEA0-07F9-4383-BF5F-485C0F90A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0D37-4C6A-4DD5-8779-946C5D4346B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8824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FD0BDF-4E10-4558-BF63-99B37468205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889A1-3106-4A10-8E1E-23470E4330D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56B9EA-F141-40B0-BAD9-E93ECA18313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1D6D82-FFB9-467B-9B15-795DC6F8EB1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182240" y="4265640"/>
            <a:ext cx="7767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44AD2B-1C42-43B9-B616-5739FA48DC8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24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162760" y="4265640"/>
            <a:ext cx="3790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C57465-4F7E-435B-A74E-096A8CFFD88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1822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80844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435000" y="4265640"/>
            <a:ext cx="25009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08315F-A597-4946-A416-9E1532C4665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D7FB5-C47A-40E0-8948-BDA74088F1B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60C4B5-069A-48A5-A273-6FD289FAAC6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4E2E5-7A2E-4ADD-94AB-67D1AF004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1162080" y="6240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D0B938-CDB8-4237-BC8D-003271A657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2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62736A-36FF-4D93-8D40-6AA0C78B3E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3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F5E7CA-A40B-47AC-8E41-04B03D39A1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14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7CBAF8-7859-4A19-9E44-5ABECABCC9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5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395765-57FD-4277-A545-6542725705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Num" idx="16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FE84A1-6A71-4083-82DB-8E742EC6F8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17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43055E-07F0-422F-B75F-CAF2532A1A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1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A51411-EE3E-481D-AA41-6C4B106C4C44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2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2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E1099F-7282-42A0-930D-D6C8878C9745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2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2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01F25E-8935-4976-B97D-6469AAE12C86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2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2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E58B30-9892-4B54-A7F1-7342690DE0F5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B62C42-645D-4FEF-95CA-6A1FA5218286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7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9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3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3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AEF414-8AC9-4A7A-98C1-598FBF6AACFE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3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3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D55BEE-6029-4A5D-9169-C4A0B33BDD07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3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3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AD83A3-6FF2-4616-9BFF-9912907DCD66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4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4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191A18-3345-44A2-A366-A9B17396FFE1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4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4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933A04-0C82-41F1-8491-2DF4E5B3BC1A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4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4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C1011D-E1DC-466D-90C2-B5871E37D12B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ftr" idx="4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 type="sldNum" idx="5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d4ea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AF89EE-C273-4C93-91A6-F876F6CFFEEF}" type="slidenum">
              <a:rPr b="0" lang="en-GB" sz="1200" spc="-1" strike="noStrike">
                <a:solidFill>
                  <a:srgbClr val="d4ea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5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54CDA6-8635-4429-B753-945B0ACABF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6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78F142-8468-4250-956F-AF9A44B3B2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7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819A13-66E6-44A7-AD6E-BB286C649B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8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F7EA14-CE87-464A-95CC-F477823A0C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9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218878-0FA8-4532-AAB7-765838311C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0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EEBB5C-C7D3-42FE-ACC3-96CB768A53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81160">
              <a:lnSpc>
                <a:spcPct val="103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3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3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3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1"/>
          </p:nvPr>
        </p:nvSpPr>
        <p:spPr>
          <a:xfrm>
            <a:off x="7042320" y="624348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1E23A7-DAF9-4A13-A537-45A2ADF793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9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Text Box 1"/>
          <p:cNvSpPr/>
          <p:nvPr/>
        </p:nvSpPr>
        <p:spPr>
          <a:xfrm>
            <a:off x="684360" y="115920"/>
            <a:ext cx="807876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Text Box 2"/>
          <p:cNvSpPr/>
          <p:nvPr/>
        </p:nvSpPr>
        <p:spPr>
          <a:xfrm>
            <a:off x="3348000" y="4941720"/>
            <a:ext cx="55450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Урок химии в 9 кла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сиева А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Rectangle 3"/>
          <p:cNvSpPr/>
          <p:nvPr/>
        </p:nvSpPr>
        <p:spPr>
          <a:xfrm>
            <a:off x="4427640" y="465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8" name="Picture 4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98680" cy="3386160"/>
          </a:xfrm>
          <a:prstGeom prst="rect">
            <a:avLst/>
          </a:prstGeom>
          <a:ln w="0">
            <a:noFill/>
          </a:ln>
        </p:spPr>
      </p:pic>
      <p:sp>
        <p:nvSpPr>
          <p:cNvPr id="1069" name="Прямоугольник 5"/>
          <p:cNvSpPr/>
          <p:nvPr/>
        </p:nvSpPr>
        <p:spPr>
          <a:xfrm>
            <a:off x="539640" y="765000"/>
            <a:ext cx="66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КИСЛОРОД.</a:t>
            </a:r>
            <a:br>
              <a:rPr sz="5400"/>
            </a:b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def5fa"/>
              </a:solidFill>
              <a:latin typeface="Calibri"/>
            </a:endParaRPr>
          </a:p>
        </p:txBody>
      </p:sp>
      <p:pic>
        <p:nvPicPr>
          <p:cNvPr id="1071" name="Содержимое 11" descr="07.JPG"/>
          <p:cNvPicPr/>
          <p:nvPr/>
        </p:nvPicPr>
        <p:blipFill>
          <a:blip r:embed="rId2"/>
          <a:stretch/>
        </p:blipFill>
        <p:spPr>
          <a:xfrm>
            <a:off x="3429000" y="2637000"/>
            <a:ext cx="4815000" cy="27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1"/>
          <p:cNvSpPr/>
          <p:nvPr/>
        </p:nvSpPr>
        <p:spPr>
          <a:xfrm>
            <a:off x="1150920" y="30240"/>
            <a:ext cx="77929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Применение кислород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Жидкий кислород — мощный окислитель, его используют как компонент ракетного топли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Используют как взрывчатые веще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Основные количества получаемого из воздуха кислорода используются в металлур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Кислород используют при резке и сварке металл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В медицине кислород служит для облегчения затрудненного дыхания. Кислородные маски необходимы в высотных полетах, в космосе и при работе под вод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9" name="Picture 3" descr=""/>
          <p:cNvPicPr/>
          <p:nvPr/>
        </p:nvPicPr>
        <p:blipFill>
          <a:blip r:embed="rId1"/>
          <a:stretch/>
        </p:blipFill>
        <p:spPr>
          <a:xfrm>
            <a:off x="3851280" y="5157720"/>
            <a:ext cx="3960720" cy="9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Решите проблем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Осуществимы ли     жизненные процессы на Земле без  кислорода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2" name="Picture 6" descr="Зелёно-голубая планета в руке"/>
          <p:cNvPicPr/>
          <p:nvPr/>
        </p:nvPicPr>
        <p:blipFill>
          <a:blip r:embed="rId1"/>
          <a:stretch/>
        </p:blipFill>
        <p:spPr>
          <a:xfrm>
            <a:off x="4716360" y="2924280"/>
            <a:ext cx="442764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1"/>
          <p:cNvSpPr/>
          <p:nvPr/>
        </p:nvSpPr>
        <p:spPr>
          <a:xfrm>
            <a:off x="115092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Text Box 2"/>
          <p:cNvSpPr/>
          <p:nvPr/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7030a0"/>
                </a:solidFill>
                <a:latin typeface="Tahoma"/>
              </a:rPr>
              <a:t>Кислород — основной биогенный элемент, входящий в состав молекул всех важнейших веществ, обеспечивающих структуру и функции клеток — белков, нуклеиновых кислот, углеводов, липидов, а также множества низкомолекулярных соединени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В результате процесса фотосинтеза масса кислорода в воздухе пополняетс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Кислород является окислителем многих химических веществ как в живой, так и в неживой  природ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882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ИСЛОРОД- ЭТО ЖИЗНЬ НА ПЛАНЕТЕ ЗЕМЛ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СТАВ ВОЗДУХ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В состав воздуха входят азот (78%), кислород (21%), инертные газы     (0, 94%); углекислый газ, водяные пары, примес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Получают кислород при разложении кислородсодержащих вещ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Кислород – окислител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Озон – обеззараживающее веществ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Кислород – жизненоважный элемент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8" name="Picture 7" descr="http://viki.rdf.ru/media/upload/preview/O_vozduhe.jpg"/>
          <p:cNvPicPr/>
          <p:nvPr/>
        </p:nvPicPr>
        <p:blipFill>
          <a:blip r:embed="rId1"/>
          <a:stretch/>
        </p:blipFill>
        <p:spPr>
          <a:xfrm>
            <a:off x="108000" y="1844640"/>
            <a:ext cx="504036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 Box 1"/>
          <p:cNvSpPr/>
          <p:nvPr/>
        </p:nvSpPr>
        <p:spPr>
          <a:xfrm>
            <a:off x="1042920" y="333360"/>
            <a:ext cx="77932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СТ ПО ТЕМЕ «КИСЛОРОД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Text Box 2"/>
          <p:cNvSpPr/>
          <p:nvPr/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.Аллотропными видоизменениями являются:                          а) фосфор и азот; б) азот и кислород;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в)озон и кислород); г) азот и оз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.Значение озонового слоя для жизни на Земле заключается в том, что он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а) задерживает ультрафиолетовое  излучен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б) обладает бактерицидным действие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в) предохраняет поверхность Земли от перегре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г) задерживает поток мелких метеори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3 .Объем каждого  газа: азота и кислорода  -  в 100 л воздуха составляет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а)10 л и 60 л,  б)78 л и 21 л , в) 56 л и 25 л, г)90 л и 10 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Text Box 1"/>
          <p:cNvSpPr/>
          <p:nvPr/>
        </p:nvSpPr>
        <p:spPr>
          <a:xfrm>
            <a:off x="115092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№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Text Box 2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.  Первым состав воздуха установ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а)  М.В.Ломоносов;    б) К.Шееле;                                                      в) А.Лавуазье;           г) Д.И.Менделеев.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5.  К  переменным составным частям воздуха относя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а) инертные газы;     б) азот и кислоро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в) примеси;               г) углекислый газ и водяные па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6. При сгорании натрия в кислороде образуе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а) пероксид  натрия;  б) оксид натр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в) карбонат натрия;   в) гидроксид натрия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7929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Провер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ть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отве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. Аллотропными видоизменениями являютс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в) озон и кислород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2. Значение озонового слоя для жизни на Земле заключается в том, что он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а) задерживает ультрафиолетовое  излучение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3. Объем каждого  газа: азота и кислорода  -  в 100 л воздуха составляет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б)78 л и 21 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Rectangle 3"/>
          <p:cNvSpPr/>
          <p:nvPr/>
        </p:nvSpPr>
        <p:spPr>
          <a:xfrm>
            <a:off x="720720" y="3780000"/>
            <a:ext cx="766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 Первым состав воздуха установил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в) А.Лавуазье;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.  К  переменным составным частям воздуха относятся: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г) углекислый газ и водяные па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. При сгорании натрия в кислороде образуетс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а) пероксид  натрия.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150560" y="347760"/>
            <a:ext cx="7792920" cy="14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Провер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ть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отве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.  Первым состав воздуха установил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в) А.Лавуазье;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5.  К  переменным составным частям воздуха относятся: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г) углекислый газ и водяные пар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6. При сгорании натрия в кислороде образуетс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а) пероксид  натрия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xt Box 1"/>
          <p:cNvSpPr/>
          <p:nvPr/>
        </p:nvSpPr>
        <p:spPr>
          <a:xfrm>
            <a:off x="115092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адан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 на самоподготовку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готовить презентацию на тему «СПАСЕМ НАШУ ПЛАНЕТУ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.Выучить параграф 15,                                        вопрос 2,3 письмен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1"/>
          <p:cNvSpPr/>
          <p:nvPr/>
        </p:nvSpPr>
        <p:spPr>
          <a:xfrm>
            <a:off x="1222200" y="0"/>
            <a:ext cx="79218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ур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Text Box 2"/>
          <p:cNvSpPr/>
          <p:nvPr/>
        </p:nvSpPr>
        <p:spPr>
          <a:xfrm>
            <a:off x="971640" y="1844640"/>
            <a:ext cx="817236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. Изучить состав возду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. Ознакомиться с понятиями «аллотроп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аллотропные видоизменени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. Исследовать  способы получения и свойства кислорода и оз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Показать роль аллотропных модификаций  кислорода в живой и неживой прир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Text Box 1"/>
          <p:cNvSpPr/>
          <p:nvPr/>
        </p:nvSpPr>
        <p:spPr>
          <a:xfrm>
            <a:off x="1187280" y="260280"/>
            <a:ext cx="7577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Аллотропия.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Аллотропные видоизмен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Text Box 2"/>
          <p:cNvSpPr/>
          <p:nvPr/>
        </p:nvSpPr>
        <p:spPr>
          <a:xfrm>
            <a:off x="755640" y="1989000"/>
            <a:ext cx="777240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Аллотропия – явление существования химического элемента  в виде нескольких простых веществ.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Молекулярный кислород - О</a:t>
            </a:r>
            <a:r>
              <a:rPr b="0" lang="en-GB" sz="2400" spc="-1" strike="noStrike" baseline="-21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и  озон – О</a:t>
            </a:r>
            <a:r>
              <a:rPr b="0" lang="en-GB" sz="2400" spc="-1" strike="noStrike" baseline="-21000">
                <a:solidFill>
                  <a:srgbClr val="000000"/>
                </a:solidFill>
                <a:latin typeface="Tahoma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Аллотропные видоизменения (модификации) – простые вещества, образованные атомами одного и того химического элемен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3"/>
              <p:cNvSpPr txBox="1"/>
              <p:nvPr/>
            </p:nvSpPr>
            <p:spPr>
              <a:xfrm>
                <a:off x="4527720" y="3301920"/>
                <a:ext cx="885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Group 1"/>
          <p:cNvGrpSpPr/>
          <p:nvPr/>
        </p:nvGrpSpPr>
        <p:grpSpPr>
          <a:xfrm>
            <a:off x="179280" y="2421000"/>
            <a:ext cx="7666200" cy="4083120"/>
            <a:chOff x="179280" y="2421000"/>
            <a:chExt cx="7666200" cy="4083120"/>
          </a:xfrm>
        </p:grpSpPr>
        <p:sp>
          <p:nvSpPr>
            <p:cNvPr id="1079" name="AutoShape 2"/>
            <p:cNvSpPr/>
            <p:nvPr/>
          </p:nvSpPr>
          <p:spPr>
            <a:xfrm>
              <a:off x="179280" y="2421000"/>
              <a:ext cx="7666200" cy="408312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Oval 3"/>
            <p:cNvSpPr/>
            <p:nvPr/>
          </p:nvSpPr>
          <p:spPr>
            <a:xfrm>
              <a:off x="2583720" y="2947680"/>
              <a:ext cx="3609360" cy="1186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Составные части воздух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1" name="Oval 4"/>
            <p:cNvSpPr/>
            <p:nvPr/>
          </p:nvSpPr>
          <p:spPr>
            <a:xfrm>
              <a:off x="179280" y="4528080"/>
              <a:ext cx="2706120" cy="1053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Постоянны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2" name="Oval 5"/>
            <p:cNvSpPr/>
            <p:nvPr/>
          </p:nvSpPr>
          <p:spPr>
            <a:xfrm>
              <a:off x="2883600" y="5186880"/>
              <a:ext cx="2555280" cy="1053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Временны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3" name="Oval 6"/>
            <p:cNvSpPr/>
            <p:nvPr/>
          </p:nvSpPr>
          <p:spPr>
            <a:xfrm>
              <a:off x="5290200" y="4528080"/>
              <a:ext cx="2554920" cy="1053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Примес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4" name="Line 7"/>
            <p:cNvSpPr/>
            <p:nvPr/>
          </p:nvSpPr>
          <p:spPr>
            <a:xfrm flipH="1">
              <a:off x="1977840" y="4001400"/>
              <a:ext cx="1212480" cy="52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5" name="Line 8"/>
            <p:cNvSpPr/>
            <p:nvPr/>
          </p:nvSpPr>
          <p:spPr>
            <a:xfrm>
              <a:off x="5441040" y="4001400"/>
              <a:ext cx="1202760" cy="52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6" name="Line 9"/>
            <p:cNvSpPr/>
            <p:nvPr/>
          </p:nvSpPr>
          <p:spPr>
            <a:xfrm>
              <a:off x="4237560" y="4133160"/>
              <a:ext cx="1080" cy="105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Состав воздух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Object 11"/>
              <p:cNvSpPr txBox="1"/>
              <p:nvPr/>
            </p:nvSpPr>
            <p:spPr>
              <a:xfrm>
                <a:off x="3851280" y="5734080"/>
                <a:ext cx="914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89" name="Picture 13" descr=""/>
          <p:cNvPicPr/>
          <p:nvPr/>
        </p:nvPicPr>
        <p:blipFill>
          <a:blip r:embed="rId1"/>
          <a:stretch/>
        </p:blipFill>
        <p:spPr>
          <a:xfrm>
            <a:off x="1042920" y="4941720"/>
            <a:ext cx="1206720" cy="4827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4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1549440" cy="5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Получение кислород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ff"/>
                </a:solidFill>
                <a:latin typeface="Tahoma"/>
              </a:rPr>
              <a:t>Английский ученый Джозеф Пристли</a:t>
            </a:r>
            <a:r>
              <a:rPr b="0" lang="en-GB" sz="3200" spc="-1" strike="noStrike">
                <a:solidFill>
                  <a:srgbClr val="00cc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(1733 – 1804)</a:t>
            </a:r>
            <a:r>
              <a:rPr b="0" lang="en-GB" sz="32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ff"/>
                </a:solidFill>
                <a:latin typeface="Tahoma"/>
              </a:rPr>
              <a:t>в 1774 г. разложение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ff"/>
                </a:solidFill>
                <a:latin typeface="Tahoma"/>
              </a:rPr>
              <a:t>оксида ртути(II) получил кислород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ff"/>
                </a:solidFill>
                <a:latin typeface="Tahoma"/>
              </a:rPr>
              <a:t>и изучил его свойства.</a:t>
            </a:r>
            <a:r>
              <a:rPr b="0" lang="en-GB" sz="3600" spc="-1" strike="noStrike">
                <a:solidFill>
                  <a:srgbClr val="00cc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cc00cc"/>
                </a:solidFill>
                <a:latin typeface="Tahoma"/>
              </a:rPr>
              <a:t>   </a:t>
            </a:r>
            <a:r>
              <a:rPr b="0" lang="en-GB" sz="3600" spc="-1" strike="noStrike">
                <a:solidFill>
                  <a:srgbClr val="cc00cc"/>
                </a:solidFill>
                <a:latin typeface="Tahoma"/>
              </a:rPr>
              <a:t>2 HgO      </a:t>
            </a:r>
            <a:r>
              <a:rPr b="0" lang="en-GB" sz="1000" spc="-1" strike="noStrike">
                <a:solidFill>
                  <a:srgbClr val="cc00cc"/>
                </a:solidFill>
                <a:latin typeface="Tahoma"/>
              </a:rPr>
              <a:t>t</a:t>
            </a:r>
            <a:r>
              <a:rPr b="0" lang="en-GB" sz="3600" spc="-1" strike="noStrike">
                <a:solidFill>
                  <a:srgbClr val="cc00cc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cc00cc"/>
                </a:solidFill>
                <a:latin typeface="Tahoma"/>
              </a:rPr>
              <a:t>  </a:t>
            </a:r>
            <a:r>
              <a:rPr b="0" lang="en-GB" sz="3600" spc="-1" strike="noStrike">
                <a:solidFill>
                  <a:srgbClr val="cc00cc"/>
                </a:solidFill>
                <a:latin typeface="Tahoma"/>
              </a:rPr>
              <a:t>  2Hg + O</a:t>
            </a:r>
            <a:r>
              <a:rPr b="0" lang="en-GB" sz="1000" spc="-1" strike="noStrike">
                <a:solidFill>
                  <a:srgbClr val="cc00cc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en-GB" sz="1600" spc="-1" strike="noStrike">
                <a:solidFill>
                  <a:srgbClr val="ff66ff"/>
                </a:solidFill>
                <a:latin typeface="Tahoma"/>
              </a:rPr>
              <a:t>оксид ртути(II)                           ртуть         кислор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3" name="Picture 3" descr=""/>
          <p:cNvPicPr/>
          <p:nvPr/>
        </p:nvPicPr>
        <p:blipFill>
          <a:blip r:embed="rId1"/>
          <a:stretch/>
        </p:blipFill>
        <p:spPr>
          <a:xfrm>
            <a:off x="7020000" y="3789360"/>
            <a:ext cx="1911240" cy="2219400"/>
          </a:xfrm>
          <a:prstGeom prst="rect">
            <a:avLst/>
          </a:prstGeom>
          <a:ln w="0">
            <a:noFill/>
          </a:ln>
        </p:spPr>
      </p:pic>
      <p:sp>
        <p:nvSpPr>
          <p:cNvPr id="1094" name="Line 4"/>
          <p:cNvSpPr/>
          <p:nvPr/>
        </p:nvSpPr>
        <p:spPr>
          <a:xfrm>
            <a:off x="3419640" y="4797360"/>
            <a:ext cx="1008000" cy="1800"/>
          </a:xfrm>
          <a:prstGeom prst="line">
            <a:avLst/>
          </a:prstGeom>
          <a:ln w="936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Line 5"/>
          <p:cNvSpPr/>
          <p:nvPr/>
        </p:nvSpPr>
        <p:spPr>
          <a:xfrm flipV="1">
            <a:off x="6804000" y="4431960"/>
            <a:ext cx="1440" cy="514440"/>
          </a:xfrm>
          <a:prstGeom prst="line">
            <a:avLst/>
          </a:prstGeom>
          <a:ln w="936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Text Box 1"/>
          <p:cNvSpPr/>
          <p:nvPr/>
        </p:nvSpPr>
        <p:spPr>
          <a:xfrm>
            <a:off x="1187280" y="266760"/>
            <a:ext cx="795672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                  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Лабораторный опыт.</a:t>
            </a: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GB" sz="2800" spc="-1" strike="noStrike">
                <a:solidFill>
                  <a:srgbClr val="333399"/>
                </a:solidFill>
                <a:latin typeface="Tahoma"/>
              </a:rPr>
              <a:t>Получение кислорода     разложением           </a:t>
            </a:r>
            <a:r>
              <a:rPr b="1" i="1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ahoma"/>
              </a:rPr>
              <a:t>пероксида водорода.</a:t>
            </a:r>
            <a:br>
              <a:rPr sz="2800"/>
            </a:br>
            <a:br>
              <a:rPr sz="2800"/>
            </a:b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Цель: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1.     получить  кислород разложением пероксида водорода ;</a:t>
            </a:r>
            <a:br>
              <a:rPr sz="2000"/>
            </a:b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2.     доказать наличие кислорода 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Text Box 2"/>
          <p:cNvSpPr/>
          <p:nvPr/>
        </p:nvSpPr>
        <p:spPr>
          <a:xfrm>
            <a:off x="539640" y="2997360"/>
            <a:ext cx="802800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Ход раб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.     Получение  кислорода  разложением пероксида водорода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.                                                                         В пробирку с пероксидом водорода добавьте катализатор – оксид марганца (IV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ahoma"/>
              </a:rPr>
              <a:t>2.     Доказательство наличия кислорода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                    В пробирку с выделавшимся в результате реакции кислородом поместите тлеющую лучину ( для этого лучину подожгите в пламени спиртовки, а затем погасите ее).     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Что наблюдается в результате реакции? Какие выводы можно сделать?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4800" indent="-60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4800"/>
                <a:tab algn="l" pos="1052640"/>
                <a:tab algn="l" pos="1501920"/>
                <a:tab algn="l" pos="1951200"/>
                <a:tab algn="l" pos="2400480"/>
                <a:tab algn="l" pos="2849400"/>
                <a:tab algn="l" pos="3298680"/>
                <a:tab algn="l" pos="3747960"/>
                <a:tab algn="l" pos="4197240"/>
                <a:tab algn="l" pos="4646520"/>
                <a:tab algn="l" pos="5095800"/>
                <a:tab algn="l" pos="5545080"/>
                <a:tab algn="l" pos="5994360"/>
                <a:tab algn="l" pos="6443640"/>
                <a:tab algn="l" pos="6892920"/>
                <a:tab algn="l" pos="7342200"/>
                <a:tab algn="l" pos="7791480"/>
                <a:tab algn="l" pos="8240760"/>
                <a:tab algn="l" pos="8690040"/>
                <a:tab algn="l" pos="9139320"/>
                <a:tab algn="l" pos="95886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Text Box 1"/>
          <p:cNvSpPr/>
          <p:nvPr/>
        </p:nvSpPr>
        <p:spPr>
          <a:xfrm>
            <a:off x="115092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Text Box 2"/>
          <p:cNvSpPr/>
          <p:nvPr/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В результате лабораторной работы при разложении пероксида водорода наблюдали выделение кислор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 Н</a:t>
            </a:r>
            <a:r>
              <a:rPr b="0" lang="en-GB" sz="2400" spc="-1" strike="noStrike" baseline="-21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en-GB" sz="2400" spc="-1" strike="noStrike" baseline="-21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=2 Н</a:t>
            </a:r>
            <a:r>
              <a:rPr b="0" lang="en-GB" sz="2400" spc="-1" strike="noStrike" baseline="-21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О + О</a:t>
            </a:r>
            <a:r>
              <a:rPr b="0" lang="en-GB" sz="2400" spc="-1" strike="noStrike" baseline="-21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Доказали наличие кислорода по возгоранию тлеющей луч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0" name="Picture 3" descr=""/>
          <p:cNvPicPr/>
          <p:nvPr/>
        </p:nvPicPr>
        <p:blipFill>
          <a:blip r:embed="rId1"/>
          <a:stretch/>
        </p:blipFill>
        <p:spPr>
          <a:xfrm>
            <a:off x="7236000" y="4941720"/>
            <a:ext cx="1457280" cy="11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 Box 1"/>
          <p:cNvSpPr/>
          <p:nvPr/>
        </p:nvSpPr>
        <p:spPr>
          <a:xfrm>
            <a:off x="1150920" y="214200"/>
            <a:ext cx="779292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Свойства кислород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Го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Медленное окисл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3" name="Picture 4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4873680" cy="320040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7" descr="http://i.sakh.name/m/7/4/7451d51c51aec0d147e625ddf272fd1f.jpg"/>
          <p:cNvPicPr/>
          <p:nvPr/>
        </p:nvPicPr>
        <p:blipFill>
          <a:blip r:embed="rId2"/>
          <a:stretch/>
        </p:blipFill>
        <p:spPr>
          <a:xfrm>
            <a:off x="6084720" y="1268280"/>
            <a:ext cx="3059280" cy="45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Свойства кислоро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Выполните зада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оставьте уравнения реакц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при которых из простых веществ образуются сложные вещества,формулы которых С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химия</dc:creator>
  <dc:description/>
  <dc:language>en-US</dc:language>
  <cp:lastModifiedBy>ЖАННА</cp:lastModifiedBy>
  <dcterms:modified xsi:type="dcterms:W3CDTF">2013-04-27T10:05:23Z</dcterms:modified>
  <cp:revision>19</cp:revision>
  <dc:subject/>
  <dc:title>КИСЛОРОД.ОЗОН.ВОЗДУХ.</dc:title>
</cp:coreProperties>
</file>