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64E-4CC8-43E2-B94C-275008AD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2E9-7AA2-4430-93D2-67E9B044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BD1-751E-43E9-8ACC-0F74B72E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3DB-ED1A-4130-B7F8-B0553560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ACF-36F6-4E55-9AF3-17965276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5861-3B72-4EAC-A086-B4936F0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08DF-4AB0-4033-BF19-001DA697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2635-4430-447D-94F6-4ECC140B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6833-2ACA-41BE-810D-48D57068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AFCF-03A3-4FA5-AD20-4D8ABC0B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5D6D-FB2B-4658-820A-FDA7FCF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65D-19BB-4DFD-A34D-C5C80850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DF20-5EE0-4A19-B3D3-294669F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40A7-F0F6-4AC2-90F1-592CDAF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2D13-8227-48D9-A3FC-474BB0C1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80E7-42C8-4AFD-A469-3FCA16FB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A758-B143-4200-9F97-93A3253A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EA1-0938-405A-B3FA-A36D54E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897-6A51-4320-B7CD-F7DE875D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A94-154D-4789-B0B5-2DCD5278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1B9-C5C5-4C6B-85E3-152ADF54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9F9-287D-4414-AA0A-09CE553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08E-2F95-4224-858C-8BA6F83C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F7A-2A86-4236-A7D3-F917190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1D45-D597-4F8A-B6BC-4E6DE5907B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552B-E089-4F37-ABD5-DC7B90358C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349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одель выпускника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268360" y="260280"/>
            <a:ext cx="6624720" cy="659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сосредоточить свое внимание на предполагаемом материале, действовать в соответствии с указанием педаг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ение активности и интереса к учебной деятельности, к окружающему ми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к овладению новыми знаниями, умениями, навы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интересованность в положительной оценке результатов свое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ность к постановке вопросов и самостоятельному поиску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411280" y="404640"/>
            <a:ext cx="6337440" cy="6048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ие морфофункциональных особенностей нормативам физическ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двигательных и моторных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ая работоспособ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но-гигиенические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2411280" y="404640"/>
            <a:ext cx="6624720" cy="619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ум, 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строить отношения со взрослыми и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управлять своим поведением, подчинятся установленным правил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циплинированность, умение вести себя в общественных мес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ожелательность в отношениях с людьми, желание помочь сверстн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ованность, аккуратность, опр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411280" y="404640"/>
            <a:ext cx="6553440" cy="604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Сформированность образ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Понимание и использование в своей деятельности различных схематических изоб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лана, макета, простейшего чертеж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Правильное звукопроизношение, фонематический слух, речь (достаточный словарный запа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Формирование эстетического в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Применяет оригинальные способы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49849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660720" y="2205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294160" y="97956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креа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013440" y="155592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52360" y="14112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сообраз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477440" y="24192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564160" y="2924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6c03"/>
                </a:solidFill>
                <a:latin typeface="Arial"/>
              </a:rPr>
              <a:t>доброжел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5365080" y="3860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здор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108360" y="35002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муникаб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1620000" y="45086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а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6878880" y="3500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толеран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1332720" y="52275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быс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6013080" y="47959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ынос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6089760" y="5608800"/>
            <a:ext cx="1715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усидч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9"/>
          <p:cNvSpPr/>
          <p:nvPr/>
        </p:nvSpPr>
        <p:spPr>
          <a:xfrm>
            <a:off x="4284720" y="3213000"/>
            <a:ext cx="431640" cy="360360"/>
          </a:xfrm>
          <a:custGeom>
            <a:avLst/>
            <a:gdLst>
              <a:gd name="textAreaLeft" fmla="*/ 100440 w 431640"/>
              <a:gd name="textAreaRight" fmla="*/ 330840 w 4316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267120" y="-100080"/>
            <a:ext cx="84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ыпускник детского сада «Медвежо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3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0:46:38Z</dcterms:created>
  <dc:creator>09</dc:creator>
  <dc:description/>
  <dc:language>en-US</dc:language>
  <cp:lastModifiedBy>Надежда</cp:lastModifiedBy>
  <dcterms:modified xsi:type="dcterms:W3CDTF">2013-04-27T04:32:57Z</dcterms:modified>
  <cp:revision>6</cp:revision>
  <dc:subject/>
  <dc:title>Модель выпускника</dc:title>
</cp:coreProperties>
</file>