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682-FB01-4165-ADDC-01A86FCC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72B-52CD-40A1-A35D-C00EE5B4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83B-FFEB-4D6C-88A2-DAA68F98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AFE-4A8B-4852-B840-B29624CF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B554-2B30-4B4B-8EC0-4CFC81F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BD70-BC06-4F24-B3CB-758FDE7E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F3E5-BBDC-46E4-8E51-4C5EC2F8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2BCE-0869-4EA9-A46D-985F659A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F3A1-FF7D-4005-8EC0-9DC7147E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AE98-CFED-43C0-B7AA-572D81D4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0264-311D-4309-8875-E0534864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2A5-FF1C-4FE1-BEEB-1A3E8195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2BF1-19F1-4E68-8E3F-96DAE8C2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EB5-0EC3-4D85-BD4B-E96C38C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D97F-992A-4B74-A52A-31C3AE6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EF59-E857-4367-944F-CF941DD9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F1F1-E28B-44A3-A94D-B8AFA31A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515-444F-4538-A07A-F8C5B55D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F4B-4256-46BA-9CF3-DC2545B1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7AC-9F22-43A2-8E7A-1B17E53F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AFD-0CC5-4A39-9741-6F573FEB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04A-B3BD-48CE-8665-23341BA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138-CDF7-4883-81F1-932C2CE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CC2-854C-46F5-A853-265D6E1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D3BD-E65A-47C1-9297-B891CA865A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5EA-932D-4FBC-BEE0-5CB3A4D647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3497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Модель выпускника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68360" y="260280"/>
            <a:ext cx="6624720" cy="659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ват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сосредоточить свое внимание на предполагаемом материале, действовать в соответствии с указанием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явление активности и интереса к учебной деятельности, к окружающему ми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мление к овладению новыми знаниями, умениями, навы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интересованность в положительной оценке результатов сво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ность к постановке вопросов и самостоятельному поиску отв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2411280" y="404640"/>
            <a:ext cx="6337440" cy="6048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тветствие морфофункциональных особенностей нормативам физическ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е двигательных и моторных нав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ческая работоспособ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но-гигиенические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2411280" y="404640"/>
            <a:ext cx="6624720" cy="6193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циум, 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строить отношения со взрослы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управлять своим поведением, подчинятся установленным правил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циплинированность, умение вести себя в общественных мес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брожелательность в отношениях с людьми, желание помочь сверстн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ованность, аккуратность, опря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411280" y="404640"/>
            <a:ext cx="6553440" cy="604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Сформированность образ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Понимание и использование в своей деятельности различных схематических изоб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лана, макета, простейшего чертеж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Правильное звукопроизношение, фонематический слух, речь (достаточный словарный запа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Формирование эстетического в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Применяет оригинальные способы решения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498492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6660720" y="220500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м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94160" y="97956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креа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013440" y="15559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твор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52360" y="14112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сообраз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477440" y="24192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5564160" y="2924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6c03"/>
                </a:solidFill>
                <a:latin typeface="Arial"/>
              </a:rPr>
              <a:t>доброжел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365080" y="3860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здоро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08360" y="35002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оммуникаб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1620000" y="45086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ff"/>
                </a:solidFill>
                <a:latin typeface="Arial"/>
              </a:rPr>
              <a:t>актив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6878880" y="35002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ff"/>
                </a:solidFill>
                <a:latin typeface="Arial"/>
              </a:rPr>
              <a:t>толеран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1332720" y="52275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быстр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6013080" y="47959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ыносл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6089760" y="5608800"/>
            <a:ext cx="1715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усидч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9"/>
          <p:cNvSpPr/>
          <p:nvPr/>
        </p:nvSpPr>
        <p:spPr>
          <a:xfrm>
            <a:off x="4284720" y="3213000"/>
            <a:ext cx="431640" cy="360360"/>
          </a:xfrm>
          <a:custGeom>
            <a:avLst/>
            <a:gdLst>
              <a:gd name="textAreaLeft" fmla="*/ 100440 w 431640"/>
              <a:gd name="textAreaRight" fmla="*/ 330840 w 431640"/>
              <a:gd name="textAreaTop" fmla="*/ 37800 h 360360"/>
              <a:gd name="textAreaBottom" fmla="*/ 228240 h 360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3"/>
          <p:cNvSpPr/>
          <p:nvPr/>
        </p:nvSpPr>
        <p:spPr>
          <a:xfrm>
            <a:off x="267120" y="-100080"/>
            <a:ext cx="84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ыпускник детского сада «Медвежо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0:46:38Z</dcterms:created>
  <dc:creator>09</dc:creator>
  <dc:description/>
  <dc:language>en-US</dc:language>
  <cp:lastModifiedBy>Надежда</cp:lastModifiedBy>
  <dcterms:modified xsi:type="dcterms:W3CDTF">2013-04-27T04:32:57Z</dcterms:modified>
  <cp:revision>6</cp:revision>
  <dc:subject/>
  <dc:title>Модель выпускника</dc:title>
</cp:coreProperties>
</file>