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73F-A867-4C5D-99D0-9AA8C8DA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276-5A94-46D8-B686-4D622CFA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2F5-A097-45CC-824E-EA1F49BB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63A-B16F-4CFC-9B86-1D301FA2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58D-839C-4DF4-9552-BE9D1B56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272-268B-486F-A25C-64741A10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052-BC00-4FDD-B969-46E41A8A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D3B-6160-43E8-9B8B-58323D7C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0DD-AA06-4469-ADC8-2332068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5B9-77B8-4A46-BFB3-42BF411C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93A-BB9E-40A5-8AB0-286601D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076-7839-41FA-8A86-0437704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70C6-16AE-4A37-9B39-0B08C1EBC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66"/>
                </a:solidFill>
                <a:latin typeface="Arial"/>
              </a:rPr>
              <a:t>Презентация на тему: «Квиллин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29800" y="630864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: Новикова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ил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3178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агокручение (также квиллинг англ. quilling — от слова quill (птичье перо) — искусство изготовления плоских или объемных композиций из скрученных в спиральки длинных и узких полосок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43416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квилл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180036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9857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299088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148360" y="393372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ё вдохнов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27280" y="1413000"/>
            <a:ext cx="3889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каким критериям я делала 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7" name="_s7182"/>
            <p:cNvCxnSpPr>
              <a:stCxn id="58" idx="0"/>
              <a:endCxn id="59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7181"/>
            <p:cNvCxnSpPr>
              <a:stCxn id="61" idx="0"/>
              <a:endCxn id="59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7180"/>
            <p:cNvCxnSpPr>
              <a:stCxn id="63" idx="0"/>
              <a:endCxn id="59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7176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о изображ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177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ригина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178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Яр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7179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терес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38480" cy="401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038840" cy="4012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cfa"/>
            </a:gs>
            <a:gs pos="100000">
              <a:srgbClr val="b80c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тов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63640" y="1413000"/>
            <a:ext cx="5554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ladimir Script"/>
              </a:rPr>
              <a:t>The End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ladimi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8:20:26Z</dcterms:created>
  <dc:creator>нету</dc:creator>
  <dc:description/>
  <dc:language>en-US</dc:language>
  <cp:lastModifiedBy>нету</cp:lastModifiedBy>
  <dcterms:modified xsi:type="dcterms:W3CDTF">2012-05-21T19:04:22Z</dcterms:modified>
  <cp:revision>2</cp:revision>
  <dc:subject/>
  <dc:title>Презентация на тему: «Квиллинг»</dc:title>
</cp:coreProperties>
</file>