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7BA-BDAE-4CF1-9E35-BE2A6379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90D-91C5-41F7-BFC3-BE6BDB7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5E3-8495-43D9-834D-D4E221BE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354-AC5F-4709-963D-BD4E4C87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6E3-3213-4CEE-AD11-C03C8731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56E-296A-45FC-9CF7-1F7B8E4A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6B8-1D43-4149-A489-C0C6C0C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346-1E59-426B-96B7-B2C6DAC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CF7D-523F-4E07-B249-8935D494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291-79BE-4223-ADDF-CCC6A8D2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11C-274F-44AC-AF20-709BAF6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68B-BADD-43A3-A2F3-1B82EC8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ACF3-59FA-4E78-9509-104A5E2AE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66"/>
                </a:solidFill>
                <a:latin typeface="Arial"/>
              </a:rPr>
              <a:t>Презентация на тему: «Квиллин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29800" y="630864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втор: Новикова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ил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3178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магокручение (также квиллинг англ. quilling — от слова quill (птичье перо) — искусство изготовления плоских или объемных композиций из скрученных в спиральки длинных и узких полосок бум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43416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квиллин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1800360" cy="237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98576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299088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148360" y="393372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ё вдохнов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27280" y="1413000"/>
            <a:ext cx="3889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каким критериям я делала 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7" name="_s7182"/>
            <p:cNvCxnSpPr>
              <a:stCxn id="58" idx="0"/>
              <a:endCxn id="59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7181"/>
            <p:cNvCxnSpPr>
              <a:stCxn id="61" idx="0"/>
              <a:endCxn id="59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7180"/>
            <p:cNvCxnSpPr>
              <a:stCxn id="63" idx="0"/>
              <a:endCxn id="59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9" name="_s7176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то изображ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7177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ригина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7178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Яр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7179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терес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d6009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38480" cy="4012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038840" cy="4012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cfa"/>
            </a:gs>
            <a:gs pos="100000">
              <a:srgbClr val="b80c1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тов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63640" y="1413000"/>
            <a:ext cx="5554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ladimir Script"/>
              </a:rPr>
              <a:t>The End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Vladimir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8:20:26Z</dcterms:created>
  <dc:creator>нету</dc:creator>
  <dc:description/>
  <dc:language>en-US</dc:language>
  <cp:lastModifiedBy>нету</cp:lastModifiedBy>
  <dcterms:modified xsi:type="dcterms:W3CDTF">2012-05-21T19:04:22Z</dcterms:modified>
  <cp:revision>2</cp:revision>
  <dc:subject/>
  <dc:title>Презентация на тему: «Квиллинг»</dc:title>
</cp:coreProperties>
</file>