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5DE-655A-4189-93E6-DD12FC9A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B38-CE52-4322-8BEE-5F59834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274-A7E3-4FE4-B824-DC684662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19E-2BB2-4C63-8943-59B1C21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BD7-16A4-4F4E-97E5-61B2BEC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E29-4B29-49D9-A321-591E08B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383-F6FE-4C5B-A830-29919EC2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C97-F1EC-44E6-A3F2-3CCC50B7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171-CD00-467B-87A0-191C1F74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B09-CB2C-40C9-85CB-380D5E7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5C8-2A94-4A47-A4F3-905BC93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0FA-50B4-429F-9624-C72035B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FC5-CBE7-4FA0-AFED-BB9CF148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ереплетение фамил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985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выполнил: Гаврил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ник 8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БОУ г. Иркутска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оводитель: Преображенская Л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510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ацлав Ян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Евгений Вацлав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́цлав Я́нович Дворже́цкий (3 августа 1910, Киев - 11 апреля 1993, Нижний Новгород) - советский актёр театра и кино, народный артист РСФСР (199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́ний Ва́цлавович Дворже́цкий (12 июля 1960 - 1 декабря 1999) - советский и российский актёр театра и ки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801800" cy="1451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75480" y="2529000"/>
            <a:ext cx="18572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заков Михаил Михай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заков Кирилл Михай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хаил Михайлович Козаков (14 октября 1934, Ленинград, РСФСР, СССР - 22 апреля 2011, Рамат-Ган, Израиль) советский, российский и израильский режиссёр, актёр театра и ки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 Михайлович Козаков (2 ноября 1962, Москв) - советский и российский актёр театра и ки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1919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ца Петр Леонид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ца Сергей Петр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ётр Леони́дович Капи́ца (26 июня [8 июля] 1894, Кронштадт - 8 апреля 1984, Москва) - советский физик. Академик АН СССР (1939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́й Петро́вич Капи́ца (14 февраля 1928, Кембридж - 14 августа 2012, Москва) - советский и российский учёный-физик, телеведущий, главный редактор журн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960" y="220500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516720" y="2205000"/>
            <a:ext cx="2097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онов Евгений Пав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онов Андрей Евгенье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́ний Па́влович Лео́нов (2 сентября 1926, Москва, - 29 января 1994, Москва) - советский и российский актёр театра и кино. Народный артист СССР (1978). Лауреат Государственной премии СССР (1976) и Государственной премии Российской Федерации (19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́й Евге́ньевич Лео́нов (род. 15 июня 1959, Москва, СССР) - советский и российский актёр театра и кино. Заслуженный артист Ро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720" y="2349360"/>
            <a:ext cx="1513080" cy="16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77080" y="2381400"/>
            <a:ext cx="17985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052640"/>
          <a:ext cx="8229600" cy="485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хаил Бояр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изавета Боярск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хаи́л Серге́евич Боя́рский (26 декабря 1949, Ленинград) - советский и российский актёр театра и кино, певец, телеведущий, заслуженный артист РСФСР (1984 год), Народный артист РСФСР (1990 год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́та Миха́йловна Боя́рская (род. 20 декабря 1985, Ленинград) - российская актриса театра и кино. Дочь Михаила Боярского и Ларисы Луппиан. Сестра Сергея Боярск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36692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93080" y="1628640"/>
            <a:ext cx="1533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Гордон Бай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а Августа Лавлей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Ноэл Гордон Байрон( 22 января 1788, Дувр - 19 апреля 1824), Миссолунги, Османская Греция) — английский поэт-романтик, покоривший воображение всей Европы своим «мрачным эгоизмом»[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у́ста А́да Кинг (10 декабря 1815, Лондон, Великобритания - 27 ноября 1852, там же) - англичанка-математик, первая женщина-программ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508040" cy="158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165800" y="2565360"/>
            <a:ext cx="1471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52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ель Лилиан Войн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Буль (англ. George Boole; 2 ноября 1815, Линкольн - 8 декабря 1864, Баллинтемпл, графство Корк, Ирландия) - английский математик и лог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́тель Ли́лиан Во́йнич (англ. Ethel Lilian Voynich; 11 мая 1864, Корк, Ирландия - 28 июля 1960, Нью-Йорк, США) - ирландская и английская писательница, компози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2662200"/>
            <a:ext cx="1439640" cy="14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236000" y="2558880"/>
            <a:ext cx="1368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ед и вн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26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кад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йд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ор Гайд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́дий Петро́вич Гайда́р (настоящая фамилия - Го́ликов; 9 (22) января 1904, Льгов, Курская губерния - 26 октября 1941, близ села Лепляво, Каневский район, Черкасская область) - советский детский писатель, участник Гражданской и Великой Отечественной во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́р Тиму́рович Гайда́р (19 марта 1956, Москва, СССР - 16 декабря 2009, Успенское, Одинцовский район, Московская область, Россия) - российский государственный и политический деятель, экономист, доктор экономических на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1720" y="2421000"/>
            <a:ext cx="163512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020000" y="2625840"/>
            <a:ext cx="158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абушка и вн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527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дита Пье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с Пье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ди́та Станисла́вовна Пье́ха ( 31 июля 1937, Нуаэль-су-Ланс, Франция) - выдающаяся советская и российская эстрадная певица (контральто), актриса. Народная артистка СССР (1988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ислав Пятрасович Пье́ха (род. 13 августа 1980 года, Ленинград) - российский певец и поэ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00000" cy="172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75640" y="234936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адед и правн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90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ннибал Абр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Пушк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рагим Петро́вич Ганниба́л («Арап Петра Великого») - российский военный и государственный деятель, прадед (по матери) поэта Александра Пушк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Серге́евич Пу́шкин (26 мая [6 июня] 1799, Москва - 29 января [10 февраля] 1837, Санкт-Петербург) - русский поэт, драматург и проза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04000" y="2276640"/>
            <a:ext cx="1871640" cy="158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1727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м известно, что «на детях великих природа отдыхает». В своей работе мы попытались подобрать известных людей и проследить судьбу их родств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 взят из Вики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3560" y="18864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одственные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ь и дочь (сы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5112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ец и сын (доч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д и внук (вну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Бабушка и внук (вну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773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адед и правн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ть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913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ла Пугаче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стина Орбакай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а Борисовна Пугачёва (р. 15 апреля 1949, Москва, СССР)- советская и российская эстрадная певиц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стина Эдму́ндовна Орбакайте (р. 25 мая 1971, Москва) - советская и российская актриса, эстрадная певиц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35640" y="2276640"/>
            <a:ext cx="2475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ш старш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ш младш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Герберт Уо́кер Буш ( р. 12 июня 1924, Милтон, штат Массачусетс) - 41-й президент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Уо́кер Буш (  6 июля 1946, Нью-Хейвен, штат Коннектикут, США) - американский политик, 43-й президент США в 2001-2009 год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32000" y="2664000"/>
            <a:ext cx="230328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089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5227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Дюма (отец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Дюма (сы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Дюма́ ( 24 июля 1802, Вилле-Котре - 5 декабря 1870, Пюи) - французский писа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Дюма́ (сын)  27 июля 1824, Париж — 27 ноября 1895, Марли-ле-Руа) - французский драматург и прозаи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00360" y="2560680"/>
            <a:ext cx="1800360" cy="166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62920" y="2565360"/>
            <a:ext cx="1512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дрос Кирк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ипп Кирк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ро́с Фили́ппович Кирко́ров (болг. Бедрос Филипов Киркоров; 2 июня 1932, Варна) — болгарский, советский и российский пев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́пп Бедро́сович Кирко́ров ( 30 апреля 1967, Варна, НРБ) - советский и российский эстрадный пев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2114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1513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52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зарев Александр Сергееви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зарев Александр Александр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Сергеевич Лазарев (3 января 1938, Ленинград, РСФСР, СССР - 2 мая 2011, Москва, Российская Федерация[1]) - советский и российский актё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Алекса́ндрович Ла́зарев (младший) (род. 27 апреля 1967, Москва, СССР) - советский и российский актё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93080" y="2670120"/>
            <a:ext cx="1519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125360"/>
          <a:ext cx="8642160" cy="5634360"/>
        </p:xfrm>
        <a:graphic>
          <a:graphicData uri="http://schemas.openxmlformats.org/drawingml/2006/table">
            <a:tbl>
              <a:tblPr/>
              <a:tblGrid>
                <a:gridCol w="4322520"/>
                <a:gridCol w="431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ацлав Ян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ладислав Вацлав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́цлав Янович Дворже́цкий (3 августа 1910, Киев - 11 апреля 1993, Нижний Новгород) - советский актёр театра и кино, народный артист РСФСР (199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слав Ва́цлавович Дворже́цкий (1939-1978) - советский актёр театра и ки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940360" y="2133720"/>
            <a:ext cx="1511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4:31:55Z</dcterms:created>
  <dc:creator>User</dc:creator>
  <dc:description/>
  <dc:language>en-US</dc:language>
  <cp:lastModifiedBy>User</cp:lastModifiedBy>
  <dcterms:modified xsi:type="dcterms:W3CDTF">2013-04-27T14:59:56Z</dcterms:modified>
  <cp:revision>27</cp:revision>
  <dc:subject/>
  <dc:title>Переплетение фамилий</dc:title>
</cp:coreProperties>
</file>