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B77-0758-4A7F-A8E2-084B7744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F5D9-D654-403D-B676-3A92084B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1DA-9800-4770-98CA-38FE054D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6E8-F82D-4492-8F79-986133E9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A2F-EE09-49A4-AF79-0ACDD194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D84-3ABC-493B-A390-4C40E68C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8C4-9E59-4EE7-B837-208F9A7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320-9E86-4E38-ACB6-BE1B1E58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238-3875-4976-BA7D-35CA4E7F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B11-09F2-405E-8484-7214A190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632-EBC3-4A3E-B0EB-0D82E903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BA1A-B2BC-40D0-A6DE-63E06C0A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7E42-A05A-4047-A649-3F5ACEE01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1557360"/>
            <a:ext cx="8135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ирамида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9280" y="49608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Галлямова Наиля Газимовна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в.категорияле математика укыту-чысы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-5149800" y="-3843360"/>
            <a:ext cx="1950732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9"/>
          <p:cNvSpPr/>
          <p:nvPr/>
        </p:nvSpPr>
        <p:spPr>
          <a:xfrm>
            <a:off x="1403280" y="3645000"/>
            <a:ext cx="1297080" cy="1008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1476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1692360" y="364500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V="1">
            <a:off x="1692360" y="3645000"/>
            <a:ext cx="71892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V="1">
            <a:off x="2050920" y="1989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>
            <a:off x="1692360" y="1989000"/>
            <a:ext cx="358560" cy="16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H="1">
            <a:off x="1692360" y="1989000"/>
            <a:ext cx="35856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2050920" y="2060640"/>
            <a:ext cx="36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2050920" y="2060640"/>
            <a:ext cx="649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2050920" y="2060640"/>
            <a:ext cx="64944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1402920" y="2060640"/>
            <a:ext cx="64764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9"/>
          <p:cNvSpPr/>
          <p:nvPr/>
        </p:nvSpPr>
        <p:spPr>
          <a:xfrm flipH="1">
            <a:off x="1402920" y="2060640"/>
            <a:ext cx="647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"/>
          <p:cNvSpPr/>
          <p:nvPr/>
        </p:nvSpPr>
        <p:spPr>
          <a:xfrm>
            <a:off x="2050920" y="2060640"/>
            <a:ext cx="36036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1403280" y="3933360"/>
            <a:ext cx="129708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3"/>
          <p:cNvSpPr/>
          <p:nvPr/>
        </p:nvSpPr>
        <p:spPr>
          <a:xfrm>
            <a:off x="6012000" y="3068640"/>
            <a:ext cx="1944720" cy="18003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5"/>
          <p:cNvSpPr/>
          <p:nvPr/>
        </p:nvSpPr>
        <p:spPr>
          <a:xfrm flipV="1">
            <a:off x="6300720" y="3357360"/>
            <a:ext cx="13669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6"/>
          <p:cNvSpPr/>
          <p:nvPr/>
        </p:nvSpPr>
        <p:spPr>
          <a:xfrm>
            <a:off x="6300720" y="3357720"/>
            <a:ext cx="13669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7"/>
          <p:cNvSpPr/>
          <p:nvPr/>
        </p:nvSpPr>
        <p:spPr>
          <a:xfrm>
            <a:off x="6948360" y="3068640"/>
            <a:ext cx="7192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8"/>
          <p:cNvSpPr/>
          <p:nvPr/>
        </p:nvSpPr>
        <p:spPr>
          <a:xfrm flipV="1">
            <a:off x="6300720" y="3068280"/>
            <a:ext cx="64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9"/>
          <p:cNvSpPr/>
          <p:nvPr/>
        </p:nvSpPr>
        <p:spPr>
          <a:xfrm>
            <a:off x="7667640" y="335772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0"/>
          <p:cNvSpPr/>
          <p:nvPr/>
        </p:nvSpPr>
        <p:spPr>
          <a:xfrm flipV="1">
            <a:off x="7667640" y="400536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1"/>
          <p:cNvSpPr/>
          <p:nvPr/>
        </p:nvSpPr>
        <p:spPr>
          <a:xfrm flipH="1">
            <a:off x="6012000" y="335772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6012000" y="400536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3"/>
          <p:cNvSpPr/>
          <p:nvPr/>
        </p:nvSpPr>
        <p:spPr>
          <a:xfrm>
            <a:off x="6300720" y="458136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5"/>
          <p:cNvSpPr/>
          <p:nvPr/>
        </p:nvSpPr>
        <p:spPr>
          <a:xfrm flipV="1">
            <a:off x="7020000" y="4581000"/>
            <a:ext cx="64764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109728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7"/>
          <p:cNvSpPr/>
          <p:nvPr/>
        </p:nvSpPr>
        <p:spPr>
          <a:xfrm>
            <a:off x="203400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8"/>
          <p:cNvSpPr/>
          <p:nvPr/>
        </p:nvSpPr>
        <p:spPr>
          <a:xfrm>
            <a:off x="1960560" y="164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1457640" y="452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6"/>
          <p:cNvSpPr/>
          <p:nvPr/>
        </p:nvSpPr>
        <p:spPr>
          <a:xfrm flipV="1">
            <a:off x="1547640" y="4076280"/>
            <a:ext cx="576360" cy="36036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9"/>
          <p:cNvSpPr/>
          <p:nvPr/>
        </p:nvSpPr>
        <p:spPr>
          <a:xfrm flipH="1">
            <a:off x="1476360" y="2060640"/>
            <a:ext cx="574560" cy="24480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0"/>
          <p:cNvSpPr/>
          <p:nvPr/>
        </p:nvSpPr>
        <p:spPr>
          <a:xfrm>
            <a:off x="1242000" y="4313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1"/>
          <p:cNvSpPr/>
          <p:nvPr/>
        </p:nvSpPr>
        <p:spPr>
          <a:xfrm>
            <a:off x="3203640" y="1289160"/>
            <a:ext cx="56037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релг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ән: төзек пирамида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=5,5 м,АВ=0,5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орала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ян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Чишү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ян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нигез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Р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нигез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8*0,5= 4(м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2"/>
          <p:cNvSpPr/>
          <p:nvPr/>
        </p:nvSpPr>
        <p:spPr>
          <a:xfrm>
            <a:off x="577548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3"/>
          <p:cNvSpPr/>
          <p:nvPr/>
        </p:nvSpPr>
        <p:spPr>
          <a:xfrm>
            <a:off x="5867280" y="522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4"/>
          <p:cNvSpPr/>
          <p:nvPr/>
        </p:nvSpPr>
        <p:spPr>
          <a:xfrm flipV="1">
            <a:off x="5867280" y="508464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5"/>
          <p:cNvSpPr/>
          <p:nvPr/>
        </p:nvSpPr>
        <p:spPr>
          <a:xfrm>
            <a:off x="5796000" y="5013360"/>
            <a:ext cx="45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6"/>
          <p:cNvSpPr/>
          <p:nvPr/>
        </p:nvSpPr>
        <p:spPr>
          <a:xfrm>
            <a:off x="5922000" y="496080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АК=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7"/>
              <p:cNvSpPr txBox="1"/>
              <p:nvPr/>
            </p:nvSpPr>
            <p:spPr>
              <a:xfrm>
                <a:off x="6732720" y="4869000"/>
                <a:ext cx="887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79"/>
          <p:cNvSpPr/>
          <p:nvPr/>
        </p:nvSpPr>
        <p:spPr>
          <a:xfrm>
            <a:off x="5777280" y="366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2"/>
          <p:cNvSpPr/>
          <p:nvPr/>
        </p:nvSpPr>
        <p:spPr>
          <a:xfrm>
            <a:off x="5994720" y="4240080"/>
            <a:ext cx="3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3"/>
          <p:cNvSpPr/>
          <p:nvPr/>
        </p:nvSpPr>
        <p:spPr>
          <a:xfrm>
            <a:off x="6964200" y="392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0"/>
          <p:cNvSpPr/>
          <p:nvPr/>
        </p:nvSpPr>
        <p:spPr>
          <a:xfrm>
            <a:off x="6948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15"/>
          <p:cNvSpPr/>
          <p:nvPr/>
        </p:nvSpPr>
        <p:spPr>
          <a:xfrm>
            <a:off x="1403280" y="3933720"/>
            <a:ext cx="2089080" cy="1008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V="1">
            <a:off x="1403280" y="3357720"/>
            <a:ext cx="2881440" cy="576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492360" y="3357720"/>
            <a:ext cx="792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476360" y="3933720"/>
            <a:ext cx="237492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H="1">
            <a:off x="2556000" y="3357720"/>
            <a:ext cx="172872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 flipV="1">
            <a:off x="3132000" y="1699920"/>
            <a:ext cx="0" cy="2376360"/>
          </a:xfrm>
          <a:prstGeom prst="line">
            <a:avLst/>
          </a:prstGeom>
          <a:ln w="284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 flipV="1">
            <a:off x="1403280" y="1700280"/>
            <a:ext cx="1728720" cy="2233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H="1" flipV="1">
            <a:off x="3132000" y="1700280"/>
            <a:ext cx="1152720" cy="1657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 flipV="1">
            <a:off x="3131640" y="1700280"/>
            <a:ext cx="360360" cy="32414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6" descr="319CA35E"/>
          <p:cNvPicPr/>
          <p:nvPr/>
        </p:nvPicPr>
        <p:blipFill>
          <a:blip r:embed="rId1"/>
          <a:stretch/>
        </p:blipFill>
        <p:spPr>
          <a:xfrm>
            <a:off x="5003640" y="1844640"/>
            <a:ext cx="3167280" cy="266400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 flipH="1">
            <a:off x="2484000" y="1700280"/>
            <a:ext cx="647640" cy="273672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 flipH="1" flipV="1">
            <a:off x="2916360" y="3573000"/>
            <a:ext cx="576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116856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4194360" y="30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347364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304200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2896920" y="373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6"/>
          <p:cNvSpPr/>
          <p:nvPr/>
        </p:nvSpPr>
        <p:spPr>
          <a:xfrm>
            <a:off x="2178720" y="424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5612486C"/>
          <p:cNvPicPr/>
          <p:nvPr/>
        </p:nvPicPr>
        <p:blipFill>
          <a:blip r:embed="rId2"/>
          <a:stretch/>
        </p:blipFill>
        <p:spPr>
          <a:xfrm>
            <a:off x="395280" y="692280"/>
            <a:ext cx="3922560" cy="381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D060B35A"/>
          <p:cNvPicPr/>
          <p:nvPr/>
        </p:nvPicPr>
        <p:blipFill>
          <a:blip r:embed="rId3"/>
          <a:stretch/>
        </p:blipFill>
        <p:spPr>
          <a:xfrm>
            <a:off x="4211640" y="69228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207" name="Line 8"/>
          <p:cNvSpPr/>
          <p:nvPr/>
        </p:nvSpPr>
        <p:spPr>
          <a:xfrm>
            <a:off x="2124000" y="3213000"/>
            <a:ext cx="1224000" cy="36036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2124000" y="2637000"/>
            <a:ext cx="1079640" cy="5760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2124000" y="2421000"/>
            <a:ext cx="28728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900000" y="2708280"/>
            <a:ext cx="122400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8000" y="3213000"/>
            <a:ext cx="21600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 flipH="1">
            <a:off x="1476000" y="3213000"/>
            <a:ext cx="647640" cy="64764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6"/>
          <p:cNvSpPr/>
          <p:nvPr/>
        </p:nvSpPr>
        <p:spPr>
          <a:xfrm flipH="1">
            <a:off x="6227640" y="1700280"/>
            <a:ext cx="649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7"/>
          <p:cNvSpPr/>
          <p:nvPr/>
        </p:nvSpPr>
        <p:spPr>
          <a:xfrm flipV="1">
            <a:off x="6227640" y="1989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2268360" y="5229360"/>
            <a:ext cx="431964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2268360" y="3860640"/>
            <a:ext cx="2880000" cy="136872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148360" y="3860640"/>
            <a:ext cx="1439640" cy="136872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 flipH="1">
            <a:off x="4571640" y="3860640"/>
            <a:ext cx="576360" cy="136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2268360" y="4508640"/>
            <a:ext cx="3598920" cy="7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4788000" y="1700280"/>
            <a:ext cx="0" cy="30240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H="1">
            <a:off x="2268000" y="1700280"/>
            <a:ext cx="2519640" cy="3529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4787640" y="1628640"/>
            <a:ext cx="360360" cy="2232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4788000" y="1700280"/>
            <a:ext cx="1800000" cy="3529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4788000" y="1700280"/>
            <a:ext cx="1008000" cy="2808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450720" y="423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27640" y="31608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5"/>
          <p:cNvSpPr/>
          <p:nvPr/>
        </p:nvSpPr>
        <p:spPr>
          <a:xfrm flipV="1">
            <a:off x="4788000" y="4508280"/>
            <a:ext cx="1008000" cy="2156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89640" y="38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 flipH="1" flipV="1">
            <a:off x="3492000" y="3428640"/>
            <a:ext cx="3095640" cy="1800360"/>
          </a:xfrm>
          <a:prstGeom prst="line">
            <a:avLst/>
          </a:prstGeom>
          <a:ln w="2844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 flipH="1" flipV="1">
            <a:off x="3492360" y="3428640"/>
            <a:ext cx="1656000" cy="431640"/>
          </a:xfrm>
          <a:prstGeom prst="line">
            <a:avLst/>
          </a:prstGeom>
          <a:ln w="28440">
            <a:solidFill>
              <a:srgbClr val="cc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203400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6603840" y="5291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6642360" y="503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5129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697640" y="12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4696920" y="4600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5777280" y="40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4410000" y="5176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318636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40765FFB"/>
          <p:cNvPicPr/>
          <p:nvPr/>
        </p:nvPicPr>
        <p:blipFill>
          <a:blip r:embed="rId1"/>
          <a:stretch/>
        </p:blipFill>
        <p:spPr>
          <a:xfrm>
            <a:off x="179280" y="0"/>
            <a:ext cx="4537080" cy="4232160"/>
          </a:xfrm>
          <a:prstGeom prst="rect">
            <a:avLst/>
          </a:prstGeom>
          <a:ln w="0">
            <a:noFill/>
          </a:ln>
        </p:spPr>
      </p:pic>
      <p:sp>
        <p:nvSpPr>
          <p:cNvPr id="241" name="Line 5"/>
          <p:cNvSpPr/>
          <p:nvPr/>
        </p:nvSpPr>
        <p:spPr>
          <a:xfrm>
            <a:off x="1547640" y="2781360"/>
            <a:ext cx="115272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611280" y="2781360"/>
            <a:ext cx="295272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22C4A907"/>
          <p:cNvPicPr/>
          <p:nvPr/>
        </p:nvPicPr>
        <p:blipFill>
          <a:blip r:embed="rId2"/>
          <a:stretch/>
        </p:blipFill>
        <p:spPr>
          <a:xfrm>
            <a:off x="4427640" y="836640"/>
            <a:ext cx="3600360" cy="2736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738000" y="352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9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2124000" y="3284640"/>
            <a:ext cx="100800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2195640" y="907920"/>
            <a:ext cx="936360" cy="23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2124000" y="907920"/>
            <a:ext cx="71640" cy="237672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687840" y="344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78000" y="3808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2681640" y="37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3545280" y="25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1528920" y="244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1888920" y="2873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2105280" y="49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3759120" y="3573360"/>
            <a:ext cx="42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Бирелгән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СД- төзек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=...=6см,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KO= 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ала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B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3113280" y="308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>
            <a:off x="651672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 flipV="1">
            <a:off x="6516720" y="4005360"/>
            <a:ext cx="1429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12"/>
          <p:cNvSpPr/>
          <p:nvPr/>
        </p:nvSpPr>
        <p:spPr>
          <a:xfrm>
            <a:off x="2268360" y="5229360"/>
            <a:ext cx="4319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3"/>
          <p:cNvSpPr/>
          <p:nvPr/>
        </p:nvSpPr>
        <p:spPr>
          <a:xfrm flipV="1">
            <a:off x="2268360" y="3860640"/>
            <a:ext cx="2880000" cy="136872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>
            <a:off x="5148360" y="3860640"/>
            <a:ext cx="1439640" cy="136872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4571640" y="3860640"/>
            <a:ext cx="576360" cy="136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2268360" y="4508640"/>
            <a:ext cx="3598920" cy="720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 flipV="1">
            <a:off x="4788000" y="1700280"/>
            <a:ext cx="0" cy="302400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 flipH="1">
            <a:off x="2268000" y="1700280"/>
            <a:ext cx="2519640" cy="35290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4787640" y="1628640"/>
            <a:ext cx="360360" cy="2232000"/>
          </a:xfrm>
          <a:prstGeom prst="line">
            <a:avLst/>
          </a:prstGeom>
          <a:ln w="381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"/>
          <p:cNvSpPr/>
          <p:nvPr/>
        </p:nvSpPr>
        <p:spPr>
          <a:xfrm>
            <a:off x="4788000" y="1700280"/>
            <a:ext cx="1800000" cy="35290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4788000" y="1700280"/>
            <a:ext cx="1008000" cy="280836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450720" y="423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5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4552920" y="316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5274360" y="409716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 flipV="1">
            <a:off x="4788000" y="4508280"/>
            <a:ext cx="1008000" cy="21564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1960920" y="517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84200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6642360" y="5105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626000" y="1216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4481280" y="438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5738760" y="421020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F7D7C9E3"/>
          <p:cNvPicPr/>
          <p:nvPr/>
        </p:nvPicPr>
        <p:blipFill>
          <a:blip r:embed="rId2"/>
          <a:stretch/>
        </p:blipFill>
        <p:spPr>
          <a:xfrm>
            <a:off x="817560" y="836640"/>
            <a:ext cx="3452760" cy="3529080"/>
          </a:xfrm>
          <a:prstGeom prst="rect">
            <a:avLst/>
          </a:prstGeom>
          <a:ln w="0">
            <a:noFill/>
          </a:ln>
        </p:spPr>
      </p:pic>
      <p:sp>
        <p:nvSpPr>
          <p:cNvPr id="280" name="Line 5"/>
          <p:cNvSpPr/>
          <p:nvPr/>
        </p:nvSpPr>
        <p:spPr>
          <a:xfrm>
            <a:off x="2050920" y="3068640"/>
            <a:ext cx="720720" cy="1008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 flipV="1">
            <a:off x="1619280" y="3068640"/>
            <a:ext cx="1584360" cy="1008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1258920" y="3573360"/>
            <a:ext cx="2376360" cy="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11280" y="1267920"/>
            <a:ext cx="0" cy="230508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2411280" y="1268280"/>
            <a:ext cx="792360" cy="18003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 flipV="1">
            <a:off x="1619280" y="1267920"/>
            <a:ext cx="720720" cy="28083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66360" y="568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6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4140360" y="784080"/>
            <a:ext cx="47527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Бирелгән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BCDEF –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төзек 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=......= а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А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ASD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орала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ян пирамид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131328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2681640" y="395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361800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113280" y="28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2033640" y="28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952200" y="3232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2249640" y="71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2178000" y="316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4479840" y="7128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4408560" y="7128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310400" y="39852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ДИ </a:t>
            </a:r>
            <a:r>
              <a:rPr b="1" i="1" lang="tt-RU" sz="2000" spc="-1" strike="noStrike">
                <a:solidFill>
                  <a:srgbClr val="000000"/>
                </a:solidFill>
                <a:latin typeface="Arial"/>
              </a:rPr>
              <a:t>мә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1" i="1" lang="tt-RU" sz="2000" spc="-1" strike="noStrike">
                <a:solidFill>
                  <a:srgbClr val="000000"/>
                </a:solidFill>
                <a:latin typeface="Arial"/>
              </a:rPr>
              <a:t>әләләре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84720" y="784080"/>
            <a:ext cx="82778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17.2  А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</a:rPr>
              <a:t>1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АВСД  пирамидасында  АД, ВД, СД кабыргалары  5, 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ноктасыннан  яссылыкка  кадәр ара 4.  АВС өчпочмагын  камаучы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әйләнә радиусын табарга.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√2;  2)4;  3)3; 4)√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№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17.5   В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Өчпочмаклы төзек пирамида нигезенең биеклеге 9 см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ян кырлары нигез яссылыгы  белән 3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лы почмак төзиләр. Пирами-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ның  ян өслек мәйданын табарг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 №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17.8  В</a:t>
            </a:r>
            <a:r>
              <a:rPr b="1" i="1" lang="tt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    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Дүртпочмаклы  төзек  пирамиданың  биеклеге  3, апофе-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ма  нигез  яссыпыгы  белән 6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 лы почмак төзи.  Пирамиданың ян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1800" spc="-1" strike="noStrike">
                <a:solidFill>
                  <a:srgbClr val="000000"/>
                </a:solidFill>
                <a:latin typeface="Arial"/>
                <a:ea typeface="Arial"/>
              </a:rPr>
              <a:t>өслек  мәйданын  табарг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827BECB4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2268360" y="3789360"/>
            <a:ext cx="3383280" cy="0"/>
          </a:xfrm>
          <a:prstGeom prst="line">
            <a:avLst/>
          </a:prstGeom>
          <a:ln w="2844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2268360" y="3789360"/>
            <a:ext cx="2159280" cy="10796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427640" y="3789000"/>
            <a:ext cx="1152360" cy="10796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5"/>
          <p:cNvSpPr/>
          <p:nvPr/>
        </p:nvSpPr>
        <p:spPr>
          <a:xfrm>
            <a:off x="2340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 flipV="1">
            <a:off x="2268360" y="1125360"/>
            <a:ext cx="0" cy="26640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7"/>
          <p:cNvSpPr/>
          <p:nvPr/>
        </p:nvSpPr>
        <p:spPr>
          <a:xfrm>
            <a:off x="2268360" y="1125360"/>
            <a:ext cx="2159280" cy="37436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>
            <a:off x="2268360" y="1125360"/>
            <a:ext cx="3311640" cy="266400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2066760" y="3851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066760" y="38512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033640" y="857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1995480" y="37782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03400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595840" y="3706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561280" y="3592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1036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66360" y="352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484360" y="4437000"/>
            <a:ext cx="3240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 flipV="1">
            <a:off x="2484360" y="3213000"/>
            <a:ext cx="2448000" cy="1224000"/>
          </a:xfrm>
          <a:prstGeom prst="line">
            <a:avLst/>
          </a:prstGeom>
          <a:ln w="2844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932360" y="3213000"/>
            <a:ext cx="792000" cy="122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2484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V="1">
            <a:off x="2484360" y="1916280"/>
            <a:ext cx="0" cy="2520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2484360" y="1916280"/>
            <a:ext cx="2448000" cy="129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2484360" y="1916280"/>
            <a:ext cx="3240000" cy="2520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95080" y="568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32128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2321280" y="1576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63436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913640" y="28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2268360" y="465300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 flipV="1">
            <a:off x="2268360" y="3645000"/>
            <a:ext cx="165600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5148360" y="3645000"/>
            <a:ext cx="1439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3924360" y="364500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3924360" y="1125000"/>
            <a:ext cx="0" cy="251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 flipH="1">
            <a:off x="2268360" y="1125360"/>
            <a:ext cx="1656000" cy="352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>
            <a:off x="3924360" y="1125360"/>
            <a:ext cx="266364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>
            <a:off x="3924360" y="1125360"/>
            <a:ext cx="1224000" cy="352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50720" y="3524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034000" y="4529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54528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675480" y="349092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664236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129280" y="4600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867120" y="96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903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595080" y="4968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971640" y="4292640"/>
            <a:ext cx="17287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 flipV="1">
            <a:off x="971640" y="3573360"/>
            <a:ext cx="1296720" cy="71928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2700360" y="3573360"/>
            <a:ext cx="1224000" cy="719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2268360" y="3573360"/>
            <a:ext cx="1656000" cy="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 flipV="1">
            <a:off x="971640" y="3573360"/>
            <a:ext cx="2879640" cy="71928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2268360" y="3573360"/>
            <a:ext cx="432000" cy="71928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2484360" y="1989000"/>
            <a:ext cx="0" cy="194472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971640" y="1989000"/>
            <a:ext cx="1512720" cy="23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 flipH="1">
            <a:off x="2268360" y="1989000"/>
            <a:ext cx="216000" cy="158436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2484360" y="1989000"/>
            <a:ext cx="1440000" cy="1584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2484360" y="1989000"/>
            <a:ext cx="216000" cy="2303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9"/>
          <p:cNvSpPr/>
          <p:nvPr/>
        </p:nvSpPr>
        <p:spPr>
          <a:xfrm>
            <a:off x="5651640" y="3284640"/>
            <a:ext cx="14414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0"/>
          <p:cNvSpPr/>
          <p:nvPr/>
        </p:nvSpPr>
        <p:spPr>
          <a:xfrm flipH="1">
            <a:off x="5651640" y="1916280"/>
            <a:ext cx="7207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6372360" y="1916280"/>
            <a:ext cx="0" cy="25923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6372360" y="1916280"/>
            <a:ext cx="72072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5651640" y="3284640"/>
            <a:ext cx="720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7"/>
          <p:cNvSpPr/>
          <p:nvPr/>
        </p:nvSpPr>
        <p:spPr>
          <a:xfrm flipH="1">
            <a:off x="6372360" y="3284640"/>
            <a:ext cx="720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8"/>
          <p:cNvSpPr/>
          <p:nvPr/>
        </p:nvSpPr>
        <p:spPr>
          <a:xfrm>
            <a:off x="736920" y="424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3"/>
          <p:cNvSpPr/>
          <p:nvPr/>
        </p:nvSpPr>
        <p:spPr>
          <a:xfrm>
            <a:off x="1960920" y="32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3905640" y="33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2752920" y="4168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248436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0"/>
          <p:cNvSpPr/>
          <p:nvPr/>
        </p:nvSpPr>
        <p:spPr>
          <a:xfrm>
            <a:off x="2465640" y="15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3"/>
          <p:cNvSpPr/>
          <p:nvPr/>
        </p:nvSpPr>
        <p:spPr>
          <a:xfrm>
            <a:off x="2178000" y="366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6"/>
          <p:cNvSpPr/>
          <p:nvPr/>
        </p:nvSpPr>
        <p:spPr>
          <a:xfrm>
            <a:off x="6282000" y="143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7"/>
          <p:cNvSpPr/>
          <p:nvPr/>
        </p:nvSpPr>
        <p:spPr>
          <a:xfrm>
            <a:off x="7145640" y="294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8"/>
          <p:cNvSpPr/>
          <p:nvPr/>
        </p:nvSpPr>
        <p:spPr>
          <a:xfrm>
            <a:off x="6426360" y="445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202360" y="30160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6352920" y="2944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2"/>
          <p:cNvSpPr/>
          <p:nvPr/>
        </p:nvSpPr>
        <p:spPr>
          <a:xfrm>
            <a:off x="2268360" y="494172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 flipH="1">
            <a:off x="226800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2268360" y="3789000"/>
            <a:ext cx="179892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067280" y="3789360"/>
            <a:ext cx="3241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V="1">
            <a:off x="5940360" y="3789000"/>
            <a:ext cx="151128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2268360" y="3789000"/>
            <a:ext cx="518328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4067280" y="3789360"/>
            <a:ext cx="1873080" cy="115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932360" y="1413000"/>
            <a:ext cx="0" cy="2952720"/>
          </a:xfrm>
          <a:prstGeom prst="line">
            <a:avLst/>
          </a:prstGeom>
          <a:ln w="284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2268360" y="1413000"/>
            <a:ext cx="2664000" cy="35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4932360" y="1413000"/>
            <a:ext cx="1008000" cy="35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H="1">
            <a:off x="4066920" y="1413000"/>
            <a:ext cx="865080" cy="23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4932360" y="1413000"/>
            <a:ext cx="2519280" cy="23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026000" y="4968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40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2034000" y="474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3834000" y="344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7493040" y="35211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7361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5994720" y="474516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4842000" y="107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4841640" y="4313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8"/>
          <p:cNvSpPr txBox="1"/>
          <p:nvPr/>
        </p:nvSpPr>
        <p:spPr>
          <a:xfrm rot="20836800">
            <a:off x="539280" y="1557000"/>
            <a:ext cx="8209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48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ӨЗЕК ПИРАМИДА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48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9A6861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1:50:43Z</dcterms:created>
  <dc:creator>2</dc:creator>
  <dc:description/>
  <dc:language>en-US</dc:language>
  <cp:lastModifiedBy>Admin</cp:lastModifiedBy>
  <dcterms:modified xsi:type="dcterms:W3CDTF">2013-04-26T18:41:21Z</dcterms:modified>
  <cp:revision>25</cp:revision>
  <dc:subject/>
  <dc:title>Слайд 1</dc:title>
</cp:coreProperties>
</file>