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F81-A81C-4F40-87C8-54BBDD15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CE5-CFE6-4E38-982B-B48FB75D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E71-1C8E-434D-9561-6BF84D21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580-16D5-492D-B226-6D8834D1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1D4-9981-4DAE-93F5-D06B3A1C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E0C-D07F-482A-B0ED-F0729B7E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97E-F919-4E7B-ADBB-D1B98789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8AB-1646-4B32-9DFB-C44D94A2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95E-571A-4909-BAC8-E8856459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04D-4B76-4A64-BBE0-69A6C756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815-1583-4E0D-8B53-6267F015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901-FB4A-4E24-ACEB-B1D9854B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B53D-8645-448F-A3E5-97DB19CA3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героям, нам жизнь подаривш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655240" y="5373720"/>
            <a:ext cx="32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псаева Майя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628000" y="386064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ель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Leschenko-Den_-Pobedy-minus(muzofon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1.jpg"/>
          <p:cNvPicPr/>
          <p:nvPr/>
        </p:nvPicPr>
        <p:blipFill>
          <a:blip r:embed="rId1"/>
          <a:stretch/>
        </p:blipFill>
        <p:spPr>
          <a:xfrm>
            <a:off x="5154480" y="404640"/>
            <a:ext cx="3305160" cy="4794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6"/>
          <p:cNvSpPr/>
          <p:nvPr/>
        </p:nvSpPr>
        <p:spPr>
          <a:xfrm>
            <a:off x="691920" y="5157720"/>
            <a:ext cx="640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одина –Мать на защиту зов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стал, как один непобедимый нар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1.jpg"/>
          <p:cNvPicPr/>
          <p:nvPr/>
        </p:nvPicPr>
        <p:blipFill>
          <a:blip r:embed="rId1"/>
          <a:stretch/>
        </p:blipFill>
        <p:spPr>
          <a:xfrm>
            <a:off x="3780000" y="514440"/>
            <a:ext cx="4957560" cy="3635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6"/>
          <p:cNvSpPr/>
          <p:nvPr/>
        </p:nvSpPr>
        <p:spPr>
          <a:xfrm>
            <a:off x="713520" y="4462560"/>
            <a:ext cx="753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жглась на небе яркая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тот майский день,  когда пришла Побе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пусть безжалостн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м не затмить тот яркий лучик све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1.jpg"/>
          <p:cNvPicPr/>
          <p:nvPr/>
        </p:nvPicPr>
        <p:blipFill>
          <a:blip r:embed="rId1"/>
          <a:stretch/>
        </p:blipFill>
        <p:spPr>
          <a:xfrm>
            <a:off x="3181320" y="404640"/>
            <a:ext cx="5556240" cy="3480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6"/>
          <p:cNvSpPr/>
          <p:nvPr/>
        </p:nvSpPr>
        <p:spPr>
          <a:xfrm>
            <a:off x="697680" y="4462560"/>
            <a:ext cx="70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лишних слов тут говорить не над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пасибо Вам! Жить с вами, вот награ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1.jpg"/>
          <p:cNvPicPr/>
          <p:nvPr/>
        </p:nvPicPr>
        <p:blipFill>
          <a:blip r:embed="rId1"/>
          <a:stretch/>
        </p:blipFill>
        <p:spPr>
          <a:xfrm>
            <a:off x="3492360" y="404640"/>
            <a:ext cx="4992840" cy="3745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6"/>
          <p:cNvSpPr/>
          <p:nvPr/>
        </p:nvSpPr>
        <p:spPr>
          <a:xfrm>
            <a:off x="725760" y="4462560"/>
            <a:ext cx="487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тит  великий День Поб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ша славная стр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ень Победы наши д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девают орд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1.jpg"/>
          <p:cNvPicPr/>
          <p:nvPr/>
        </p:nvPicPr>
        <p:blipFill>
          <a:blip r:embed="rId1"/>
          <a:stretch/>
        </p:blipFill>
        <p:spPr>
          <a:xfrm>
            <a:off x="3719520" y="404640"/>
            <a:ext cx="482112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704880" y="4462560"/>
            <a:ext cx="505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беда! Победа! Побе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носится весть по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нец испытаниям и бе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нец  долголетней вой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6"/>
          <p:cNvSpPr/>
          <p:nvPr/>
        </p:nvSpPr>
        <p:spPr>
          <a:xfrm>
            <a:off x="1844280" y="831960"/>
            <a:ext cx="532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рогие реб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 мая с мамами и пап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зложите  цветы Воин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гибшим за нашу Род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3024360"/>
            <a:ext cx="6705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162864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 лет назад закончилась Великая Отечественная война, но народ нашей страны помнит всех тех, кто остался лежать на полях сражений, всех тех героев, кто сражался за жизнь на земле и за наше мирное неб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2" descr=""/>
          <p:cNvPicPr/>
          <p:nvPr/>
        </p:nvPicPr>
        <p:blipFill>
          <a:blip r:embed="rId1"/>
          <a:stretch/>
        </p:blipFill>
        <p:spPr>
          <a:xfrm>
            <a:off x="-476280" y="3529080"/>
            <a:ext cx="93758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1.jpg"/>
          <p:cNvPicPr/>
          <p:nvPr/>
        </p:nvPicPr>
        <p:blipFill>
          <a:blip r:embed="rId1"/>
          <a:stretch/>
        </p:blipFill>
        <p:spPr>
          <a:xfrm>
            <a:off x="3605040" y="404640"/>
            <a:ext cx="5059440" cy="3738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6"/>
          <p:cNvSpPr/>
          <p:nvPr/>
        </p:nvSpPr>
        <p:spPr>
          <a:xfrm>
            <a:off x="704160" y="4365720"/>
            <a:ext cx="524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ы водрузили на Рейхста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ш советский красный ф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Этот флаг над миром ре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н сверкает и ал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1.jpg"/>
          <p:cNvPicPr/>
          <p:nvPr/>
        </p:nvPicPr>
        <p:blipFill>
          <a:blip r:embed="rId1"/>
          <a:stretch/>
        </p:blipFill>
        <p:spPr>
          <a:xfrm>
            <a:off x="3643200" y="404640"/>
            <a:ext cx="4983120" cy="3738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6"/>
          <p:cNvSpPr/>
          <p:nvPr/>
        </p:nvSpPr>
        <p:spPr>
          <a:xfrm>
            <a:off x="741240" y="4365720"/>
            <a:ext cx="683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ть у нас танки, есть пулемё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ть у наш пушки, есть самолё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удем врагов мы бесстрашно круш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то бы Отчизну освоб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1.jpg"/>
          <p:cNvPicPr/>
          <p:nvPr/>
        </p:nvPicPr>
        <p:blipFill>
          <a:blip r:embed="rId1"/>
          <a:stretch/>
        </p:blipFill>
        <p:spPr>
          <a:xfrm>
            <a:off x="3643200" y="492120"/>
            <a:ext cx="4983120" cy="3564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6"/>
          <p:cNvSpPr/>
          <p:nvPr/>
        </p:nvSpPr>
        <p:spPr>
          <a:xfrm>
            <a:off x="669960" y="4365720"/>
            <a:ext cx="471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 страну родную лю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тдавали жизнь с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икогда мы не за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вших в доблестном б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1.jpg"/>
          <p:cNvPicPr/>
          <p:nvPr/>
        </p:nvPicPr>
        <p:blipFill>
          <a:blip r:embed="rId1"/>
          <a:stretch/>
        </p:blipFill>
        <p:spPr>
          <a:xfrm>
            <a:off x="3643200" y="593640"/>
            <a:ext cx="4983120" cy="33609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6"/>
          <p:cNvSpPr/>
          <p:nvPr/>
        </p:nvSpPr>
        <p:spPr>
          <a:xfrm>
            <a:off x="657360" y="4365720"/>
            <a:ext cx="33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вались снаря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рочил пулем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ерили, зн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раг не прой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1.jpg"/>
          <p:cNvPicPr/>
          <p:nvPr/>
        </p:nvPicPr>
        <p:blipFill>
          <a:blip r:embed="rId1"/>
          <a:stretch/>
        </p:blipFill>
        <p:spPr>
          <a:xfrm>
            <a:off x="3784680" y="593640"/>
            <a:ext cx="4700520" cy="33609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6"/>
          <p:cNvSpPr/>
          <p:nvPr/>
        </p:nvSpPr>
        <p:spPr>
          <a:xfrm>
            <a:off x="677520" y="4365720"/>
            <a:ext cx="457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 великую побед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лавьтесь и отцы и дед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1.jpg"/>
          <p:cNvPicPr/>
          <p:nvPr/>
        </p:nvPicPr>
        <p:blipFill>
          <a:blip r:embed="rId1"/>
          <a:stretch/>
        </p:blipFill>
        <p:spPr>
          <a:xfrm>
            <a:off x="3784680" y="790560"/>
            <a:ext cx="4700520" cy="2967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6"/>
          <p:cNvSpPr/>
          <p:nvPr/>
        </p:nvSpPr>
        <p:spPr>
          <a:xfrm>
            <a:off x="682200" y="4365720"/>
            <a:ext cx="354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локада страш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же через г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усть же ни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 повторится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1.jpg"/>
          <p:cNvPicPr/>
          <p:nvPr/>
        </p:nvPicPr>
        <p:blipFill>
          <a:blip r:embed="rId1"/>
          <a:stretch/>
        </p:blipFill>
        <p:spPr>
          <a:xfrm>
            <a:off x="4427640" y="404640"/>
            <a:ext cx="3828960" cy="3446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6"/>
          <p:cNvSpPr/>
          <p:nvPr/>
        </p:nvSpPr>
        <p:spPr>
          <a:xfrm>
            <a:off x="705600" y="4365720"/>
            <a:ext cx="421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орога Жиз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пасибо теб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ы яркий с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Ленинградской судьб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7:30Z</dcterms:created>
  <dc:creator>Майя</dc:creator>
  <dc:description/>
  <dc:language>en-US</dc:language>
  <cp:lastModifiedBy>Майя</cp:lastModifiedBy>
  <dcterms:modified xsi:type="dcterms:W3CDTF">2013-04-16T17:01:58Z</dcterms:modified>
  <cp:revision>13</cp:revision>
  <dc:subject/>
  <dc:title>Слайд 1</dc:title>
</cp:coreProperties>
</file>