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EE4-CC26-47B7-B5B9-451C1A58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D11A-01E4-43DE-B7B2-F79694FB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8F8-2269-4800-AE4A-5CC73189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47C-9F73-4393-9E3E-03F58E30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1731-44A9-4F33-89A2-B29D28AF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7A99-FA1B-4A7B-8E99-75E3DFD9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5E3C-349F-4141-8F68-2A2DDC9A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6357-C5F0-4846-B385-3340D90C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4DEA-61ED-4BFB-AB58-48D94EC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0EF9-C19C-47B7-9429-5AEB3E34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FFEA-CA7A-4E42-B40E-96A77ED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C44-F292-4278-8D78-2035F07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548-39A2-47BD-A22B-4CF48485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6A2-4A4F-45C8-A42B-E50CA3A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FB1F-E02D-423C-86DA-1ABA6DAA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564D-6084-44EB-9C3E-23E6D798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0F1-BCA3-4D49-A7CD-2035C73A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80B-E731-4FC4-82E9-97EB68FD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BAE-4096-4674-80D5-6B67E193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5E4-2BE4-4315-A890-199E8AE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765-BC7F-4F8C-B078-762373FE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183-1987-48B1-B4C4-B2F1A2F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A69-DB5D-4D94-8469-670F094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2AE6-7785-4B9F-A11E-281B1E0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306-EAF6-4C63-B7AA-EFE3D32AF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76DD-51A5-4311-AB3D-EB783ADFE8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76040" y="4724280"/>
            <a:ext cx="8663040" cy="16891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480" y="37861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443329"/>
                </a:solidFill>
                <a:latin typeface="Tahoma"/>
              </a:rPr>
              <a:t>снован в 1939 г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999720"/>
            <a:ext cx="4191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рождение театрального искусства в Бийске началосьеще в 1887 году. Народоволец Л. П. Ешин организовал первый театральный коллектив любителей драматического искусств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Пьесы ставилис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ле общественног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бр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Содержимое 4" descr="Изображение 017.jpg"/>
          <p:cNvPicPr/>
          <p:nvPr/>
        </p:nvPicPr>
        <p:blipFill>
          <a:blip r:embed="rId2"/>
          <a:stretch/>
        </p:blipFill>
        <p:spPr>
          <a:xfrm>
            <a:off x="44290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3" descr="Изображение 018.jpg"/>
          <p:cNvPicPr/>
          <p:nvPr/>
        </p:nvPicPr>
        <p:blipFill>
          <a:blip r:embed="rId3"/>
          <a:stretch/>
        </p:blipFill>
        <p:spPr>
          <a:xfrm>
            <a:off x="500040" y="1428840"/>
            <a:ext cx="814392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Изображение 002"/>
          <p:cNvPicPr/>
          <p:nvPr/>
        </p:nvPicPr>
        <p:blipFill>
          <a:blip r:embed="rId2"/>
          <a:stretch/>
        </p:blipFill>
        <p:spPr>
          <a:xfrm>
            <a:off x="179280" y="260280"/>
            <a:ext cx="4464000" cy="6381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43280" y="785520"/>
            <a:ext cx="426744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1912 году начато строительство Народного дома. Меценатом, давшим денег на строительство, был купец 2-й гильдии П. А. Копылов. После смерти он оставил своему племяннику А.П. Копылову богатое наследство, из которого 100 тысяч рублей предназначалось на строительство Народного до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ект этого здания осуществил И. Ф. Носович, известный в Сибири архитектор. Здание Народного дома было построено к 1916 го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549000"/>
            <a:ext cx="390672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20-е годы работает  первая профессиональная драматическая труппа Владимира Гарденина, ученика К. С. Станиславск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19" descr="Изображение 006"/>
          <p:cNvPicPr/>
          <p:nvPr/>
        </p:nvPicPr>
        <p:blipFill>
          <a:blip r:embed="rId2"/>
          <a:stretch/>
        </p:blipFill>
        <p:spPr>
          <a:xfrm>
            <a:off x="4427640" y="26028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rial"/>
              </a:rPr>
              <a:t>Участники студии режиссера В.В Гарденин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5" descr="Изображение 010"/>
          <p:cNvPicPr/>
          <p:nvPr/>
        </p:nvPicPr>
        <p:blipFill>
          <a:blip r:embed="rId2"/>
          <a:stretch/>
        </p:blipFill>
        <p:spPr>
          <a:xfrm>
            <a:off x="250920" y="1125360"/>
            <a:ext cx="868680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3:51:57Z</dcterms:created>
  <dc:creator>Наталья</dc:creator>
  <dc:description/>
  <dc:language>en-US</dc:language>
  <cp:lastModifiedBy>Наталья</cp:lastModifiedBy>
  <dcterms:modified xsi:type="dcterms:W3CDTF">2013-04-27T03:58:20Z</dcterms:modified>
  <cp:revision>1</cp:revision>
  <dc:subject/>
  <dc:title>Слайд 1</dc:title>
</cp:coreProperties>
</file>