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1A232-5AE0-44C5-A4C7-B63F54BCD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EA315-8F76-429C-A84C-73F4130A9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0ED91-5B3B-4EF0-BF09-E5A41AC56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FC1BC-562E-4E43-8106-B7F4C315D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4C0D5-24B8-47CF-BD9D-41C4F8F90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6D8A6-69F2-4656-BE56-CDE584181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2B4ED-80F4-4C82-9B74-07CD9DE30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3784B-39F0-46CD-A987-49D553E5F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C9B11-4732-472E-B6F7-1DC308B8E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715A9-3A04-4BAF-AB27-EAF4910FB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B20F9-623C-499A-9728-B8E4146E8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D3F94-2D89-41B4-9350-9ED59D42C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77E46-105B-40A5-9D14-8812F68AF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FA1EB-AA9A-4F5E-93B6-5BE6E9871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0F535-C8FF-42D1-ACB3-336AA05E3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0FB10-DAB9-437A-801F-5BCD0C9E0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743AF-F1F1-42AA-BE26-1BCFFA6EE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27094-6243-469D-9484-BE1C03344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9A350-77F1-49D0-9E97-03A89779C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71DB6-D481-43A2-917A-EB494A1F4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39D5B-334F-4E28-9ED7-701DB8FD8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870C8-7B65-478E-977E-6690B8521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78EB9-FB50-4DE0-8C53-0D1711DEE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BBEBC-785C-4B00-9487-EA5AB64D4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BB606-6347-4D73-AC3C-CCF48D61679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FD945-84E3-4AC4-AC3B-52BF21F1613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Заголовок 1" descr=""/>
          <p:cNvPicPr/>
          <p:nvPr/>
        </p:nvPicPr>
        <p:blipFill>
          <a:blip r:embed="rId2"/>
          <a:stretch/>
        </p:blipFill>
        <p:spPr>
          <a:xfrm>
            <a:off x="176040" y="4724280"/>
            <a:ext cx="8663040" cy="168912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285480" y="378612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43329"/>
                </a:solidFill>
                <a:latin typeface="Arial"/>
              </a:rPr>
              <a:t>О</a:t>
            </a:r>
            <a:r>
              <a:rPr b="0" lang="en-US" sz="2400" spc="-1" strike="noStrike">
                <a:solidFill>
                  <a:srgbClr val="443329"/>
                </a:solidFill>
                <a:latin typeface="Tahoma"/>
              </a:rPr>
              <a:t>снован в 1939 году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0" y="999720"/>
            <a:ext cx="419112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рождение театрального искусства в Бийске началосьеще в 1887 году. Народоволец Л. П. Ешин организовал первый театральный коллектив любителей драматического искусства.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Пьесы ставились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зале общественного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собрани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4" name="Содержимое 4" descr="Изображение 017.jpg"/>
          <p:cNvPicPr/>
          <p:nvPr/>
        </p:nvPicPr>
        <p:blipFill>
          <a:blip r:embed="rId2"/>
          <a:stretch/>
        </p:blipFill>
        <p:spPr>
          <a:xfrm>
            <a:off x="4429080" y="0"/>
            <a:ext cx="4572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Заголовок 1" descr=""/>
          <p:cNvPicPr/>
          <p:nvPr/>
        </p:nvPicPr>
        <p:blipFill>
          <a:blip r:embed="rId2"/>
          <a:stretch/>
        </p:blipFill>
        <p:spPr>
          <a:xfrm>
            <a:off x="298440" y="450720"/>
            <a:ext cx="8699400" cy="854280"/>
          </a:xfrm>
          <a:prstGeom prst="rect">
            <a:avLst/>
          </a:prstGeom>
          <a:ln w="0">
            <a:noFill/>
          </a:ln>
        </p:spPr>
      </p:pic>
      <p:pic>
        <p:nvPicPr>
          <p:cNvPr id="86" name="Содержимое 3" descr="Изображение 018.jpg"/>
          <p:cNvPicPr/>
          <p:nvPr/>
        </p:nvPicPr>
        <p:blipFill>
          <a:blip r:embed="rId3"/>
          <a:stretch/>
        </p:blipFill>
        <p:spPr>
          <a:xfrm>
            <a:off x="500040" y="1428840"/>
            <a:ext cx="8143920" cy="513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6" descr="Изображение 002"/>
          <p:cNvPicPr/>
          <p:nvPr/>
        </p:nvPicPr>
        <p:blipFill>
          <a:blip r:embed="rId2"/>
          <a:stretch/>
        </p:blipFill>
        <p:spPr>
          <a:xfrm>
            <a:off x="179280" y="260280"/>
            <a:ext cx="4464000" cy="638172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643280" y="785520"/>
            <a:ext cx="4267440" cy="553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В 1912 году начато строительство Народного дома. Меценатом, давшим денег на строительство, был купец 2-й гильдии П. А. Копылов. После смерти он оставил своему племяннику А.П. Копылову богатое наследство, из которого 100 тысяч рублей предназначалось на строительство Народного дом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роект этого здания осуществил И. Ф. Носович, известный в Сибири архитектор. Здание Народного дома было построено к 1916 году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304920" y="549000"/>
            <a:ext cx="3906720" cy="553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20-е годы работает  первая профессиональная драматическая труппа Владимира Гарденина, ученика К. С. Станиславского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Picture 19" descr="Изображение 006"/>
          <p:cNvPicPr/>
          <p:nvPr/>
        </p:nvPicPr>
        <p:blipFill>
          <a:blip r:embed="rId2"/>
          <a:stretch/>
        </p:blipFill>
        <p:spPr>
          <a:xfrm>
            <a:off x="4427640" y="260280"/>
            <a:ext cx="4537080" cy="61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6868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Arial"/>
              </a:rPr>
              <a:t>Участники студии режиссера В.В Гарденина.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2" name="Picture 5" descr="Изображение 010"/>
          <p:cNvPicPr/>
          <p:nvPr/>
        </p:nvPicPr>
        <p:blipFill>
          <a:blip r:embed="rId2"/>
          <a:stretch/>
        </p:blipFill>
        <p:spPr>
          <a:xfrm>
            <a:off x="250920" y="1125360"/>
            <a:ext cx="8686800" cy="544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7T03:51:57Z</dcterms:created>
  <dc:creator>Наталья</dc:creator>
  <dc:description/>
  <dc:language>en-US</dc:language>
  <cp:lastModifiedBy>Наталья</cp:lastModifiedBy>
  <dcterms:modified xsi:type="dcterms:W3CDTF">2013-04-27T03:58:20Z</dcterms:modified>
  <cp:revision>1</cp:revision>
  <dc:subject/>
  <dc:title>Слайд 1</dc:title>
</cp:coreProperties>
</file>